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608-12F3-4365-A779-00CF7B0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069-4329-4A3C-9031-E93EA38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8F1-2CD7-4593-8B27-8E2FA31B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20C-4392-4C20-AD3E-7948BCBE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D3C-9AD5-424A-B103-BABD815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7D7-EB42-4D89-A1D3-2D816BC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ECC-A5E4-419F-B553-C4386793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970-4E3F-4574-A430-0AC58BD4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DDC-6344-4BE6-AF2B-E6356D91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332-6808-472E-865F-45D8596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AA5-42AE-4705-8E40-2BB3E3C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198-F9EB-4938-AD60-22432D43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59E-44A7-4DCC-8CA1-DB1D7632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(pg 116 #1-21)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Ink 5"/>
          <p:cNvSpPr/>
          <p:nvPr/>
        </p:nvSpPr>
        <p:spPr>
          <a:xfrm>
            <a:off x="741240" y="1803240"/>
            <a:ext cx="196920" cy="46512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2183" y="5209"/>
                </a:moveTo>
                <a:cubicBezTo>
                  <a:pt x="2208" y="5285"/>
                  <a:pt x="2188" y="5358"/>
                  <a:pt x="2208" y="5432"/>
                </a:cubicBezTo>
                <a:cubicBezTo>
                  <a:pt x="2229" y="5511"/>
                  <a:pt x="2232" y="5569"/>
                  <a:pt x="2232" y="5655"/>
                </a:cubicBezTo>
                <a:cubicBezTo>
                  <a:pt x="2232" y="5709"/>
                  <a:pt x="2232" y="5909"/>
                  <a:pt x="2232" y="5879"/>
                </a:cubicBezTo>
              </a:path>
              <a:path w="546" h="1290">
                <a:moveTo>
                  <a:pt x="2059" y="5011"/>
                </a:moveTo>
                <a:cubicBezTo>
                  <a:pt x="2161" y="5020"/>
                  <a:pt x="2206" y="5037"/>
                  <a:pt x="2282" y="5110"/>
                </a:cubicBezTo>
                <a:cubicBezTo>
                  <a:pt x="2378" y="5202"/>
                  <a:pt x="2473" y="5285"/>
                  <a:pt x="2530" y="5407"/>
                </a:cubicBezTo>
                <a:cubicBezTo>
                  <a:pt x="2595" y="5546"/>
                  <a:pt x="2593" y="5612"/>
                  <a:pt x="2580" y="5755"/>
                </a:cubicBezTo>
                <a:cubicBezTo>
                  <a:pt x="2570" y="5871"/>
                  <a:pt x="2531" y="5980"/>
                  <a:pt x="2456" y="6077"/>
                </a:cubicBezTo>
                <a:cubicBezTo>
                  <a:pt x="2405" y="6143"/>
                  <a:pt x="2357" y="6211"/>
                  <a:pt x="2307" y="6276"/>
                </a:cubicBezTo>
                <a:cubicBezTo>
                  <a:pt x="2250" y="6350"/>
                  <a:pt x="2344" y="6265"/>
                  <a:pt x="2356" y="62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6"/>
          <p:cNvSpPr/>
          <p:nvPr/>
        </p:nvSpPr>
        <p:spPr>
          <a:xfrm>
            <a:off x="1160640" y="1768320"/>
            <a:ext cx="992160" cy="482760"/>
          </a:xfrm>
          <a:custGeom>
            <a:avLst/>
            <a:gdLst/>
            <a:ahLst/>
            <a:rect l="l" t="t" r="r" b="b"/>
            <a:pathLst>
              <a:path w="2754" h="1341">
                <a:moveTo>
                  <a:pt x="3646" y="5060"/>
                </a:moveTo>
                <a:cubicBezTo>
                  <a:pt x="3694" y="5180"/>
                  <a:pt x="3699" y="5175"/>
                  <a:pt x="3646" y="5060"/>
                </a:cubicBezTo>
                <a:cubicBezTo>
                  <a:pt x="3626" y="5016"/>
                  <a:pt x="3589" y="4963"/>
                  <a:pt x="3547" y="4936"/>
                </a:cubicBezTo>
                <a:cubicBezTo>
                  <a:pt x="3477" y="4891"/>
                  <a:pt x="3446" y="4938"/>
                  <a:pt x="3398" y="4986"/>
                </a:cubicBezTo>
                <a:cubicBezTo>
                  <a:pt x="3340" y="5044"/>
                  <a:pt x="3351" y="5187"/>
                  <a:pt x="3349" y="5259"/>
                </a:cubicBezTo>
                <a:cubicBezTo>
                  <a:pt x="3346" y="5364"/>
                  <a:pt x="3351" y="5479"/>
                  <a:pt x="3373" y="5581"/>
                </a:cubicBezTo>
                <a:cubicBezTo>
                  <a:pt x="3395" y="5681"/>
                  <a:pt x="3418" y="5776"/>
                  <a:pt x="3423" y="5879"/>
                </a:cubicBezTo>
                <a:cubicBezTo>
                  <a:pt x="3426" y="5950"/>
                  <a:pt x="3480" y="6007"/>
                  <a:pt x="3398" y="6028"/>
                </a:cubicBezTo>
              </a:path>
              <a:path w="2754" h="1341">
                <a:moveTo>
                  <a:pt x="3225" y="5730"/>
                </a:moveTo>
                <a:cubicBezTo>
                  <a:pt x="3351" y="5712"/>
                  <a:pt x="3473" y="5698"/>
                  <a:pt x="3597" y="5680"/>
                </a:cubicBezTo>
                <a:cubicBezTo>
                  <a:pt x="3647" y="5672"/>
                  <a:pt x="3696" y="5663"/>
                  <a:pt x="3746" y="5655"/>
                </a:cubicBezTo>
              </a:path>
              <a:path w="2754" h="1341">
                <a:moveTo>
                  <a:pt x="4217" y="5234"/>
                </a:moveTo>
                <a:cubicBezTo>
                  <a:pt x="4157" y="5360"/>
                  <a:pt x="4112" y="5475"/>
                  <a:pt x="4068" y="5606"/>
                </a:cubicBezTo>
                <a:cubicBezTo>
                  <a:pt x="4042" y="5682"/>
                  <a:pt x="4021" y="5798"/>
                  <a:pt x="4043" y="5879"/>
                </a:cubicBezTo>
                <a:cubicBezTo>
                  <a:pt x="4061" y="5948"/>
                  <a:pt x="4110" y="5994"/>
                  <a:pt x="4167" y="6028"/>
                </a:cubicBezTo>
                <a:cubicBezTo>
                  <a:pt x="4225" y="6062"/>
                  <a:pt x="4241" y="6057"/>
                  <a:pt x="4291" y="6028"/>
                </a:cubicBezTo>
              </a:path>
              <a:path w="2754" h="1341">
                <a:moveTo>
                  <a:pt x="4390" y="5581"/>
                </a:moveTo>
                <a:cubicBezTo>
                  <a:pt x="4434" y="5668"/>
                  <a:pt x="4477" y="5755"/>
                  <a:pt x="4539" y="5829"/>
                </a:cubicBezTo>
                <a:cubicBezTo>
                  <a:pt x="4597" y="5899"/>
                  <a:pt x="4658" y="5938"/>
                  <a:pt x="4738" y="5978"/>
                </a:cubicBezTo>
                <a:cubicBezTo>
                  <a:pt x="4803" y="6011"/>
                  <a:pt x="4828" y="6008"/>
                  <a:pt x="4887" y="5978"/>
                </a:cubicBezTo>
              </a:path>
              <a:path w="2754" h="1341">
                <a:moveTo>
                  <a:pt x="4614" y="5680"/>
                </a:moveTo>
                <a:cubicBezTo>
                  <a:pt x="4560" y="5801"/>
                  <a:pt x="4524" y="5961"/>
                  <a:pt x="4465" y="6077"/>
                </a:cubicBezTo>
                <a:cubicBezTo>
                  <a:pt x="4446" y="6114"/>
                  <a:pt x="4437" y="6141"/>
                  <a:pt x="4415" y="6176"/>
                </a:cubicBezTo>
              </a:path>
              <a:path w="2754" h="1341">
                <a:moveTo>
                  <a:pt x="4762" y="5184"/>
                </a:moveTo>
                <a:cubicBezTo>
                  <a:pt x="4861" y="5289"/>
                  <a:pt x="4980" y="5410"/>
                  <a:pt x="5060" y="5531"/>
                </a:cubicBezTo>
                <a:cubicBezTo>
                  <a:pt x="5110" y="5607"/>
                  <a:pt x="5213" y="5782"/>
                  <a:pt x="5209" y="5879"/>
                </a:cubicBezTo>
                <a:cubicBezTo>
                  <a:pt x="5205" y="5986"/>
                  <a:pt x="5165" y="6045"/>
                  <a:pt x="5110" y="6127"/>
                </a:cubicBezTo>
                <a:cubicBezTo>
                  <a:pt x="5091" y="6156"/>
                  <a:pt x="5010" y="6258"/>
                  <a:pt x="4961" y="6251"/>
                </a:cubicBezTo>
                <a:cubicBezTo>
                  <a:pt x="4961" y="6243"/>
                  <a:pt x="4961" y="6234"/>
                  <a:pt x="4961" y="6226"/>
                </a:cubicBezTo>
              </a:path>
              <a:path w="2754" h="1341">
                <a:moveTo>
                  <a:pt x="5655" y="5755"/>
                </a:moveTo>
                <a:cubicBezTo>
                  <a:pt x="5728" y="5767"/>
                  <a:pt x="5884" y="5754"/>
                  <a:pt x="5953" y="5779"/>
                </a:cubicBezTo>
                <a:cubicBezTo>
                  <a:pt x="5961" y="5787"/>
                  <a:pt x="5970" y="5796"/>
                  <a:pt x="5978" y="5804"/>
                </a:cubicBezTo>
              </a:path>
              <a:path w="2754" h="1341">
                <a:moveTo>
                  <a:pt x="5581" y="6003"/>
                </a:moveTo>
                <a:cubicBezTo>
                  <a:pt x="5677" y="6012"/>
                  <a:pt x="5733" y="6008"/>
                  <a:pt x="5829" y="6003"/>
                </a:cubicBezTo>
                <a:cubicBezTo>
                  <a:pt x="5846" y="6002"/>
                  <a:pt x="6021" y="6003"/>
                  <a:pt x="5953" y="60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7"/>
          <p:cNvSpPr/>
          <p:nvPr/>
        </p:nvSpPr>
        <p:spPr>
          <a:xfrm>
            <a:off x="2384280" y="1955880"/>
            <a:ext cx="598680" cy="322200"/>
          </a:xfrm>
          <a:custGeom>
            <a:avLst/>
            <a:gdLst/>
            <a:ahLst/>
            <a:rect l="l" t="t" r="r" b="b"/>
            <a:pathLst>
              <a:path w="1663" h="894">
                <a:moveTo>
                  <a:pt x="6648" y="5432"/>
                </a:moveTo>
                <a:cubicBezTo>
                  <a:pt x="6673" y="5502"/>
                  <a:pt x="6687" y="5562"/>
                  <a:pt x="6722" y="5631"/>
                </a:cubicBezTo>
                <a:cubicBezTo>
                  <a:pt x="6773" y="5732"/>
                  <a:pt x="6808" y="5861"/>
                  <a:pt x="6871" y="5953"/>
                </a:cubicBezTo>
                <a:cubicBezTo>
                  <a:pt x="6922" y="6027"/>
                  <a:pt x="7006" y="6096"/>
                  <a:pt x="7069" y="6152"/>
                </a:cubicBezTo>
                <a:cubicBezTo>
                  <a:pt x="7144" y="6219"/>
                  <a:pt x="7146" y="6250"/>
                  <a:pt x="7243" y="6226"/>
                </a:cubicBezTo>
              </a:path>
              <a:path w="1663" h="894">
                <a:moveTo>
                  <a:pt x="7218" y="5556"/>
                </a:moveTo>
                <a:cubicBezTo>
                  <a:pt x="7130" y="5607"/>
                  <a:pt x="7125" y="5652"/>
                  <a:pt x="7069" y="5730"/>
                </a:cubicBezTo>
                <a:cubicBezTo>
                  <a:pt x="6975" y="5862"/>
                  <a:pt x="6862" y="6031"/>
                  <a:pt x="6747" y="6152"/>
                </a:cubicBezTo>
                <a:cubicBezTo>
                  <a:pt x="6700" y="6201"/>
                  <a:pt x="6671" y="6253"/>
                  <a:pt x="6623" y="6300"/>
                </a:cubicBezTo>
              </a:path>
              <a:path w="1663" h="894">
                <a:moveTo>
                  <a:pt x="7640" y="5680"/>
                </a:moveTo>
                <a:cubicBezTo>
                  <a:pt x="7640" y="5854"/>
                  <a:pt x="7640" y="6027"/>
                  <a:pt x="7640" y="6201"/>
                </a:cubicBezTo>
              </a:path>
              <a:path w="1663" h="894">
                <a:moveTo>
                  <a:pt x="7367" y="5953"/>
                </a:moveTo>
                <a:cubicBezTo>
                  <a:pt x="7546" y="5953"/>
                  <a:pt x="7715" y="5952"/>
                  <a:pt x="7888" y="5928"/>
                </a:cubicBezTo>
                <a:cubicBezTo>
                  <a:pt x="7947" y="5928"/>
                  <a:pt x="7973" y="5925"/>
                  <a:pt x="8012" y="5904"/>
                </a:cubicBezTo>
              </a:path>
              <a:path w="1663" h="894">
                <a:moveTo>
                  <a:pt x="8285" y="5482"/>
                </a:moveTo>
                <a:cubicBezTo>
                  <a:pt x="8285" y="5605"/>
                  <a:pt x="8253" y="5784"/>
                  <a:pt x="8260" y="5904"/>
                </a:cubicBezTo>
                <a:cubicBezTo>
                  <a:pt x="8266" y="6023"/>
                  <a:pt x="8285" y="6130"/>
                  <a:pt x="8285" y="6251"/>
                </a:cubicBezTo>
                <a:cubicBezTo>
                  <a:pt x="8285" y="6292"/>
                  <a:pt x="8285" y="6300"/>
                  <a:pt x="8285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8"/>
          <p:cNvSpPr/>
          <p:nvPr/>
        </p:nvSpPr>
        <p:spPr>
          <a:xfrm>
            <a:off x="3643200" y="1963800"/>
            <a:ext cx="1401840" cy="563400"/>
          </a:xfrm>
          <a:custGeom>
            <a:avLst/>
            <a:gdLst/>
            <a:ahLst/>
            <a:rect l="l" t="t" r="r" b="b"/>
            <a:pathLst>
              <a:path w="3896" h="1564">
                <a:moveTo>
                  <a:pt x="10592" y="5804"/>
                </a:moveTo>
                <a:cubicBezTo>
                  <a:pt x="10592" y="5788"/>
                  <a:pt x="10592" y="5771"/>
                  <a:pt x="10592" y="5755"/>
                </a:cubicBezTo>
              </a:path>
              <a:path w="3896" h="1564">
                <a:moveTo>
                  <a:pt x="10691" y="5829"/>
                </a:moveTo>
                <a:cubicBezTo>
                  <a:pt x="10691" y="5784"/>
                  <a:pt x="10687" y="5771"/>
                  <a:pt x="10716" y="5755"/>
                </a:cubicBezTo>
              </a:path>
              <a:path w="3896" h="1564">
                <a:moveTo>
                  <a:pt x="10641" y="5730"/>
                </a:moveTo>
                <a:cubicBezTo>
                  <a:pt x="10607" y="5696"/>
                  <a:pt x="10574" y="5636"/>
                  <a:pt x="10517" y="5655"/>
                </a:cubicBezTo>
                <a:cubicBezTo>
                  <a:pt x="10469" y="5671"/>
                  <a:pt x="10411" y="5691"/>
                  <a:pt x="10368" y="5730"/>
                </a:cubicBezTo>
                <a:cubicBezTo>
                  <a:pt x="10325" y="5770"/>
                  <a:pt x="10303" y="5809"/>
                  <a:pt x="10269" y="5854"/>
                </a:cubicBezTo>
                <a:cubicBezTo>
                  <a:pt x="10233" y="5902"/>
                  <a:pt x="10199" y="5949"/>
                  <a:pt x="10170" y="6003"/>
                </a:cubicBezTo>
                <a:cubicBezTo>
                  <a:pt x="10146" y="6048"/>
                  <a:pt x="10108" y="6149"/>
                  <a:pt x="10120" y="6201"/>
                </a:cubicBezTo>
                <a:cubicBezTo>
                  <a:pt x="10132" y="6253"/>
                  <a:pt x="10153" y="6361"/>
                  <a:pt x="10195" y="6400"/>
                </a:cubicBezTo>
                <a:cubicBezTo>
                  <a:pt x="10241" y="6443"/>
                  <a:pt x="10307" y="6471"/>
                  <a:pt x="10368" y="6474"/>
                </a:cubicBezTo>
                <a:cubicBezTo>
                  <a:pt x="10456" y="6479"/>
                  <a:pt x="10543" y="6485"/>
                  <a:pt x="10616" y="6424"/>
                </a:cubicBezTo>
                <a:cubicBezTo>
                  <a:pt x="10679" y="6371"/>
                  <a:pt x="10692" y="6324"/>
                  <a:pt x="10716" y="6251"/>
                </a:cubicBezTo>
                <a:cubicBezTo>
                  <a:pt x="10744" y="6165"/>
                  <a:pt x="10765" y="6123"/>
                  <a:pt x="10765" y="6028"/>
                </a:cubicBezTo>
                <a:cubicBezTo>
                  <a:pt x="10765" y="5971"/>
                  <a:pt x="10741" y="5926"/>
                  <a:pt x="10716" y="5879"/>
                </a:cubicBezTo>
                <a:cubicBezTo>
                  <a:pt x="10692" y="5831"/>
                  <a:pt x="10686" y="5814"/>
                  <a:pt x="10641" y="5829"/>
                </a:cubicBezTo>
                <a:cubicBezTo>
                  <a:pt x="10617" y="5924"/>
                  <a:pt x="10617" y="5985"/>
                  <a:pt x="10641" y="6077"/>
                </a:cubicBezTo>
                <a:cubicBezTo>
                  <a:pt x="10666" y="6171"/>
                  <a:pt x="10689" y="6257"/>
                  <a:pt x="10716" y="6350"/>
                </a:cubicBezTo>
                <a:cubicBezTo>
                  <a:pt x="10746" y="6451"/>
                  <a:pt x="10768" y="6548"/>
                  <a:pt x="10790" y="6648"/>
                </a:cubicBezTo>
                <a:cubicBezTo>
                  <a:pt x="10811" y="6743"/>
                  <a:pt x="10831" y="6805"/>
                  <a:pt x="10790" y="6896"/>
                </a:cubicBezTo>
                <a:cubicBezTo>
                  <a:pt x="10757" y="6969"/>
                  <a:pt x="10747" y="7016"/>
                  <a:pt x="10666" y="7020"/>
                </a:cubicBezTo>
                <a:cubicBezTo>
                  <a:pt x="10491" y="7028"/>
                  <a:pt x="10422" y="6972"/>
                  <a:pt x="10294" y="6871"/>
                </a:cubicBezTo>
              </a:path>
              <a:path w="3896" h="1564">
                <a:moveTo>
                  <a:pt x="11013" y="5556"/>
                </a:moveTo>
                <a:cubicBezTo>
                  <a:pt x="10960" y="5716"/>
                  <a:pt x="10896" y="5869"/>
                  <a:pt x="10840" y="6028"/>
                </a:cubicBezTo>
                <a:cubicBezTo>
                  <a:pt x="10801" y="6138"/>
                  <a:pt x="10808" y="6240"/>
                  <a:pt x="10840" y="6350"/>
                </a:cubicBezTo>
                <a:cubicBezTo>
                  <a:pt x="10858" y="6411"/>
                  <a:pt x="10893" y="6525"/>
                  <a:pt x="10964" y="6548"/>
                </a:cubicBezTo>
                <a:cubicBezTo>
                  <a:pt x="11015" y="6565"/>
                  <a:pt x="11070" y="6520"/>
                  <a:pt x="11112" y="6499"/>
                </a:cubicBezTo>
              </a:path>
              <a:path w="3896" h="1564">
                <a:moveTo>
                  <a:pt x="11162" y="5779"/>
                </a:moveTo>
                <a:cubicBezTo>
                  <a:pt x="11196" y="5836"/>
                  <a:pt x="11220" y="5890"/>
                  <a:pt x="11261" y="5953"/>
                </a:cubicBezTo>
                <a:cubicBezTo>
                  <a:pt x="11320" y="6044"/>
                  <a:pt x="11408" y="6099"/>
                  <a:pt x="11485" y="6176"/>
                </a:cubicBezTo>
                <a:cubicBezTo>
                  <a:pt x="11551" y="6242"/>
                  <a:pt x="11617" y="6307"/>
                  <a:pt x="11708" y="6325"/>
                </a:cubicBezTo>
              </a:path>
              <a:path w="3896" h="1564">
                <a:moveTo>
                  <a:pt x="11460" y="5904"/>
                </a:moveTo>
                <a:cubicBezTo>
                  <a:pt x="11415" y="6000"/>
                  <a:pt x="11378" y="6117"/>
                  <a:pt x="11311" y="6201"/>
                </a:cubicBezTo>
                <a:cubicBezTo>
                  <a:pt x="11255" y="6271"/>
                  <a:pt x="11228" y="6343"/>
                  <a:pt x="11187" y="6424"/>
                </a:cubicBezTo>
              </a:path>
              <a:path w="3896" h="1564">
                <a:moveTo>
                  <a:pt x="11534" y="5457"/>
                </a:moveTo>
                <a:cubicBezTo>
                  <a:pt x="11598" y="5466"/>
                  <a:pt x="11691" y="5525"/>
                  <a:pt x="11733" y="5581"/>
                </a:cubicBezTo>
                <a:cubicBezTo>
                  <a:pt x="11823" y="5701"/>
                  <a:pt x="11885" y="5837"/>
                  <a:pt x="11931" y="5978"/>
                </a:cubicBezTo>
                <a:cubicBezTo>
                  <a:pt x="11963" y="6078"/>
                  <a:pt x="11956" y="6171"/>
                  <a:pt x="11956" y="6276"/>
                </a:cubicBezTo>
                <a:cubicBezTo>
                  <a:pt x="11956" y="6341"/>
                  <a:pt x="11934" y="6450"/>
                  <a:pt x="11881" y="6499"/>
                </a:cubicBezTo>
                <a:cubicBezTo>
                  <a:pt x="11859" y="6520"/>
                  <a:pt x="11752" y="6576"/>
                  <a:pt x="11733" y="6573"/>
                </a:cubicBezTo>
                <a:cubicBezTo>
                  <a:pt x="11716" y="6565"/>
                  <a:pt x="11700" y="6556"/>
                  <a:pt x="11683" y="6548"/>
                </a:cubicBezTo>
              </a:path>
              <a:path w="3896" h="1564">
                <a:moveTo>
                  <a:pt x="12254" y="5978"/>
                </a:moveTo>
                <a:cubicBezTo>
                  <a:pt x="12328" y="5978"/>
                  <a:pt x="12403" y="5978"/>
                  <a:pt x="12477" y="5978"/>
                </a:cubicBezTo>
              </a:path>
              <a:path w="3896" h="1564">
                <a:moveTo>
                  <a:pt x="12129" y="6201"/>
                </a:moveTo>
                <a:cubicBezTo>
                  <a:pt x="12190" y="6250"/>
                  <a:pt x="12225" y="6251"/>
                  <a:pt x="12303" y="6251"/>
                </a:cubicBezTo>
                <a:cubicBezTo>
                  <a:pt x="12381" y="6251"/>
                  <a:pt x="12423" y="6241"/>
                  <a:pt x="12477" y="6201"/>
                </a:cubicBezTo>
              </a:path>
              <a:path w="3896" h="1564">
                <a:moveTo>
                  <a:pt x="12750" y="5829"/>
                </a:moveTo>
                <a:cubicBezTo>
                  <a:pt x="12810" y="5899"/>
                  <a:pt x="12849" y="5974"/>
                  <a:pt x="12898" y="6052"/>
                </a:cubicBezTo>
                <a:cubicBezTo>
                  <a:pt x="12954" y="6142"/>
                  <a:pt x="13045" y="6254"/>
                  <a:pt x="13122" y="6325"/>
                </a:cubicBezTo>
                <a:cubicBezTo>
                  <a:pt x="13158" y="6358"/>
                  <a:pt x="13294" y="6499"/>
                  <a:pt x="13345" y="6499"/>
                </a:cubicBezTo>
                <a:cubicBezTo>
                  <a:pt x="13362" y="6491"/>
                  <a:pt x="13378" y="6482"/>
                  <a:pt x="13395" y="6474"/>
                </a:cubicBezTo>
              </a:path>
              <a:path w="3896" h="1564">
                <a:moveTo>
                  <a:pt x="13072" y="5829"/>
                </a:moveTo>
                <a:cubicBezTo>
                  <a:pt x="13035" y="5939"/>
                  <a:pt x="13006" y="6051"/>
                  <a:pt x="12948" y="6152"/>
                </a:cubicBezTo>
                <a:cubicBezTo>
                  <a:pt x="12900" y="6237"/>
                  <a:pt x="12843" y="6313"/>
                  <a:pt x="12799" y="6400"/>
                </a:cubicBezTo>
                <a:cubicBezTo>
                  <a:pt x="12775" y="6448"/>
                  <a:pt x="12766" y="6462"/>
                  <a:pt x="12774" y="6499"/>
                </a:cubicBezTo>
              </a:path>
              <a:path w="3896" h="1564">
                <a:moveTo>
                  <a:pt x="13345" y="6127"/>
                </a:moveTo>
                <a:cubicBezTo>
                  <a:pt x="13446" y="6127"/>
                  <a:pt x="13622" y="6150"/>
                  <a:pt x="13717" y="6102"/>
                </a:cubicBezTo>
              </a:path>
              <a:path w="3896" h="1564">
                <a:moveTo>
                  <a:pt x="13915" y="5680"/>
                </a:moveTo>
                <a:cubicBezTo>
                  <a:pt x="13968" y="5817"/>
                  <a:pt x="13969" y="5892"/>
                  <a:pt x="13990" y="6028"/>
                </a:cubicBezTo>
                <a:cubicBezTo>
                  <a:pt x="14009" y="6147"/>
                  <a:pt x="14015" y="6254"/>
                  <a:pt x="14015" y="6375"/>
                </a:cubicBezTo>
                <a:cubicBezTo>
                  <a:pt x="14015" y="6433"/>
                  <a:pt x="14015" y="6490"/>
                  <a:pt x="14015" y="65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9"/>
          <p:cNvSpPr/>
          <p:nvPr/>
        </p:nvSpPr>
        <p:spPr>
          <a:xfrm>
            <a:off x="517680" y="2840040"/>
            <a:ext cx="349200" cy="428760"/>
          </a:xfrm>
          <a:custGeom>
            <a:avLst/>
            <a:gdLst/>
            <a:ahLst/>
            <a:rect l="l" t="t" r="r" b="b"/>
            <a:pathLst>
              <a:path w="968" h="1192">
                <a:moveTo>
                  <a:pt x="1860" y="8359"/>
                </a:moveTo>
                <a:cubicBezTo>
                  <a:pt x="1905" y="8359"/>
                  <a:pt x="1918" y="8362"/>
                  <a:pt x="1935" y="8334"/>
                </a:cubicBezTo>
              </a:path>
              <a:path w="968" h="1192">
                <a:moveTo>
                  <a:pt x="1960" y="8334"/>
                </a:moveTo>
                <a:cubicBezTo>
                  <a:pt x="1941" y="8396"/>
                  <a:pt x="1940" y="8458"/>
                  <a:pt x="1910" y="8508"/>
                </a:cubicBezTo>
                <a:cubicBezTo>
                  <a:pt x="1926" y="8427"/>
                  <a:pt x="1916" y="8422"/>
                  <a:pt x="1910" y="8334"/>
                </a:cubicBezTo>
                <a:cubicBezTo>
                  <a:pt x="1908" y="8301"/>
                  <a:pt x="1887" y="8231"/>
                  <a:pt x="1860" y="8210"/>
                </a:cubicBezTo>
                <a:cubicBezTo>
                  <a:pt x="1788" y="8155"/>
                  <a:pt x="1725" y="8200"/>
                  <a:pt x="1662" y="8235"/>
                </a:cubicBezTo>
                <a:cubicBezTo>
                  <a:pt x="1511" y="8320"/>
                  <a:pt x="1489" y="8362"/>
                  <a:pt x="1439" y="8558"/>
                </a:cubicBezTo>
                <a:cubicBezTo>
                  <a:pt x="1421" y="8627"/>
                  <a:pt x="1442" y="8719"/>
                  <a:pt x="1463" y="8781"/>
                </a:cubicBezTo>
                <a:cubicBezTo>
                  <a:pt x="1489" y="8860"/>
                  <a:pt x="1506" y="8875"/>
                  <a:pt x="1588" y="8880"/>
                </a:cubicBezTo>
                <a:cubicBezTo>
                  <a:pt x="1688" y="8886"/>
                  <a:pt x="1722" y="8855"/>
                  <a:pt x="1761" y="8781"/>
                </a:cubicBezTo>
                <a:cubicBezTo>
                  <a:pt x="1800" y="8707"/>
                  <a:pt x="1845" y="8644"/>
                  <a:pt x="1860" y="8558"/>
                </a:cubicBezTo>
                <a:cubicBezTo>
                  <a:pt x="1881" y="8439"/>
                  <a:pt x="1870" y="8665"/>
                  <a:pt x="1885" y="8706"/>
                </a:cubicBezTo>
                <a:cubicBezTo>
                  <a:pt x="1902" y="8755"/>
                  <a:pt x="1969" y="8842"/>
                  <a:pt x="2009" y="8855"/>
                </a:cubicBezTo>
                <a:cubicBezTo>
                  <a:pt x="2132" y="8895"/>
                  <a:pt x="2124" y="8939"/>
                  <a:pt x="2232" y="8880"/>
                </a:cubicBezTo>
                <a:cubicBezTo>
                  <a:pt x="2240" y="8872"/>
                  <a:pt x="2249" y="8863"/>
                  <a:pt x="2257" y="8855"/>
                </a:cubicBezTo>
              </a:path>
              <a:path w="968" h="1192">
                <a:moveTo>
                  <a:pt x="2108" y="7888"/>
                </a:moveTo>
                <a:cubicBezTo>
                  <a:pt x="2164" y="7944"/>
                  <a:pt x="2211" y="7996"/>
                  <a:pt x="2257" y="8062"/>
                </a:cubicBezTo>
                <a:cubicBezTo>
                  <a:pt x="2325" y="8160"/>
                  <a:pt x="2387" y="8290"/>
                  <a:pt x="2406" y="8409"/>
                </a:cubicBezTo>
                <a:cubicBezTo>
                  <a:pt x="2429" y="8549"/>
                  <a:pt x="2396" y="8675"/>
                  <a:pt x="2356" y="8806"/>
                </a:cubicBezTo>
                <a:cubicBezTo>
                  <a:pt x="2330" y="8891"/>
                  <a:pt x="2295" y="9015"/>
                  <a:pt x="2232" y="9079"/>
                </a:cubicBezTo>
                <a:cubicBezTo>
                  <a:pt x="2197" y="9115"/>
                  <a:pt x="2163" y="9037"/>
                  <a:pt x="2158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10"/>
          <p:cNvSpPr/>
          <p:nvPr/>
        </p:nvSpPr>
        <p:spPr>
          <a:xfrm>
            <a:off x="1035000" y="2847960"/>
            <a:ext cx="2063880" cy="430200"/>
          </a:xfrm>
          <a:custGeom>
            <a:avLst/>
            <a:gdLst/>
            <a:ahLst/>
            <a:rect l="l" t="t" r="r" b="b"/>
            <a:pathLst>
              <a:path w="5731" h="1191">
                <a:moveTo>
                  <a:pt x="3101" y="8136"/>
                </a:moveTo>
                <a:cubicBezTo>
                  <a:pt x="3145" y="8192"/>
                  <a:pt x="3182" y="8254"/>
                  <a:pt x="3225" y="8310"/>
                </a:cubicBezTo>
                <a:cubicBezTo>
                  <a:pt x="3286" y="8390"/>
                  <a:pt x="3342" y="8474"/>
                  <a:pt x="3398" y="8558"/>
                </a:cubicBezTo>
                <a:cubicBezTo>
                  <a:pt x="3449" y="8634"/>
                  <a:pt x="3552" y="8726"/>
                  <a:pt x="3621" y="8781"/>
                </a:cubicBezTo>
                <a:cubicBezTo>
                  <a:pt x="3673" y="8822"/>
                  <a:pt x="3720" y="8864"/>
                  <a:pt x="3746" y="8806"/>
                </a:cubicBezTo>
                <a:cubicBezTo>
                  <a:pt x="3746" y="8798"/>
                  <a:pt x="3746" y="8789"/>
                  <a:pt x="3746" y="8781"/>
                </a:cubicBezTo>
              </a:path>
              <a:path w="5731" h="1191">
                <a:moveTo>
                  <a:pt x="3572" y="8186"/>
                </a:moveTo>
                <a:cubicBezTo>
                  <a:pt x="3534" y="8261"/>
                  <a:pt x="3482" y="8334"/>
                  <a:pt x="3448" y="8409"/>
                </a:cubicBezTo>
                <a:cubicBezTo>
                  <a:pt x="3402" y="8509"/>
                  <a:pt x="3344" y="8606"/>
                  <a:pt x="3299" y="8706"/>
                </a:cubicBezTo>
                <a:cubicBezTo>
                  <a:pt x="3269" y="8774"/>
                  <a:pt x="3237" y="8817"/>
                  <a:pt x="3200" y="8880"/>
                </a:cubicBezTo>
                <a:cubicBezTo>
                  <a:pt x="3180" y="8921"/>
                  <a:pt x="3161" y="8937"/>
                  <a:pt x="3200" y="8930"/>
                </a:cubicBezTo>
              </a:path>
              <a:path w="5731" h="1191">
                <a:moveTo>
                  <a:pt x="4018" y="8310"/>
                </a:moveTo>
                <a:cubicBezTo>
                  <a:pt x="4071" y="8425"/>
                  <a:pt x="4044" y="8445"/>
                  <a:pt x="4068" y="8558"/>
                </a:cubicBezTo>
                <a:cubicBezTo>
                  <a:pt x="4078" y="8607"/>
                  <a:pt x="4126" y="8735"/>
                  <a:pt x="4118" y="8781"/>
                </a:cubicBezTo>
                <a:cubicBezTo>
                  <a:pt x="4110" y="8781"/>
                  <a:pt x="4101" y="8781"/>
                  <a:pt x="4093" y="8781"/>
                </a:cubicBezTo>
              </a:path>
              <a:path w="5731" h="1191">
                <a:moveTo>
                  <a:pt x="3795" y="8434"/>
                </a:moveTo>
                <a:cubicBezTo>
                  <a:pt x="3922" y="8413"/>
                  <a:pt x="4026" y="8443"/>
                  <a:pt x="4142" y="8434"/>
                </a:cubicBezTo>
                <a:cubicBezTo>
                  <a:pt x="4215" y="8410"/>
                  <a:pt x="4239" y="8401"/>
                  <a:pt x="4291" y="8409"/>
                </a:cubicBezTo>
              </a:path>
              <a:path w="5731" h="1191">
                <a:moveTo>
                  <a:pt x="4663" y="8086"/>
                </a:moveTo>
                <a:cubicBezTo>
                  <a:pt x="4653" y="8172"/>
                  <a:pt x="4638" y="8245"/>
                  <a:pt x="4638" y="8334"/>
                </a:cubicBezTo>
                <a:cubicBezTo>
                  <a:pt x="4638" y="8438"/>
                  <a:pt x="4651" y="8535"/>
                  <a:pt x="4663" y="8632"/>
                </a:cubicBezTo>
                <a:cubicBezTo>
                  <a:pt x="4672" y="8703"/>
                  <a:pt x="4663" y="8789"/>
                  <a:pt x="4688" y="8855"/>
                </a:cubicBezTo>
                <a:cubicBezTo>
                  <a:pt x="4716" y="8883"/>
                  <a:pt x="4725" y="8897"/>
                  <a:pt x="4713" y="8930"/>
                </a:cubicBezTo>
              </a:path>
              <a:path w="5731" h="1191">
                <a:moveTo>
                  <a:pt x="3051" y="7987"/>
                </a:moveTo>
                <a:cubicBezTo>
                  <a:pt x="2986" y="8100"/>
                  <a:pt x="2937" y="8182"/>
                  <a:pt x="2902" y="8310"/>
                </a:cubicBezTo>
                <a:cubicBezTo>
                  <a:pt x="2864" y="8449"/>
                  <a:pt x="2895" y="8522"/>
                  <a:pt x="2927" y="8657"/>
                </a:cubicBezTo>
                <a:cubicBezTo>
                  <a:pt x="2966" y="8821"/>
                  <a:pt x="3001" y="8879"/>
                  <a:pt x="3150" y="8954"/>
                </a:cubicBezTo>
                <a:cubicBezTo>
                  <a:pt x="3183" y="8971"/>
                  <a:pt x="3216" y="8987"/>
                  <a:pt x="3249" y="9004"/>
                </a:cubicBezTo>
              </a:path>
              <a:path w="5731" h="1191">
                <a:moveTo>
                  <a:pt x="4986" y="7938"/>
                </a:moveTo>
                <a:cubicBezTo>
                  <a:pt x="5037" y="8053"/>
                  <a:pt x="5087" y="8168"/>
                  <a:pt x="5135" y="8285"/>
                </a:cubicBezTo>
                <a:cubicBezTo>
                  <a:pt x="5198" y="8441"/>
                  <a:pt x="5223" y="8543"/>
                  <a:pt x="5184" y="8706"/>
                </a:cubicBezTo>
                <a:cubicBezTo>
                  <a:pt x="5161" y="8804"/>
                  <a:pt x="5137" y="8916"/>
                  <a:pt x="5085" y="9004"/>
                </a:cubicBezTo>
                <a:cubicBezTo>
                  <a:pt x="5045" y="9072"/>
                  <a:pt x="5026" y="9088"/>
                  <a:pt x="4961" y="9103"/>
                </a:cubicBezTo>
              </a:path>
              <a:path w="5731" h="1191">
                <a:moveTo>
                  <a:pt x="5730" y="8210"/>
                </a:moveTo>
                <a:cubicBezTo>
                  <a:pt x="5730" y="8399"/>
                  <a:pt x="5711" y="8596"/>
                  <a:pt x="5755" y="8781"/>
                </a:cubicBezTo>
                <a:cubicBezTo>
                  <a:pt x="5763" y="8806"/>
                  <a:pt x="5771" y="8830"/>
                  <a:pt x="5779" y="8855"/>
                </a:cubicBezTo>
              </a:path>
              <a:path w="5731" h="1191">
                <a:moveTo>
                  <a:pt x="5606" y="8558"/>
                </a:moveTo>
                <a:cubicBezTo>
                  <a:pt x="5738" y="8506"/>
                  <a:pt x="5814" y="8483"/>
                  <a:pt x="5953" y="8483"/>
                </a:cubicBezTo>
                <a:cubicBezTo>
                  <a:pt x="6011" y="8483"/>
                  <a:pt x="6069" y="8483"/>
                  <a:pt x="6127" y="8483"/>
                </a:cubicBezTo>
              </a:path>
              <a:path w="5731" h="1191">
                <a:moveTo>
                  <a:pt x="6722" y="7913"/>
                </a:moveTo>
                <a:cubicBezTo>
                  <a:pt x="6666" y="7977"/>
                  <a:pt x="6610" y="8058"/>
                  <a:pt x="6573" y="8136"/>
                </a:cubicBezTo>
                <a:cubicBezTo>
                  <a:pt x="6534" y="8219"/>
                  <a:pt x="6487" y="8343"/>
                  <a:pt x="6474" y="8434"/>
                </a:cubicBezTo>
                <a:cubicBezTo>
                  <a:pt x="6457" y="8559"/>
                  <a:pt x="6486" y="8665"/>
                  <a:pt x="6524" y="8781"/>
                </a:cubicBezTo>
                <a:cubicBezTo>
                  <a:pt x="6545" y="8844"/>
                  <a:pt x="6632" y="8971"/>
                  <a:pt x="6697" y="9004"/>
                </a:cubicBezTo>
                <a:cubicBezTo>
                  <a:pt x="6714" y="9004"/>
                  <a:pt x="6730" y="9004"/>
                  <a:pt x="6747" y="9004"/>
                </a:cubicBezTo>
              </a:path>
              <a:path w="5731" h="1191">
                <a:moveTo>
                  <a:pt x="6921" y="8409"/>
                </a:moveTo>
                <a:cubicBezTo>
                  <a:pt x="6987" y="8492"/>
                  <a:pt x="7048" y="8573"/>
                  <a:pt x="7119" y="8657"/>
                </a:cubicBezTo>
                <a:cubicBezTo>
                  <a:pt x="7202" y="8755"/>
                  <a:pt x="7283" y="8857"/>
                  <a:pt x="7367" y="8954"/>
                </a:cubicBezTo>
                <a:cubicBezTo>
                  <a:pt x="7412" y="8999"/>
                  <a:pt x="7421" y="9016"/>
                  <a:pt x="7466" y="9004"/>
                </a:cubicBezTo>
              </a:path>
              <a:path w="5731" h="1191">
                <a:moveTo>
                  <a:pt x="7268" y="8409"/>
                </a:moveTo>
                <a:cubicBezTo>
                  <a:pt x="7204" y="8531"/>
                  <a:pt x="7148" y="8668"/>
                  <a:pt x="7069" y="8781"/>
                </a:cubicBezTo>
                <a:cubicBezTo>
                  <a:pt x="7029" y="8839"/>
                  <a:pt x="6993" y="8889"/>
                  <a:pt x="7020" y="8930"/>
                </a:cubicBezTo>
              </a:path>
              <a:path w="5731" h="1191">
                <a:moveTo>
                  <a:pt x="7665" y="8706"/>
                </a:moveTo>
                <a:cubicBezTo>
                  <a:pt x="7795" y="8713"/>
                  <a:pt x="7866" y="8720"/>
                  <a:pt x="7987" y="8706"/>
                </a:cubicBezTo>
              </a:path>
              <a:path w="5731" h="1191">
                <a:moveTo>
                  <a:pt x="8210" y="8359"/>
                </a:moveTo>
                <a:cubicBezTo>
                  <a:pt x="8179" y="8487"/>
                  <a:pt x="8177" y="8608"/>
                  <a:pt x="8186" y="8731"/>
                </a:cubicBezTo>
                <a:cubicBezTo>
                  <a:pt x="8194" y="8838"/>
                  <a:pt x="8197" y="8903"/>
                  <a:pt x="8235" y="9004"/>
                </a:cubicBezTo>
                <a:cubicBezTo>
                  <a:pt x="8243" y="9029"/>
                  <a:pt x="8252" y="9054"/>
                  <a:pt x="8260" y="9079"/>
                </a:cubicBezTo>
              </a:path>
              <a:path w="5731" h="1191">
                <a:moveTo>
                  <a:pt x="8310" y="7913"/>
                </a:moveTo>
                <a:cubicBezTo>
                  <a:pt x="8437" y="8068"/>
                  <a:pt x="8574" y="8203"/>
                  <a:pt x="8607" y="8409"/>
                </a:cubicBezTo>
                <a:cubicBezTo>
                  <a:pt x="8624" y="8515"/>
                  <a:pt x="8591" y="8608"/>
                  <a:pt x="8558" y="8706"/>
                </a:cubicBezTo>
                <a:cubicBezTo>
                  <a:pt x="8525" y="8806"/>
                  <a:pt x="8496" y="8856"/>
                  <a:pt x="8434" y="8930"/>
                </a:cubicBezTo>
                <a:cubicBezTo>
                  <a:pt x="8407" y="8963"/>
                  <a:pt x="8386" y="8996"/>
                  <a:pt x="8359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11"/>
          <p:cNvSpPr/>
          <p:nvPr/>
        </p:nvSpPr>
        <p:spPr>
          <a:xfrm>
            <a:off x="3321000" y="2901960"/>
            <a:ext cx="795240" cy="376200"/>
          </a:xfrm>
          <a:custGeom>
            <a:avLst/>
            <a:gdLst/>
            <a:ahLst/>
            <a:rect l="l" t="t" r="r" b="b"/>
            <a:pathLst>
              <a:path w="2209" h="1042">
                <a:moveTo>
                  <a:pt x="9227" y="8706"/>
                </a:moveTo>
                <a:cubicBezTo>
                  <a:pt x="9310" y="8727"/>
                  <a:pt x="9325" y="8735"/>
                  <a:pt x="9376" y="8731"/>
                </a:cubicBezTo>
              </a:path>
              <a:path w="2209" h="1042">
                <a:moveTo>
                  <a:pt x="9227" y="8855"/>
                </a:moveTo>
                <a:cubicBezTo>
                  <a:pt x="9372" y="8855"/>
                  <a:pt x="9412" y="8851"/>
                  <a:pt x="9550" y="8806"/>
                </a:cubicBezTo>
              </a:path>
              <a:path w="2209" h="1042">
                <a:moveTo>
                  <a:pt x="9971" y="8161"/>
                </a:moveTo>
                <a:cubicBezTo>
                  <a:pt x="10080" y="8088"/>
                  <a:pt x="10118" y="8062"/>
                  <a:pt x="10244" y="8062"/>
                </a:cubicBezTo>
                <a:cubicBezTo>
                  <a:pt x="10327" y="8062"/>
                  <a:pt x="10339" y="8096"/>
                  <a:pt x="10393" y="8136"/>
                </a:cubicBezTo>
                <a:cubicBezTo>
                  <a:pt x="10490" y="8208"/>
                  <a:pt x="10456" y="8235"/>
                  <a:pt x="10443" y="8334"/>
                </a:cubicBezTo>
                <a:cubicBezTo>
                  <a:pt x="10427" y="8454"/>
                  <a:pt x="10394" y="8554"/>
                  <a:pt x="10319" y="8657"/>
                </a:cubicBezTo>
                <a:cubicBezTo>
                  <a:pt x="10270" y="8724"/>
                  <a:pt x="10203" y="8782"/>
                  <a:pt x="10170" y="8855"/>
                </a:cubicBezTo>
                <a:cubicBezTo>
                  <a:pt x="10133" y="8935"/>
                  <a:pt x="10101" y="9016"/>
                  <a:pt x="10170" y="9079"/>
                </a:cubicBezTo>
                <a:cubicBezTo>
                  <a:pt x="10180" y="9088"/>
                  <a:pt x="10424" y="9104"/>
                  <a:pt x="10443" y="9103"/>
                </a:cubicBezTo>
                <a:cubicBezTo>
                  <a:pt x="10539" y="9097"/>
                  <a:pt x="10587" y="9072"/>
                  <a:pt x="10666" y="9029"/>
                </a:cubicBezTo>
              </a:path>
              <a:path w="2209" h="1042">
                <a:moveTo>
                  <a:pt x="10889" y="8483"/>
                </a:moveTo>
                <a:cubicBezTo>
                  <a:pt x="10972" y="8641"/>
                  <a:pt x="11017" y="8691"/>
                  <a:pt x="11137" y="8806"/>
                </a:cubicBezTo>
                <a:cubicBezTo>
                  <a:pt x="11236" y="8901"/>
                  <a:pt x="11314" y="8964"/>
                  <a:pt x="11435" y="9004"/>
                </a:cubicBezTo>
              </a:path>
              <a:path w="2209" h="1042">
                <a:moveTo>
                  <a:pt x="11212" y="8508"/>
                </a:moveTo>
                <a:cubicBezTo>
                  <a:pt x="11058" y="8669"/>
                  <a:pt x="10931" y="8834"/>
                  <a:pt x="10790" y="9004"/>
                </a:cubicBezTo>
                <a:cubicBezTo>
                  <a:pt x="10765" y="9029"/>
                  <a:pt x="10741" y="9054"/>
                  <a:pt x="10716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12"/>
          <p:cNvSpPr/>
          <p:nvPr/>
        </p:nvSpPr>
        <p:spPr>
          <a:xfrm>
            <a:off x="561960" y="3411360"/>
            <a:ext cx="2359080" cy="642960"/>
          </a:xfrm>
          <a:custGeom>
            <a:avLst/>
            <a:gdLst/>
            <a:ahLst/>
            <a:rect l="l" t="t" r="r" b="b"/>
            <a:pathLst>
              <a:path w="6549" h="1787">
                <a:moveTo>
                  <a:pt x="1588" y="9674"/>
                </a:moveTo>
                <a:cubicBezTo>
                  <a:pt x="1621" y="9740"/>
                  <a:pt x="1637" y="9797"/>
                  <a:pt x="1637" y="9897"/>
                </a:cubicBezTo>
                <a:cubicBezTo>
                  <a:pt x="1637" y="10022"/>
                  <a:pt x="1598" y="10147"/>
                  <a:pt x="1588" y="10269"/>
                </a:cubicBezTo>
                <a:cubicBezTo>
                  <a:pt x="1579" y="10379"/>
                  <a:pt x="1563" y="10480"/>
                  <a:pt x="1563" y="10592"/>
                </a:cubicBezTo>
                <a:cubicBezTo>
                  <a:pt x="1563" y="10660"/>
                  <a:pt x="1567" y="10703"/>
                  <a:pt x="1588" y="10765"/>
                </a:cubicBezTo>
                <a:cubicBezTo>
                  <a:pt x="1616" y="10700"/>
                  <a:pt x="1640" y="10632"/>
                  <a:pt x="1662" y="10567"/>
                </a:cubicBezTo>
                <a:cubicBezTo>
                  <a:pt x="1687" y="10492"/>
                  <a:pt x="1690" y="10410"/>
                  <a:pt x="1736" y="10344"/>
                </a:cubicBezTo>
                <a:cubicBezTo>
                  <a:pt x="1761" y="10309"/>
                  <a:pt x="1805" y="10272"/>
                  <a:pt x="1860" y="10269"/>
                </a:cubicBezTo>
                <a:cubicBezTo>
                  <a:pt x="1917" y="10266"/>
                  <a:pt x="2017" y="10367"/>
                  <a:pt x="2059" y="10418"/>
                </a:cubicBezTo>
                <a:cubicBezTo>
                  <a:pt x="2137" y="10514"/>
                  <a:pt x="2133" y="10600"/>
                  <a:pt x="2133" y="10716"/>
                </a:cubicBezTo>
                <a:cubicBezTo>
                  <a:pt x="2133" y="10814"/>
                  <a:pt x="2079" y="10846"/>
                  <a:pt x="1984" y="10864"/>
                </a:cubicBezTo>
                <a:cubicBezTo>
                  <a:pt x="1881" y="10883"/>
                  <a:pt x="1824" y="10803"/>
                  <a:pt x="1761" y="10740"/>
                </a:cubicBezTo>
                <a:cubicBezTo>
                  <a:pt x="1745" y="10724"/>
                  <a:pt x="1728" y="10707"/>
                  <a:pt x="1712" y="10691"/>
                </a:cubicBezTo>
              </a:path>
              <a:path w="6549" h="1787">
                <a:moveTo>
                  <a:pt x="1885" y="9475"/>
                </a:moveTo>
                <a:cubicBezTo>
                  <a:pt x="2073" y="9616"/>
                  <a:pt x="2225" y="9726"/>
                  <a:pt x="2356" y="9922"/>
                </a:cubicBezTo>
                <a:cubicBezTo>
                  <a:pt x="2443" y="10051"/>
                  <a:pt x="2555" y="10283"/>
                  <a:pt x="2555" y="10443"/>
                </a:cubicBezTo>
                <a:cubicBezTo>
                  <a:pt x="2555" y="10588"/>
                  <a:pt x="2534" y="10798"/>
                  <a:pt x="2431" y="10914"/>
                </a:cubicBezTo>
                <a:cubicBezTo>
                  <a:pt x="2383" y="10968"/>
                  <a:pt x="2257" y="11092"/>
                  <a:pt x="2183" y="11112"/>
                </a:cubicBezTo>
                <a:cubicBezTo>
                  <a:pt x="2141" y="11112"/>
                  <a:pt x="2133" y="11112"/>
                  <a:pt x="2108" y="11112"/>
                </a:cubicBezTo>
              </a:path>
              <a:path w="6549" h="1787">
                <a:moveTo>
                  <a:pt x="3175" y="9823"/>
                </a:moveTo>
                <a:cubicBezTo>
                  <a:pt x="3160" y="9898"/>
                  <a:pt x="3109" y="9975"/>
                  <a:pt x="3076" y="10046"/>
                </a:cubicBezTo>
                <a:cubicBezTo>
                  <a:pt x="3015" y="10176"/>
                  <a:pt x="2980" y="10300"/>
                  <a:pt x="2977" y="10443"/>
                </a:cubicBezTo>
                <a:cubicBezTo>
                  <a:pt x="2973" y="10590"/>
                  <a:pt x="3009" y="10688"/>
                  <a:pt x="3076" y="10815"/>
                </a:cubicBezTo>
                <a:cubicBezTo>
                  <a:pt x="3114" y="10887"/>
                  <a:pt x="3128" y="10896"/>
                  <a:pt x="3200" y="10914"/>
                </a:cubicBezTo>
              </a:path>
              <a:path w="6549" h="1787">
                <a:moveTo>
                  <a:pt x="3349" y="10344"/>
                </a:moveTo>
                <a:cubicBezTo>
                  <a:pt x="3449" y="10453"/>
                  <a:pt x="3506" y="10558"/>
                  <a:pt x="3572" y="10691"/>
                </a:cubicBezTo>
                <a:cubicBezTo>
                  <a:pt x="3621" y="10789"/>
                  <a:pt x="3702" y="10882"/>
                  <a:pt x="3795" y="10939"/>
                </a:cubicBezTo>
                <a:cubicBezTo>
                  <a:pt x="3839" y="10961"/>
                  <a:pt x="3850" y="10964"/>
                  <a:pt x="3870" y="10988"/>
                </a:cubicBezTo>
              </a:path>
              <a:path w="6549" h="1787">
                <a:moveTo>
                  <a:pt x="3820" y="10294"/>
                </a:moveTo>
                <a:cubicBezTo>
                  <a:pt x="3727" y="10387"/>
                  <a:pt x="3689" y="10459"/>
                  <a:pt x="3621" y="10567"/>
                </a:cubicBezTo>
                <a:cubicBezTo>
                  <a:pt x="3569" y="10650"/>
                  <a:pt x="3518" y="10767"/>
                  <a:pt x="3497" y="10864"/>
                </a:cubicBezTo>
                <a:cubicBezTo>
                  <a:pt x="3497" y="10906"/>
                  <a:pt x="3497" y="10914"/>
                  <a:pt x="3497" y="10939"/>
                </a:cubicBezTo>
              </a:path>
              <a:path w="6549" h="1787">
                <a:moveTo>
                  <a:pt x="3994" y="10492"/>
                </a:moveTo>
                <a:cubicBezTo>
                  <a:pt x="4103" y="10531"/>
                  <a:pt x="4150" y="10567"/>
                  <a:pt x="4266" y="10567"/>
                </a:cubicBezTo>
                <a:cubicBezTo>
                  <a:pt x="4316" y="10567"/>
                  <a:pt x="4365" y="10567"/>
                  <a:pt x="4415" y="10567"/>
                </a:cubicBezTo>
              </a:path>
              <a:path w="6549" h="1787">
                <a:moveTo>
                  <a:pt x="4316" y="10120"/>
                </a:moveTo>
                <a:cubicBezTo>
                  <a:pt x="4273" y="10270"/>
                  <a:pt x="4266" y="10352"/>
                  <a:pt x="4266" y="10517"/>
                </a:cubicBezTo>
                <a:cubicBezTo>
                  <a:pt x="4266" y="10649"/>
                  <a:pt x="4266" y="10782"/>
                  <a:pt x="4266" y="10914"/>
                </a:cubicBezTo>
              </a:path>
              <a:path w="6549" h="1787">
                <a:moveTo>
                  <a:pt x="4713" y="10344"/>
                </a:moveTo>
                <a:cubicBezTo>
                  <a:pt x="4708" y="10532"/>
                  <a:pt x="4688" y="10705"/>
                  <a:pt x="4688" y="10889"/>
                </a:cubicBezTo>
                <a:cubicBezTo>
                  <a:pt x="4688" y="10950"/>
                  <a:pt x="4674" y="11012"/>
                  <a:pt x="4713" y="11038"/>
                </a:cubicBezTo>
              </a:path>
              <a:path w="6549" h="1787">
                <a:moveTo>
                  <a:pt x="4837" y="9922"/>
                </a:moveTo>
                <a:cubicBezTo>
                  <a:pt x="4986" y="10169"/>
                  <a:pt x="5127" y="10363"/>
                  <a:pt x="5184" y="10641"/>
                </a:cubicBezTo>
                <a:cubicBezTo>
                  <a:pt x="5218" y="10809"/>
                  <a:pt x="5205" y="10926"/>
                  <a:pt x="5159" y="11088"/>
                </a:cubicBezTo>
                <a:cubicBezTo>
                  <a:pt x="5142" y="11146"/>
                  <a:pt x="5085" y="11279"/>
                  <a:pt x="5011" y="11261"/>
                </a:cubicBezTo>
                <a:cubicBezTo>
                  <a:pt x="5003" y="11253"/>
                  <a:pt x="4994" y="11245"/>
                  <a:pt x="4986" y="11237"/>
                </a:cubicBezTo>
              </a:path>
              <a:path w="6549" h="1787">
                <a:moveTo>
                  <a:pt x="5457" y="10641"/>
                </a:moveTo>
                <a:cubicBezTo>
                  <a:pt x="5621" y="10641"/>
                  <a:pt x="5845" y="10679"/>
                  <a:pt x="5978" y="10592"/>
                </a:cubicBezTo>
              </a:path>
              <a:path w="6549" h="1787">
                <a:moveTo>
                  <a:pt x="6226" y="10071"/>
                </a:moveTo>
                <a:cubicBezTo>
                  <a:pt x="6182" y="10185"/>
                  <a:pt x="6136" y="10300"/>
                  <a:pt x="6102" y="10418"/>
                </a:cubicBezTo>
                <a:cubicBezTo>
                  <a:pt x="6061" y="10563"/>
                  <a:pt x="6065" y="10719"/>
                  <a:pt x="6102" y="10864"/>
                </a:cubicBezTo>
                <a:cubicBezTo>
                  <a:pt x="6126" y="10958"/>
                  <a:pt x="6161" y="11114"/>
                  <a:pt x="6226" y="11187"/>
                </a:cubicBezTo>
                <a:cubicBezTo>
                  <a:pt x="6281" y="11215"/>
                  <a:pt x="6304" y="11223"/>
                  <a:pt x="6350" y="11212"/>
                </a:cubicBezTo>
              </a:path>
              <a:path w="6549" h="1787">
                <a:moveTo>
                  <a:pt x="6424" y="10567"/>
                </a:moveTo>
                <a:cubicBezTo>
                  <a:pt x="6533" y="10653"/>
                  <a:pt x="6623" y="10748"/>
                  <a:pt x="6722" y="10840"/>
                </a:cubicBezTo>
                <a:cubicBezTo>
                  <a:pt x="6807" y="10918"/>
                  <a:pt x="6898" y="10978"/>
                  <a:pt x="6995" y="11038"/>
                </a:cubicBezTo>
              </a:path>
              <a:path w="6549" h="1787">
                <a:moveTo>
                  <a:pt x="6846" y="10443"/>
                </a:moveTo>
                <a:cubicBezTo>
                  <a:pt x="6761" y="10578"/>
                  <a:pt x="6663" y="10719"/>
                  <a:pt x="6598" y="10864"/>
                </a:cubicBezTo>
                <a:cubicBezTo>
                  <a:pt x="6574" y="10918"/>
                  <a:pt x="6558" y="10981"/>
                  <a:pt x="6548" y="11038"/>
                </a:cubicBezTo>
              </a:path>
              <a:path w="6549" h="1787">
                <a:moveTo>
                  <a:pt x="6896" y="10815"/>
                </a:moveTo>
                <a:cubicBezTo>
                  <a:pt x="7031" y="10815"/>
                  <a:pt x="7163" y="10827"/>
                  <a:pt x="7293" y="10790"/>
                </a:cubicBezTo>
                <a:cubicBezTo>
                  <a:pt x="7318" y="10782"/>
                  <a:pt x="7342" y="10773"/>
                  <a:pt x="7367" y="10765"/>
                </a:cubicBezTo>
              </a:path>
              <a:path w="6549" h="1787">
                <a:moveTo>
                  <a:pt x="7541" y="10344"/>
                </a:moveTo>
                <a:cubicBezTo>
                  <a:pt x="7486" y="10452"/>
                  <a:pt x="7478" y="10564"/>
                  <a:pt x="7466" y="10691"/>
                </a:cubicBezTo>
                <a:cubicBezTo>
                  <a:pt x="7457" y="10791"/>
                  <a:pt x="7490" y="10927"/>
                  <a:pt x="7541" y="11013"/>
                </a:cubicBezTo>
                <a:cubicBezTo>
                  <a:pt x="7570" y="11043"/>
                  <a:pt x="7584" y="11048"/>
                  <a:pt x="7615" y="11013"/>
                </a:cubicBezTo>
              </a:path>
              <a:path w="6549" h="1787">
                <a:moveTo>
                  <a:pt x="7714" y="9971"/>
                </a:moveTo>
                <a:cubicBezTo>
                  <a:pt x="7783" y="10001"/>
                  <a:pt x="7863" y="10108"/>
                  <a:pt x="7913" y="10195"/>
                </a:cubicBezTo>
                <a:cubicBezTo>
                  <a:pt x="8021" y="10385"/>
                  <a:pt x="8105" y="10570"/>
                  <a:pt x="8111" y="10790"/>
                </a:cubicBezTo>
                <a:cubicBezTo>
                  <a:pt x="8115" y="10942"/>
                  <a:pt x="8050" y="11055"/>
                  <a:pt x="7938" y="11162"/>
                </a:cubicBezTo>
                <a:cubicBezTo>
                  <a:pt x="7881" y="11190"/>
                  <a:pt x="7857" y="11201"/>
                  <a:pt x="7813" y="112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3"/>
          <p:cNvSpPr/>
          <p:nvPr/>
        </p:nvSpPr>
        <p:spPr>
          <a:xfrm>
            <a:off x="1170000" y="4179960"/>
            <a:ext cx="1517760" cy="490320"/>
          </a:xfrm>
          <a:custGeom>
            <a:avLst/>
            <a:gdLst/>
            <a:ahLst/>
            <a:rect l="l" t="t" r="r" b="b"/>
            <a:pathLst>
              <a:path w="4218" h="1365">
                <a:moveTo>
                  <a:pt x="3398" y="11658"/>
                </a:moveTo>
                <a:cubicBezTo>
                  <a:pt x="3454" y="11769"/>
                  <a:pt x="3527" y="11855"/>
                  <a:pt x="3597" y="11956"/>
                </a:cubicBezTo>
                <a:cubicBezTo>
                  <a:pt x="3668" y="12058"/>
                  <a:pt x="3731" y="12120"/>
                  <a:pt x="3820" y="12204"/>
                </a:cubicBezTo>
                <a:cubicBezTo>
                  <a:pt x="3884" y="12265"/>
                  <a:pt x="3916" y="12299"/>
                  <a:pt x="3994" y="12254"/>
                </a:cubicBezTo>
              </a:path>
              <a:path w="4218" h="1365">
                <a:moveTo>
                  <a:pt x="3795" y="11609"/>
                </a:moveTo>
                <a:cubicBezTo>
                  <a:pt x="3725" y="11724"/>
                  <a:pt x="3661" y="11841"/>
                  <a:pt x="3597" y="11956"/>
                </a:cubicBezTo>
                <a:cubicBezTo>
                  <a:pt x="3548" y="12044"/>
                  <a:pt x="3521" y="12143"/>
                  <a:pt x="3473" y="12229"/>
                </a:cubicBezTo>
                <a:cubicBezTo>
                  <a:pt x="3448" y="12275"/>
                  <a:pt x="3431" y="12276"/>
                  <a:pt x="3473" y="12303"/>
                </a:cubicBezTo>
              </a:path>
              <a:path w="4218" h="1365">
                <a:moveTo>
                  <a:pt x="4167" y="11782"/>
                </a:moveTo>
                <a:cubicBezTo>
                  <a:pt x="4167" y="11926"/>
                  <a:pt x="4186" y="12043"/>
                  <a:pt x="4192" y="12179"/>
                </a:cubicBezTo>
                <a:cubicBezTo>
                  <a:pt x="4195" y="12246"/>
                  <a:pt x="4209" y="12289"/>
                  <a:pt x="4217" y="12353"/>
                </a:cubicBezTo>
              </a:path>
              <a:path w="4218" h="1365">
                <a:moveTo>
                  <a:pt x="4018" y="12080"/>
                </a:moveTo>
                <a:cubicBezTo>
                  <a:pt x="4134" y="12045"/>
                  <a:pt x="4221" y="12076"/>
                  <a:pt x="4341" y="12080"/>
                </a:cubicBezTo>
                <a:cubicBezTo>
                  <a:pt x="4441" y="12080"/>
                  <a:pt x="4491" y="12076"/>
                  <a:pt x="4564" y="12055"/>
                </a:cubicBezTo>
              </a:path>
              <a:path w="4218" h="1365">
                <a:moveTo>
                  <a:pt x="4887" y="11757"/>
                </a:moveTo>
                <a:cubicBezTo>
                  <a:pt x="4871" y="11928"/>
                  <a:pt x="4862" y="12084"/>
                  <a:pt x="4862" y="12254"/>
                </a:cubicBezTo>
                <a:cubicBezTo>
                  <a:pt x="4862" y="12337"/>
                  <a:pt x="4872" y="12400"/>
                  <a:pt x="4887" y="12477"/>
                </a:cubicBezTo>
              </a:path>
              <a:path w="4218" h="1365">
                <a:moveTo>
                  <a:pt x="5159" y="12129"/>
                </a:moveTo>
                <a:cubicBezTo>
                  <a:pt x="5267" y="12119"/>
                  <a:pt x="5373" y="12108"/>
                  <a:pt x="5482" y="12129"/>
                </a:cubicBezTo>
                <a:cubicBezTo>
                  <a:pt x="5577" y="12148"/>
                  <a:pt x="5590" y="12147"/>
                  <a:pt x="5680" y="12129"/>
                </a:cubicBezTo>
              </a:path>
              <a:path w="4218" h="1365">
                <a:moveTo>
                  <a:pt x="5879" y="11931"/>
                </a:moveTo>
                <a:cubicBezTo>
                  <a:pt x="5980" y="12080"/>
                  <a:pt x="6068" y="12233"/>
                  <a:pt x="6176" y="12378"/>
                </a:cubicBezTo>
                <a:cubicBezTo>
                  <a:pt x="6264" y="12496"/>
                  <a:pt x="6354" y="12615"/>
                  <a:pt x="6449" y="12725"/>
                </a:cubicBezTo>
                <a:cubicBezTo>
                  <a:pt x="6466" y="12741"/>
                  <a:pt x="6482" y="12758"/>
                  <a:pt x="6499" y="12774"/>
                </a:cubicBezTo>
              </a:path>
              <a:path w="4218" h="1365">
                <a:moveTo>
                  <a:pt x="6300" y="11931"/>
                </a:moveTo>
                <a:cubicBezTo>
                  <a:pt x="6220" y="12075"/>
                  <a:pt x="6143" y="12216"/>
                  <a:pt x="6052" y="12353"/>
                </a:cubicBezTo>
                <a:cubicBezTo>
                  <a:pt x="5999" y="12433"/>
                  <a:pt x="5910" y="12541"/>
                  <a:pt x="5879" y="12626"/>
                </a:cubicBezTo>
                <a:cubicBezTo>
                  <a:pt x="5861" y="12675"/>
                  <a:pt x="5862" y="12691"/>
                  <a:pt x="5879" y="12725"/>
                </a:cubicBezTo>
              </a:path>
              <a:path w="4218" h="1365">
                <a:moveTo>
                  <a:pt x="6747" y="12129"/>
                </a:moveTo>
                <a:cubicBezTo>
                  <a:pt x="6747" y="12319"/>
                  <a:pt x="6747" y="12510"/>
                  <a:pt x="6747" y="12700"/>
                </a:cubicBezTo>
              </a:path>
              <a:path w="4218" h="1365">
                <a:moveTo>
                  <a:pt x="6598" y="12378"/>
                </a:moveTo>
                <a:cubicBezTo>
                  <a:pt x="6724" y="12353"/>
                  <a:pt x="6845" y="12373"/>
                  <a:pt x="6970" y="12353"/>
                </a:cubicBezTo>
                <a:cubicBezTo>
                  <a:pt x="7045" y="12328"/>
                  <a:pt x="7069" y="12320"/>
                  <a:pt x="7119" y="12303"/>
                </a:cubicBezTo>
              </a:path>
              <a:path w="4218" h="1365">
                <a:moveTo>
                  <a:pt x="7417" y="11881"/>
                </a:moveTo>
                <a:cubicBezTo>
                  <a:pt x="7394" y="11973"/>
                  <a:pt x="7375" y="12082"/>
                  <a:pt x="7392" y="12179"/>
                </a:cubicBezTo>
                <a:cubicBezTo>
                  <a:pt x="7412" y="12295"/>
                  <a:pt x="7453" y="12410"/>
                  <a:pt x="7466" y="12526"/>
                </a:cubicBezTo>
                <a:cubicBezTo>
                  <a:pt x="7466" y="12601"/>
                  <a:pt x="7466" y="12625"/>
                  <a:pt x="7466" y="12675"/>
                </a:cubicBezTo>
              </a:path>
              <a:path w="4218" h="1365">
                <a:moveTo>
                  <a:pt x="3249" y="12477"/>
                </a:moveTo>
                <a:cubicBezTo>
                  <a:pt x="3319" y="12468"/>
                  <a:pt x="3374" y="12452"/>
                  <a:pt x="3448" y="12452"/>
                </a:cubicBezTo>
                <a:cubicBezTo>
                  <a:pt x="3514" y="12452"/>
                  <a:pt x="3531" y="12452"/>
                  <a:pt x="3572" y="12452"/>
                </a:cubicBezTo>
              </a:path>
              <a:path w="4218" h="1365">
                <a:moveTo>
                  <a:pt x="3373" y="12353"/>
                </a:moveTo>
                <a:cubicBezTo>
                  <a:pt x="3316" y="12334"/>
                  <a:pt x="3291" y="12343"/>
                  <a:pt x="3299" y="12303"/>
                </a:cubicBezTo>
                <a:cubicBezTo>
                  <a:pt x="3348" y="12274"/>
                  <a:pt x="3435" y="12263"/>
                  <a:pt x="3497" y="12254"/>
                </a:cubicBezTo>
                <a:cubicBezTo>
                  <a:pt x="3596" y="12240"/>
                  <a:pt x="3678" y="12272"/>
                  <a:pt x="3770" y="12303"/>
                </a:cubicBezTo>
                <a:cubicBezTo>
                  <a:pt x="3701" y="12359"/>
                  <a:pt x="3660" y="12353"/>
                  <a:pt x="3572" y="12353"/>
                </a:cubicBezTo>
                <a:cubicBezTo>
                  <a:pt x="3522" y="12353"/>
                  <a:pt x="3506" y="12353"/>
                  <a:pt x="3473" y="12353"/>
                </a:cubicBezTo>
                <a:cubicBezTo>
                  <a:pt x="3524" y="12379"/>
                  <a:pt x="3606" y="12392"/>
                  <a:pt x="3671" y="12378"/>
                </a:cubicBezTo>
                <a:cubicBezTo>
                  <a:pt x="3696" y="12370"/>
                  <a:pt x="3721" y="12361"/>
                  <a:pt x="3746" y="12353"/>
                </a:cubicBezTo>
              </a:path>
              <a:path w="4218" h="1365">
                <a:moveTo>
                  <a:pt x="5854" y="12849"/>
                </a:moveTo>
                <a:cubicBezTo>
                  <a:pt x="5829" y="12841"/>
                  <a:pt x="5804" y="12832"/>
                  <a:pt x="5779" y="12824"/>
                </a:cubicBezTo>
                <a:cubicBezTo>
                  <a:pt x="5863" y="12866"/>
                  <a:pt x="5916" y="12878"/>
                  <a:pt x="6003" y="12898"/>
                </a:cubicBezTo>
                <a:cubicBezTo>
                  <a:pt x="6009" y="12899"/>
                  <a:pt x="6255" y="12970"/>
                  <a:pt x="6251" y="12948"/>
                </a:cubicBezTo>
                <a:cubicBezTo>
                  <a:pt x="6234" y="12866"/>
                  <a:pt x="6033" y="12838"/>
                  <a:pt x="5978" y="12824"/>
                </a:cubicBezTo>
                <a:cubicBezTo>
                  <a:pt x="5931" y="12812"/>
                  <a:pt x="5670" y="12762"/>
                  <a:pt x="5730" y="12774"/>
                </a:cubicBezTo>
                <a:cubicBezTo>
                  <a:pt x="5746" y="12774"/>
                  <a:pt x="5763" y="12774"/>
                  <a:pt x="5779" y="12774"/>
                </a:cubicBezTo>
                <a:cubicBezTo>
                  <a:pt x="5913" y="12808"/>
                  <a:pt x="6039" y="12832"/>
                  <a:pt x="6176" y="12874"/>
                </a:cubicBezTo>
                <a:cubicBezTo>
                  <a:pt x="6377" y="12935"/>
                  <a:pt x="6064" y="12903"/>
                  <a:pt x="6028" y="12898"/>
                </a:cubicBezTo>
                <a:cubicBezTo>
                  <a:pt x="5879" y="12876"/>
                  <a:pt x="5726" y="12855"/>
                  <a:pt x="5581" y="12824"/>
                </a:cubicBezTo>
                <a:cubicBezTo>
                  <a:pt x="5465" y="12766"/>
                  <a:pt x="5709" y="12842"/>
                  <a:pt x="5755" y="12849"/>
                </a:cubicBezTo>
                <a:cubicBezTo>
                  <a:pt x="5873" y="12867"/>
                  <a:pt x="6208" y="12868"/>
                  <a:pt x="6102" y="12923"/>
                </a:cubicBezTo>
                <a:cubicBezTo>
                  <a:pt x="6019" y="12966"/>
                  <a:pt x="5834" y="12897"/>
                  <a:pt x="5755" y="12874"/>
                </a:cubicBezTo>
                <a:cubicBezTo>
                  <a:pt x="5665" y="12848"/>
                  <a:pt x="5572" y="12850"/>
                  <a:pt x="5705" y="12874"/>
                </a:cubicBezTo>
                <a:cubicBezTo>
                  <a:pt x="5790" y="12890"/>
                  <a:pt x="5868" y="12897"/>
                  <a:pt x="5953" y="12923"/>
                </a:cubicBezTo>
                <a:cubicBezTo>
                  <a:pt x="6118" y="12937"/>
                  <a:pt x="6120" y="12935"/>
                  <a:pt x="5953" y="12898"/>
                </a:cubicBezTo>
                <a:cubicBezTo>
                  <a:pt x="5746" y="12857"/>
                  <a:pt x="5705" y="12849"/>
                  <a:pt x="5581" y="12824"/>
                </a:cubicBezTo>
                <a:cubicBezTo>
                  <a:pt x="5486" y="12789"/>
                  <a:pt x="5403" y="12801"/>
                  <a:pt x="5531" y="12824"/>
                </a:cubicBezTo>
                <a:cubicBezTo>
                  <a:pt x="5682" y="12852"/>
                  <a:pt x="5828" y="12872"/>
                  <a:pt x="5978" y="12923"/>
                </a:cubicBezTo>
                <a:cubicBezTo>
                  <a:pt x="6133" y="12976"/>
                  <a:pt x="5912" y="12924"/>
                  <a:pt x="5904" y="12923"/>
                </a:cubicBezTo>
                <a:cubicBezTo>
                  <a:pt x="5818" y="12909"/>
                  <a:pt x="5695" y="12796"/>
                  <a:pt x="5655" y="12874"/>
                </a:cubicBezTo>
                <a:cubicBezTo>
                  <a:pt x="5638" y="12907"/>
                  <a:pt x="5773" y="12898"/>
                  <a:pt x="5779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4"/>
          <p:cNvSpPr/>
          <p:nvPr/>
        </p:nvSpPr>
        <p:spPr>
          <a:xfrm>
            <a:off x="2963880" y="4340160"/>
            <a:ext cx="679320" cy="330120"/>
          </a:xfrm>
          <a:custGeom>
            <a:avLst/>
            <a:gdLst/>
            <a:ahLst/>
            <a:rect l="l" t="t" r="r" b="b"/>
            <a:pathLst>
              <a:path w="1886" h="919">
                <a:moveTo>
                  <a:pt x="8235" y="12402"/>
                </a:moveTo>
                <a:cubicBezTo>
                  <a:pt x="8363" y="12380"/>
                  <a:pt x="8394" y="12396"/>
                  <a:pt x="8508" y="12402"/>
                </a:cubicBezTo>
                <a:cubicBezTo>
                  <a:pt x="8525" y="12402"/>
                  <a:pt x="8541" y="12402"/>
                  <a:pt x="8558" y="12402"/>
                </a:cubicBezTo>
              </a:path>
              <a:path w="1886" h="919">
                <a:moveTo>
                  <a:pt x="8334" y="12675"/>
                </a:moveTo>
                <a:cubicBezTo>
                  <a:pt x="8494" y="12723"/>
                  <a:pt x="8472" y="12737"/>
                  <a:pt x="8607" y="12700"/>
                </a:cubicBezTo>
              </a:path>
              <a:path w="1886" h="919">
                <a:moveTo>
                  <a:pt x="9178" y="12179"/>
                </a:moveTo>
                <a:cubicBezTo>
                  <a:pt x="9178" y="12224"/>
                  <a:pt x="9175" y="12237"/>
                  <a:pt x="9203" y="12254"/>
                </a:cubicBezTo>
                <a:cubicBezTo>
                  <a:pt x="9234" y="12214"/>
                  <a:pt x="9257" y="12158"/>
                  <a:pt x="9302" y="12129"/>
                </a:cubicBezTo>
                <a:cubicBezTo>
                  <a:pt x="9355" y="12095"/>
                  <a:pt x="9436" y="12038"/>
                  <a:pt x="9500" y="12055"/>
                </a:cubicBezTo>
                <a:cubicBezTo>
                  <a:pt x="9555" y="12070"/>
                  <a:pt x="9612" y="12148"/>
                  <a:pt x="9624" y="12204"/>
                </a:cubicBezTo>
                <a:cubicBezTo>
                  <a:pt x="9649" y="12318"/>
                  <a:pt x="9631" y="12492"/>
                  <a:pt x="9599" y="12601"/>
                </a:cubicBezTo>
                <a:cubicBezTo>
                  <a:pt x="9569" y="12704"/>
                  <a:pt x="9496" y="12795"/>
                  <a:pt x="9426" y="12874"/>
                </a:cubicBezTo>
                <a:cubicBezTo>
                  <a:pt x="9389" y="12916"/>
                  <a:pt x="9319" y="12922"/>
                  <a:pt x="9277" y="12898"/>
                </a:cubicBezTo>
                <a:cubicBezTo>
                  <a:pt x="9226" y="12869"/>
                  <a:pt x="9206" y="12827"/>
                  <a:pt x="9203" y="12774"/>
                </a:cubicBezTo>
                <a:cubicBezTo>
                  <a:pt x="9198" y="12685"/>
                  <a:pt x="9215" y="12631"/>
                  <a:pt x="9302" y="12626"/>
                </a:cubicBezTo>
                <a:cubicBezTo>
                  <a:pt x="9377" y="12622"/>
                  <a:pt x="9414" y="12667"/>
                  <a:pt x="9475" y="12700"/>
                </a:cubicBezTo>
                <a:cubicBezTo>
                  <a:pt x="9548" y="12739"/>
                  <a:pt x="9603" y="12811"/>
                  <a:pt x="9674" y="12849"/>
                </a:cubicBezTo>
                <a:cubicBezTo>
                  <a:pt x="9750" y="12889"/>
                  <a:pt x="9863" y="12943"/>
                  <a:pt x="9947" y="12948"/>
                </a:cubicBezTo>
                <a:cubicBezTo>
                  <a:pt x="10016" y="12952"/>
                  <a:pt x="10057" y="12978"/>
                  <a:pt x="10120" y="12948"/>
                </a:cubicBezTo>
                <a:cubicBezTo>
                  <a:pt x="10112" y="12948"/>
                  <a:pt x="10104" y="12948"/>
                  <a:pt x="10096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5"/>
          <p:cNvSpPr/>
          <p:nvPr/>
        </p:nvSpPr>
        <p:spPr>
          <a:xfrm>
            <a:off x="633240" y="4653000"/>
            <a:ext cx="243000" cy="490680"/>
          </a:xfrm>
          <a:custGeom>
            <a:avLst/>
            <a:gdLst/>
            <a:ahLst/>
            <a:rect l="l" t="t" r="r" b="b"/>
            <a:pathLst>
              <a:path w="671" h="1366">
                <a:moveTo>
                  <a:pt x="2034" y="13370"/>
                </a:moveTo>
                <a:cubicBezTo>
                  <a:pt x="2042" y="13457"/>
                  <a:pt x="2054" y="13499"/>
                  <a:pt x="2108" y="13568"/>
                </a:cubicBezTo>
                <a:cubicBezTo>
                  <a:pt x="2100" y="13499"/>
                  <a:pt x="2077" y="13451"/>
                  <a:pt x="2034" y="13395"/>
                </a:cubicBezTo>
                <a:cubicBezTo>
                  <a:pt x="2007" y="13359"/>
                  <a:pt x="1928" y="13348"/>
                  <a:pt x="1885" y="13345"/>
                </a:cubicBezTo>
                <a:cubicBezTo>
                  <a:pt x="1812" y="13341"/>
                  <a:pt x="1790" y="13378"/>
                  <a:pt x="1786" y="13444"/>
                </a:cubicBezTo>
                <a:cubicBezTo>
                  <a:pt x="1781" y="13535"/>
                  <a:pt x="1763" y="13600"/>
                  <a:pt x="1786" y="13692"/>
                </a:cubicBezTo>
                <a:cubicBezTo>
                  <a:pt x="1812" y="13797"/>
                  <a:pt x="1854" y="13856"/>
                  <a:pt x="1910" y="13940"/>
                </a:cubicBezTo>
                <a:cubicBezTo>
                  <a:pt x="1976" y="14039"/>
                  <a:pt x="1927" y="14034"/>
                  <a:pt x="2034" y="13915"/>
                </a:cubicBezTo>
              </a:path>
              <a:path w="671" h="1366">
                <a:moveTo>
                  <a:pt x="2108" y="12923"/>
                </a:moveTo>
                <a:cubicBezTo>
                  <a:pt x="2229" y="13108"/>
                  <a:pt x="2329" y="13275"/>
                  <a:pt x="2381" y="13494"/>
                </a:cubicBezTo>
                <a:cubicBezTo>
                  <a:pt x="2431" y="13704"/>
                  <a:pt x="2439" y="13863"/>
                  <a:pt x="2356" y="14064"/>
                </a:cubicBezTo>
                <a:cubicBezTo>
                  <a:pt x="2307" y="14181"/>
                  <a:pt x="2233" y="14219"/>
                  <a:pt x="2133" y="14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6"/>
          <p:cNvSpPr/>
          <p:nvPr/>
        </p:nvSpPr>
        <p:spPr>
          <a:xfrm>
            <a:off x="1071720" y="4749840"/>
            <a:ext cx="1384200" cy="465120"/>
          </a:xfrm>
          <a:custGeom>
            <a:avLst/>
            <a:gdLst/>
            <a:ahLst/>
            <a:rect l="l" t="t" r="r" b="b"/>
            <a:pathLst>
              <a:path w="3845" h="1291">
                <a:moveTo>
                  <a:pt x="3249" y="13221"/>
                </a:moveTo>
                <a:cubicBezTo>
                  <a:pt x="3211" y="13289"/>
                  <a:pt x="3138" y="13329"/>
                  <a:pt x="3101" y="13395"/>
                </a:cubicBezTo>
                <a:cubicBezTo>
                  <a:pt x="3049" y="13487"/>
                  <a:pt x="2988" y="13610"/>
                  <a:pt x="2977" y="13717"/>
                </a:cubicBezTo>
                <a:cubicBezTo>
                  <a:pt x="2962" y="13867"/>
                  <a:pt x="2987" y="14027"/>
                  <a:pt x="3051" y="14163"/>
                </a:cubicBezTo>
                <a:cubicBezTo>
                  <a:pt x="3101" y="14238"/>
                  <a:pt x="3117" y="14262"/>
                  <a:pt x="3150" y="14312"/>
                </a:cubicBezTo>
              </a:path>
              <a:path w="3845" h="1291">
                <a:moveTo>
                  <a:pt x="3373" y="13568"/>
                </a:moveTo>
                <a:cubicBezTo>
                  <a:pt x="3406" y="13717"/>
                  <a:pt x="3454" y="13829"/>
                  <a:pt x="3522" y="13965"/>
                </a:cubicBezTo>
                <a:cubicBezTo>
                  <a:pt x="3578" y="14077"/>
                  <a:pt x="3628" y="14135"/>
                  <a:pt x="3721" y="14213"/>
                </a:cubicBezTo>
              </a:path>
              <a:path w="3845" h="1291">
                <a:moveTo>
                  <a:pt x="3646" y="13767"/>
                </a:moveTo>
                <a:cubicBezTo>
                  <a:pt x="3560" y="13871"/>
                  <a:pt x="3464" y="13971"/>
                  <a:pt x="3398" y="14089"/>
                </a:cubicBezTo>
                <a:cubicBezTo>
                  <a:pt x="3351" y="14173"/>
                  <a:pt x="3349" y="14183"/>
                  <a:pt x="3349" y="14263"/>
                </a:cubicBezTo>
              </a:path>
              <a:path w="3845" h="1291">
                <a:moveTo>
                  <a:pt x="4018" y="13643"/>
                </a:moveTo>
                <a:cubicBezTo>
                  <a:pt x="4042" y="13770"/>
                  <a:pt x="4043" y="13885"/>
                  <a:pt x="4043" y="14015"/>
                </a:cubicBezTo>
                <a:cubicBezTo>
                  <a:pt x="4043" y="14081"/>
                  <a:pt x="4043" y="14147"/>
                  <a:pt x="4043" y="14213"/>
                </a:cubicBezTo>
              </a:path>
              <a:path w="3845" h="1291">
                <a:moveTo>
                  <a:pt x="3894" y="13915"/>
                </a:moveTo>
                <a:cubicBezTo>
                  <a:pt x="4006" y="13934"/>
                  <a:pt x="4108" y="13955"/>
                  <a:pt x="4217" y="13965"/>
                </a:cubicBezTo>
              </a:path>
              <a:path w="3845" h="1291">
                <a:moveTo>
                  <a:pt x="4440" y="13742"/>
                </a:moveTo>
                <a:cubicBezTo>
                  <a:pt x="4427" y="13873"/>
                  <a:pt x="4440" y="14055"/>
                  <a:pt x="4415" y="14188"/>
                </a:cubicBezTo>
                <a:cubicBezTo>
                  <a:pt x="4393" y="14253"/>
                  <a:pt x="4385" y="14268"/>
                  <a:pt x="4390" y="14312"/>
                </a:cubicBezTo>
              </a:path>
              <a:path w="3845" h="1291">
                <a:moveTo>
                  <a:pt x="4465" y="13196"/>
                </a:moveTo>
                <a:cubicBezTo>
                  <a:pt x="4580" y="13349"/>
                  <a:pt x="4662" y="13479"/>
                  <a:pt x="4713" y="13667"/>
                </a:cubicBezTo>
                <a:cubicBezTo>
                  <a:pt x="4757" y="13830"/>
                  <a:pt x="4782" y="14019"/>
                  <a:pt x="4762" y="14188"/>
                </a:cubicBezTo>
                <a:cubicBezTo>
                  <a:pt x="4747" y="14313"/>
                  <a:pt x="4678" y="14344"/>
                  <a:pt x="4589" y="14412"/>
                </a:cubicBezTo>
                <a:cubicBezTo>
                  <a:pt x="4545" y="14445"/>
                  <a:pt x="4503" y="14393"/>
                  <a:pt x="4490" y="14337"/>
                </a:cubicBezTo>
                <a:cubicBezTo>
                  <a:pt x="4490" y="14321"/>
                  <a:pt x="4490" y="14304"/>
                  <a:pt x="4490" y="14288"/>
                </a:cubicBezTo>
              </a:path>
              <a:path w="3845" h="1291">
                <a:moveTo>
                  <a:pt x="5135" y="13419"/>
                </a:moveTo>
                <a:cubicBezTo>
                  <a:pt x="5124" y="13518"/>
                  <a:pt x="5094" y="13617"/>
                  <a:pt x="5085" y="13717"/>
                </a:cubicBezTo>
                <a:cubicBezTo>
                  <a:pt x="5072" y="13862"/>
                  <a:pt x="5042" y="14016"/>
                  <a:pt x="5060" y="14163"/>
                </a:cubicBezTo>
                <a:cubicBezTo>
                  <a:pt x="5073" y="14272"/>
                  <a:pt x="5090" y="14378"/>
                  <a:pt x="5110" y="14486"/>
                </a:cubicBezTo>
              </a:path>
              <a:path w="3845" h="1291">
                <a:moveTo>
                  <a:pt x="5283" y="13767"/>
                </a:moveTo>
                <a:cubicBezTo>
                  <a:pt x="5372" y="13854"/>
                  <a:pt x="5403" y="13978"/>
                  <a:pt x="5457" y="14089"/>
                </a:cubicBezTo>
                <a:cubicBezTo>
                  <a:pt x="5518" y="14214"/>
                  <a:pt x="5566" y="14341"/>
                  <a:pt x="5631" y="14461"/>
                </a:cubicBezTo>
              </a:path>
              <a:path w="3845" h="1291">
                <a:moveTo>
                  <a:pt x="5755" y="13791"/>
                </a:moveTo>
                <a:cubicBezTo>
                  <a:pt x="5672" y="13838"/>
                  <a:pt x="5629" y="13906"/>
                  <a:pt x="5581" y="13990"/>
                </a:cubicBezTo>
                <a:cubicBezTo>
                  <a:pt x="5519" y="14099"/>
                  <a:pt x="5473" y="14235"/>
                  <a:pt x="5407" y="14337"/>
                </a:cubicBezTo>
                <a:cubicBezTo>
                  <a:pt x="5361" y="14383"/>
                  <a:pt x="5347" y="14396"/>
                  <a:pt x="5333" y="14436"/>
                </a:cubicBezTo>
              </a:path>
              <a:path w="3845" h="1291">
                <a:moveTo>
                  <a:pt x="5730" y="14163"/>
                </a:moveTo>
                <a:cubicBezTo>
                  <a:pt x="5851" y="14211"/>
                  <a:pt x="5924" y="14238"/>
                  <a:pt x="6052" y="14238"/>
                </a:cubicBezTo>
              </a:path>
              <a:path w="3845" h="1291">
                <a:moveTo>
                  <a:pt x="6300" y="13915"/>
                </a:moveTo>
                <a:cubicBezTo>
                  <a:pt x="6300" y="14067"/>
                  <a:pt x="6281" y="14211"/>
                  <a:pt x="6276" y="14362"/>
                </a:cubicBezTo>
                <a:cubicBezTo>
                  <a:pt x="6276" y="14420"/>
                  <a:pt x="6276" y="14428"/>
                  <a:pt x="6276" y="14461"/>
                </a:cubicBezTo>
              </a:path>
              <a:path w="3845" h="1291">
                <a:moveTo>
                  <a:pt x="6598" y="13395"/>
                </a:moveTo>
                <a:cubicBezTo>
                  <a:pt x="6707" y="13554"/>
                  <a:pt x="6757" y="13677"/>
                  <a:pt x="6796" y="13866"/>
                </a:cubicBezTo>
                <a:cubicBezTo>
                  <a:pt x="6840" y="14076"/>
                  <a:pt x="6831" y="14209"/>
                  <a:pt x="6722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7"/>
          <p:cNvSpPr/>
          <p:nvPr/>
        </p:nvSpPr>
        <p:spPr>
          <a:xfrm>
            <a:off x="1276200" y="5224320"/>
            <a:ext cx="669960" cy="579600"/>
          </a:xfrm>
          <a:custGeom>
            <a:avLst/>
            <a:gdLst/>
            <a:ahLst/>
            <a:rect l="l" t="t" r="r" b="b"/>
            <a:pathLst>
              <a:path w="1861" h="1613">
                <a:moveTo>
                  <a:pt x="3547" y="14808"/>
                </a:moveTo>
                <a:cubicBezTo>
                  <a:pt x="3556" y="14958"/>
                  <a:pt x="3589" y="15067"/>
                  <a:pt x="3646" y="15205"/>
                </a:cubicBezTo>
                <a:cubicBezTo>
                  <a:pt x="3697" y="15328"/>
                  <a:pt x="3746" y="15453"/>
                  <a:pt x="3795" y="15577"/>
                </a:cubicBezTo>
              </a:path>
              <a:path w="1861" h="1613">
                <a:moveTo>
                  <a:pt x="3894" y="14883"/>
                </a:moveTo>
                <a:cubicBezTo>
                  <a:pt x="3837" y="14998"/>
                  <a:pt x="3798" y="15113"/>
                  <a:pt x="3746" y="15230"/>
                </a:cubicBezTo>
                <a:cubicBezTo>
                  <a:pt x="3686" y="15364"/>
                  <a:pt x="3581" y="15553"/>
                  <a:pt x="3547" y="15701"/>
                </a:cubicBezTo>
                <a:cubicBezTo>
                  <a:pt x="3547" y="15718"/>
                  <a:pt x="3547" y="15734"/>
                  <a:pt x="3547" y="15751"/>
                </a:cubicBezTo>
              </a:path>
              <a:path w="1861" h="1613">
                <a:moveTo>
                  <a:pt x="4068" y="14511"/>
                </a:moveTo>
                <a:cubicBezTo>
                  <a:pt x="4173" y="14541"/>
                  <a:pt x="4211" y="14544"/>
                  <a:pt x="4266" y="14635"/>
                </a:cubicBezTo>
                <a:cubicBezTo>
                  <a:pt x="4305" y="14700"/>
                  <a:pt x="4262" y="14777"/>
                  <a:pt x="4217" y="14833"/>
                </a:cubicBezTo>
                <a:cubicBezTo>
                  <a:pt x="4176" y="14884"/>
                  <a:pt x="4091" y="14892"/>
                  <a:pt x="4118" y="14982"/>
                </a:cubicBezTo>
                <a:cubicBezTo>
                  <a:pt x="4146" y="15077"/>
                  <a:pt x="4220" y="15082"/>
                  <a:pt x="4291" y="15106"/>
                </a:cubicBezTo>
                <a:cubicBezTo>
                  <a:pt x="4374" y="15134"/>
                  <a:pt x="4393" y="15138"/>
                  <a:pt x="4465" y="15081"/>
                </a:cubicBezTo>
              </a:path>
              <a:path w="1861" h="1613">
                <a:moveTo>
                  <a:pt x="4589" y="15453"/>
                </a:moveTo>
                <a:cubicBezTo>
                  <a:pt x="4670" y="15480"/>
                  <a:pt x="4774" y="15495"/>
                  <a:pt x="4862" y="15478"/>
                </a:cubicBezTo>
                <a:cubicBezTo>
                  <a:pt x="4887" y="15470"/>
                  <a:pt x="4911" y="15461"/>
                  <a:pt x="4936" y="15453"/>
                </a:cubicBezTo>
              </a:path>
              <a:path w="1861" h="1613">
                <a:moveTo>
                  <a:pt x="5407" y="15032"/>
                </a:moveTo>
                <a:cubicBezTo>
                  <a:pt x="5407" y="15136"/>
                  <a:pt x="5394" y="15229"/>
                  <a:pt x="5383" y="15329"/>
                </a:cubicBezTo>
                <a:cubicBezTo>
                  <a:pt x="5371" y="15437"/>
                  <a:pt x="5379" y="15546"/>
                  <a:pt x="5358" y="15652"/>
                </a:cubicBezTo>
                <a:cubicBezTo>
                  <a:pt x="5338" y="15750"/>
                  <a:pt x="5330" y="15853"/>
                  <a:pt x="5308" y="15949"/>
                </a:cubicBezTo>
                <a:cubicBezTo>
                  <a:pt x="5303" y="15970"/>
                  <a:pt x="5283" y="16154"/>
                  <a:pt x="5283" y="160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18"/>
          <p:cNvSpPr/>
          <p:nvPr/>
        </p:nvSpPr>
        <p:spPr>
          <a:xfrm>
            <a:off x="5143680" y="3983040"/>
            <a:ext cx="1768320" cy="768240"/>
          </a:xfrm>
          <a:custGeom>
            <a:avLst/>
            <a:gdLst/>
            <a:ahLst/>
            <a:rect l="l" t="t" r="r" b="b"/>
            <a:pathLst>
              <a:path w="4912" h="2134">
                <a:moveTo>
                  <a:pt x="14288" y="11757"/>
                </a:moveTo>
                <a:cubicBezTo>
                  <a:pt x="14399" y="11776"/>
                  <a:pt x="14495" y="11761"/>
                  <a:pt x="14610" y="11733"/>
                </a:cubicBezTo>
                <a:cubicBezTo>
                  <a:pt x="14738" y="11702"/>
                  <a:pt x="14801" y="11680"/>
                  <a:pt x="14883" y="11584"/>
                </a:cubicBezTo>
                <a:cubicBezTo>
                  <a:pt x="14918" y="11549"/>
                  <a:pt x="14922" y="11527"/>
                  <a:pt x="14883" y="11485"/>
                </a:cubicBezTo>
                <a:cubicBezTo>
                  <a:pt x="14826" y="11451"/>
                  <a:pt x="14732" y="11447"/>
                  <a:pt x="14660" y="11460"/>
                </a:cubicBezTo>
                <a:cubicBezTo>
                  <a:pt x="14517" y="11487"/>
                  <a:pt x="14415" y="11559"/>
                  <a:pt x="14337" y="11683"/>
                </a:cubicBezTo>
                <a:cubicBezTo>
                  <a:pt x="14287" y="11763"/>
                  <a:pt x="14271" y="11912"/>
                  <a:pt x="14288" y="12005"/>
                </a:cubicBezTo>
                <a:cubicBezTo>
                  <a:pt x="14301" y="12079"/>
                  <a:pt x="14381" y="12187"/>
                  <a:pt x="14461" y="12204"/>
                </a:cubicBezTo>
                <a:cubicBezTo>
                  <a:pt x="14564" y="12204"/>
                  <a:pt x="14611" y="12187"/>
                  <a:pt x="14660" y="12105"/>
                </a:cubicBezTo>
              </a:path>
              <a:path w="4912" h="2134">
                <a:moveTo>
                  <a:pt x="14684" y="11063"/>
                </a:moveTo>
                <a:cubicBezTo>
                  <a:pt x="14840" y="11234"/>
                  <a:pt x="14995" y="11412"/>
                  <a:pt x="15081" y="11633"/>
                </a:cubicBezTo>
                <a:cubicBezTo>
                  <a:pt x="15161" y="11837"/>
                  <a:pt x="15182" y="12065"/>
                  <a:pt x="15131" y="12278"/>
                </a:cubicBezTo>
                <a:cubicBezTo>
                  <a:pt x="15091" y="12444"/>
                  <a:pt x="15016" y="12528"/>
                  <a:pt x="14908" y="12650"/>
                </a:cubicBezTo>
              </a:path>
              <a:path w="4912" h="2134">
                <a:moveTo>
                  <a:pt x="15925" y="11237"/>
                </a:moveTo>
                <a:cubicBezTo>
                  <a:pt x="15925" y="11341"/>
                  <a:pt x="15945" y="11432"/>
                  <a:pt x="15949" y="11534"/>
                </a:cubicBezTo>
                <a:cubicBezTo>
                  <a:pt x="15955" y="11703"/>
                  <a:pt x="15938" y="11865"/>
                  <a:pt x="15925" y="12030"/>
                </a:cubicBezTo>
                <a:cubicBezTo>
                  <a:pt x="15916" y="12143"/>
                  <a:pt x="15873" y="12523"/>
                  <a:pt x="15949" y="12576"/>
                </a:cubicBezTo>
              </a:path>
              <a:path w="4912" h="2134">
                <a:moveTo>
                  <a:pt x="16272" y="11361"/>
                </a:moveTo>
                <a:cubicBezTo>
                  <a:pt x="16290" y="11448"/>
                  <a:pt x="16272" y="11509"/>
                  <a:pt x="16272" y="11609"/>
                </a:cubicBezTo>
                <a:cubicBezTo>
                  <a:pt x="16272" y="11851"/>
                  <a:pt x="16270" y="12089"/>
                  <a:pt x="16247" y="12328"/>
                </a:cubicBezTo>
                <a:cubicBezTo>
                  <a:pt x="16241" y="12391"/>
                  <a:pt x="16247" y="12618"/>
                  <a:pt x="16247" y="12601"/>
                </a:cubicBezTo>
              </a:path>
              <a:path w="4912" h="2134">
                <a:moveTo>
                  <a:pt x="15553" y="11385"/>
                </a:moveTo>
                <a:cubicBezTo>
                  <a:pt x="15568" y="11325"/>
                  <a:pt x="15574" y="11304"/>
                  <a:pt x="15627" y="11261"/>
                </a:cubicBezTo>
                <a:cubicBezTo>
                  <a:pt x="15730" y="11177"/>
                  <a:pt x="15899" y="11150"/>
                  <a:pt x="16024" y="11137"/>
                </a:cubicBezTo>
                <a:cubicBezTo>
                  <a:pt x="16147" y="11125"/>
                  <a:pt x="16255" y="11152"/>
                  <a:pt x="16371" y="11187"/>
                </a:cubicBezTo>
                <a:cubicBezTo>
                  <a:pt x="16456" y="11212"/>
                  <a:pt x="16528" y="11255"/>
                  <a:pt x="16594" y="11311"/>
                </a:cubicBezTo>
                <a:cubicBezTo>
                  <a:pt x="16668" y="11373"/>
                  <a:pt x="16660" y="11474"/>
                  <a:pt x="16619" y="11559"/>
                </a:cubicBezTo>
                <a:cubicBezTo>
                  <a:pt x="16522" y="11762"/>
                  <a:pt x="16319" y="11930"/>
                  <a:pt x="16173" y="12080"/>
                </a:cubicBezTo>
                <a:cubicBezTo>
                  <a:pt x="16244" y="12089"/>
                  <a:pt x="16289" y="12108"/>
                  <a:pt x="16346" y="12154"/>
                </a:cubicBezTo>
                <a:cubicBezTo>
                  <a:pt x="16413" y="12208"/>
                  <a:pt x="16455" y="12278"/>
                  <a:pt x="16495" y="12353"/>
                </a:cubicBezTo>
                <a:cubicBezTo>
                  <a:pt x="16540" y="12438"/>
                  <a:pt x="16581" y="12513"/>
                  <a:pt x="16619" y="12601"/>
                </a:cubicBezTo>
                <a:cubicBezTo>
                  <a:pt x="16648" y="12668"/>
                  <a:pt x="16670" y="12739"/>
                  <a:pt x="16694" y="12799"/>
                </a:cubicBezTo>
                <a:cubicBezTo>
                  <a:pt x="16743" y="12921"/>
                  <a:pt x="16742" y="12879"/>
                  <a:pt x="16842" y="12849"/>
                </a:cubicBezTo>
              </a:path>
              <a:path w="4912" h="2134">
                <a:moveTo>
                  <a:pt x="17165" y="11187"/>
                </a:moveTo>
                <a:cubicBezTo>
                  <a:pt x="17147" y="11353"/>
                  <a:pt x="17119" y="11518"/>
                  <a:pt x="17115" y="11683"/>
                </a:cubicBezTo>
                <a:cubicBezTo>
                  <a:pt x="17111" y="11834"/>
                  <a:pt x="17094" y="11979"/>
                  <a:pt x="17090" y="12129"/>
                </a:cubicBezTo>
                <a:cubicBezTo>
                  <a:pt x="17084" y="12388"/>
                  <a:pt x="17090" y="12643"/>
                  <a:pt x="17066" y="12898"/>
                </a:cubicBezTo>
                <a:cubicBezTo>
                  <a:pt x="17062" y="12946"/>
                  <a:pt x="17065" y="13223"/>
                  <a:pt x="17090" y="13171"/>
                </a:cubicBezTo>
                <a:cubicBezTo>
                  <a:pt x="17090" y="13163"/>
                  <a:pt x="17090" y="13154"/>
                  <a:pt x="17090" y="13146"/>
                </a:cubicBezTo>
              </a:path>
              <a:path w="4912" h="2134">
                <a:moveTo>
                  <a:pt x="17413" y="11832"/>
                </a:moveTo>
                <a:cubicBezTo>
                  <a:pt x="17471" y="11890"/>
                  <a:pt x="17500" y="11932"/>
                  <a:pt x="17537" y="12005"/>
                </a:cubicBezTo>
                <a:cubicBezTo>
                  <a:pt x="17578" y="12086"/>
                  <a:pt x="17614" y="12156"/>
                  <a:pt x="17661" y="12229"/>
                </a:cubicBezTo>
                <a:cubicBezTo>
                  <a:pt x="17698" y="12287"/>
                  <a:pt x="17714" y="12351"/>
                  <a:pt x="17760" y="12402"/>
                </a:cubicBezTo>
                <a:cubicBezTo>
                  <a:pt x="17800" y="12446"/>
                  <a:pt x="17801" y="12444"/>
                  <a:pt x="17859" y="12452"/>
                </a:cubicBezTo>
              </a:path>
              <a:path w="4912" h="2134">
                <a:moveTo>
                  <a:pt x="17810" y="11733"/>
                </a:moveTo>
                <a:cubicBezTo>
                  <a:pt x="17708" y="11707"/>
                  <a:pt x="17722" y="11733"/>
                  <a:pt x="17661" y="11807"/>
                </a:cubicBezTo>
                <a:cubicBezTo>
                  <a:pt x="17597" y="11885"/>
                  <a:pt x="17547" y="11969"/>
                  <a:pt x="17487" y="12055"/>
                </a:cubicBezTo>
                <a:cubicBezTo>
                  <a:pt x="17437" y="12127"/>
                  <a:pt x="17356" y="12267"/>
                  <a:pt x="17338" y="12353"/>
                </a:cubicBezTo>
                <a:cubicBezTo>
                  <a:pt x="17338" y="12378"/>
                  <a:pt x="17338" y="12402"/>
                  <a:pt x="17338" y="12427"/>
                </a:cubicBezTo>
              </a:path>
              <a:path w="4912" h="2134">
                <a:moveTo>
                  <a:pt x="17884" y="11956"/>
                </a:moveTo>
                <a:cubicBezTo>
                  <a:pt x="18016" y="11933"/>
                  <a:pt x="18151" y="11887"/>
                  <a:pt x="18281" y="11881"/>
                </a:cubicBezTo>
                <a:cubicBezTo>
                  <a:pt x="18351" y="11878"/>
                  <a:pt x="18406" y="11857"/>
                  <a:pt x="18479" y="11857"/>
                </a:cubicBezTo>
                <a:cubicBezTo>
                  <a:pt x="18496" y="11857"/>
                  <a:pt x="18512" y="11857"/>
                  <a:pt x="18529" y="11857"/>
                </a:cubicBezTo>
              </a:path>
              <a:path w="4912" h="2134">
                <a:moveTo>
                  <a:pt x="18033" y="12105"/>
                </a:moveTo>
                <a:cubicBezTo>
                  <a:pt x="18118" y="12115"/>
                  <a:pt x="18191" y="12129"/>
                  <a:pt x="18281" y="12129"/>
                </a:cubicBezTo>
                <a:cubicBezTo>
                  <a:pt x="18355" y="12129"/>
                  <a:pt x="18432" y="12100"/>
                  <a:pt x="18504" y="12080"/>
                </a:cubicBezTo>
              </a:path>
              <a:path w="4912" h="2134">
                <a:moveTo>
                  <a:pt x="18331" y="11435"/>
                </a:moveTo>
                <a:cubicBezTo>
                  <a:pt x="18320" y="11519"/>
                  <a:pt x="18282" y="11600"/>
                  <a:pt x="18256" y="11683"/>
                </a:cubicBezTo>
                <a:cubicBezTo>
                  <a:pt x="18216" y="11811"/>
                  <a:pt x="18168" y="11925"/>
                  <a:pt x="18132" y="12055"/>
                </a:cubicBezTo>
                <a:cubicBezTo>
                  <a:pt x="18097" y="12181"/>
                  <a:pt x="18045" y="12301"/>
                  <a:pt x="18008" y="12427"/>
                </a:cubicBezTo>
                <a:cubicBezTo>
                  <a:pt x="17985" y="12506"/>
                  <a:pt x="17946" y="12577"/>
                  <a:pt x="17909" y="12650"/>
                </a:cubicBezTo>
                <a:cubicBezTo>
                  <a:pt x="17934" y="12601"/>
                  <a:pt x="17943" y="12584"/>
                  <a:pt x="17959" y="12551"/>
                </a:cubicBezTo>
              </a:path>
              <a:path w="4912" h="2134">
                <a:moveTo>
                  <a:pt x="19199" y="11336"/>
                </a:moveTo>
                <a:cubicBezTo>
                  <a:pt x="19199" y="11466"/>
                  <a:pt x="19186" y="11583"/>
                  <a:pt x="19174" y="11708"/>
                </a:cubicBezTo>
                <a:cubicBezTo>
                  <a:pt x="19162" y="11833"/>
                  <a:pt x="19137" y="11955"/>
                  <a:pt x="19124" y="12080"/>
                </a:cubicBezTo>
                <a:cubicBezTo>
                  <a:pt x="19113" y="12189"/>
                  <a:pt x="19100" y="12292"/>
                  <a:pt x="19100" y="12402"/>
                </a:cubicBezTo>
                <a:cubicBezTo>
                  <a:pt x="19100" y="12485"/>
                  <a:pt x="19100" y="12567"/>
                  <a:pt x="19100" y="126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9"/>
          <p:cNvSpPr/>
          <p:nvPr/>
        </p:nvSpPr>
        <p:spPr>
          <a:xfrm>
            <a:off x="5062680" y="2705040"/>
            <a:ext cx="241200" cy="465120"/>
          </a:xfrm>
          <a:custGeom>
            <a:avLst/>
            <a:gdLst/>
            <a:ahLst/>
            <a:rect l="l" t="t" r="r" b="b"/>
            <a:pathLst>
              <a:path w="671" h="1291">
                <a:moveTo>
                  <a:pt x="14709" y="7516"/>
                </a:moveTo>
                <a:cubicBezTo>
                  <a:pt x="14721" y="7610"/>
                  <a:pt x="14734" y="7688"/>
                  <a:pt x="14734" y="7789"/>
                </a:cubicBezTo>
                <a:cubicBezTo>
                  <a:pt x="14734" y="8120"/>
                  <a:pt x="14734" y="8450"/>
                  <a:pt x="14734" y="8781"/>
                </a:cubicBezTo>
                <a:cubicBezTo>
                  <a:pt x="14708" y="8710"/>
                  <a:pt x="14681" y="8642"/>
                  <a:pt x="14635" y="8582"/>
                </a:cubicBezTo>
                <a:cubicBezTo>
                  <a:pt x="14600" y="8536"/>
                  <a:pt x="14509" y="8428"/>
                  <a:pt x="14461" y="8409"/>
                </a:cubicBezTo>
                <a:cubicBezTo>
                  <a:pt x="14408" y="8388"/>
                  <a:pt x="14203" y="8397"/>
                  <a:pt x="14163" y="8434"/>
                </a:cubicBezTo>
                <a:cubicBezTo>
                  <a:pt x="14128" y="8466"/>
                  <a:pt x="14062" y="8586"/>
                  <a:pt x="14064" y="8632"/>
                </a:cubicBezTo>
                <a:cubicBezTo>
                  <a:pt x="14068" y="8724"/>
                  <a:pt x="14170" y="8764"/>
                  <a:pt x="14238" y="8781"/>
                </a:cubicBezTo>
                <a:cubicBezTo>
                  <a:pt x="14364" y="8813"/>
                  <a:pt x="14438" y="8798"/>
                  <a:pt x="14560" y="8781"/>
                </a:cubicBezTo>
                <a:cubicBezTo>
                  <a:pt x="14577" y="8781"/>
                  <a:pt x="14593" y="8781"/>
                  <a:pt x="14610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20"/>
          <p:cNvSpPr/>
          <p:nvPr/>
        </p:nvSpPr>
        <p:spPr>
          <a:xfrm>
            <a:off x="5322960" y="2705040"/>
            <a:ext cx="133200" cy="573120"/>
          </a:xfrm>
          <a:custGeom>
            <a:avLst/>
            <a:gdLst/>
            <a:ahLst/>
            <a:rect l="l" t="t" r="r" b="b"/>
            <a:pathLst>
              <a:path w="373" h="1588">
                <a:moveTo>
                  <a:pt x="14784" y="7516"/>
                </a:moveTo>
                <a:cubicBezTo>
                  <a:pt x="14962" y="7734"/>
                  <a:pt x="15090" y="7899"/>
                  <a:pt x="15156" y="8186"/>
                </a:cubicBezTo>
                <a:cubicBezTo>
                  <a:pt x="15190" y="8334"/>
                  <a:pt x="15154" y="8565"/>
                  <a:pt x="15106" y="8706"/>
                </a:cubicBezTo>
                <a:cubicBezTo>
                  <a:pt x="15062" y="8835"/>
                  <a:pt x="15004" y="8943"/>
                  <a:pt x="14908" y="9029"/>
                </a:cubicBezTo>
                <a:cubicBezTo>
                  <a:pt x="14876" y="9058"/>
                  <a:pt x="14873" y="9063"/>
                  <a:pt x="14833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21"/>
          <p:cNvSpPr/>
          <p:nvPr/>
        </p:nvSpPr>
        <p:spPr>
          <a:xfrm>
            <a:off x="5749920" y="2884320"/>
            <a:ext cx="223920" cy="2779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5974" y="8012"/>
                </a:moveTo>
                <a:cubicBezTo>
                  <a:pt x="16000" y="8113"/>
                  <a:pt x="16021" y="8208"/>
                  <a:pt x="16049" y="8310"/>
                </a:cubicBezTo>
                <a:cubicBezTo>
                  <a:pt x="16081" y="8427"/>
                  <a:pt x="16141" y="8538"/>
                  <a:pt x="16222" y="8632"/>
                </a:cubicBezTo>
                <a:cubicBezTo>
                  <a:pt x="16287" y="8707"/>
                  <a:pt x="16399" y="8771"/>
                  <a:pt x="16495" y="8781"/>
                </a:cubicBezTo>
                <a:cubicBezTo>
                  <a:pt x="16545" y="8781"/>
                  <a:pt x="16561" y="8781"/>
                  <a:pt x="16594" y="87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22"/>
          <p:cNvSpPr/>
          <p:nvPr/>
        </p:nvSpPr>
        <p:spPr>
          <a:xfrm>
            <a:off x="5724360" y="2990880"/>
            <a:ext cx="98640" cy="196920"/>
          </a:xfrm>
          <a:custGeom>
            <a:avLst/>
            <a:gdLst/>
            <a:ahLst/>
            <a:rect l="l" t="t" r="r" b="b"/>
            <a:pathLst>
              <a:path w="274" h="546">
                <a:moveTo>
                  <a:pt x="16173" y="8310"/>
                </a:moveTo>
                <a:cubicBezTo>
                  <a:pt x="16071" y="8478"/>
                  <a:pt x="16011" y="8618"/>
                  <a:pt x="15925" y="8781"/>
                </a:cubicBezTo>
                <a:cubicBezTo>
                  <a:pt x="15901" y="8827"/>
                  <a:pt x="15883" y="8827"/>
                  <a:pt x="15925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23"/>
          <p:cNvSpPr/>
          <p:nvPr/>
        </p:nvSpPr>
        <p:spPr>
          <a:xfrm>
            <a:off x="6027840" y="2946240"/>
            <a:ext cx="9360" cy="189000"/>
          </a:xfrm>
          <a:custGeom>
            <a:avLst/>
            <a:gdLst/>
            <a:ahLst/>
            <a:rect l="l" t="t" r="r" b="b"/>
            <a:pathLst>
              <a:path w="26" h="521">
                <a:moveTo>
                  <a:pt x="16768" y="8186"/>
                </a:moveTo>
                <a:cubicBezTo>
                  <a:pt x="16763" y="8366"/>
                  <a:pt x="16731" y="8534"/>
                  <a:pt x="16768" y="87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24"/>
          <p:cNvSpPr/>
          <p:nvPr/>
        </p:nvSpPr>
        <p:spPr>
          <a:xfrm>
            <a:off x="5938920" y="3027240"/>
            <a:ext cx="187200" cy="27000"/>
          </a:xfrm>
          <a:custGeom>
            <a:avLst/>
            <a:gdLst/>
            <a:ahLst/>
            <a:rect l="l" t="t" r="r" b="b"/>
            <a:pathLst>
              <a:path w="522" h="75">
                <a:moveTo>
                  <a:pt x="16495" y="8483"/>
                </a:moveTo>
                <a:cubicBezTo>
                  <a:pt x="16639" y="8444"/>
                  <a:pt x="16768" y="8413"/>
                  <a:pt x="16917" y="8409"/>
                </a:cubicBezTo>
                <a:cubicBezTo>
                  <a:pt x="16950" y="8409"/>
                  <a:pt x="16983" y="8409"/>
                  <a:pt x="17016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25"/>
          <p:cNvSpPr/>
          <p:nvPr/>
        </p:nvSpPr>
        <p:spPr>
          <a:xfrm>
            <a:off x="6242040" y="2894040"/>
            <a:ext cx="36360" cy="347760"/>
          </a:xfrm>
          <a:custGeom>
            <a:avLst/>
            <a:gdLst/>
            <a:ahLst/>
            <a:rect l="l" t="t" r="r" b="b"/>
            <a:pathLst>
              <a:path w="101" h="968">
                <a:moveTo>
                  <a:pt x="17388" y="8037"/>
                </a:moveTo>
                <a:cubicBezTo>
                  <a:pt x="17358" y="8169"/>
                  <a:pt x="17338" y="8274"/>
                  <a:pt x="17338" y="8409"/>
                </a:cubicBezTo>
                <a:cubicBezTo>
                  <a:pt x="17338" y="8547"/>
                  <a:pt x="17344" y="8651"/>
                  <a:pt x="17388" y="8781"/>
                </a:cubicBezTo>
                <a:cubicBezTo>
                  <a:pt x="17421" y="8878"/>
                  <a:pt x="17433" y="8927"/>
                  <a:pt x="17438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26"/>
          <p:cNvSpPr/>
          <p:nvPr/>
        </p:nvSpPr>
        <p:spPr>
          <a:xfrm>
            <a:off x="5653080" y="3276720"/>
            <a:ext cx="677880" cy="28440"/>
          </a:xfrm>
          <a:custGeom>
            <a:avLst/>
            <a:gdLst/>
            <a:ahLst/>
            <a:rect l="l" t="t" r="r" b="b"/>
            <a:pathLst>
              <a:path w="1887" h="76">
                <a:moveTo>
                  <a:pt x="15701" y="9103"/>
                </a:moveTo>
                <a:cubicBezTo>
                  <a:pt x="16076" y="9103"/>
                  <a:pt x="16450" y="9127"/>
                  <a:pt x="16818" y="9153"/>
                </a:cubicBezTo>
                <a:cubicBezTo>
                  <a:pt x="17006" y="9166"/>
                  <a:pt x="17253" y="9188"/>
                  <a:pt x="17438" y="9178"/>
                </a:cubicBezTo>
                <a:cubicBezTo>
                  <a:pt x="17519" y="9173"/>
                  <a:pt x="17546" y="9152"/>
                  <a:pt x="17587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27"/>
          <p:cNvSpPr/>
          <p:nvPr/>
        </p:nvSpPr>
        <p:spPr>
          <a:xfrm>
            <a:off x="5724360" y="3510000"/>
            <a:ext cx="24156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15900" y="9748"/>
                </a:moveTo>
                <a:cubicBezTo>
                  <a:pt x="15967" y="9924"/>
                  <a:pt x="16045" y="9993"/>
                  <a:pt x="16148" y="10145"/>
                </a:cubicBezTo>
                <a:cubicBezTo>
                  <a:pt x="16252" y="10300"/>
                  <a:pt x="16277" y="10319"/>
                  <a:pt x="16421" y="10418"/>
                </a:cubicBezTo>
                <a:cubicBezTo>
                  <a:pt x="16500" y="10477"/>
                  <a:pt x="16509" y="10502"/>
                  <a:pt x="16570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28"/>
          <p:cNvSpPr/>
          <p:nvPr/>
        </p:nvSpPr>
        <p:spPr>
          <a:xfrm>
            <a:off x="5749920" y="3537000"/>
            <a:ext cx="90360" cy="214200"/>
          </a:xfrm>
          <a:custGeom>
            <a:avLst/>
            <a:gdLst/>
            <a:ahLst/>
            <a:rect l="l" t="t" r="r" b="b"/>
            <a:pathLst>
              <a:path w="249" h="596">
                <a:moveTo>
                  <a:pt x="16222" y="9823"/>
                </a:moveTo>
                <a:cubicBezTo>
                  <a:pt x="16133" y="9979"/>
                  <a:pt x="16058" y="10106"/>
                  <a:pt x="15999" y="10269"/>
                </a:cubicBezTo>
                <a:cubicBezTo>
                  <a:pt x="15974" y="10339"/>
                  <a:pt x="15960" y="10379"/>
                  <a:pt x="15999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29"/>
          <p:cNvSpPr/>
          <p:nvPr/>
        </p:nvSpPr>
        <p:spPr>
          <a:xfrm>
            <a:off x="5902200" y="3670200"/>
            <a:ext cx="241560" cy="9720"/>
          </a:xfrm>
          <a:custGeom>
            <a:avLst/>
            <a:gdLst/>
            <a:ahLst/>
            <a:rect l="l" t="t" r="r" b="b"/>
            <a:pathLst>
              <a:path w="671" h="26">
                <a:moveTo>
                  <a:pt x="16396" y="10195"/>
                </a:moveTo>
                <a:cubicBezTo>
                  <a:pt x="16591" y="10195"/>
                  <a:pt x="16774" y="10214"/>
                  <a:pt x="16966" y="10220"/>
                </a:cubicBezTo>
                <a:cubicBezTo>
                  <a:pt x="16999" y="10220"/>
                  <a:pt x="17033" y="10220"/>
                  <a:pt x="17066" y="102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30"/>
          <p:cNvSpPr/>
          <p:nvPr/>
        </p:nvSpPr>
        <p:spPr>
          <a:xfrm>
            <a:off x="6215040" y="3537000"/>
            <a:ext cx="1440" cy="214200"/>
          </a:xfrm>
          <a:custGeom>
            <a:avLst/>
            <a:gdLst/>
            <a:ahLst/>
            <a:rect l="l" t="t" r="r" b="b"/>
            <a:pathLst>
              <a:path w="1" h="596">
                <a:moveTo>
                  <a:pt x="17264" y="9823"/>
                </a:moveTo>
                <a:cubicBezTo>
                  <a:pt x="17264" y="10021"/>
                  <a:pt x="17264" y="10220"/>
                  <a:pt x="17264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8a8472"/>
                </a:solidFill>
                <a:latin typeface="Arial"/>
              </a:rPr>
              <a:t>Lesson 1.4</a:t>
            </a:r>
            <a:br>
              <a:rPr sz="7500"/>
            </a:br>
            <a:r>
              <a:rPr b="0" lang="en-US" sz="7500" spc="-1" strike="noStrike">
                <a:solidFill>
                  <a:srgbClr val="8a8472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omposition Function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(f 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  <a:ea typeface="Arial"/>
              </a:rPr>
              <a:t>○ g)(x) = f(g(x))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you place g(x) “inside” of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If f(x) = x + 3 and g(x) = x - 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g)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nk 4"/>
          <p:cNvSpPr/>
          <p:nvPr/>
        </p:nvSpPr>
        <p:spPr>
          <a:xfrm>
            <a:off x="2928960" y="509760"/>
            <a:ext cx="4375080" cy="1009440"/>
          </a:xfrm>
          <a:custGeom>
            <a:avLst/>
            <a:gdLst/>
            <a:ahLst/>
            <a:rect l="l" t="t" r="r" b="b"/>
            <a:pathLst>
              <a:path w="12155" h="2804">
                <a:moveTo>
                  <a:pt x="11757" y="2009"/>
                </a:moveTo>
                <a:cubicBezTo>
                  <a:pt x="11724" y="1920"/>
                  <a:pt x="11716" y="1883"/>
                  <a:pt x="11658" y="1811"/>
                </a:cubicBezTo>
                <a:cubicBezTo>
                  <a:pt x="11610" y="1751"/>
                  <a:pt x="11573" y="1706"/>
                  <a:pt x="11509" y="1662"/>
                </a:cubicBezTo>
                <a:cubicBezTo>
                  <a:pt x="11448" y="1620"/>
                  <a:pt x="11347" y="1564"/>
                  <a:pt x="11286" y="1538"/>
                </a:cubicBezTo>
                <a:cubicBezTo>
                  <a:pt x="11161" y="1484"/>
                  <a:pt x="11021" y="1453"/>
                  <a:pt x="10889" y="1439"/>
                </a:cubicBezTo>
                <a:cubicBezTo>
                  <a:pt x="10755" y="1425"/>
                  <a:pt x="10628" y="1414"/>
                  <a:pt x="10492" y="1414"/>
                </a:cubicBezTo>
                <a:cubicBezTo>
                  <a:pt x="10343" y="1414"/>
                  <a:pt x="10192" y="1416"/>
                  <a:pt x="10046" y="1439"/>
                </a:cubicBezTo>
                <a:cubicBezTo>
                  <a:pt x="9902" y="1462"/>
                  <a:pt x="9766" y="1477"/>
                  <a:pt x="9624" y="1513"/>
                </a:cubicBezTo>
                <a:cubicBezTo>
                  <a:pt x="9499" y="1544"/>
                  <a:pt x="9376" y="1580"/>
                  <a:pt x="9252" y="1612"/>
                </a:cubicBezTo>
                <a:cubicBezTo>
                  <a:pt x="9137" y="1641"/>
                  <a:pt x="9034" y="1682"/>
                  <a:pt x="8930" y="1736"/>
                </a:cubicBezTo>
                <a:cubicBezTo>
                  <a:pt x="8809" y="1799"/>
                  <a:pt x="8693" y="1873"/>
                  <a:pt x="8582" y="1960"/>
                </a:cubicBezTo>
                <a:cubicBezTo>
                  <a:pt x="8500" y="2024"/>
                  <a:pt x="8450" y="2100"/>
                  <a:pt x="8384" y="2183"/>
                </a:cubicBezTo>
                <a:cubicBezTo>
                  <a:pt x="8329" y="2253"/>
                  <a:pt x="8299" y="2326"/>
                  <a:pt x="8260" y="2406"/>
                </a:cubicBezTo>
                <a:cubicBezTo>
                  <a:pt x="8210" y="2509"/>
                  <a:pt x="8182" y="2570"/>
                  <a:pt x="8161" y="2679"/>
                </a:cubicBezTo>
                <a:cubicBezTo>
                  <a:pt x="8142" y="2774"/>
                  <a:pt x="8125" y="2875"/>
                  <a:pt x="8136" y="2977"/>
                </a:cubicBezTo>
                <a:cubicBezTo>
                  <a:pt x="8146" y="3070"/>
                  <a:pt x="8172" y="3137"/>
                  <a:pt x="8210" y="3225"/>
                </a:cubicBezTo>
                <a:cubicBezTo>
                  <a:pt x="8240" y="3295"/>
                  <a:pt x="8268" y="3386"/>
                  <a:pt x="8310" y="3448"/>
                </a:cubicBezTo>
                <a:cubicBezTo>
                  <a:pt x="8363" y="3526"/>
                  <a:pt x="8458" y="3595"/>
                  <a:pt x="8533" y="3646"/>
                </a:cubicBezTo>
                <a:cubicBezTo>
                  <a:pt x="8613" y="3700"/>
                  <a:pt x="8691" y="3736"/>
                  <a:pt x="8781" y="3770"/>
                </a:cubicBezTo>
                <a:cubicBezTo>
                  <a:pt x="8882" y="3808"/>
                  <a:pt x="8978" y="3822"/>
                  <a:pt x="9079" y="3845"/>
                </a:cubicBezTo>
                <a:cubicBezTo>
                  <a:pt x="9205" y="3874"/>
                  <a:pt x="9321" y="3870"/>
                  <a:pt x="9451" y="3870"/>
                </a:cubicBezTo>
                <a:cubicBezTo>
                  <a:pt x="9561" y="3870"/>
                  <a:pt x="9679" y="3873"/>
                  <a:pt x="9798" y="3870"/>
                </a:cubicBezTo>
                <a:cubicBezTo>
                  <a:pt x="9925" y="3867"/>
                  <a:pt x="10047" y="3845"/>
                  <a:pt x="10170" y="3820"/>
                </a:cubicBezTo>
                <a:cubicBezTo>
                  <a:pt x="10344" y="3785"/>
                  <a:pt x="10502" y="3726"/>
                  <a:pt x="10666" y="3671"/>
                </a:cubicBezTo>
                <a:cubicBezTo>
                  <a:pt x="10794" y="3628"/>
                  <a:pt x="10915" y="3581"/>
                  <a:pt x="11038" y="3522"/>
                </a:cubicBezTo>
                <a:cubicBezTo>
                  <a:pt x="11179" y="3454"/>
                  <a:pt x="11334" y="3367"/>
                  <a:pt x="11460" y="3274"/>
                </a:cubicBezTo>
                <a:cubicBezTo>
                  <a:pt x="11546" y="3211"/>
                  <a:pt x="11622" y="3112"/>
                  <a:pt x="11683" y="3026"/>
                </a:cubicBezTo>
                <a:cubicBezTo>
                  <a:pt x="11744" y="2939"/>
                  <a:pt x="11804" y="2838"/>
                  <a:pt x="11832" y="2729"/>
                </a:cubicBezTo>
                <a:cubicBezTo>
                  <a:pt x="11853" y="2649"/>
                  <a:pt x="11864" y="2541"/>
                  <a:pt x="11857" y="2456"/>
                </a:cubicBezTo>
                <a:cubicBezTo>
                  <a:pt x="11850" y="2380"/>
                  <a:pt x="11815" y="2303"/>
                  <a:pt x="11782" y="2232"/>
                </a:cubicBezTo>
                <a:cubicBezTo>
                  <a:pt x="11745" y="2150"/>
                  <a:pt x="11700" y="2095"/>
                  <a:pt x="11633" y="2034"/>
                </a:cubicBezTo>
                <a:cubicBezTo>
                  <a:pt x="11573" y="1979"/>
                  <a:pt x="11488" y="1935"/>
                  <a:pt x="11410" y="1910"/>
                </a:cubicBezTo>
                <a:cubicBezTo>
                  <a:pt x="11309" y="1878"/>
                  <a:pt x="11213" y="1883"/>
                  <a:pt x="11112" y="1910"/>
                </a:cubicBezTo>
                <a:cubicBezTo>
                  <a:pt x="11052" y="1930"/>
                  <a:pt x="11037" y="1929"/>
                  <a:pt x="11013" y="1960"/>
                </a:cubicBezTo>
              </a:path>
              <a:path w="12155" h="2804">
                <a:moveTo>
                  <a:pt x="10418" y="3572"/>
                </a:moveTo>
                <a:cubicBezTo>
                  <a:pt x="10478" y="3617"/>
                  <a:pt x="10424" y="3663"/>
                  <a:pt x="10517" y="3696"/>
                </a:cubicBezTo>
                <a:cubicBezTo>
                  <a:pt x="10589" y="3721"/>
                  <a:pt x="10660" y="3707"/>
                  <a:pt x="10740" y="3721"/>
                </a:cubicBezTo>
                <a:cubicBezTo>
                  <a:pt x="10837" y="3738"/>
                  <a:pt x="10934" y="3739"/>
                  <a:pt x="11038" y="3746"/>
                </a:cubicBezTo>
                <a:cubicBezTo>
                  <a:pt x="11146" y="3753"/>
                  <a:pt x="11275" y="3789"/>
                  <a:pt x="11385" y="3795"/>
                </a:cubicBezTo>
                <a:cubicBezTo>
                  <a:pt x="11512" y="3801"/>
                  <a:pt x="11633" y="3813"/>
                  <a:pt x="11757" y="3820"/>
                </a:cubicBezTo>
                <a:cubicBezTo>
                  <a:pt x="11877" y="3827"/>
                  <a:pt x="11987" y="3839"/>
                  <a:pt x="12105" y="3845"/>
                </a:cubicBezTo>
                <a:cubicBezTo>
                  <a:pt x="12264" y="3853"/>
                  <a:pt x="12419" y="3863"/>
                  <a:pt x="12576" y="3870"/>
                </a:cubicBezTo>
                <a:cubicBezTo>
                  <a:pt x="12792" y="3879"/>
                  <a:pt x="13007" y="3886"/>
                  <a:pt x="13221" y="3894"/>
                </a:cubicBezTo>
                <a:cubicBezTo>
                  <a:pt x="13834" y="3916"/>
                  <a:pt x="14446" y="3929"/>
                  <a:pt x="15056" y="3969"/>
                </a:cubicBezTo>
                <a:cubicBezTo>
                  <a:pt x="15256" y="3982"/>
                  <a:pt x="15451" y="3992"/>
                  <a:pt x="15652" y="3994"/>
                </a:cubicBezTo>
                <a:cubicBezTo>
                  <a:pt x="15874" y="3997"/>
                  <a:pt x="16099" y="4005"/>
                  <a:pt x="16321" y="4018"/>
                </a:cubicBezTo>
                <a:cubicBezTo>
                  <a:pt x="16583" y="4033"/>
                  <a:pt x="16853" y="4042"/>
                  <a:pt x="17115" y="4068"/>
                </a:cubicBezTo>
                <a:cubicBezTo>
                  <a:pt x="17371" y="4093"/>
                  <a:pt x="17628" y="4108"/>
                  <a:pt x="17884" y="4118"/>
                </a:cubicBezTo>
                <a:cubicBezTo>
                  <a:pt x="18074" y="4126"/>
                  <a:pt x="18264" y="4130"/>
                  <a:pt x="18455" y="4142"/>
                </a:cubicBezTo>
                <a:cubicBezTo>
                  <a:pt x="18637" y="4153"/>
                  <a:pt x="18818" y="4184"/>
                  <a:pt x="19000" y="4192"/>
                </a:cubicBezTo>
                <a:cubicBezTo>
                  <a:pt x="19103" y="4197"/>
                  <a:pt x="19235" y="4213"/>
                  <a:pt x="19323" y="4217"/>
                </a:cubicBezTo>
                <a:cubicBezTo>
                  <a:pt x="19429" y="4221"/>
                  <a:pt x="19455" y="4227"/>
                  <a:pt x="19521" y="4167"/>
                </a:cubicBezTo>
                <a:cubicBezTo>
                  <a:pt x="19540" y="4149"/>
                  <a:pt x="19563" y="4017"/>
                  <a:pt x="19571" y="3994"/>
                </a:cubicBezTo>
                <a:cubicBezTo>
                  <a:pt x="19601" y="3903"/>
                  <a:pt x="19602" y="3811"/>
                  <a:pt x="19621" y="3721"/>
                </a:cubicBezTo>
                <a:cubicBezTo>
                  <a:pt x="19635" y="3655"/>
                  <a:pt x="19654" y="3588"/>
                  <a:pt x="19670" y="3522"/>
                </a:cubicBezTo>
                <a:cubicBezTo>
                  <a:pt x="19681" y="3478"/>
                  <a:pt x="19750" y="3379"/>
                  <a:pt x="19720" y="3324"/>
                </a:cubicBezTo>
                <a:cubicBezTo>
                  <a:pt x="19690" y="3271"/>
                  <a:pt x="19746" y="3323"/>
                  <a:pt x="19645" y="3373"/>
                </a:cubicBezTo>
                <a:cubicBezTo>
                  <a:pt x="19570" y="3410"/>
                  <a:pt x="19496" y="3456"/>
                  <a:pt x="19422" y="3497"/>
                </a:cubicBezTo>
                <a:cubicBezTo>
                  <a:pt x="19329" y="3548"/>
                  <a:pt x="19249" y="3586"/>
                  <a:pt x="19149" y="3621"/>
                </a:cubicBezTo>
                <a:cubicBezTo>
                  <a:pt x="19079" y="3646"/>
                  <a:pt x="19017" y="3651"/>
                  <a:pt x="18951" y="3671"/>
                </a:cubicBezTo>
                <a:cubicBezTo>
                  <a:pt x="19015" y="3594"/>
                  <a:pt x="19084" y="3525"/>
                  <a:pt x="19149" y="3448"/>
                </a:cubicBezTo>
                <a:cubicBezTo>
                  <a:pt x="19217" y="3367"/>
                  <a:pt x="19325" y="3188"/>
                  <a:pt x="19422" y="3175"/>
                </a:cubicBezTo>
                <a:cubicBezTo>
                  <a:pt x="19533" y="3160"/>
                  <a:pt x="19462" y="3174"/>
                  <a:pt x="19571" y="3225"/>
                </a:cubicBezTo>
                <a:cubicBezTo>
                  <a:pt x="19655" y="3264"/>
                  <a:pt x="19733" y="3351"/>
                  <a:pt x="19819" y="3398"/>
                </a:cubicBezTo>
                <a:cubicBezTo>
                  <a:pt x="19906" y="3446"/>
                  <a:pt x="19986" y="3498"/>
                  <a:pt x="20067" y="3547"/>
                </a:cubicBezTo>
                <a:cubicBezTo>
                  <a:pt x="20138" y="3591"/>
                  <a:pt x="20256" y="3713"/>
                  <a:pt x="20265" y="37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nk 5"/>
          <p:cNvSpPr/>
          <p:nvPr/>
        </p:nvSpPr>
        <p:spPr>
          <a:xfrm>
            <a:off x="2394000" y="1670040"/>
            <a:ext cx="1589040" cy="652320"/>
          </a:xfrm>
          <a:custGeom>
            <a:avLst/>
            <a:gdLst/>
            <a:ahLst/>
            <a:rect l="l" t="t" r="r" b="b"/>
            <a:pathLst>
              <a:path w="4416" h="1812">
                <a:moveTo>
                  <a:pt x="6648" y="5383"/>
                </a:moveTo>
                <a:cubicBezTo>
                  <a:pt x="6707" y="5418"/>
                  <a:pt x="6772" y="5407"/>
                  <a:pt x="6846" y="5407"/>
                </a:cubicBezTo>
                <a:cubicBezTo>
                  <a:pt x="7007" y="5407"/>
                  <a:pt x="7454" y="5348"/>
                  <a:pt x="7317" y="5432"/>
                </a:cubicBezTo>
                <a:cubicBezTo>
                  <a:pt x="7301" y="5432"/>
                  <a:pt x="7284" y="5432"/>
                  <a:pt x="7268" y="5432"/>
                </a:cubicBezTo>
              </a:path>
              <a:path w="4416" h="1812">
                <a:moveTo>
                  <a:pt x="6697" y="5631"/>
                </a:moveTo>
                <a:cubicBezTo>
                  <a:pt x="6896" y="5631"/>
                  <a:pt x="7094" y="5631"/>
                  <a:pt x="7293" y="5631"/>
                </a:cubicBezTo>
              </a:path>
              <a:path w="4416" h="1812">
                <a:moveTo>
                  <a:pt x="8260" y="4887"/>
                </a:moveTo>
                <a:cubicBezTo>
                  <a:pt x="8328" y="4952"/>
                  <a:pt x="8218" y="4850"/>
                  <a:pt x="8210" y="4837"/>
                </a:cubicBezTo>
                <a:cubicBezTo>
                  <a:pt x="8168" y="4771"/>
                  <a:pt x="8144" y="4737"/>
                  <a:pt x="8086" y="4688"/>
                </a:cubicBezTo>
                <a:cubicBezTo>
                  <a:pt x="8037" y="4646"/>
                  <a:pt x="8023" y="4613"/>
                  <a:pt x="7962" y="4663"/>
                </a:cubicBezTo>
                <a:cubicBezTo>
                  <a:pt x="7904" y="4710"/>
                  <a:pt x="7909" y="4750"/>
                  <a:pt x="7888" y="4812"/>
                </a:cubicBezTo>
                <a:cubicBezTo>
                  <a:pt x="7863" y="4887"/>
                  <a:pt x="7859" y="4961"/>
                  <a:pt x="7838" y="5035"/>
                </a:cubicBezTo>
                <a:cubicBezTo>
                  <a:pt x="7814" y="5119"/>
                  <a:pt x="7797" y="5219"/>
                  <a:pt x="7789" y="5308"/>
                </a:cubicBezTo>
                <a:cubicBezTo>
                  <a:pt x="7780" y="5407"/>
                  <a:pt x="7768" y="5509"/>
                  <a:pt x="7764" y="5606"/>
                </a:cubicBezTo>
                <a:cubicBezTo>
                  <a:pt x="7760" y="5692"/>
                  <a:pt x="7769" y="5800"/>
                  <a:pt x="7739" y="5879"/>
                </a:cubicBezTo>
                <a:cubicBezTo>
                  <a:pt x="7723" y="5921"/>
                  <a:pt x="7719" y="5849"/>
                  <a:pt x="7714" y="5804"/>
                </a:cubicBezTo>
              </a:path>
              <a:path w="4416" h="1812">
                <a:moveTo>
                  <a:pt x="7565" y="5507"/>
                </a:moveTo>
                <a:cubicBezTo>
                  <a:pt x="7637" y="5517"/>
                  <a:pt x="7682" y="5531"/>
                  <a:pt x="7764" y="5531"/>
                </a:cubicBezTo>
                <a:cubicBezTo>
                  <a:pt x="7818" y="5531"/>
                  <a:pt x="7834" y="5514"/>
                  <a:pt x="7888" y="5507"/>
                </a:cubicBezTo>
              </a:path>
              <a:path w="4416" h="1812">
                <a:moveTo>
                  <a:pt x="8632" y="4762"/>
                </a:moveTo>
                <a:cubicBezTo>
                  <a:pt x="8585" y="4830"/>
                  <a:pt x="8545" y="4888"/>
                  <a:pt x="8508" y="4961"/>
                </a:cubicBezTo>
                <a:cubicBezTo>
                  <a:pt x="8479" y="5019"/>
                  <a:pt x="8444" y="5120"/>
                  <a:pt x="8434" y="5184"/>
                </a:cubicBezTo>
                <a:cubicBezTo>
                  <a:pt x="8411" y="5323"/>
                  <a:pt x="8384" y="5463"/>
                  <a:pt x="8384" y="5606"/>
                </a:cubicBezTo>
                <a:cubicBezTo>
                  <a:pt x="8384" y="5629"/>
                  <a:pt x="8365" y="5864"/>
                  <a:pt x="8434" y="5879"/>
                </a:cubicBezTo>
                <a:cubicBezTo>
                  <a:pt x="8474" y="5859"/>
                  <a:pt x="8480" y="5850"/>
                  <a:pt x="8508" y="5854"/>
                </a:cubicBezTo>
              </a:path>
              <a:path w="4416" h="1812">
                <a:moveTo>
                  <a:pt x="9004" y="5407"/>
                </a:moveTo>
                <a:cubicBezTo>
                  <a:pt x="9012" y="5432"/>
                  <a:pt x="9021" y="5457"/>
                  <a:pt x="9029" y="5482"/>
                </a:cubicBezTo>
                <a:cubicBezTo>
                  <a:pt x="8972" y="5482"/>
                  <a:pt x="9013" y="5407"/>
                  <a:pt x="8979" y="5333"/>
                </a:cubicBezTo>
                <a:cubicBezTo>
                  <a:pt x="8952" y="5276"/>
                  <a:pt x="8898" y="5263"/>
                  <a:pt x="8855" y="5283"/>
                </a:cubicBezTo>
                <a:cubicBezTo>
                  <a:pt x="8801" y="5308"/>
                  <a:pt x="8739" y="5357"/>
                  <a:pt x="8706" y="5407"/>
                </a:cubicBezTo>
                <a:cubicBezTo>
                  <a:pt x="8671" y="5459"/>
                  <a:pt x="8642" y="5520"/>
                  <a:pt x="8632" y="5581"/>
                </a:cubicBezTo>
                <a:cubicBezTo>
                  <a:pt x="8624" y="5631"/>
                  <a:pt x="8636" y="5714"/>
                  <a:pt x="8657" y="5755"/>
                </a:cubicBezTo>
                <a:cubicBezTo>
                  <a:pt x="8699" y="5838"/>
                  <a:pt x="8767" y="5789"/>
                  <a:pt x="8830" y="5779"/>
                </a:cubicBezTo>
                <a:cubicBezTo>
                  <a:pt x="8903" y="5767"/>
                  <a:pt x="8914" y="5746"/>
                  <a:pt x="8954" y="5680"/>
                </a:cubicBezTo>
                <a:cubicBezTo>
                  <a:pt x="8999" y="5606"/>
                  <a:pt x="9000" y="5558"/>
                  <a:pt x="9029" y="5482"/>
                </a:cubicBezTo>
                <a:cubicBezTo>
                  <a:pt x="9057" y="5454"/>
                  <a:pt x="9066" y="5440"/>
                  <a:pt x="9054" y="5407"/>
                </a:cubicBezTo>
                <a:cubicBezTo>
                  <a:pt x="8990" y="5487"/>
                  <a:pt x="9004" y="5552"/>
                  <a:pt x="9004" y="5655"/>
                </a:cubicBezTo>
                <a:cubicBezTo>
                  <a:pt x="9004" y="5768"/>
                  <a:pt x="9014" y="5869"/>
                  <a:pt x="9029" y="5978"/>
                </a:cubicBezTo>
                <a:cubicBezTo>
                  <a:pt x="9041" y="6067"/>
                  <a:pt x="9014" y="6146"/>
                  <a:pt x="9004" y="6226"/>
                </a:cubicBezTo>
                <a:cubicBezTo>
                  <a:pt x="8993" y="6316"/>
                  <a:pt x="8976" y="6367"/>
                  <a:pt x="8905" y="6424"/>
                </a:cubicBezTo>
                <a:cubicBezTo>
                  <a:pt x="8867" y="6454"/>
                  <a:pt x="8752" y="6467"/>
                  <a:pt x="8706" y="6449"/>
                </a:cubicBezTo>
                <a:cubicBezTo>
                  <a:pt x="8666" y="6433"/>
                  <a:pt x="8610" y="6420"/>
                  <a:pt x="8582" y="6375"/>
                </a:cubicBezTo>
                <a:cubicBezTo>
                  <a:pt x="8539" y="6307"/>
                  <a:pt x="8579" y="6265"/>
                  <a:pt x="8607" y="6201"/>
                </a:cubicBezTo>
              </a:path>
              <a:path w="4416" h="1812">
                <a:moveTo>
                  <a:pt x="9599" y="4837"/>
                </a:moveTo>
                <a:cubicBezTo>
                  <a:pt x="9561" y="4925"/>
                  <a:pt x="9515" y="5005"/>
                  <a:pt x="9475" y="5085"/>
                </a:cubicBezTo>
                <a:cubicBezTo>
                  <a:pt x="9428" y="5180"/>
                  <a:pt x="9431" y="5284"/>
                  <a:pt x="9401" y="5383"/>
                </a:cubicBezTo>
                <a:cubicBezTo>
                  <a:pt x="9366" y="5498"/>
                  <a:pt x="9385" y="5566"/>
                  <a:pt x="9401" y="5680"/>
                </a:cubicBezTo>
                <a:cubicBezTo>
                  <a:pt x="9412" y="5757"/>
                  <a:pt x="9428" y="5816"/>
                  <a:pt x="9475" y="5879"/>
                </a:cubicBezTo>
                <a:cubicBezTo>
                  <a:pt x="9483" y="5887"/>
                  <a:pt x="9492" y="5896"/>
                  <a:pt x="9500" y="5904"/>
                </a:cubicBezTo>
                <a:cubicBezTo>
                  <a:pt x="9570" y="5864"/>
                  <a:pt x="9588" y="5857"/>
                  <a:pt x="9599" y="5779"/>
                </a:cubicBezTo>
              </a:path>
              <a:path w="4416" h="1812">
                <a:moveTo>
                  <a:pt x="9723" y="5333"/>
                </a:moveTo>
                <a:cubicBezTo>
                  <a:pt x="9763" y="5373"/>
                  <a:pt x="9810" y="5431"/>
                  <a:pt x="9823" y="5482"/>
                </a:cubicBezTo>
                <a:cubicBezTo>
                  <a:pt x="9846" y="5573"/>
                  <a:pt x="9870" y="5602"/>
                  <a:pt x="9922" y="5680"/>
                </a:cubicBezTo>
                <a:cubicBezTo>
                  <a:pt x="9985" y="5774"/>
                  <a:pt x="9999" y="5780"/>
                  <a:pt x="10096" y="5829"/>
                </a:cubicBezTo>
                <a:cubicBezTo>
                  <a:pt x="10159" y="5861"/>
                  <a:pt x="10154" y="5836"/>
                  <a:pt x="10195" y="5779"/>
                </a:cubicBezTo>
              </a:path>
              <a:path w="4416" h="1812">
                <a:moveTo>
                  <a:pt x="10046" y="5283"/>
                </a:moveTo>
                <a:cubicBezTo>
                  <a:pt x="9991" y="5362"/>
                  <a:pt x="9915" y="5449"/>
                  <a:pt x="9872" y="5531"/>
                </a:cubicBezTo>
                <a:cubicBezTo>
                  <a:pt x="9819" y="5633"/>
                  <a:pt x="9782" y="5734"/>
                  <a:pt x="9723" y="5829"/>
                </a:cubicBezTo>
                <a:cubicBezTo>
                  <a:pt x="9692" y="5880"/>
                  <a:pt x="9667" y="5911"/>
                  <a:pt x="9624" y="5953"/>
                </a:cubicBezTo>
                <a:cubicBezTo>
                  <a:pt x="9648" y="5905"/>
                  <a:pt x="9657" y="5891"/>
                  <a:pt x="9649" y="5854"/>
                </a:cubicBezTo>
              </a:path>
              <a:path w="4416" h="1812">
                <a:moveTo>
                  <a:pt x="10220" y="4762"/>
                </a:moveTo>
                <a:cubicBezTo>
                  <a:pt x="10303" y="4920"/>
                  <a:pt x="10348" y="5086"/>
                  <a:pt x="10393" y="5259"/>
                </a:cubicBezTo>
                <a:cubicBezTo>
                  <a:pt x="10423" y="5375"/>
                  <a:pt x="10464" y="5488"/>
                  <a:pt x="10468" y="5606"/>
                </a:cubicBezTo>
                <a:cubicBezTo>
                  <a:pt x="10471" y="5699"/>
                  <a:pt x="10473" y="5775"/>
                  <a:pt x="10418" y="5854"/>
                </a:cubicBezTo>
                <a:cubicBezTo>
                  <a:pt x="10386" y="5900"/>
                  <a:pt x="10328" y="5941"/>
                  <a:pt x="10269" y="5928"/>
                </a:cubicBezTo>
                <a:cubicBezTo>
                  <a:pt x="10253" y="5920"/>
                  <a:pt x="10236" y="5912"/>
                  <a:pt x="10220" y="5904"/>
                </a:cubicBezTo>
                <a:cubicBezTo>
                  <a:pt x="10232" y="5855"/>
                  <a:pt x="10269" y="5805"/>
                  <a:pt x="10294" y="5755"/>
                </a:cubicBezTo>
                <a:cubicBezTo>
                  <a:pt x="10302" y="5738"/>
                  <a:pt x="10311" y="5722"/>
                  <a:pt x="10319" y="5705"/>
                </a:cubicBezTo>
              </a:path>
              <a:path w="4416" h="1812">
                <a:moveTo>
                  <a:pt x="10716" y="4663"/>
                </a:moveTo>
                <a:cubicBezTo>
                  <a:pt x="10809" y="4731"/>
                  <a:pt x="10873" y="4792"/>
                  <a:pt x="10939" y="4887"/>
                </a:cubicBezTo>
                <a:cubicBezTo>
                  <a:pt x="11008" y="4987"/>
                  <a:pt x="11049" y="5137"/>
                  <a:pt x="11063" y="5259"/>
                </a:cubicBezTo>
                <a:cubicBezTo>
                  <a:pt x="11075" y="5366"/>
                  <a:pt x="11063" y="5485"/>
                  <a:pt x="11013" y="5581"/>
                </a:cubicBezTo>
                <a:cubicBezTo>
                  <a:pt x="10971" y="5661"/>
                  <a:pt x="10886" y="5748"/>
                  <a:pt x="10815" y="5804"/>
                </a:cubicBezTo>
                <a:cubicBezTo>
                  <a:pt x="10747" y="5857"/>
                  <a:pt x="10668" y="5890"/>
                  <a:pt x="10592" y="5928"/>
                </a:cubicBezTo>
                <a:cubicBezTo>
                  <a:pt x="10494" y="5977"/>
                  <a:pt x="10520" y="5986"/>
                  <a:pt x="10592" y="59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nk 6"/>
          <p:cNvSpPr/>
          <p:nvPr/>
        </p:nvSpPr>
        <p:spPr>
          <a:xfrm>
            <a:off x="4197240" y="1731960"/>
            <a:ext cx="2071800" cy="430200"/>
          </a:xfrm>
          <a:custGeom>
            <a:avLst/>
            <a:gdLst/>
            <a:ahLst/>
            <a:rect l="l" t="t" r="r" b="b"/>
            <a:pathLst>
              <a:path w="5756" h="1192">
                <a:moveTo>
                  <a:pt x="11658" y="5259"/>
                </a:moveTo>
                <a:cubicBezTo>
                  <a:pt x="11718" y="5294"/>
                  <a:pt x="11783" y="5283"/>
                  <a:pt x="11857" y="5283"/>
                </a:cubicBezTo>
                <a:cubicBezTo>
                  <a:pt x="11962" y="5283"/>
                  <a:pt x="12053" y="5273"/>
                  <a:pt x="12154" y="5259"/>
                </a:cubicBezTo>
                <a:cubicBezTo>
                  <a:pt x="12210" y="5251"/>
                  <a:pt x="12281" y="5250"/>
                  <a:pt x="12303" y="5283"/>
                </a:cubicBezTo>
              </a:path>
              <a:path w="5756" h="1192">
                <a:moveTo>
                  <a:pt x="11757" y="5507"/>
                </a:moveTo>
                <a:cubicBezTo>
                  <a:pt x="11840" y="5507"/>
                  <a:pt x="11905" y="5495"/>
                  <a:pt x="11981" y="5482"/>
                </a:cubicBezTo>
                <a:cubicBezTo>
                  <a:pt x="12052" y="5470"/>
                  <a:pt x="12132" y="5461"/>
                  <a:pt x="12204" y="5457"/>
                </a:cubicBezTo>
                <a:cubicBezTo>
                  <a:pt x="12221" y="5457"/>
                  <a:pt x="12237" y="5457"/>
                  <a:pt x="12254" y="5457"/>
                </a:cubicBezTo>
              </a:path>
              <a:path w="5756" h="1192">
                <a:moveTo>
                  <a:pt x="12725" y="5135"/>
                </a:moveTo>
                <a:cubicBezTo>
                  <a:pt x="12717" y="5110"/>
                  <a:pt x="12708" y="5085"/>
                  <a:pt x="12700" y="5060"/>
                </a:cubicBezTo>
                <a:cubicBezTo>
                  <a:pt x="12744" y="5104"/>
                  <a:pt x="12790" y="5158"/>
                  <a:pt x="12824" y="5209"/>
                </a:cubicBezTo>
                <a:cubicBezTo>
                  <a:pt x="12882" y="5296"/>
                  <a:pt x="12901" y="5392"/>
                  <a:pt x="12948" y="5482"/>
                </a:cubicBezTo>
                <a:cubicBezTo>
                  <a:pt x="12993" y="5568"/>
                  <a:pt x="13032" y="5677"/>
                  <a:pt x="13047" y="5779"/>
                </a:cubicBezTo>
                <a:cubicBezTo>
                  <a:pt x="13053" y="5819"/>
                  <a:pt x="13052" y="5988"/>
                  <a:pt x="13097" y="6003"/>
                </a:cubicBezTo>
                <a:cubicBezTo>
                  <a:pt x="13097" y="5995"/>
                  <a:pt x="13097" y="5986"/>
                  <a:pt x="13097" y="5978"/>
                </a:cubicBezTo>
              </a:path>
              <a:path w="5756" h="1192">
                <a:moveTo>
                  <a:pt x="13171" y="4986"/>
                </a:moveTo>
                <a:cubicBezTo>
                  <a:pt x="13100" y="5086"/>
                  <a:pt x="13050" y="5174"/>
                  <a:pt x="12998" y="5283"/>
                </a:cubicBezTo>
                <a:cubicBezTo>
                  <a:pt x="12942" y="5400"/>
                  <a:pt x="12900" y="5514"/>
                  <a:pt x="12849" y="5631"/>
                </a:cubicBezTo>
                <a:cubicBezTo>
                  <a:pt x="12815" y="5709"/>
                  <a:pt x="12791" y="5805"/>
                  <a:pt x="12750" y="5879"/>
                </a:cubicBezTo>
                <a:cubicBezTo>
                  <a:pt x="12727" y="5902"/>
                  <a:pt x="12719" y="5913"/>
                  <a:pt x="12725" y="5879"/>
                </a:cubicBezTo>
              </a:path>
              <a:path w="5756" h="1192">
                <a:moveTo>
                  <a:pt x="13395" y="5383"/>
                </a:moveTo>
                <a:cubicBezTo>
                  <a:pt x="13465" y="5374"/>
                  <a:pt x="13533" y="5356"/>
                  <a:pt x="13593" y="5333"/>
                </a:cubicBezTo>
                <a:cubicBezTo>
                  <a:pt x="13658" y="5311"/>
                  <a:pt x="13673" y="5303"/>
                  <a:pt x="13717" y="5308"/>
                </a:cubicBezTo>
              </a:path>
              <a:path w="5756" h="1192">
                <a:moveTo>
                  <a:pt x="13940" y="5011"/>
                </a:moveTo>
                <a:cubicBezTo>
                  <a:pt x="14078" y="4954"/>
                  <a:pt x="14155" y="4892"/>
                  <a:pt x="14288" y="4986"/>
                </a:cubicBezTo>
                <a:cubicBezTo>
                  <a:pt x="14334" y="5018"/>
                  <a:pt x="14375" y="5077"/>
                  <a:pt x="14362" y="5135"/>
                </a:cubicBezTo>
                <a:cubicBezTo>
                  <a:pt x="14346" y="5206"/>
                  <a:pt x="14298" y="5318"/>
                  <a:pt x="14263" y="5383"/>
                </a:cubicBezTo>
                <a:cubicBezTo>
                  <a:pt x="14224" y="5455"/>
                  <a:pt x="14136" y="5529"/>
                  <a:pt x="14114" y="5606"/>
                </a:cubicBezTo>
                <a:cubicBezTo>
                  <a:pt x="14092" y="5683"/>
                  <a:pt x="14068" y="5744"/>
                  <a:pt x="14163" y="5755"/>
                </a:cubicBezTo>
                <a:cubicBezTo>
                  <a:pt x="14217" y="5761"/>
                  <a:pt x="14332" y="5745"/>
                  <a:pt x="14387" y="5730"/>
                </a:cubicBezTo>
                <a:cubicBezTo>
                  <a:pt x="14479" y="5704"/>
                  <a:pt x="14483" y="5711"/>
                  <a:pt x="14486" y="5705"/>
                </a:cubicBezTo>
                <a:cubicBezTo>
                  <a:pt x="14494" y="5697"/>
                  <a:pt x="14503" y="5688"/>
                  <a:pt x="14511" y="5680"/>
                </a:cubicBezTo>
              </a:path>
              <a:path w="5756" h="1192">
                <a:moveTo>
                  <a:pt x="15255" y="4961"/>
                </a:moveTo>
                <a:cubicBezTo>
                  <a:pt x="15255" y="5042"/>
                  <a:pt x="15276" y="5107"/>
                  <a:pt x="15280" y="5184"/>
                </a:cubicBezTo>
                <a:cubicBezTo>
                  <a:pt x="15284" y="5249"/>
                  <a:pt x="15286" y="5344"/>
                  <a:pt x="15304" y="5407"/>
                </a:cubicBezTo>
                <a:cubicBezTo>
                  <a:pt x="15314" y="5444"/>
                  <a:pt x="15329" y="5604"/>
                  <a:pt x="15329" y="5556"/>
                </a:cubicBezTo>
              </a:path>
              <a:path w="5756" h="1192">
                <a:moveTo>
                  <a:pt x="14982" y="5308"/>
                </a:moveTo>
                <a:cubicBezTo>
                  <a:pt x="15052" y="5299"/>
                  <a:pt x="15107" y="5283"/>
                  <a:pt x="15180" y="5283"/>
                </a:cubicBezTo>
                <a:cubicBezTo>
                  <a:pt x="15259" y="5283"/>
                  <a:pt x="15327" y="5262"/>
                  <a:pt x="15404" y="5259"/>
                </a:cubicBezTo>
                <a:cubicBezTo>
                  <a:pt x="15478" y="5256"/>
                  <a:pt x="15553" y="5259"/>
                  <a:pt x="15627" y="5259"/>
                </a:cubicBezTo>
              </a:path>
              <a:path w="5756" h="1192">
                <a:moveTo>
                  <a:pt x="15875" y="4887"/>
                </a:moveTo>
                <a:cubicBezTo>
                  <a:pt x="15982" y="4849"/>
                  <a:pt x="16082" y="4795"/>
                  <a:pt x="16197" y="4812"/>
                </a:cubicBezTo>
                <a:cubicBezTo>
                  <a:pt x="16202" y="4813"/>
                  <a:pt x="16399" y="4845"/>
                  <a:pt x="16396" y="4911"/>
                </a:cubicBezTo>
                <a:cubicBezTo>
                  <a:pt x="16393" y="4968"/>
                  <a:pt x="16334" y="5045"/>
                  <a:pt x="16297" y="5085"/>
                </a:cubicBezTo>
                <a:cubicBezTo>
                  <a:pt x="16259" y="5125"/>
                  <a:pt x="16199" y="5188"/>
                  <a:pt x="16148" y="5209"/>
                </a:cubicBezTo>
                <a:cubicBezTo>
                  <a:pt x="16047" y="5250"/>
                  <a:pt x="16136" y="5182"/>
                  <a:pt x="16173" y="5184"/>
                </a:cubicBezTo>
                <a:cubicBezTo>
                  <a:pt x="16212" y="5186"/>
                  <a:pt x="16363" y="5214"/>
                  <a:pt x="16396" y="5234"/>
                </a:cubicBezTo>
                <a:cubicBezTo>
                  <a:pt x="16472" y="5280"/>
                  <a:pt x="16520" y="5361"/>
                  <a:pt x="16545" y="5432"/>
                </a:cubicBezTo>
                <a:cubicBezTo>
                  <a:pt x="16581" y="5533"/>
                  <a:pt x="16540" y="5590"/>
                  <a:pt x="16470" y="5655"/>
                </a:cubicBezTo>
                <a:cubicBezTo>
                  <a:pt x="16405" y="5715"/>
                  <a:pt x="16312" y="5748"/>
                  <a:pt x="16222" y="5730"/>
                </a:cubicBezTo>
                <a:cubicBezTo>
                  <a:pt x="16199" y="5725"/>
                  <a:pt x="16100" y="5716"/>
                  <a:pt x="16073" y="5705"/>
                </a:cubicBezTo>
                <a:cubicBezTo>
                  <a:pt x="16051" y="5682"/>
                  <a:pt x="16043" y="5671"/>
                  <a:pt x="16049" y="5705"/>
                </a:cubicBezTo>
              </a:path>
              <a:path w="5756" h="1192">
                <a:moveTo>
                  <a:pt x="17016" y="5283"/>
                </a:moveTo>
                <a:cubicBezTo>
                  <a:pt x="17099" y="5283"/>
                  <a:pt x="17181" y="5283"/>
                  <a:pt x="17264" y="5283"/>
                </a:cubicBezTo>
              </a:path>
              <a:path w="5756" h="1192">
                <a:moveTo>
                  <a:pt x="17016" y="5457"/>
                </a:moveTo>
                <a:cubicBezTo>
                  <a:pt x="17024" y="5465"/>
                  <a:pt x="17033" y="5474"/>
                  <a:pt x="17041" y="5482"/>
                </a:cubicBezTo>
                <a:cubicBezTo>
                  <a:pt x="17118" y="5449"/>
                  <a:pt x="17210" y="5485"/>
                  <a:pt x="17289" y="5457"/>
                </a:cubicBezTo>
                <a:cubicBezTo>
                  <a:pt x="17335" y="5440"/>
                  <a:pt x="17354" y="5432"/>
                  <a:pt x="17413" y="54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nk 7"/>
          <p:cNvSpPr/>
          <p:nvPr/>
        </p:nvSpPr>
        <p:spPr>
          <a:xfrm>
            <a:off x="6473880" y="1758960"/>
            <a:ext cx="706320" cy="322200"/>
          </a:xfrm>
          <a:custGeom>
            <a:avLst/>
            <a:gdLst/>
            <a:ahLst/>
            <a:rect l="l" t="t" r="r" b="b"/>
            <a:pathLst>
              <a:path w="1961" h="893">
                <a:moveTo>
                  <a:pt x="17983" y="5011"/>
                </a:moveTo>
                <a:cubicBezTo>
                  <a:pt x="18028" y="5066"/>
                  <a:pt x="18037" y="5100"/>
                  <a:pt x="18058" y="5159"/>
                </a:cubicBezTo>
                <a:cubicBezTo>
                  <a:pt x="18076" y="5209"/>
                  <a:pt x="18119" y="5323"/>
                  <a:pt x="18157" y="5358"/>
                </a:cubicBezTo>
                <a:cubicBezTo>
                  <a:pt x="18208" y="5405"/>
                  <a:pt x="18253" y="5454"/>
                  <a:pt x="18306" y="5507"/>
                </a:cubicBezTo>
                <a:cubicBezTo>
                  <a:pt x="18375" y="5576"/>
                  <a:pt x="18401" y="5570"/>
                  <a:pt x="18479" y="5606"/>
                </a:cubicBezTo>
                <a:cubicBezTo>
                  <a:pt x="18544" y="5636"/>
                  <a:pt x="18551" y="5636"/>
                  <a:pt x="18604" y="5581"/>
                </a:cubicBezTo>
                <a:cubicBezTo>
                  <a:pt x="18612" y="5573"/>
                  <a:pt x="18620" y="5564"/>
                  <a:pt x="18628" y="5556"/>
                </a:cubicBezTo>
              </a:path>
              <a:path w="1961" h="893">
                <a:moveTo>
                  <a:pt x="18479" y="4911"/>
                </a:moveTo>
                <a:cubicBezTo>
                  <a:pt x="18439" y="5025"/>
                  <a:pt x="18388" y="5129"/>
                  <a:pt x="18331" y="5234"/>
                </a:cubicBezTo>
                <a:cubicBezTo>
                  <a:pt x="18283" y="5322"/>
                  <a:pt x="18248" y="5416"/>
                  <a:pt x="18207" y="5507"/>
                </a:cubicBezTo>
                <a:cubicBezTo>
                  <a:pt x="18178" y="5572"/>
                  <a:pt x="18124" y="5645"/>
                  <a:pt x="18083" y="5705"/>
                </a:cubicBezTo>
                <a:cubicBezTo>
                  <a:pt x="18063" y="5734"/>
                  <a:pt x="17985" y="5789"/>
                  <a:pt x="18058" y="5755"/>
                </a:cubicBezTo>
              </a:path>
              <a:path w="1961" h="893">
                <a:moveTo>
                  <a:pt x="19000" y="5035"/>
                </a:moveTo>
                <a:cubicBezTo>
                  <a:pt x="19000" y="5135"/>
                  <a:pt x="19010" y="5215"/>
                  <a:pt x="19025" y="5308"/>
                </a:cubicBezTo>
                <a:cubicBezTo>
                  <a:pt x="19034" y="5367"/>
                  <a:pt x="19040" y="5432"/>
                  <a:pt x="19050" y="5482"/>
                </a:cubicBezTo>
                <a:cubicBezTo>
                  <a:pt x="19054" y="5500"/>
                  <a:pt x="19100" y="5630"/>
                  <a:pt x="19100" y="5631"/>
                </a:cubicBezTo>
                <a:cubicBezTo>
                  <a:pt x="19092" y="5631"/>
                  <a:pt x="19083" y="5631"/>
                  <a:pt x="19075" y="5631"/>
                </a:cubicBezTo>
              </a:path>
              <a:path w="1961" h="893">
                <a:moveTo>
                  <a:pt x="18827" y="5333"/>
                </a:moveTo>
                <a:cubicBezTo>
                  <a:pt x="19005" y="5333"/>
                  <a:pt x="19175" y="5333"/>
                  <a:pt x="19348" y="5308"/>
                </a:cubicBezTo>
                <a:cubicBezTo>
                  <a:pt x="19410" y="5299"/>
                  <a:pt x="19436" y="5306"/>
                  <a:pt x="19496" y="5283"/>
                </a:cubicBezTo>
              </a:path>
              <a:path w="1961" h="893">
                <a:moveTo>
                  <a:pt x="19918" y="4887"/>
                </a:moveTo>
                <a:cubicBezTo>
                  <a:pt x="19918" y="5017"/>
                  <a:pt x="19923" y="5137"/>
                  <a:pt x="19943" y="5259"/>
                </a:cubicBezTo>
                <a:cubicBezTo>
                  <a:pt x="19968" y="5414"/>
                  <a:pt x="19943" y="5837"/>
                  <a:pt x="19943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Ink 8"/>
          <p:cNvSpPr/>
          <p:nvPr/>
        </p:nvSpPr>
        <p:spPr>
          <a:xfrm>
            <a:off x="1224000" y="2197080"/>
            <a:ext cx="3678120" cy="633600"/>
          </a:xfrm>
          <a:custGeom>
            <a:avLst/>
            <a:gdLst/>
            <a:ahLst/>
            <a:rect l="l" t="t" r="r" b="b"/>
            <a:pathLst>
              <a:path w="10221" h="1762">
                <a:moveTo>
                  <a:pt x="6747" y="7169"/>
                </a:moveTo>
                <a:cubicBezTo>
                  <a:pt x="6807" y="7204"/>
                  <a:pt x="6872" y="7193"/>
                  <a:pt x="6945" y="7193"/>
                </a:cubicBezTo>
                <a:cubicBezTo>
                  <a:pt x="7044" y="7193"/>
                  <a:pt x="7144" y="7193"/>
                  <a:pt x="7243" y="7193"/>
                </a:cubicBezTo>
              </a:path>
              <a:path w="10221" h="1762">
                <a:moveTo>
                  <a:pt x="6747" y="7342"/>
                </a:moveTo>
                <a:cubicBezTo>
                  <a:pt x="6811" y="7381"/>
                  <a:pt x="6872" y="7348"/>
                  <a:pt x="6945" y="7367"/>
                </a:cubicBezTo>
                <a:cubicBezTo>
                  <a:pt x="7025" y="7388"/>
                  <a:pt x="7082" y="7392"/>
                  <a:pt x="7169" y="7392"/>
                </a:cubicBezTo>
                <a:cubicBezTo>
                  <a:pt x="7285" y="7392"/>
                  <a:pt x="7168" y="7370"/>
                  <a:pt x="7144" y="7367"/>
                </a:cubicBezTo>
              </a:path>
              <a:path w="10221" h="1762">
                <a:moveTo>
                  <a:pt x="4266" y="6921"/>
                </a:moveTo>
                <a:cubicBezTo>
                  <a:pt x="4258" y="6962"/>
                  <a:pt x="4250" y="7004"/>
                  <a:pt x="4242" y="7045"/>
                </a:cubicBezTo>
              </a:path>
              <a:path w="10221" h="1762">
                <a:moveTo>
                  <a:pt x="4514" y="7714"/>
                </a:moveTo>
                <a:cubicBezTo>
                  <a:pt x="4603" y="7766"/>
                  <a:pt x="4689" y="7804"/>
                  <a:pt x="4787" y="7838"/>
                </a:cubicBezTo>
                <a:cubicBezTo>
                  <a:pt x="4886" y="7872"/>
                  <a:pt x="4981" y="7863"/>
                  <a:pt x="5085" y="7863"/>
                </a:cubicBezTo>
                <a:cubicBezTo>
                  <a:pt x="5239" y="7863"/>
                  <a:pt x="5381" y="7852"/>
                  <a:pt x="5531" y="7813"/>
                </a:cubicBezTo>
                <a:cubicBezTo>
                  <a:pt x="5644" y="7784"/>
                  <a:pt x="5753" y="7745"/>
                  <a:pt x="5854" y="7689"/>
                </a:cubicBezTo>
                <a:cubicBezTo>
                  <a:pt x="5944" y="7639"/>
                  <a:pt x="6012" y="7589"/>
                  <a:pt x="6077" y="7516"/>
                </a:cubicBezTo>
                <a:cubicBezTo>
                  <a:pt x="6139" y="7447"/>
                  <a:pt x="6168" y="7381"/>
                  <a:pt x="6201" y="7293"/>
                </a:cubicBezTo>
                <a:cubicBezTo>
                  <a:pt x="6232" y="7210"/>
                  <a:pt x="6225" y="7128"/>
                  <a:pt x="6201" y="7045"/>
                </a:cubicBezTo>
                <a:cubicBezTo>
                  <a:pt x="6172" y="6946"/>
                  <a:pt x="6112" y="6829"/>
                  <a:pt x="6052" y="6747"/>
                </a:cubicBezTo>
                <a:cubicBezTo>
                  <a:pt x="5992" y="6665"/>
                  <a:pt x="5931" y="6614"/>
                  <a:pt x="5854" y="6548"/>
                </a:cubicBezTo>
                <a:cubicBezTo>
                  <a:pt x="5779" y="6484"/>
                  <a:pt x="5691" y="6417"/>
                  <a:pt x="5606" y="6375"/>
                </a:cubicBezTo>
                <a:cubicBezTo>
                  <a:pt x="5469" y="6307"/>
                  <a:pt x="5285" y="6256"/>
                  <a:pt x="5135" y="6251"/>
                </a:cubicBezTo>
                <a:cubicBezTo>
                  <a:pt x="4993" y="6246"/>
                  <a:pt x="4822" y="6228"/>
                  <a:pt x="4688" y="6276"/>
                </a:cubicBezTo>
                <a:cubicBezTo>
                  <a:pt x="4589" y="6311"/>
                  <a:pt x="4495" y="6357"/>
                  <a:pt x="4415" y="6424"/>
                </a:cubicBezTo>
                <a:cubicBezTo>
                  <a:pt x="4361" y="6469"/>
                  <a:pt x="4299" y="6541"/>
                  <a:pt x="4266" y="6598"/>
                </a:cubicBezTo>
                <a:cubicBezTo>
                  <a:pt x="4227" y="6665"/>
                  <a:pt x="4239" y="6750"/>
                  <a:pt x="4217" y="6821"/>
                </a:cubicBezTo>
                <a:cubicBezTo>
                  <a:pt x="4193" y="6899"/>
                  <a:pt x="4195" y="6941"/>
                  <a:pt x="4217" y="7020"/>
                </a:cubicBezTo>
                <a:cubicBezTo>
                  <a:pt x="4234" y="7082"/>
                  <a:pt x="4251" y="7139"/>
                  <a:pt x="4291" y="7193"/>
                </a:cubicBezTo>
                <a:cubicBezTo>
                  <a:pt x="4322" y="7235"/>
                  <a:pt x="4356" y="7278"/>
                  <a:pt x="4390" y="7317"/>
                </a:cubicBezTo>
                <a:cubicBezTo>
                  <a:pt x="4422" y="7354"/>
                  <a:pt x="4438" y="7374"/>
                  <a:pt x="4465" y="7417"/>
                </a:cubicBezTo>
              </a:path>
              <a:path w="10221" h="1762">
                <a:moveTo>
                  <a:pt x="4663" y="6424"/>
                </a:moveTo>
                <a:cubicBezTo>
                  <a:pt x="4646" y="6348"/>
                  <a:pt x="4620" y="6307"/>
                  <a:pt x="4564" y="6251"/>
                </a:cubicBezTo>
                <a:cubicBezTo>
                  <a:pt x="4531" y="6218"/>
                  <a:pt x="4462" y="6163"/>
                  <a:pt x="4415" y="6152"/>
                </a:cubicBezTo>
                <a:cubicBezTo>
                  <a:pt x="4343" y="6135"/>
                  <a:pt x="4264" y="6144"/>
                  <a:pt x="4192" y="6127"/>
                </a:cubicBezTo>
                <a:cubicBezTo>
                  <a:pt x="4112" y="6108"/>
                  <a:pt x="4056" y="6102"/>
                  <a:pt x="3969" y="6102"/>
                </a:cubicBezTo>
                <a:cubicBezTo>
                  <a:pt x="3880" y="6102"/>
                  <a:pt x="3831" y="6123"/>
                  <a:pt x="3746" y="6152"/>
                </a:cubicBezTo>
                <a:cubicBezTo>
                  <a:pt x="3684" y="6173"/>
                  <a:pt x="3616" y="6204"/>
                  <a:pt x="3597" y="6276"/>
                </a:cubicBezTo>
                <a:cubicBezTo>
                  <a:pt x="3572" y="6371"/>
                  <a:pt x="3587" y="6503"/>
                  <a:pt x="3572" y="6598"/>
                </a:cubicBezTo>
                <a:cubicBezTo>
                  <a:pt x="3569" y="6619"/>
                  <a:pt x="3582" y="6838"/>
                  <a:pt x="3547" y="6821"/>
                </a:cubicBezTo>
                <a:cubicBezTo>
                  <a:pt x="3539" y="6805"/>
                  <a:pt x="3530" y="6788"/>
                  <a:pt x="3522" y="6772"/>
                </a:cubicBezTo>
              </a:path>
              <a:path w="10221" h="1762">
                <a:moveTo>
                  <a:pt x="3423" y="6598"/>
                </a:moveTo>
                <a:cubicBezTo>
                  <a:pt x="3399" y="6638"/>
                  <a:pt x="3378" y="6720"/>
                  <a:pt x="3398" y="6772"/>
                </a:cubicBezTo>
                <a:cubicBezTo>
                  <a:pt x="3425" y="6840"/>
                  <a:pt x="3432" y="6899"/>
                  <a:pt x="3473" y="6970"/>
                </a:cubicBezTo>
                <a:cubicBezTo>
                  <a:pt x="3529" y="6914"/>
                  <a:pt x="3576" y="6858"/>
                  <a:pt x="3646" y="6821"/>
                </a:cubicBezTo>
                <a:cubicBezTo>
                  <a:pt x="3694" y="6795"/>
                  <a:pt x="3742" y="6735"/>
                  <a:pt x="3795" y="6722"/>
                </a:cubicBezTo>
                <a:cubicBezTo>
                  <a:pt x="3837" y="6722"/>
                  <a:pt x="3853" y="6730"/>
                  <a:pt x="3845" y="6697"/>
                </a:cubicBezTo>
              </a:path>
              <a:path w="10221" h="1762">
                <a:moveTo>
                  <a:pt x="7838" y="7045"/>
                </a:moveTo>
                <a:cubicBezTo>
                  <a:pt x="7892" y="7151"/>
                  <a:pt x="7937" y="7275"/>
                  <a:pt x="8012" y="7367"/>
                </a:cubicBezTo>
                <a:cubicBezTo>
                  <a:pt x="8079" y="7450"/>
                  <a:pt x="8158" y="7520"/>
                  <a:pt x="8235" y="7590"/>
                </a:cubicBezTo>
                <a:cubicBezTo>
                  <a:pt x="8298" y="7647"/>
                  <a:pt x="8349" y="7737"/>
                  <a:pt x="8409" y="7789"/>
                </a:cubicBezTo>
                <a:cubicBezTo>
                  <a:pt x="8437" y="7814"/>
                  <a:pt x="8510" y="7879"/>
                  <a:pt x="8533" y="7838"/>
                </a:cubicBezTo>
                <a:cubicBezTo>
                  <a:pt x="8533" y="7830"/>
                  <a:pt x="8533" y="7821"/>
                  <a:pt x="8533" y="7813"/>
                </a:cubicBezTo>
              </a:path>
              <a:path w="10221" h="1762">
                <a:moveTo>
                  <a:pt x="8285" y="6995"/>
                </a:moveTo>
                <a:cubicBezTo>
                  <a:pt x="8228" y="7060"/>
                  <a:pt x="8164" y="7124"/>
                  <a:pt x="8111" y="7193"/>
                </a:cubicBezTo>
                <a:cubicBezTo>
                  <a:pt x="8042" y="7281"/>
                  <a:pt x="7984" y="7379"/>
                  <a:pt x="7913" y="7466"/>
                </a:cubicBezTo>
                <a:cubicBezTo>
                  <a:pt x="7849" y="7544"/>
                  <a:pt x="7774" y="7609"/>
                  <a:pt x="7714" y="7689"/>
                </a:cubicBezTo>
                <a:cubicBezTo>
                  <a:pt x="7691" y="7712"/>
                  <a:pt x="7683" y="7723"/>
                  <a:pt x="7689" y="7689"/>
                </a:cubicBezTo>
              </a:path>
              <a:path w="10221" h="1762">
                <a:moveTo>
                  <a:pt x="8607" y="7045"/>
                </a:moveTo>
                <a:cubicBezTo>
                  <a:pt x="8637" y="7157"/>
                  <a:pt x="8677" y="7276"/>
                  <a:pt x="8682" y="7392"/>
                </a:cubicBezTo>
                <a:cubicBezTo>
                  <a:pt x="8685" y="7473"/>
                  <a:pt x="8702" y="7538"/>
                  <a:pt x="8706" y="7615"/>
                </a:cubicBezTo>
                <a:cubicBezTo>
                  <a:pt x="8709" y="7668"/>
                  <a:pt x="8728" y="7767"/>
                  <a:pt x="8756" y="7739"/>
                </a:cubicBezTo>
              </a:path>
              <a:path w="10221" h="1762">
                <a:moveTo>
                  <a:pt x="8483" y="7317"/>
                </a:moveTo>
                <a:cubicBezTo>
                  <a:pt x="8606" y="7342"/>
                  <a:pt x="8664" y="7322"/>
                  <a:pt x="8781" y="7317"/>
                </a:cubicBezTo>
                <a:cubicBezTo>
                  <a:pt x="8854" y="7314"/>
                  <a:pt x="8906" y="7299"/>
                  <a:pt x="8979" y="7293"/>
                </a:cubicBezTo>
              </a:path>
              <a:path w="10221" h="1762">
                <a:moveTo>
                  <a:pt x="9252" y="6970"/>
                </a:moveTo>
                <a:cubicBezTo>
                  <a:pt x="9361" y="6912"/>
                  <a:pt x="9382" y="6877"/>
                  <a:pt x="9500" y="6921"/>
                </a:cubicBezTo>
                <a:cubicBezTo>
                  <a:pt x="9605" y="6960"/>
                  <a:pt x="9590" y="7015"/>
                  <a:pt x="9575" y="7094"/>
                </a:cubicBezTo>
                <a:cubicBezTo>
                  <a:pt x="9560" y="7170"/>
                  <a:pt x="9520" y="7227"/>
                  <a:pt x="9451" y="7268"/>
                </a:cubicBezTo>
                <a:cubicBezTo>
                  <a:pt x="9398" y="7299"/>
                  <a:pt x="9305" y="7354"/>
                  <a:pt x="9252" y="7367"/>
                </a:cubicBezTo>
                <a:cubicBezTo>
                  <a:pt x="9162" y="7390"/>
                  <a:pt x="9174" y="7395"/>
                  <a:pt x="9252" y="7367"/>
                </a:cubicBezTo>
                <a:cubicBezTo>
                  <a:pt x="9323" y="7342"/>
                  <a:pt x="9358" y="7343"/>
                  <a:pt x="9426" y="7367"/>
                </a:cubicBezTo>
                <a:cubicBezTo>
                  <a:pt x="9489" y="7389"/>
                  <a:pt x="9561" y="7443"/>
                  <a:pt x="9599" y="7491"/>
                </a:cubicBezTo>
                <a:cubicBezTo>
                  <a:pt x="9658" y="7565"/>
                  <a:pt x="9656" y="7630"/>
                  <a:pt x="9624" y="7714"/>
                </a:cubicBezTo>
                <a:cubicBezTo>
                  <a:pt x="9601" y="7775"/>
                  <a:pt x="9541" y="7826"/>
                  <a:pt x="9475" y="7838"/>
                </a:cubicBezTo>
                <a:cubicBezTo>
                  <a:pt x="9389" y="7853"/>
                  <a:pt x="9229" y="7855"/>
                  <a:pt x="9153" y="7813"/>
                </a:cubicBezTo>
                <a:cubicBezTo>
                  <a:pt x="9150" y="7811"/>
                  <a:pt x="8988" y="7679"/>
                  <a:pt x="9079" y="7739"/>
                </a:cubicBezTo>
              </a:path>
              <a:path w="10221" h="1762">
                <a:moveTo>
                  <a:pt x="9971" y="7367"/>
                </a:moveTo>
                <a:cubicBezTo>
                  <a:pt x="10059" y="7323"/>
                  <a:pt x="10101" y="7356"/>
                  <a:pt x="10195" y="7367"/>
                </a:cubicBezTo>
                <a:cubicBezTo>
                  <a:pt x="10314" y="7381"/>
                  <a:pt x="10431" y="7360"/>
                  <a:pt x="10542" y="7342"/>
                </a:cubicBezTo>
                <a:cubicBezTo>
                  <a:pt x="10559" y="7342"/>
                  <a:pt x="10575" y="7342"/>
                  <a:pt x="10592" y="7342"/>
                </a:cubicBezTo>
              </a:path>
              <a:path w="10221" h="1762">
                <a:moveTo>
                  <a:pt x="10616" y="7045"/>
                </a:moveTo>
                <a:cubicBezTo>
                  <a:pt x="10673" y="6988"/>
                  <a:pt x="10707" y="6937"/>
                  <a:pt x="10790" y="6921"/>
                </a:cubicBezTo>
                <a:cubicBezTo>
                  <a:pt x="10855" y="6908"/>
                  <a:pt x="10930" y="6919"/>
                  <a:pt x="10988" y="6945"/>
                </a:cubicBezTo>
                <a:cubicBezTo>
                  <a:pt x="11071" y="6981"/>
                  <a:pt x="11084" y="7006"/>
                  <a:pt x="11088" y="7094"/>
                </a:cubicBezTo>
                <a:cubicBezTo>
                  <a:pt x="11092" y="7197"/>
                  <a:pt x="11056" y="7225"/>
                  <a:pt x="10988" y="7293"/>
                </a:cubicBezTo>
                <a:cubicBezTo>
                  <a:pt x="10912" y="7369"/>
                  <a:pt x="10833" y="7440"/>
                  <a:pt x="10765" y="7516"/>
                </a:cubicBezTo>
                <a:cubicBezTo>
                  <a:pt x="10720" y="7567"/>
                  <a:pt x="10664" y="7592"/>
                  <a:pt x="10616" y="7640"/>
                </a:cubicBezTo>
                <a:cubicBezTo>
                  <a:pt x="10583" y="7673"/>
                  <a:pt x="10550" y="7706"/>
                  <a:pt x="10517" y="7739"/>
                </a:cubicBezTo>
                <a:cubicBezTo>
                  <a:pt x="10559" y="7760"/>
                  <a:pt x="10602" y="7743"/>
                  <a:pt x="10666" y="7764"/>
                </a:cubicBezTo>
                <a:cubicBezTo>
                  <a:pt x="10732" y="7786"/>
                  <a:pt x="10793" y="7810"/>
                  <a:pt x="10864" y="7813"/>
                </a:cubicBezTo>
                <a:cubicBezTo>
                  <a:pt x="10960" y="7817"/>
                  <a:pt x="10997" y="7828"/>
                  <a:pt x="11088" y="7813"/>
                </a:cubicBezTo>
                <a:cubicBezTo>
                  <a:pt x="11137" y="7813"/>
                  <a:pt x="11154" y="7813"/>
                  <a:pt x="11187" y="7813"/>
                </a:cubicBezTo>
              </a:path>
              <a:path w="10221" h="1762">
                <a:moveTo>
                  <a:pt x="11460" y="7392"/>
                </a:moveTo>
                <a:cubicBezTo>
                  <a:pt x="11559" y="7392"/>
                  <a:pt x="11658" y="7392"/>
                  <a:pt x="11757" y="7392"/>
                </a:cubicBezTo>
              </a:path>
              <a:path w="10221" h="1762">
                <a:moveTo>
                  <a:pt x="11485" y="7491"/>
                </a:moveTo>
                <a:cubicBezTo>
                  <a:pt x="11605" y="7534"/>
                  <a:pt x="11661" y="7555"/>
                  <a:pt x="11782" y="7516"/>
                </a:cubicBezTo>
                <a:cubicBezTo>
                  <a:pt x="11799" y="7508"/>
                  <a:pt x="11815" y="7499"/>
                  <a:pt x="11832" y="7491"/>
                </a:cubicBezTo>
              </a:path>
              <a:path w="10221" h="1762">
                <a:moveTo>
                  <a:pt x="12129" y="7144"/>
                </a:moveTo>
                <a:cubicBezTo>
                  <a:pt x="12161" y="7183"/>
                  <a:pt x="12201" y="7226"/>
                  <a:pt x="12229" y="7268"/>
                </a:cubicBezTo>
                <a:cubicBezTo>
                  <a:pt x="12278" y="7344"/>
                  <a:pt x="12337" y="7401"/>
                  <a:pt x="12402" y="7466"/>
                </a:cubicBezTo>
                <a:cubicBezTo>
                  <a:pt x="12474" y="7538"/>
                  <a:pt x="12563" y="7612"/>
                  <a:pt x="12650" y="7665"/>
                </a:cubicBezTo>
                <a:cubicBezTo>
                  <a:pt x="12701" y="7697"/>
                  <a:pt x="12812" y="7753"/>
                  <a:pt x="12874" y="7739"/>
                </a:cubicBezTo>
                <a:cubicBezTo>
                  <a:pt x="12890" y="7731"/>
                  <a:pt x="12907" y="7722"/>
                  <a:pt x="12923" y="7714"/>
                </a:cubicBezTo>
              </a:path>
              <a:path w="10221" h="1762">
                <a:moveTo>
                  <a:pt x="12626" y="7020"/>
                </a:moveTo>
                <a:cubicBezTo>
                  <a:pt x="12572" y="7074"/>
                  <a:pt x="12488" y="7150"/>
                  <a:pt x="12452" y="7218"/>
                </a:cubicBezTo>
                <a:cubicBezTo>
                  <a:pt x="12406" y="7307"/>
                  <a:pt x="12371" y="7390"/>
                  <a:pt x="12303" y="7466"/>
                </a:cubicBezTo>
                <a:cubicBezTo>
                  <a:pt x="12253" y="7523"/>
                  <a:pt x="12223" y="7581"/>
                  <a:pt x="12179" y="7640"/>
                </a:cubicBezTo>
                <a:cubicBezTo>
                  <a:pt x="12153" y="7675"/>
                  <a:pt x="12077" y="7704"/>
                  <a:pt x="12179" y="7665"/>
                </a:cubicBezTo>
              </a:path>
              <a:path w="10221" h="1762">
                <a:moveTo>
                  <a:pt x="12998" y="7243"/>
                </a:moveTo>
                <a:cubicBezTo>
                  <a:pt x="12998" y="7321"/>
                  <a:pt x="12988" y="7443"/>
                  <a:pt x="13022" y="7516"/>
                </a:cubicBezTo>
                <a:cubicBezTo>
                  <a:pt x="13043" y="7561"/>
                  <a:pt x="13103" y="7678"/>
                  <a:pt x="13122" y="7640"/>
                </a:cubicBezTo>
              </a:path>
              <a:path w="10221" h="1762">
                <a:moveTo>
                  <a:pt x="12774" y="7317"/>
                </a:moveTo>
                <a:cubicBezTo>
                  <a:pt x="12872" y="7297"/>
                  <a:pt x="12947" y="7293"/>
                  <a:pt x="13047" y="7293"/>
                </a:cubicBezTo>
                <a:cubicBezTo>
                  <a:pt x="13113" y="7293"/>
                  <a:pt x="13180" y="7293"/>
                  <a:pt x="13246" y="7293"/>
                </a:cubicBezTo>
              </a:path>
              <a:path w="10221" h="1762">
                <a:moveTo>
                  <a:pt x="13543" y="6995"/>
                </a:moveTo>
                <a:cubicBezTo>
                  <a:pt x="13569" y="7072"/>
                  <a:pt x="13568" y="7136"/>
                  <a:pt x="13568" y="7218"/>
                </a:cubicBezTo>
                <a:cubicBezTo>
                  <a:pt x="13568" y="7308"/>
                  <a:pt x="13589" y="7379"/>
                  <a:pt x="13593" y="7466"/>
                </a:cubicBezTo>
                <a:cubicBezTo>
                  <a:pt x="13596" y="7537"/>
                  <a:pt x="13618" y="7591"/>
                  <a:pt x="13618" y="7665"/>
                </a:cubicBezTo>
                <a:cubicBezTo>
                  <a:pt x="13618" y="7723"/>
                  <a:pt x="13618" y="7731"/>
                  <a:pt x="13618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Ink 9"/>
          <p:cNvSpPr/>
          <p:nvPr/>
        </p:nvSpPr>
        <p:spPr>
          <a:xfrm>
            <a:off x="1035000" y="2786040"/>
            <a:ext cx="1171800" cy="635040"/>
          </a:xfrm>
          <a:custGeom>
            <a:avLst/>
            <a:gdLst/>
            <a:ahLst/>
            <a:rect l="l" t="t" r="r" b="b"/>
            <a:pathLst>
              <a:path w="3251" h="1762">
                <a:moveTo>
                  <a:pt x="5829" y="8012"/>
                </a:moveTo>
                <a:cubicBezTo>
                  <a:pt x="5495" y="7806"/>
                  <a:pt x="5439" y="7739"/>
                  <a:pt x="5085" y="7739"/>
                </a:cubicBezTo>
                <a:cubicBezTo>
                  <a:pt x="4896" y="7739"/>
                  <a:pt x="4691" y="7741"/>
                  <a:pt x="4514" y="7813"/>
                </a:cubicBezTo>
                <a:cubicBezTo>
                  <a:pt x="4350" y="7880"/>
                  <a:pt x="4186" y="7981"/>
                  <a:pt x="4043" y="8086"/>
                </a:cubicBezTo>
                <a:cubicBezTo>
                  <a:pt x="3886" y="8201"/>
                  <a:pt x="3755" y="8303"/>
                  <a:pt x="3671" y="8483"/>
                </a:cubicBezTo>
                <a:cubicBezTo>
                  <a:pt x="3624" y="8583"/>
                  <a:pt x="3608" y="8696"/>
                  <a:pt x="3621" y="8806"/>
                </a:cubicBezTo>
                <a:cubicBezTo>
                  <a:pt x="3643" y="8985"/>
                  <a:pt x="3882" y="9145"/>
                  <a:pt x="4018" y="9227"/>
                </a:cubicBezTo>
                <a:cubicBezTo>
                  <a:pt x="4150" y="9307"/>
                  <a:pt x="4368" y="9416"/>
                  <a:pt x="4514" y="9451"/>
                </a:cubicBezTo>
                <a:cubicBezTo>
                  <a:pt x="4704" y="9497"/>
                  <a:pt x="5020" y="9506"/>
                  <a:pt x="5209" y="9500"/>
                </a:cubicBezTo>
                <a:cubicBezTo>
                  <a:pt x="5390" y="9495"/>
                  <a:pt x="5575" y="9450"/>
                  <a:pt x="5730" y="9376"/>
                </a:cubicBezTo>
                <a:cubicBezTo>
                  <a:pt x="5860" y="9314"/>
                  <a:pt x="5946" y="9220"/>
                  <a:pt x="6028" y="9103"/>
                </a:cubicBezTo>
                <a:cubicBezTo>
                  <a:pt x="6117" y="8975"/>
                  <a:pt x="6138" y="8886"/>
                  <a:pt x="6127" y="8731"/>
                </a:cubicBezTo>
                <a:cubicBezTo>
                  <a:pt x="6116" y="8572"/>
                  <a:pt x="6043" y="8459"/>
                  <a:pt x="5953" y="8334"/>
                </a:cubicBezTo>
                <a:cubicBezTo>
                  <a:pt x="5847" y="8189"/>
                  <a:pt x="5757" y="8107"/>
                  <a:pt x="5606" y="8012"/>
                </a:cubicBezTo>
                <a:cubicBezTo>
                  <a:pt x="5466" y="7923"/>
                  <a:pt x="5275" y="7839"/>
                  <a:pt x="5110" y="7813"/>
                </a:cubicBezTo>
                <a:cubicBezTo>
                  <a:pt x="4953" y="7788"/>
                  <a:pt x="4768" y="7810"/>
                  <a:pt x="4614" y="7838"/>
                </a:cubicBezTo>
                <a:cubicBezTo>
                  <a:pt x="4456" y="7866"/>
                  <a:pt x="4311" y="7941"/>
                  <a:pt x="4167" y="8012"/>
                </a:cubicBezTo>
                <a:cubicBezTo>
                  <a:pt x="3989" y="8099"/>
                  <a:pt x="3895" y="8172"/>
                  <a:pt x="3770" y="8334"/>
                </a:cubicBezTo>
                <a:cubicBezTo>
                  <a:pt x="3694" y="8432"/>
                  <a:pt x="3681" y="8538"/>
                  <a:pt x="3671" y="8657"/>
                </a:cubicBezTo>
                <a:cubicBezTo>
                  <a:pt x="3654" y="8867"/>
                  <a:pt x="3791" y="9024"/>
                  <a:pt x="3944" y="9153"/>
                </a:cubicBezTo>
                <a:cubicBezTo>
                  <a:pt x="4045" y="9238"/>
                  <a:pt x="4244" y="9330"/>
                  <a:pt x="4366" y="9376"/>
                </a:cubicBezTo>
                <a:cubicBezTo>
                  <a:pt x="4529" y="9438"/>
                  <a:pt x="4693" y="9445"/>
                  <a:pt x="4862" y="9475"/>
                </a:cubicBezTo>
                <a:cubicBezTo>
                  <a:pt x="5012" y="9501"/>
                  <a:pt x="5180" y="9519"/>
                  <a:pt x="5333" y="9500"/>
                </a:cubicBezTo>
                <a:cubicBezTo>
                  <a:pt x="5469" y="9483"/>
                  <a:pt x="5605" y="9446"/>
                  <a:pt x="5730" y="9401"/>
                </a:cubicBezTo>
                <a:cubicBezTo>
                  <a:pt x="5813" y="9371"/>
                  <a:pt x="5911" y="9302"/>
                  <a:pt x="5953" y="9227"/>
                </a:cubicBezTo>
                <a:cubicBezTo>
                  <a:pt x="5990" y="9160"/>
                  <a:pt x="5984" y="9080"/>
                  <a:pt x="5978" y="9004"/>
                </a:cubicBezTo>
                <a:cubicBezTo>
                  <a:pt x="5970" y="8898"/>
                  <a:pt x="5938" y="8808"/>
                  <a:pt x="5904" y="8706"/>
                </a:cubicBezTo>
                <a:cubicBezTo>
                  <a:pt x="5873" y="8613"/>
                  <a:pt x="5819" y="8485"/>
                  <a:pt x="5755" y="8409"/>
                </a:cubicBezTo>
                <a:cubicBezTo>
                  <a:pt x="5692" y="8334"/>
                  <a:pt x="5629" y="8231"/>
                  <a:pt x="5556" y="8161"/>
                </a:cubicBezTo>
                <a:cubicBezTo>
                  <a:pt x="5475" y="8082"/>
                  <a:pt x="5378" y="8025"/>
                  <a:pt x="5283" y="7962"/>
                </a:cubicBezTo>
                <a:cubicBezTo>
                  <a:pt x="5145" y="7870"/>
                  <a:pt x="4996" y="7832"/>
                  <a:pt x="4837" y="7789"/>
                </a:cubicBezTo>
                <a:cubicBezTo>
                  <a:pt x="4697" y="7751"/>
                  <a:pt x="4586" y="7739"/>
                  <a:pt x="4440" y="7739"/>
                </a:cubicBezTo>
                <a:cubicBezTo>
                  <a:pt x="4307" y="7739"/>
                  <a:pt x="4173" y="7742"/>
                  <a:pt x="4043" y="7764"/>
                </a:cubicBezTo>
                <a:cubicBezTo>
                  <a:pt x="3893" y="7789"/>
                  <a:pt x="3731" y="7842"/>
                  <a:pt x="3597" y="7913"/>
                </a:cubicBezTo>
                <a:cubicBezTo>
                  <a:pt x="3507" y="7961"/>
                  <a:pt x="3425" y="8043"/>
                  <a:pt x="3349" y="8111"/>
                </a:cubicBezTo>
                <a:cubicBezTo>
                  <a:pt x="3275" y="8177"/>
                  <a:pt x="3221" y="8246"/>
                  <a:pt x="3175" y="8334"/>
                </a:cubicBezTo>
                <a:cubicBezTo>
                  <a:pt x="3138" y="8404"/>
                  <a:pt x="3117" y="8490"/>
                  <a:pt x="3076" y="8558"/>
                </a:cubicBezTo>
                <a:cubicBezTo>
                  <a:pt x="3068" y="8566"/>
                  <a:pt x="3059" y="8574"/>
                  <a:pt x="3051" y="8582"/>
                </a:cubicBezTo>
                <a:cubicBezTo>
                  <a:pt x="3087" y="8529"/>
                  <a:pt x="3055" y="8571"/>
                  <a:pt x="3051" y="8508"/>
                </a:cubicBezTo>
                <a:cubicBezTo>
                  <a:pt x="3045" y="8416"/>
                  <a:pt x="3038" y="8365"/>
                  <a:pt x="3001" y="8285"/>
                </a:cubicBezTo>
                <a:cubicBezTo>
                  <a:pt x="2980" y="8241"/>
                  <a:pt x="2977" y="8229"/>
                  <a:pt x="2952" y="8210"/>
                </a:cubicBezTo>
                <a:cubicBezTo>
                  <a:pt x="2935" y="8244"/>
                  <a:pt x="2879" y="8324"/>
                  <a:pt x="2877" y="8334"/>
                </a:cubicBezTo>
                <a:cubicBezTo>
                  <a:pt x="2857" y="8428"/>
                  <a:pt x="2887" y="8577"/>
                  <a:pt x="2902" y="8632"/>
                </a:cubicBezTo>
                <a:cubicBezTo>
                  <a:pt x="2928" y="8726"/>
                  <a:pt x="2962" y="8669"/>
                  <a:pt x="3051" y="8632"/>
                </a:cubicBezTo>
                <a:cubicBezTo>
                  <a:pt x="3113" y="8606"/>
                  <a:pt x="3163" y="8540"/>
                  <a:pt x="3225" y="8508"/>
                </a:cubicBezTo>
                <a:cubicBezTo>
                  <a:pt x="3302" y="8468"/>
                  <a:pt x="3403" y="8450"/>
                  <a:pt x="3473" y="8409"/>
                </a:cubicBezTo>
                <a:cubicBezTo>
                  <a:pt x="3526" y="8377"/>
                  <a:pt x="3511" y="8373"/>
                  <a:pt x="3572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nk 10"/>
          <p:cNvSpPr/>
          <p:nvPr/>
        </p:nvSpPr>
        <p:spPr>
          <a:xfrm>
            <a:off x="3027240" y="3348000"/>
            <a:ext cx="1071720" cy="768240"/>
          </a:xfrm>
          <a:custGeom>
            <a:avLst/>
            <a:gdLst/>
            <a:ahLst/>
            <a:rect l="l" t="t" r="r" b="b"/>
            <a:pathLst>
              <a:path w="2977" h="2134">
                <a:moveTo>
                  <a:pt x="9674" y="9550"/>
                </a:moveTo>
                <a:cubicBezTo>
                  <a:pt x="9552" y="9605"/>
                  <a:pt x="9424" y="9599"/>
                  <a:pt x="9302" y="9674"/>
                </a:cubicBezTo>
                <a:cubicBezTo>
                  <a:pt x="9170" y="9755"/>
                  <a:pt x="9106" y="9793"/>
                  <a:pt x="9029" y="9922"/>
                </a:cubicBezTo>
                <a:cubicBezTo>
                  <a:pt x="8939" y="10073"/>
                  <a:pt x="8945" y="10201"/>
                  <a:pt x="8979" y="10368"/>
                </a:cubicBezTo>
                <a:cubicBezTo>
                  <a:pt x="9015" y="10546"/>
                  <a:pt x="9055" y="10654"/>
                  <a:pt x="9178" y="10790"/>
                </a:cubicBezTo>
                <a:cubicBezTo>
                  <a:pt x="9295" y="10919"/>
                  <a:pt x="9451" y="10983"/>
                  <a:pt x="9599" y="11063"/>
                </a:cubicBezTo>
                <a:cubicBezTo>
                  <a:pt x="9755" y="11148"/>
                  <a:pt x="9940" y="11217"/>
                  <a:pt x="10120" y="11237"/>
                </a:cubicBezTo>
                <a:cubicBezTo>
                  <a:pt x="10293" y="11256"/>
                  <a:pt x="10484" y="11204"/>
                  <a:pt x="10641" y="11137"/>
                </a:cubicBezTo>
                <a:cubicBezTo>
                  <a:pt x="10914" y="11021"/>
                  <a:pt x="11061" y="10767"/>
                  <a:pt x="11137" y="10492"/>
                </a:cubicBezTo>
                <a:cubicBezTo>
                  <a:pt x="11190" y="10300"/>
                  <a:pt x="11174" y="10162"/>
                  <a:pt x="11137" y="9971"/>
                </a:cubicBezTo>
                <a:cubicBezTo>
                  <a:pt x="11102" y="9787"/>
                  <a:pt x="11015" y="9687"/>
                  <a:pt x="10889" y="9550"/>
                </a:cubicBezTo>
                <a:cubicBezTo>
                  <a:pt x="10773" y="9424"/>
                  <a:pt x="10629" y="9373"/>
                  <a:pt x="10468" y="9327"/>
                </a:cubicBezTo>
                <a:cubicBezTo>
                  <a:pt x="10258" y="9267"/>
                  <a:pt x="10156" y="9339"/>
                  <a:pt x="9971" y="9376"/>
                </a:cubicBezTo>
                <a:cubicBezTo>
                  <a:pt x="9769" y="9416"/>
                  <a:pt x="9670" y="9482"/>
                  <a:pt x="9500" y="9599"/>
                </a:cubicBezTo>
                <a:cubicBezTo>
                  <a:pt x="9253" y="9770"/>
                  <a:pt x="9113" y="9854"/>
                  <a:pt x="9004" y="10120"/>
                </a:cubicBezTo>
                <a:cubicBezTo>
                  <a:pt x="8955" y="10238"/>
                  <a:pt x="8917" y="10434"/>
                  <a:pt x="8954" y="10567"/>
                </a:cubicBezTo>
                <a:cubicBezTo>
                  <a:pt x="8989" y="10692"/>
                  <a:pt x="9108" y="10872"/>
                  <a:pt x="9203" y="10964"/>
                </a:cubicBezTo>
                <a:cubicBezTo>
                  <a:pt x="9348" y="11105"/>
                  <a:pt x="9561" y="11263"/>
                  <a:pt x="9748" y="11336"/>
                </a:cubicBezTo>
                <a:cubicBezTo>
                  <a:pt x="9923" y="11405"/>
                  <a:pt x="10131" y="11431"/>
                  <a:pt x="10319" y="11435"/>
                </a:cubicBezTo>
                <a:cubicBezTo>
                  <a:pt x="10512" y="11439"/>
                  <a:pt x="10770" y="11412"/>
                  <a:pt x="10939" y="11311"/>
                </a:cubicBezTo>
                <a:cubicBezTo>
                  <a:pt x="11068" y="11235"/>
                  <a:pt x="11174" y="11107"/>
                  <a:pt x="11261" y="10988"/>
                </a:cubicBezTo>
                <a:cubicBezTo>
                  <a:pt x="11332" y="10892"/>
                  <a:pt x="11387" y="10689"/>
                  <a:pt x="11385" y="10567"/>
                </a:cubicBezTo>
                <a:cubicBezTo>
                  <a:pt x="11382" y="10401"/>
                  <a:pt x="11318" y="10265"/>
                  <a:pt x="11261" y="10120"/>
                </a:cubicBezTo>
                <a:cubicBezTo>
                  <a:pt x="11198" y="9958"/>
                  <a:pt x="11123" y="9862"/>
                  <a:pt x="10988" y="9748"/>
                </a:cubicBezTo>
                <a:cubicBezTo>
                  <a:pt x="10862" y="9642"/>
                  <a:pt x="10724" y="9569"/>
                  <a:pt x="10567" y="9525"/>
                </a:cubicBezTo>
                <a:cubicBezTo>
                  <a:pt x="10439" y="9489"/>
                  <a:pt x="10348" y="9462"/>
                  <a:pt x="10220" y="9500"/>
                </a:cubicBezTo>
                <a:cubicBezTo>
                  <a:pt x="10195" y="9508"/>
                  <a:pt x="10170" y="9517"/>
                  <a:pt x="10145" y="9525"/>
                </a:cubicBezTo>
              </a:path>
              <a:path w="2977" h="2134">
                <a:moveTo>
                  <a:pt x="9847" y="9773"/>
                </a:moveTo>
                <a:cubicBezTo>
                  <a:pt x="9814" y="9748"/>
                  <a:pt x="9761" y="9687"/>
                  <a:pt x="9723" y="9674"/>
                </a:cubicBezTo>
                <a:cubicBezTo>
                  <a:pt x="9634" y="9644"/>
                  <a:pt x="9535" y="9571"/>
                  <a:pt x="9451" y="9550"/>
                </a:cubicBezTo>
                <a:cubicBezTo>
                  <a:pt x="9357" y="9527"/>
                  <a:pt x="9292" y="9539"/>
                  <a:pt x="9203" y="9550"/>
                </a:cubicBezTo>
                <a:cubicBezTo>
                  <a:pt x="9074" y="9566"/>
                  <a:pt x="9073" y="9609"/>
                  <a:pt x="8979" y="9674"/>
                </a:cubicBezTo>
                <a:cubicBezTo>
                  <a:pt x="8945" y="9697"/>
                  <a:pt x="8846" y="9769"/>
                  <a:pt x="8830" y="9823"/>
                </a:cubicBezTo>
                <a:cubicBezTo>
                  <a:pt x="8810" y="9891"/>
                  <a:pt x="8789" y="9972"/>
                  <a:pt x="8781" y="10046"/>
                </a:cubicBezTo>
              </a:path>
              <a:path w="2977" h="2134">
                <a:moveTo>
                  <a:pt x="8706" y="9897"/>
                </a:moveTo>
                <a:cubicBezTo>
                  <a:pt x="8698" y="9880"/>
                  <a:pt x="8690" y="9864"/>
                  <a:pt x="8682" y="9847"/>
                </a:cubicBezTo>
                <a:cubicBezTo>
                  <a:pt x="8636" y="9860"/>
                  <a:pt x="8543" y="9883"/>
                  <a:pt x="8508" y="9922"/>
                </a:cubicBezTo>
                <a:cubicBezTo>
                  <a:pt x="8462" y="9974"/>
                  <a:pt x="8412" y="10054"/>
                  <a:pt x="8409" y="10120"/>
                </a:cubicBezTo>
                <a:cubicBezTo>
                  <a:pt x="8409" y="10145"/>
                  <a:pt x="8409" y="10170"/>
                  <a:pt x="8409" y="10195"/>
                </a:cubicBezTo>
                <a:cubicBezTo>
                  <a:pt x="8574" y="10195"/>
                  <a:pt x="8706" y="10178"/>
                  <a:pt x="8855" y="10145"/>
                </a:cubicBezTo>
                <a:cubicBezTo>
                  <a:pt x="8966" y="10120"/>
                  <a:pt x="9088" y="10120"/>
                  <a:pt x="9203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Ink 11"/>
          <p:cNvSpPr/>
          <p:nvPr/>
        </p:nvSpPr>
        <p:spPr>
          <a:xfrm>
            <a:off x="2401920" y="2963880"/>
            <a:ext cx="2616120" cy="600120"/>
          </a:xfrm>
          <a:custGeom>
            <a:avLst/>
            <a:gdLst/>
            <a:ahLst/>
            <a:rect l="l" t="t" r="r" b="b"/>
            <a:pathLst>
              <a:path w="7269" h="1663">
                <a:moveTo>
                  <a:pt x="6672" y="8855"/>
                </a:moveTo>
                <a:cubicBezTo>
                  <a:pt x="6730" y="8786"/>
                  <a:pt x="6773" y="8806"/>
                  <a:pt x="6871" y="8806"/>
                </a:cubicBezTo>
                <a:cubicBezTo>
                  <a:pt x="6969" y="8806"/>
                  <a:pt x="7012" y="8786"/>
                  <a:pt x="7069" y="8855"/>
                </a:cubicBezTo>
              </a:path>
              <a:path w="7269" h="1663">
                <a:moveTo>
                  <a:pt x="6722" y="8954"/>
                </a:moveTo>
                <a:cubicBezTo>
                  <a:pt x="6817" y="9002"/>
                  <a:pt x="6864" y="9004"/>
                  <a:pt x="6970" y="9004"/>
                </a:cubicBezTo>
                <a:cubicBezTo>
                  <a:pt x="7020" y="9004"/>
                  <a:pt x="7036" y="9004"/>
                  <a:pt x="7069" y="9004"/>
                </a:cubicBezTo>
              </a:path>
              <a:path w="7269" h="1663">
                <a:moveTo>
                  <a:pt x="7838" y="8558"/>
                </a:moveTo>
                <a:cubicBezTo>
                  <a:pt x="7883" y="8602"/>
                  <a:pt x="7915" y="8650"/>
                  <a:pt x="7913" y="8632"/>
                </a:cubicBezTo>
                <a:cubicBezTo>
                  <a:pt x="7904" y="8563"/>
                  <a:pt x="7918" y="8493"/>
                  <a:pt x="7888" y="8434"/>
                </a:cubicBezTo>
                <a:cubicBezTo>
                  <a:pt x="7871" y="8400"/>
                  <a:pt x="7815" y="8306"/>
                  <a:pt x="7764" y="8310"/>
                </a:cubicBezTo>
                <a:cubicBezTo>
                  <a:pt x="7684" y="8316"/>
                  <a:pt x="7692" y="8355"/>
                  <a:pt x="7665" y="8409"/>
                </a:cubicBezTo>
                <a:cubicBezTo>
                  <a:pt x="7641" y="8457"/>
                  <a:pt x="7624" y="8533"/>
                  <a:pt x="7615" y="8582"/>
                </a:cubicBezTo>
                <a:cubicBezTo>
                  <a:pt x="7584" y="8746"/>
                  <a:pt x="7616" y="8943"/>
                  <a:pt x="7640" y="9103"/>
                </a:cubicBezTo>
                <a:cubicBezTo>
                  <a:pt x="7645" y="9139"/>
                  <a:pt x="7614" y="9358"/>
                  <a:pt x="7665" y="9376"/>
                </a:cubicBezTo>
                <a:cubicBezTo>
                  <a:pt x="7665" y="9360"/>
                  <a:pt x="7665" y="9343"/>
                  <a:pt x="7665" y="9327"/>
                </a:cubicBezTo>
              </a:path>
              <a:path w="7269" h="1663">
                <a:moveTo>
                  <a:pt x="7516" y="8954"/>
                </a:moveTo>
                <a:cubicBezTo>
                  <a:pt x="7648" y="8954"/>
                  <a:pt x="7781" y="8954"/>
                  <a:pt x="7913" y="8954"/>
                </a:cubicBezTo>
              </a:path>
              <a:path w="7269" h="1663">
                <a:moveTo>
                  <a:pt x="8458" y="8409"/>
                </a:moveTo>
                <a:cubicBezTo>
                  <a:pt x="8421" y="8524"/>
                  <a:pt x="8361" y="8600"/>
                  <a:pt x="8310" y="8706"/>
                </a:cubicBezTo>
                <a:cubicBezTo>
                  <a:pt x="8284" y="8760"/>
                  <a:pt x="8244" y="8874"/>
                  <a:pt x="8235" y="8930"/>
                </a:cubicBezTo>
                <a:cubicBezTo>
                  <a:pt x="8219" y="9023"/>
                  <a:pt x="8220" y="9098"/>
                  <a:pt x="8235" y="9178"/>
                </a:cubicBezTo>
                <a:cubicBezTo>
                  <a:pt x="8250" y="9258"/>
                  <a:pt x="8224" y="9315"/>
                  <a:pt x="8285" y="9376"/>
                </a:cubicBezTo>
                <a:cubicBezTo>
                  <a:pt x="8313" y="9376"/>
                  <a:pt x="8324" y="9378"/>
                  <a:pt x="8334" y="9401"/>
                </a:cubicBezTo>
              </a:path>
              <a:path w="7269" h="1663">
                <a:moveTo>
                  <a:pt x="8830" y="9153"/>
                </a:moveTo>
                <a:cubicBezTo>
                  <a:pt x="8866" y="9225"/>
                  <a:pt x="8831" y="9089"/>
                  <a:pt x="8830" y="9079"/>
                </a:cubicBezTo>
                <a:cubicBezTo>
                  <a:pt x="8819" y="9006"/>
                  <a:pt x="8805" y="8956"/>
                  <a:pt x="8756" y="8880"/>
                </a:cubicBezTo>
                <a:cubicBezTo>
                  <a:pt x="8696" y="8788"/>
                  <a:pt x="8663" y="8906"/>
                  <a:pt x="8632" y="8930"/>
                </a:cubicBezTo>
                <a:cubicBezTo>
                  <a:pt x="8589" y="8963"/>
                  <a:pt x="8582" y="8968"/>
                  <a:pt x="8558" y="9029"/>
                </a:cubicBezTo>
                <a:cubicBezTo>
                  <a:pt x="8528" y="9105"/>
                  <a:pt x="8533" y="9151"/>
                  <a:pt x="8582" y="9227"/>
                </a:cubicBezTo>
                <a:cubicBezTo>
                  <a:pt x="8608" y="9267"/>
                  <a:pt x="8669" y="9350"/>
                  <a:pt x="8731" y="9302"/>
                </a:cubicBezTo>
                <a:cubicBezTo>
                  <a:pt x="8750" y="9288"/>
                  <a:pt x="8824" y="9174"/>
                  <a:pt x="8830" y="9153"/>
                </a:cubicBezTo>
                <a:cubicBezTo>
                  <a:pt x="8840" y="9113"/>
                  <a:pt x="8870" y="9048"/>
                  <a:pt x="8855" y="9004"/>
                </a:cubicBezTo>
                <a:cubicBezTo>
                  <a:pt x="8847" y="8987"/>
                  <a:pt x="8838" y="8971"/>
                  <a:pt x="8830" y="8954"/>
                </a:cubicBezTo>
                <a:cubicBezTo>
                  <a:pt x="8805" y="9031"/>
                  <a:pt x="8806" y="9095"/>
                  <a:pt x="8806" y="9178"/>
                </a:cubicBezTo>
                <a:cubicBezTo>
                  <a:pt x="8806" y="9271"/>
                  <a:pt x="8842" y="9360"/>
                  <a:pt x="8855" y="9451"/>
                </a:cubicBezTo>
                <a:cubicBezTo>
                  <a:pt x="8868" y="9549"/>
                  <a:pt x="8872" y="9693"/>
                  <a:pt x="8830" y="9773"/>
                </a:cubicBezTo>
                <a:cubicBezTo>
                  <a:pt x="8796" y="9839"/>
                  <a:pt x="8778" y="9888"/>
                  <a:pt x="8706" y="9897"/>
                </a:cubicBezTo>
                <a:cubicBezTo>
                  <a:pt x="8609" y="9909"/>
                  <a:pt x="8540" y="9908"/>
                  <a:pt x="8483" y="9847"/>
                </a:cubicBezTo>
                <a:cubicBezTo>
                  <a:pt x="8436" y="9796"/>
                  <a:pt x="8423" y="9761"/>
                  <a:pt x="8409" y="9699"/>
                </a:cubicBezTo>
              </a:path>
              <a:path w="7269" h="1663">
                <a:moveTo>
                  <a:pt x="9153" y="8409"/>
                </a:moveTo>
                <a:cubicBezTo>
                  <a:pt x="9115" y="8457"/>
                  <a:pt x="9100" y="8501"/>
                  <a:pt x="9079" y="8558"/>
                </a:cubicBezTo>
                <a:cubicBezTo>
                  <a:pt x="9047" y="8645"/>
                  <a:pt x="9025" y="8692"/>
                  <a:pt x="9004" y="8781"/>
                </a:cubicBezTo>
                <a:cubicBezTo>
                  <a:pt x="8984" y="8869"/>
                  <a:pt x="8979" y="8938"/>
                  <a:pt x="8979" y="9029"/>
                </a:cubicBezTo>
                <a:cubicBezTo>
                  <a:pt x="8979" y="9109"/>
                  <a:pt x="9003" y="9185"/>
                  <a:pt x="9029" y="9252"/>
                </a:cubicBezTo>
                <a:cubicBezTo>
                  <a:pt x="9056" y="9323"/>
                  <a:pt x="9049" y="9376"/>
                  <a:pt x="9128" y="9376"/>
                </a:cubicBezTo>
              </a:path>
              <a:path w="7269" h="1663">
                <a:moveTo>
                  <a:pt x="9277" y="8706"/>
                </a:moveTo>
                <a:cubicBezTo>
                  <a:pt x="9312" y="8687"/>
                  <a:pt x="9438" y="8624"/>
                  <a:pt x="9475" y="8632"/>
                </a:cubicBezTo>
                <a:cubicBezTo>
                  <a:pt x="9550" y="8647"/>
                  <a:pt x="9589" y="8690"/>
                  <a:pt x="9575" y="8781"/>
                </a:cubicBezTo>
                <a:cubicBezTo>
                  <a:pt x="9566" y="8837"/>
                  <a:pt x="9513" y="8966"/>
                  <a:pt x="9475" y="9004"/>
                </a:cubicBezTo>
                <a:cubicBezTo>
                  <a:pt x="9440" y="9039"/>
                  <a:pt x="9416" y="9114"/>
                  <a:pt x="9376" y="9153"/>
                </a:cubicBezTo>
                <a:cubicBezTo>
                  <a:pt x="9354" y="9174"/>
                  <a:pt x="9301" y="9217"/>
                  <a:pt x="9277" y="9252"/>
                </a:cubicBezTo>
                <a:cubicBezTo>
                  <a:pt x="9269" y="9269"/>
                  <a:pt x="9260" y="9285"/>
                  <a:pt x="9252" y="9302"/>
                </a:cubicBezTo>
                <a:cubicBezTo>
                  <a:pt x="9357" y="9302"/>
                  <a:pt x="9458" y="9310"/>
                  <a:pt x="9550" y="9327"/>
                </a:cubicBezTo>
                <a:cubicBezTo>
                  <a:pt x="9601" y="9327"/>
                  <a:pt x="9618" y="9329"/>
                  <a:pt x="9624" y="9376"/>
                </a:cubicBezTo>
                <a:cubicBezTo>
                  <a:pt x="9690" y="9362"/>
                  <a:pt x="9736" y="9336"/>
                  <a:pt x="9798" y="9302"/>
                </a:cubicBezTo>
              </a:path>
              <a:path w="7269" h="1663">
                <a:moveTo>
                  <a:pt x="9649" y="8434"/>
                </a:moveTo>
                <a:cubicBezTo>
                  <a:pt x="9702" y="8507"/>
                  <a:pt x="9763" y="8577"/>
                  <a:pt x="9798" y="8657"/>
                </a:cubicBezTo>
                <a:cubicBezTo>
                  <a:pt x="9839" y="8751"/>
                  <a:pt x="9906" y="8849"/>
                  <a:pt x="9922" y="8954"/>
                </a:cubicBezTo>
                <a:cubicBezTo>
                  <a:pt x="9937" y="9057"/>
                  <a:pt x="9953" y="9127"/>
                  <a:pt x="9922" y="9227"/>
                </a:cubicBezTo>
                <a:cubicBezTo>
                  <a:pt x="9899" y="9300"/>
                  <a:pt x="9872" y="9338"/>
                  <a:pt x="9823" y="9376"/>
                </a:cubicBezTo>
                <a:cubicBezTo>
                  <a:pt x="9800" y="9399"/>
                  <a:pt x="9792" y="9410"/>
                  <a:pt x="9798" y="9376"/>
                </a:cubicBezTo>
              </a:path>
              <a:path w="7269" h="1663">
                <a:moveTo>
                  <a:pt x="9996" y="8235"/>
                </a:moveTo>
                <a:cubicBezTo>
                  <a:pt x="10032" y="8298"/>
                  <a:pt x="10088" y="8343"/>
                  <a:pt x="10120" y="8409"/>
                </a:cubicBezTo>
                <a:cubicBezTo>
                  <a:pt x="10182" y="8537"/>
                  <a:pt x="10256" y="8666"/>
                  <a:pt x="10294" y="8806"/>
                </a:cubicBezTo>
                <a:cubicBezTo>
                  <a:pt x="10332" y="8948"/>
                  <a:pt x="10334" y="9017"/>
                  <a:pt x="10319" y="9153"/>
                </a:cubicBezTo>
                <a:cubicBezTo>
                  <a:pt x="10310" y="9232"/>
                  <a:pt x="10301" y="9266"/>
                  <a:pt x="10244" y="9327"/>
                </a:cubicBezTo>
                <a:cubicBezTo>
                  <a:pt x="10196" y="9378"/>
                  <a:pt x="10168" y="9400"/>
                  <a:pt x="10120" y="9376"/>
                </a:cubicBezTo>
              </a:path>
              <a:path w="7269" h="1663">
                <a:moveTo>
                  <a:pt x="10616" y="8855"/>
                </a:moveTo>
                <a:cubicBezTo>
                  <a:pt x="10732" y="8855"/>
                  <a:pt x="10894" y="8889"/>
                  <a:pt x="10964" y="8806"/>
                </a:cubicBezTo>
              </a:path>
              <a:path w="7269" h="1663">
                <a:moveTo>
                  <a:pt x="10641" y="9004"/>
                </a:moveTo>
                <a:cubicBezTo>
                  <a:pt x="10757" y="9029"/>
                  <a:pt x="10784" y="9022"/>
                  <a:pt x="10889" y="9004"/>
                </a:cubicBezTo>
                <a:cubicBezTo>
                  <a:pt x="10906" y="9004"/>
                  <a:pt x="10922" y="9004"/>
                  <a:pt x="10939" y="9004"/>
                </a:cubicBezTo>
              </a:path>
              <a:path w="7269" h="1663">
                <a:moveTo>
                  <a:pt x="11956" y="8409"/>
                </a:moveTo>
                <a:cubicBezTo>
                  <a:pt x="11934" y="8446"/>
                  <a:pt x="11928" y="8471"/>
                  <a:pt x="11906" y="8508"/>
                </a:cubicBezTo>
                <a:cubicBezTo>
                  <a:pt x="11894" y="8415"/>
                  <a:pt x="11901" y="8417"/>
                  <a:pt x="11857" y="8334"/>
                </a:cubicBezTo>
                <a:cubicBezTo>
                  <a:pt x="11822" y="8269"/>
                  <a:pt x="11766" y="8262"/>
                  <a:pt x="11708" y="8285"/>
                </a:cubicBezTo>
                <a:cubicBezTo>
                  <a:pt x="11659" y="8304"/>
                  <a:pt x="11594" y="8352"/>
                  <a:pt x="11584" y="8409"/>
                </a:cubicBezTo>
                <a:cubicBezTo>
                  <a:pt x="11569" y="8492"/>
                  <a:pt x="11562" y="8572"/>
                  <a:pt x="11559" y="8657"/>
                </a:cubicBezTo>
                <a:cubicBezTo>
                  <a:pt x="11551" y="8875"/>
                  <a:pt x="11558" y="9089"/>
                  <a:pt x="11534" y="9302"/>
                </a:cubicBezTo>
                <a:cubicBezTo>
                  <a:pt x="11525" y="9378"/>
                  <a:pt x="11556" y="9448"/>
                  <a:pt x="11559" y="9525"/>
                </a:cubicBezTo>
                <a:cubicBezTo>
                  <a:pt x="11559" y="9607"/>
                  <a:pt x="11559" y="9624"/>
                  <a:pt x="11559" y="9500"/>
                </a:cubicBezTo>
              </a:path>
              <a:path w="7269" h="1663">
                <a:moveTo>
                  <a:pt x="11286" y="9004"/>
                </a:moveTo>
                <a:cubicBezTo>
                  <a:pt x="11294" y="8979"/>
                  <a:pt x="11303" y="8955"/>
                  <a:pt x="11311" y="8930"/>
                </a:cubicBezTo>
                <a:cubicBezTo>
                  <a:pt x="11418" y="8964"/>
                  <a:pt x="11519" y="8998"/>
                  <a:pt x="11633" y="9004"/>
                </a:cubicBezTo>
                <a:cubicBezTo>
                  <a:pt x="11731" y="9009"/>
                  <a:pt x="11832" y="9004"/>
                  <a:pt x="11931" y="9004"/>
                </a:cubicBezTo>
              </a:path>
              <a:path w="7269" h="1663">
                <a:moveTo>
                  <a:pt x="12750" y="8285"/>
                </a:moveTo>
                <a:cubicBezTo>
                  <a:pt x="12668" y="8305"/>
                  <a:pt x="12594" y="8349"/>
                  <a:pt x="12551" y="8434"/>
                </a:cubicBezTo>
                <a:cubicBezTo>
                  <a:pt x="12482" y="8569"/>
                  <a:pt x="12415" y="8735"/>
                  <a:pt x="12378" y="8880"/>
                </a:cubicBezTo>
                <a:cubicBezTo>
                  <a:pt x="12344" y="9015"/>
                  <a:pt x="12351" y="9120"/>
                  <a:pt x="12378" y="9252"/>
                </a:cubicBezTo>
                <a:cubicBezTo>
                  <a:pt x="12405" y="9380"/>
                  <a:pt x="12436" y="9515"/>
                  <a:pt x="12551" y="9599"/>
                </a:cubicBezTo>
                <a:cubicBezTo>
                  <a:pt x="12629" y="9625"/>
                  <a:pt x="12657" y="9635"/>
                  <a:pt x="12700" y="9674"/>
                </a:cubicBezTo>
              </a:path>
              <a:path w="7269" h="1663">
                <a:moveTo>
                  <a:pt x="13345" y="8632"/>
                </a:moveTo>
                <a:cubicBezTo>
                  <a:pt x="13274" y="8662"/>
                  <a:pt x="13269" y="8707"/>
                  <a:pt x="13221" y="8781"/>
                </a:cubicBezTo>
                <a:cubicBezTo>
                  <a:pt x="13154" y="8886"/>
                  <a:pt x="13160" y="8972"/>
                  <a:pt x="13122" y="9079"/>
                </a:cubicBezTo>
                <a:cubicBezTo>
                  <a:pt x="13102" y="9134"/>
                  <a:pt x="13110" y="9236"/>
                  <a:pt x="13146" y="9302"/>
                </a:cubicBezTo>
                <a:cubicBezTo>
                  <a:pt x="13184" y="9373"/>
                  <a:pt x="13246" y="9443"/>
                  <a:pt x="13320" y="9475"/>
                </a:cubicBezTo>
                <a:cubicBezTo>
                  <a:pt x="13407" y="9513"/>
                  <a:pt x="13522" y="9547"/>
                  <a:pt x="13618" y="9525"/>
                </a:cubicBezTo>
                <a:cubicBezTo>
                  <a:pt x="13726" y="9500"/>
                  <a:pt x="13773" y="9451"/>
                  <a:pt x="13841" y="9376"/>
                </a:cubicBezTo>
                <a:cubicBezTo>
                  <a:pt x="13936" y="9272"/>
                  <a:pt x="13962" y="9172"/>
                  <a:pt x="13940" y="9029"/>
                </a:cubicBezTo>
                <a:cubicBezTo>
                  <a:pt x="13926" y="8935"/>
                  <a:pt x="13850" y="8798"/>
                  <a:pt x="13791" y="8731"/>
                </a:cubicBezTo>
                <a:cubicBezTo>
                  <a:pt x="13725" y="8656"/>
                  <a:pt x="13623" y="8568"/>
                  <a:pt x="13543" y="8508"/>
                </a:cubicBezTo>
                <a:cubicBezTo>
                  <a:pt x="13492" y="8470"/>
                  <a:pt x="13430" y="8483"/>
                  <a:pt x="13370" y="8483"/>
                </a:cubicBezTo>
                <a:cubicBezTo>
                  <a:pt x="13296" y="8483"/>
                  <a:pt x="13282" y="8569"/>
                  <a:pt x="13246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2"/>
          <p:cNvSpPr/>
          <p:nvPr/>
        </p:nvSpPr>
        <p:spPr>
          <a:xfrm>
            <a:off x="5402160" y="2911320"/>
            <a:ext cx="928800" cy="677880"/>
          </a:xfrm>
          <a:custGeom>
            <a:avLst/>
            <a:gdLst/>
            <a:ahLst/>
            <a:rect l="l" t="t" r="r" b="b"/>
            <a:pathLst>
              <a:path w="2581" h="1886">
                <a:moveTo>
                  <a:pt x="15007" y="8334"/>
                </a:moveTo>
                <a:cubicBezTo>
                  <a:pt x="15077" y="8441"/>
                  <a:pt x="15141" y="8547"/>
                  <a:pt x="15205" y="8657"/>
                </a:cubicBezTo>
                <a:cubicBezTo>
                  <a:pt x="15297" y="8817"/>
                  <a:pt x="15373" y="8976"/>
                  <a:pt x="15429" y="9153"/>
                </a:cubicBezTo>
                <a:cubicBezTo>
                  <a:pt x="15464" y="9266"/>
                  <a:pt x="15472" y="9431"/>
                  <a:pt x="15453" y="9550"/>
                </a:cubicBezTo>
                <a:cubicBezTo>
                  <a:pt x="15439" y="9637"/>
                  <a:pt x="15345" y="9766"/>
                  <a:pt x="15280" y="9823"/>
                </a:cubicBezTo>
                <a:cubicBezTo>
                  <a:pt x="15207" y="9888"/>
                  <a:pt x="15091" y="9922"/>
                  <a:pt x="15007" y="9971"/>
                </a:cubicBezTo>
              </a:path>
              <a:path w="2581" h="1886">
                <a:moveTo>
                  <a:pt x="15801" y="8930"/>
                </a:moveTo>
                <a:cubicBezTo>
                  <a:pt x="15885" y="8801"/>
                  <a:pt x="15889" y="8915"/>
                  <a:pt x="15999" y="8855"/>
                </a:cubicBezTo>
                <a:cubicBezTo>
                  <a:pt x="16121" y="8789"/>
                  <a:pt x="16070" y="8844"/>
                  <a:pt x="16197" y="8855"/>
                </a:cubicBezTo>
                <a:cubicBezTo>
                  <a:pt x="16222" y="8855"/>
                  <a:pt x="16247" y="8855"/>
                  <a:pt x="16272" y="8855"/>
                </a:cubicBezTo>
              </a:path>
              <a:path w="2581" h="1886">
                <a:moveTo>
                  <a:pt x="15850" y="9252"/>
                </a:moveTo>
                <a:cubicBezTo>
                  <a:pt x="15949" y="9306"/>
                  <a:pt x="16028" y="9302"/>
                  <a:pt x="16148" y="9302"/>
                </a:cubicBezTo>
                <a:cubicBezTo>
                  <a:pt x="16259" y="9302"/>
                  <a:pt x="16430" y="9272"/>
                  <a:pt x="16520" y="9327"/>
                </a:cubicBezTo>
              </a:path>
              <a:path w="2581" h="1886">
                <a:moveTo>
                  <a:pt x="16669" y="8136"/>
                </a:moveTo>
                <a:cubicBezTo>
                  <a:pt x="16757" y="8106"/>
                  <a:pt x="16824" y="8086"/>
                  <a:pt x="16917" y="8086"/>
                </a:cubicBezTo>
                <a:cubicBezTo>
                  <a:pt x="17002" y="8086"/>
                  <a:pt x="17062" y="8098"/>
                  <a:pt x="17140" y="8111"/>
                </a:cubicBezTo>
                <a:cubicBezTo>
                  <a:pt x="17195" y="8120"/>
                  <a:pt x="17245" y="8126"/>
                  <a:pt x="17289" y="8161"/>
                </a:cubicBezTo>
                <a:cubicBezTo>
                  <a:pt x="17332" y="8195"/>
                  <a:pt x="17372" y="8278"/>
                  <a:pt x="17338" y="8334"/>
                </a:cubicBezTo>
                <a:cubicBezTo>
                  <a:pt x="17319" y="8364"/>
                  <a:pt x="17226" y="8458"/>
                  <a:pt x="17190" y="8483"/>
                </a:cubicBezTo>
                <a:cubicBezTo>
                  <a:pt x="17125" y="8529"/>
                  <a:pt x="17072" y="8587"/>
                  <a:pt x="17016" y="8632"/>
                </a:cubicBezTo>
                <a:cubicBezTo>
                  <a:pt x="16978" y="8663"/>
                  <a:pt x="16976" y="8646"/>
                  <a:pt x="16942" y="8706"/>
                </a:cubicBezTo>
                <a:cubicBezTo>
                  <a:pt x="17017" y="8650"/>
                  <a:pt x="17044" y="8657"/>
                  <a:pt x="17140" y="8657"/>
                </a:cubicBezTo>
                <a:cubicBezTo>
                  <a:pt x="17218" y="8657"/>
                  <a:pt x="17284" y="8689"/>
                  <a:pt x="17363" y="8706"/>
                </a:cubicBezTo>
                <a:cubicBezTo>
                  <a:pt x="17455" y="8726"/>
                  <a:pt x="17466" y="8784"/>
                  <a:pt x="17512" y="8855"/>
                </a:cubicBezTo>
                <a:cubicBezTo>
                  <a:pt x="17546" y="8908"/>
                  <a:pt x="17601" y="8985"/>
                  <a:pt x="17587" y="9079"/>
                </a:cubicBezTo>
                <a:cubicBezTo>
                  <a:pt x="17578" y="9138"/>
                  <a:pt x="17531" y="9198"/>
                  <a:pt x="17512" y="9227"/>
                </a:cubicBezTo>
                <a:cubicBezTo>
                  <a:pt x="17438" y="9340"/>
                  <a:pt x="17408" y="9270"/>
                  <a:pt x="17314" y="9327"/>
                </a:cubicBezTo>
                <a:cubicBezTo>
                  <a:pt x="17233" y="9376"/>
                  <a:pt x="17214" y="9376"/>
                  <a:pt x="17115" y="9376"/>
                </a:cubicBezTo>
                <a:cubicBezTo>
                  <a:pt x="17049" y="9376"/>
                  <a:pt x="16996" y="9434"/>
                  <a:pt x="16966" y="9376"/>
                </a:cubicBezTo>
                <a:cubicBezTo>
                  <a:pt x="16966" y="9360"/>
                  <a:pt x="16966" y="9343"/>
                  <a:pt x="16966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3"/>
          <p:cNvSpPr/>
          <p:nvPr/>
        </p:nvSpPr>
        <p:spPr>
          <a:xfrm>
            <a:off x="2608200" y="3456000"/>
            <a:ext cx="3338640" cy="884160"/>
          </a:xfrm>
          <a:custGeom>
            <a:avLst/>
            <a:gdLst/>
            <a:ahLst/>
            <a:rect l="l" t="t" r="r" b="b"/>
            <a:pathLst>
              <a:path w="9278" h="2457">
                <a:moveTo>
                  <a:pt x="7243" y="10418"/>
                </a:moveTo>
                <a:cubicBezTo>
                  <a:pt x="7342" y="10418"/>
                  <a:pt x="7442" y="10418"/>
                  <a:pt x="7541" y="10418"/>
                </a:cubicBezTo>
              </a:path>
              <a:path w="9278" h="2457">
                <a:moveTo>
                  <a:pt x="7293" y="10641"/>
                </a:moveTo>
                <a:cubicBezTo>
                  <a:pt x="7393" y="10641"/>
                  <a:pt x="7400" y="10610"/>
                  <a:pt x="7491" y="10592"/>
                </a:cubicBezTo>
              </a:path>
              <a:path w="9278" h="2457">
                <a:moveTo>
                  <a:pt x="8359" y="10418"/>
                </a:moveTo>
                <a:cubicBezTo>
                  <a:pt x="8400" y="10418"/>
                  <a:pt x="8409" y="10434"/>
                  <a:pt x="8384" y="10492"/>
                </a:cubicBezTo>
                <a:cubicBezTo>
                  <a:pt x="8358" y="10427"/>
                  <a:pt x="8346" y="10356"/>
                  <a:pt x="8310" y="10294"/>
                </a:cubicBezTo>
                <a:cubicBezTo>
                  <a:pt x="8278" y="10239"/>
                  <a:pt x="8236" y="10178"/>
                  <a:pt x="8161" y="10195"/>
                </a:cubicBezTo>
                <a:cubicBezTo>
                  <a:pt x="8143" y="10199"/>
                  <a:pt x="8027" y="10277"/>
                  <a:pt x="8012" y="10294"/>
                </a:cubicBezTo>
                <a:cubicBezTo>
                  <a:pt x="7948" y="10367"/>
                  <a:pt x="7934" y="10420"/>
                  <a:pt x="7913" y="10492"/>
                </a:cubicBezTo>
                <a:cubicBezTo>
                  <a:pt x="7896" y="10548"/>
                  <a:pt x="7869" y="10620"/>
                  <a:pt x="7888" y="10691"/>
                </a:cubicBezTo>
                <a:cubicBezTo>
                  <a:pt x="7911" y="10776"/>
                  <a:pt x="7953" y="10811"/>
                  <a:pt x="8037" y="10815"/>
                </a:cubicBezTo>
                <a:cubicBezTo>
                  <a:pt x="8106" y="10818"/>
                  <a:pt x="8178" y="10784"/>
                  <a:pt x="8235" y="10740"/>
                </a:cubicBezTo>
                <a:cubicBezTo>
                  <a:pt x="8295" y="10694"/>
                  <a:pt x="8310" y="10636"/>
                  <a:pt x="8334" y="10567"/>
                </a:cubicBezTo>
                <a:cubicBezTo>
                  <a:pt x="8364" y="10478"/>
                  <a:pt x="8384" y="10200"/>
                  <a:pt x="8384" y="10294"/>
                </a:cubicBezTo>
                <a:cubicBezTo>
                  <a:pt x="8384" y="10382"/>
                  <a:pt x="8389" y="10484"/>
                  <a:pt x="8409" y="10567"/>
                </a:cubicBezTo>
                <a:cubicBezTo>
                  <a:pt x="8430" y="10652"/>
                  <a:pt x="8441" y="10748"/>
                  <a:pt x="8458" y="10840"/>
                </a:cubicBezTo>
                <a:cubicBezTo>
                  <a:pt x="8478" y="10947"/>
                  <a:pt x="8505" y="11051"/>
                  <a:pt x="8508" y="11162"/>
                </a:cubicBezTo>
                <a:cubicBezTo>
                  <a:pt x="8512" y="11298"/>
                  <a:pt x="8496" y="11404"/>
                  <a:pt x="8458" y="11534"/>
                </a:cubicBezTo>
                <a:cubicBezTo>
                  <a:pt x="8420" y="11662"/>
                  <a:pt x="8394" y="11799"/>
                  <a:pt x="8310" y="11906"/>
                </a:cubicBezTo>
                <a:cubicBezTo>
                  <a:pt x="8271" y="11956"/>
                  <a:pt x="8222" y="12031"/>
                  <a:pt x="8161" y="12055"/>
                </a:cubicBezTo>
                <a:cubicBezTo>
                  <a:pt x="8098" y="12055"/>
                  <a:pt x="8074" y="12044"/>
                  <a:pt x="8062" y="11981"/>
                </a:cubicBezTo>
              </a:path>
              <a:path w="9278" h="2457">
                <a:moveTo>
                  <a:pt x="9252" y="9897"/>
                </a:moveTo>
                <a:cubicBezTo>
                  <a:pt x="9288" y="9915"/>
                  <a:pt x="9230" y="9950"/>
                  <a:pt x="9203" y="9996"/>
                </a:cubicBezTo>
                <a:cubicBezTo>
                  <a:pt x="9162" y="10066"/>
                  <a:pt x="9103" y="10159"/>
                  <a:pt x="9079" y="10195"/>
                </a:cubicBezTo>
                <a:cubicBezTo>
                  <a:pt x="9020" y="10283"/>
                  <a:pt x="8987" y="10415"/>
                  <a:pt x="8954" y="10517"/>
                </a:cubicBezTo>
                <a:cubicBezTo>
                  <a:pt x="8923" y="10611"/>
                  <a:pt x="8905" y="10692"/>
                  <a:pt x="8905" y="10790"/>
                </a:cubicBezTo>
                <a:cubicBezTo>
                  <a:pt x="8905" y="10871"/>
                  <a:pt x="8914" y="10897"/>
                  <a:pt x="8954" y="10964"/>
                </a:cubicBezTo>
                <a:cubicBezTo>
                  <a:pt x="8979" y="11006"/>
                  <a:pt x="9037" y="11089"/>
                  <a:pt x="9103" y="11038"/>
                </a:cubicBezTo>
                <a:cubicBezTo>
                  <a:pt x="9111" y="11021"/>
                  <a:pt x="9120" y="11005"/>
                  <a:pt x="9128" y="10988"/>
                </a:cubicBezTo>
              </a:path>
              <a:path w="9278" h="2457">
                <a:moveTo>
                  <a:pt x="9773" y="9996"/>
                </a:moveTo>
                <a:cubicBezTo>
                  <a:pt x="9773" y="10054"/>
                  <a:pt x="9773" y="10079"/>
                  <a:pt x="9773" y="10120"/>
                </a:cubicBezTo>
                <a:cubicBezTo>
                  <a:pt x="9751" y="10082"/>
                  <a:pt x="9729" y="9990"/>
                  <a:pt x="9699" y="9971"/>
                </a:cubicBezTo>
                <a:cubicBezTo>
                  <a:pt x="9609" y="9914"/>
                  <a:pt x="9653" y="9924"/>
                  <a:pt x="9550" y="9971"/>
                </a:cubicBezTo>
                <a:cubicBezTo>
                  <a:pt x="9531" y="9979"/>
                  <a:pt x="9487" y="10078"/>
                  <a:pt x="9475" y="10120"/>
                </a:cubicBezTo>
                <a:cubicBezTo>
                  <a:pt x="9458" y="10179"/>
                  <a:pt x="9451" y="10229"/>
                  <a:pt x="9451" y="10294"/>
                </a:cubicBezTo>
                <a:cubicBezTo>
                  <a:pt x="9451" y="10385"/>
                  <a:pt x="9426" y="10472"/>
                  <a:pt x="9426" y="10567"/>
                </a:cubicBezTo>
                <a:cubicBezTo>
                  <a:pt x="9426" y="10672"/>
                  <a:pt x="9418" y="10774"/>
                  <a:pt x="9401" y="10864"/>
                </a:cubicBezTo>
                <a:cubicBezTo>
                  <a:pt x="9401" y="10906"/>
                  <a:pt x="9401" y="10931"/>
                  <a:pt x="9401" y="10889"/>
                </a:cubicBezTo>
              </a:path>
              <a:path w="9278" h="2457">
                <a:moveTo>
                  <a:pt x="9351" y="10492"/>
                </a:moveTo>
                <a:cubicBezTo>
                  <a:pt x="9441" y="10533"/>
                  <a:pt x="9475" y="10567"/>
                  <a:pt x="9575" y="10567"/>
                </a:cubicBezTo>
                <a:cubicBezTo>
                  <a:pt x="9648" y="10567"/>
                  <a:pt x="9672" y="10568"/>
                  <a:pt x="9699" y="10517"/>
                </a:cubicBezTo>
              </a:path>
              <a:path w="9278" h="2457">
                <a:moveTo>
                  <a:pt x="10220" y="9897"/>
                </a:moveTo>
                <a:cubicBezTo>
                  <a:pt x="10171" y="10043"/>
                  <a:pt x="10113" y="10177"/>
                  <a:pt x="10046" y="10294"/>
                </a:cubicBezTo>
                <a:cubicBezTo>
                  <a:pt x="9976" y="10415"/>
                  <a:pt x="9994" y="10561"/>
                  <a:pt x="9971" y="10691"/>
                </a:cubicBezTo>
                <a:cubicBezTo>
                  <a:pt x="9957" y="10772"/>
                  <a:pt x="9930" y="10853"/>
                  <a:pt x="9947" y="10939"/>
                </a:cubicBezTo>
                <a:cubicBezTo>
                  <a:pt x="9966" y="11031"/>
                  <a:pt x="9986" y="11076"/>
                  <a:pt x="10071" y="11088"/>
                </a:cubicBezTo>
              </a:path>
              <a:path w="9278" h="2457">
                <a:moveTo>
                  <a:pt x="10244" y="10418"/>
                </a:moveTo>
                <a:cubicBezTo>
                  <a:pt x="10314" y="10444"/>
                  <a:pt x="10367" y="10443"/>
                  <a:pt x="10443" y="10443"/>
                </a:cubicBezTo>
                <a:cubicBezTo>
                  <a:pt x="10451" y="10443"/>
                  <a:pt x="10460" y="10443"/>
                  <a:pt x="10468" y="10443"/>
                </a:cubicBezTo>
              </a:path>
              <a:path w="9278" h="2457">
                <a:moveTo>
                  <a:pt x="10740" y="10120"/>
                </a:moveTo>
                <a:cubicBezTo>
                  <a:pt x="10832" y="10071"/>
                  <a:pt x="10879" y="10104"/>
                  <a:pt x="10964" y="10071"/>
                </a:cubicBezTo>
                <a:cubicBezTo>
                  <a:pt x="10992" y="10042"/>
                  <a:pt x="11005" y="10034"/>
                  <a:pt x="11038" y="10046"/>
                </a:cubicBezTo>
              </a:path>
              <a:path w="9278" h="2457">
                <a:moveTo>
                  <a:pt x="10864" y="10046"/>
                </a:moveTo>
                <a:cubicBezTo>
                  <a:pt x="10786" y="10102"/>
                  <a:pt x="10799" y="10135"/>
                  <a:pt x="10740" y="10195"/>
                </a:cubicBezTo>
                <a:cubicBezTo>
                  <a:pt x="10685" y="10252"/>
                  <a:pt x="10704" y="10286"/>
                  <a:pt x="10666" y="10344"/>
                </a:cubicBezTo>
                <a:cubicBezTo>
                  <a:pt x="10636" y="10389"/>
                  <a:pt x="10636" y="10424"/>
                  <a:pt x="10666" y="10492"/>
                </a:cubicBezTo>
                <a:cubicBezTo>
                  <a:pt x="10707" y="10451"/>
                  <a:pt x="10752" y="10397"/>
                  <a:pt x="10790" y="10368"/>
                </a:cubicBezTo>
                <a:cubicBezTo>
                  <a:pt x="10839" y="10330"/>
                  <a:pt x="10907" y="10344"/>
                  <a:pt x="10964" y="10344"/>
                </a:cubicBezTo>
                <a:cubicBezTo>
                  <a:pt x="11045" y="10344"/>
                  <a:pt x="11077" y="10420"/>
                  <a:pt x="11088" y="10492"/>
                </a:cubicBezTo>
                <a:cubicBezTo>
                  <a:pt x="11101" y="10578"/>
                  <a:pt x="11029" y="10724"/>
                  <a:pt x="10988" y="10790"/>
                </a:cubicBezTo>
                <a:cubicBezTo>
                  <a:pt x="10962" y="10831"/>
                  <a:pt x="10836" y="10926"/>
                  <a:pt x="10790" y="10939"/>
                </a:cubicBezTo>
                <a:cubicBezTo>
                  <a:pt x="10748" y="10939"/>
                  <a:pt x="10732" y="10947"/>
                  <a:pt x="10740" y="10914"/>
                </a:cubicBezTo>
              </a:path>
              <a:path w="9278" h="2457">
                <a:moveTo>
                  <a:pt x="11038" y="9748"/>
                </a:moveTo>
                <a:cubicBezTo>
                  <a:pt x="11091" y="9771"/>
                  <a:pt x="11155" y="9827"/>
                  <a:pt x="11187" y="9897"/>
                </a:cubicBezTo>
                <a:cubicBezTo>
                  <a:pt x="11224" y="9977"/>
                  <a:pt x="11257" y="10063"/>
                  <a:pt x="11286" y="10145"/>
                </a:cubicBezTo>
                <a:cubicBezTo>
                  <a:pt x="11349" y="10319"/>
                  <a:pt x="11328" y="10462"/>
                  <a:pt x="11261" y="10641"/>
                </a:cubicBezTo>
                <a:cubicBezTo>
                  <a:pt x="11221" y="10748"/>
                  <a:pt x="11137" y="10877"/>
                  <a:pt x="11063" y="10964"/>
                </a:cubicBezTo>
                <a:cubicBezTo>
                  <a:pt x="11027" y="11006"/>
                  <a:pt x="11013" y="11013"/>
                  <a:pt x="10964" y="11038"/>
                </a:cubicBezTo>
              </a:path>
              <a:path w="9278" h="2457">
                <a:moveTo>
                  <a:pt x="11460" y="9599"/>
                </a:moveTo>
                <a:cubicBezTo>
                  <a:pt x="11485" y="9659"/>
                  <a:pt x="11543" y="9711"/>
                  <a:pt x="11559" y="9773"/>
                </a:cubicBezTo>
                <a:cubicBezTo>
                  <a:pt x="11581" y="9861"/>
                  <a:pt x="11590" y="9958"/>
                  <a:pt x="11609" y="10046"/>
                </a:cubicBezTo>
                <a:cubicBezTo>
                  <a:pt x="11636" y="10173"/>
                  <a:pt x="11647" y="10217"/>
                  <a:pt x="11633" y="10344"/>
                </a:cubicBezTo>
                <a:cubicBezTo>
                  <a:pt x="11621" y="10453"/>
                  <a:pt x="11562" y="10588"/>
                  <a:pt x="11509" y="10691"/>
                </a:cubicBezTo>
                <a:cubicBezTo>
                  <a:pt x="11466" y="10775"/>
                  <a:pt x="11396" y="10868"/>
                  <a:pt x="11336" y="10939"/>
                </a:cubicBezTo>
                <a:cubicBezTo>
                  <a:pt x="11294" y="10980"/>
                  <a:pt x="11286" y="10988"/>
                  <a:pt x="11261" y="11013"/>
                </a:cubicBezTo>
              </a:path>
              <a:path w="9278" h="2457">
                <a:moveTo>
                  <a:pt x="11807" y="10368"/>
                </a:moveTo>
                <a:cubicBezTo>
                  <a:pt x="11870" y="10379"/>
                  <a:pt x="11950" y="10390"/>
                  <a:pt x="12005" y="10418"/>
                </a:cubicBezTo>
                <a:cubicBezTo>
                  <a:pt x="12038" y="10451"/>
                  <a:pt x="12055" y="10468"/>
                  <a:pt x="12080" y="10492"/>
                </a:cubicBezTo>
              </a:path>
              <a:path w="9278" h="2457">
                <a:moveTo>
                  <a:pt x="11857" y="10641"/>
                </a:moveTo>
                <a:cubicBezTo>
                  <a:pt x="11968" y="10641"/>
                  <a:pt x="11969" y="10602"/>
                  <a:pt x="12055" y="10592"/>
                </a:cubicBezTo>
                <a:cubicBezTo>
                  <a:pt x="12111" y="10585"/>
                  <a:pt x="12172" y="10592"/>
                  <a:pt x="12229" y="10592"/>
                </a:cubicBezTo>
              </a:path>
              <a:path w="9278" h="2457">
                <a:moveTo>
                  <a:pt x="13171" y="10195"/>
                </a:moveTo>
                <a:cubicBezTo>
                  <a:pt x="13171" y="10276"/>
                  <a:pt x="13155" y="10343"/>
                  <a:pt x="13146" y="10418"/>
                </a:cubicBezTo>
                <a:cubicBezTo>
                  <a:pt x="13146" y="10494"/>
                  <a:pt x="13146" y="10520"/>
                  <a:pt x="13122" y="10567"/>
                </a:cubicBezTo>
                <a:cubicBezTo>
                  <a:pt x="13112" y="10508"/>
                  <a:pt x="13102" y="10423"/>
                  <a:pt x="13047" y="10368"/>
                </a:cubicBezTo>
                <a:cubicBezTo>
                  <a:pt x="13004" y="10325"/>
                  <a:pt x="12965" y="10286"/>
                  <a:pt x="12898" y="10269"/>
                </a:cubicBezTo>
                <a:cubicBezTo>
                  <a:pt x="12839" y="10254"/>
                  <a:pt x="12729" y="10307"/>
                  <a:pt x="12700" y="10344"/>
                </a:cubicBezTo>
                <a:cubicBezTo>
                  <a:pt x="12636" y="10427"/>
                  <a:pt x="12669" y="10519"/>
                  <a:pt x="12675" y="10592"/>
                </a:cubicBezTo>
                <a:cubicBezTo>
                  <a:pt x="12682" y="10679"/>
                  <a:pt x="12673" y="10762"/>
                  <a:pt x="12725" y="10840"/>
                </a:cubicBezTo>
                <a:cubicBezTo>
                  <a:pt x="12753" y="10882"/>
                  <a:pt x="12797" y="10923"/>
                  <a:pt x="12849" y="10914"/>
                </a:cubicBezTo>
                <a:cubicBezTo>
                  <a:pt x="12907" y="10904"/>
                  <a:pt x="12947" y="10811"/>
                  <a:pt x="12973" y="10765"/>
                </a:cubicBezTo>
                <a:cubicBezTo>
                  <a:pt x="12999" y="10720"/>
                  <a:pt x="13037" y="10614"/>
                  <a:pt x="13047" y="10567"/>
                </a:cubicBezTo>
                <a:cubicBezTo>
                  <a:pt x="13064" y="10488"/>
                  <a:pt x="13070" y="10424"/>
                  <a:pt x="13097" y="10344"/>
                </a:cubicBezTo>
                <a:cubicBezTo>
                  <a:pt x="13130" y="10410"/>
                  <a:pt x="13128" y="10444"/>
                  <a:pt x="13146" y="10517"/>
                </a:cubicBezTo>
                <a:cubicBezTo>
                  <a:pt x="13170" y="10614"/>
                  <a:pt x="13192" y="10711"/>
                  <a:pt x="13196" y="10815"/>
                </a:cubicBezTo>
                <a:cubicBezTo>
                  <a:pt x="13201" y="10946"/>
                  <a:pt x="13241" y="11080"/>
                  <a:pt x="13221" y="11212"/>
                </a:cubicBezTo>
                <a:cubicBezTo>
                  <a:pt x="13203" y="11330"/>
                  <a:pt x="13198" y="11473"/>
                  <a:pt x="13146" y="11584"/>
                </a:cubicBezTo>
                <a:cubicBezTo>
                  <a:pt x="13100" y="11683"/>
                  <a:pt x="13049" y="11778"/>
                  <a:pt x="12973" y="11857"/>
                </a:cubicBezTo>
                <a:cubicBezTo>
                  <a:pt x="12923" y="11909"/>
                  <a:pt x="12853" y="12018"/>
                  <a:pt x="12774" y="12005"/>
                </a:cubicBezTo>
                <a:cubicBezTo>
                  <a:pt x="12758" y="11997"/>
                  <a:pt x="12741" y="11989"/>
                  <a:pt x="12725" y="11981"/>
                </a:cubicBezTo>
              </a:path>
              <a:path w="9278" h="2457">
                <a:moveTo>
                  <a:pt x="13742" y="9748"/>
                </a:moveTo>
                <a:cubicBezTo>
                  <a:pt x="13735" y="9770"/>
                  <a:pt x="13688" y="9873"/>
                  <a:pt x="13667" y="9922"/>
                </a:cubicBezTo>
                <a:cubicBezTo>
                  <a:pt x="13606" y="10066"/>
                  <a:pt x="13582" y="10222"/>
                  <a:pt x="13543" y="10368"/>
                </a:cubicBezTo>
                <a:cubicBezTo>
                  <a:pt x="13521" y="10451"/>
                  <a:pt x="13483" y="10551"/>
                  <a:pt x="13494" y="10641"/>
                </a:cubicBezTo>
                <a:cubicBezTo>
                  <a:pt x="13508" y="10748"/>
                  <a:pt x="13528" y="10861"/>
                  <a:pt x="13543" y="10964"/>
                </a:cubicBezTo>
                <a:cubicBezTo>
                  <a:pt x="13552" y="11026"/>
                  <a:pt x="13582" y="11073"/>
                  <a:pt x="13593" y="11137"/>
                </a:cubicBezTo>
                <a:cubicBezTo>
                  <a:pt x="13608" y="11228"/>
                  <a:pt x="13636" y="11092"/>
                  <a:pt x="13667" y="11038"/>
                </a:cubicBezTo>
              </a:path>
              <a:path w="9278" h="2457">
                <a:moveTo>
                  <a:pt x="13940" y="10443"/>
                </a:moveTo>
                <a:cubicBezTo>
                  <a:pt x="14051" y="10516"/>
                  <a:pt x="14059" y="10493"/>
                  <a:pt x="14163" y="10443"/>
                </a:cubicBezTo>
                <a:cubicBezTo>
                  <a:pt x="14242" y="10405"/>
                  <a:pt x="14327" y="10418"/>
                  <a:pt x="14412" y="10418"/>
                </a:cubicBezTo>
              </a:path>
              <a:path w="9278" h="2457">
                <a:moveTo>
                  <a:pt x="14436" y="10120"/>
                </a:moveTo>
                <a:cubicBezTo>
                  <a:pt x="14457" y="10090"/>
                  <a:pt x="14532" y="10008"/>
                  <a:pt x="14560" y="9996"/>
                </a:cubicBezTo>
                <a:cubicBezTo>
                  <a:pt x="14624" y="9968"/>
                  <a:pt x="14713" y="9971"/>
                  <a:pt x="14784" y="9971"/>
                </a:cubicBezTo>
                <a:cubicBezTo>
                  <a:pt x="14834" y="9971"/>
                  <a:pt x="14994" y="10014"/>
                  <a:pt x="15007" y="10071"/>
                </a:cubicBezTo>
                <a:cubicBezTo>
                  <a:pt x="15034" y="10189"/>
                  <a:pt x="14988" y="10277"/>
                  <a:pt x="14932" y="10368"/>
                </a:cubicBezTo>
                <a:cubicBezTo>
                  <a:pt x="14858" y="10488"/>
                  <a:pt x="14800" y="10575"/>
                  <a:pt x="14734" y="10691"/>
                </a:cubicBezTo>
                <a:cubicBezTo>
                  <a:pt x="14701" y="10749"/>
                  <a:pt x="14668" y="10809"/>
                  <a:pt x="14635" y="10864"/>
                </a:cubicBezTo>
                <a:cubicBezTo>
                  <a:pt x="14602" y="10919"/>
                  <a:pt x="14594" y="10929"/>
                  <a:pt x="14585" y="10988"/>
                </a:cubicBezTo>
                <a:cubicBezTo>
                  <a:pt x="14646" y="10988"/>
                  <a:pt x="14731" y="10985"/>
                  <a:pt x="14784" y="10964"/>
                </a:cubicBezTo>
                <a:cubicBezTo>
                  <a:pt x="14841" y="10941"/>
                  <a:pt x="14896" y="10912"/>
                  <a:pt x="14957" y="10889"/>
                </a:cubicBezTo>
              </a:path>
              <a:path w="9278" h="2457">
                <a:moveTo>
                  <a:pt x="15404" y="9823"/>
                </a:moveTo>
                <a:cubicBezTo>
                  <a:pt x="15497" y="9834"/>
                  <a:pt x="15470" y="9820"/>
                  <a:pt x="15528" y="9897"/>
                </a:cubicBezTo>
                <a:cubicBezTo>
                  <a:pt x="15567" y="9949"/>
                  <a:pt x="15624" y="10014"/>
                  <a:pt x="15652" y="10071"/>
                </a:cubicBezTo>
                <a:cubicBezTo>
                  <a:pt x="15696" y="10163"/>
                  <a:pt x="15705" y="10249"/>
                  <a:pt x="15726" y="10344"/>
                </a:cubicBezTo>
                <a:cubicBezTo>
                  <a:pt x="15747" y="10440"/>
                  <a:pt x="15740" y="10544"/>
                  <a:pt x="15701" y="10641"/>
                </a:cubicBezTo>
                <a:cubicBezTo>
                  <a:pt x="15644" y="10782"/>
                  <a:pt x="15536" y="10891"/>
                  <a:pt x="15453" y="11013"/>
                </a:cubicBezTo>
                <a:cubicBezTo>
                  <a:pt x="15419" y="11063"/>
                  <a:pt x="15344" y="11222"/>
                  <a:pt x="15354" y="11162"/>
                </a:cubicBezTo>
                <a:cubicBezTo>
                  <a:pt x="15362" y="11145"/>
                  <a:pt x="15371" y="11129"/>
                  <a:pt x="15379" y="11112"/>
                </a:cubicBezTo>
              </a:path>
              <a:path w="9278" h="2457">
                <a:moveTo>
                  <a:pt x="16123" y="10418"/>
                </a:moveTo>
                <a:cubicBezTo>
                  <a:pt x="16255" y="10418"/>
                  <a:pt x="16388" y="10418"/>
                  <a:pt x="16520" y="10418"/>
                </a:cubicBezTo>
              </a:path>
              <a:path w="9278" h="2457">
                <a:moveTo>
                  <a:pt x="16297" y="10567"/>
                </a:moveTo>
                <a:cubicBezTo>
                  <a:pt x="16367" y="10577"/>
                  <a:pt x="16360" y="10582"/>
                  <a:pt x="16421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4"/>
          <p:cNvSpPr/>
          <p:nvPr/>
        </p:nvSpPr>
        <p:spPr>
          <a:xfrm>
            <a:off x="6161040" y="3438360"/>
            <a:ext cx="519120" cy="598680"/>
          </a:xfrm>
          <a:custGeom>
            <a:avLst/>
            <a:gdLst/>
            <a:ahLst/>
            <a:rect l="l" t="t" r="r" b="b"/>
            <a:pathLst>
              <a:path w="1440" h="1663">
                <a:moveTo>
                  <a:pt x="17115" y="10344"/>
                </a:moveTo>
                <a:cubicBezTo>
                  <a:pt x="17184" y="10292"/>
                  <a:pt x="17250" y="10283"/>
                  <a:pt x="17338" y="10269"/>
                </a:cubicBezTo>
                <a:cubicBezTo>
                  <a:pt x="17427" y="10255"/>
                  <a:pt x="17513" y="10279"/>
                  <a:pt x="17587" y="10294"/>
                </a:cubicBezTo>
                <a:cubicBezTo>
                  <a:pt x="17603" y="10294"/>
                  <a:pt x="17620" y="10294"/>
                  <a:pt x="17636" y="10294"/>
                </a:cubicBezTo>
              </a:path>
              <a:path w="1440" h="1663">
                <a:moveTo>
                  <a:pt x="17810" y="9922"/>
                </a:moveTo>
                <a:cubicBezTo>
                  <a:pt x="17874" y="9921"/>
                  <a:pt x="17824" y="10039"/>
                  <a:pt x="17810" y="10120"/>
                </a:cubicBezTo>
                <a:cubicBezTo>
                  <a:pt x="17800" y="10179"/>
                  <a:pt x="17770" y="10245"/>
                  <a:pt x="17760" y="10294"/>
                </a:cubicBezTo>
                <a:cubicBezTo>
                  <a:pt x="17760" y="10352"/>
                  <a:pt x="17760" y="10377"/>
                  <a:pt x="17760" y="10418"/>
                </a:cubicBezTo>
                <a:cubicBezTo>
                  <a:pt x="17942" y="10418"/>
                  <a:pt x="18124" y="10418"/>
                  <a:pt x="18306" y="10418"/>
                </a:cubicBezTo>
              </a:path>
              <a:path w="1440" h="1663">
                <a:moveTo>
                  <a:pt x="18554" y="9624"/>
                </a:moveTo>
                <a:cubicBezTo>
                  <a:pt x="18554" y="9589"/>
                  <a:pt x="18549" y="9572"/>
                  <a:pt x="18529" y="9550"/>
                </a:cubicBezTo>
                <a:cubicBezTo>
                  <a:pt x="18503" y="9627"/>
                  <a:pt x="18485" y="9740"/>
                  <a:pt x="18479" y="9823"/>
                </a:cubicBezTo>
                <a:cubicBezTo>
                  <a:pt x="18471" y="9922"/>
                  <a:pt x="18463" y="10024"/>
                  <a:pt x="18455" y="10120"/>
                </a:cubicBezTo>
                <a:cubicBezTo>
                  <a:pt x="18440" y="10296"/>
                  <a:pt x="18395" y="10466"/>
                  <a:pt x="18355" y="10641"/>
                </a:cubicBezTo>
                <a:cubicBezTo>
                  <a:pt x="18329" y="10753"/>
                  <a:pt x="18298" y="10875"/>
                  <a:pt x="18281" y="10988"/>
                </a:cubicBezTo>
                <a:cubicBezTo>
                  <a:pt x="18278" y="11006"/>
                  <a:pt x="18233" y="11198"/>
                  <a:pt x="18256" y="11212"/>
                </a:cubicBezTo>
                <a:cubicBezTo>
                  <a:pt x="18283" y="11228"/>
                  <a:pt x="18303" y="11178"/>
                  <a:pt x="18331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5"/>
          <p:cNvSpPr/>
          <p:nvPr/>
        </p:nvSpPr>
        <p:spPr>
          <a:xfrm>
            <a:off x="2982960" y="374760"/>
            <a:ext cx="5232240" cy="876240"/>
          </a:xfrm>
          <a:custGeom>
            <a:avLst/>
            <a:gdLst/>
            <a:ahLst/>
            <a:rect l="l" t="t" r="r" b="b"/>
            <a:pathLst>
              <a:path w="14536" h="2432">
                <a:moveTo>
                  <a:pt x="19025" y="3225"/>
                </a:moveTo>
                <a:cubicBezTo>
                  <a:pt x="19080" y="3245"/>
                  <a:pt x="19137" y="3260"/>
                  <a:pt x="19199" y="3274"/>
                </a:cubicBezTo>
                <a:cubicBezTo>
                  <a:pt x="19269" y="3290"/>
                  <a:pt x="19329" y="3311"/>
                  <a:pt x="19397" y="3324"/>
                </a:cubicBezTo>
                <a:cubicBezTo>
                  <a:pt x="19491" y="3342"/>
                  <a:pt x="19581" y="3353"/>
                  <a:pt x="19670" y="3373"/>
                </a:cubicBezTo>
                <a:cubicBezTo>
                  <a:pt x="19753" y="3392"/>
                  <a:pt x="19835" y="3407"/>
                  <a:pt x="19918" y="3423"/>
                </a:cubicBezTo>
                <a:cubicBezTo>
                  <a:pt x="20002" y="3440"/>
                  <a:pt x="20078" y="3446"/>
                  <a:pt x="20166" y="3448"/>
                </a:cubicBezTo>
                <a:cubicBezTo>
                  <a:pt x="20254" y="3450"/>
                  <a:pt x="20328" y="3467"/>
                  <a:pt x="20414" y="3473"/>
                </a:cubicBezTo>
                <a:cubicBezTo>
                  <a:pt x="20511" y="3479"/>
                  <a:pt x="20593" y="3454"/>
                  <a:pt x="20687" y="3448"/>
                </a:cubicBezTo>
                <a:cubicBezTo>
                  <a:pt x="20769" y="3443"/>
                  <a:pt x="20860" y="3428"/>
                  <a:pt x="20935" y="3423"/>
                </a:cubicBezTo>
                <a:cubicBezTo>
                  <a:pt x="21029" y="3417"/>
                  <a:pt x="21116" y="3413"/>
                  <a:pt x="21208" y="3398"/>
                </a:cubicBezTo>
                <a:cubicBezTo>
                  <a:pt x="21292" y="3384"/>
                  <a:pt x="21371" y="3349"/>
                  <a:pt x="21456" y="3324"/>
                </a:cubicBezTo>
                <a:cubicBezTo>
                  <a:pt x="21525" y="3303"/>
                  <a:pt x="21610" y="3296"/>
                  <a:pt x="21679" y="3274"/>
                </a:cubicBezTo>
                <a:cubicBezTo>
                  <a:pt x="21763" y="3247"/>
                  <a:pt x="21843" y="3203"/>
                  <a:pt x="21927" y="3175"/>
                </a:cubicBezTo>
                <a:cubicBezTo>
                  <a:pt x="22020" y="3144"/>
                  <a:pt x="22112" y="3122"/>
                  <a:pt x="22200" y="3076"/>
                </a:cubicBezTo>
                <a:cubicBezTo>
                  <a:pt x="22276" y="3036"/>
                  <a:pt x="22349" y="3000"/>
                  <a:pt x="22423" y="2952"/>
                </a:cubicBezTo>
                <a:cubicBezTo>
                  <a:pt x="22483" y="2913"/>
                  <a:pt x="22543" y="2874"/>
                  <a:pt x="22597" y="2828"/>
                </a:cubicBezTo>
                <a:cubicBezTo>
                  <a:pt x="22655" y="2778"/>
                  <a:pt x="22709" y="2720"/>
                  <a:pt x="22746" y="2654"/>
                </a:cubicBezTo>
                <a:cubicBezTo>
                  <a:pt x="22778" y="2597"/>
                  <a:pt x="22813" y="2502"/>
                  <a:pt x="22820" y="2431"/>
                </a:cubicBezTo>
                <a:cubicBezTo>
                  <a:pt x="22826" y="2366"/>
                  <a:pt x="22821" y="2266"/>
                  <a:pt x="22796" y="2208"/>
                </a:cubicBezTo>
                <a:cubicBezTo>
                  <a:pt x="22770" y="2146"/>
                  <a:pt x="22712" y="2064"/>
                  <a:pt x="22671" y="2009"/>
                </a:cubicBezTo>
                <a:cubicBezTo>
                  <a:pt x="22617" y="1936"/>
                  <a:pt x="22535" y="1893"/>
                  <a:pt x="22473" y="1836"/>
                </a:cubicBezTo>
                <a:cubicBezTo>
                  <a:pt x="22383" y="1754"/>
                  <a:pt x="22309" y="1694"/>
                  <a:pt x="22200" y="1637"/>
                </a:cubicBezTo>
                <a:cubicBezTo>
                  <a:pt x="22113" y="1591"/>
                  <a:pt x="22017" y="1521"/>
                  <a:pt x="21927" y="1488"/>
                </a:cubicBezTo>
                <a:cubicBezTo>
                  <a:pt x="21868" y="1467"/>
                  <a:pt x="21768" y="1453"/>
                  <a:pt x="21704" y="1439"/>
                </a:cubicBezTo>
                <a:cubicBezTo>
                  <a:pt x="21631" y="1423"/>
                  <a:pt x="21552" y="1403"/>
                  <a:pt x="21481" y="1389"/>
                </a:cubicBezTo>
                <a:cubicBezTo>
                  <a:pt x="21391" y="1372"/>
                  <a:pt x="21301" y="1366"/>
                  <a:pt x="21208" y="1364"/>
                </a:cubicBezTo>
                <a:cubicBezTo>
                  <a:pt x="21123" y="1362"/>
                  <a:pt x="21037" y="1344"/>
                  <a:pt x="20960" y="1339"/>
                </a:cubicBezTo>
                <a:cubicBezTo>
                  <a:pt x="20768" y="1326"/>
                  <a:pt x="20572" y="1352"/>
                  <a:pt x="20389" y="1364"/>
                </a:cubicBezTo>
                <a:cubicBezTo>
                  <a:pt x="20303" y="1370"/>
                  <a:pt x="20225" y="1374"/>
                  <a:pt x="20141" y="1389"/>
                </a:cubicBezTo>
                <a:cubicBezTo>
                  <a:pt x="20046" y="1406"/>
                  <a:pt x="19930" y="1431"/>
                  <a:pt x="19844" y="1463"/>
                </a:cubicBezTo>
                <a:cubicBezTo>
                  <a:pt x="19731" y="1505"/>
                  <a:pt x="19622" y="1577"/>
                  <a:pt x="19521" y="1637"/>
                </a:cubicBezTo>
                <a:cubicBezTo>
                  <a:pt x="19469" y="1668"/>
                  <a:pt x="19422" y="1704"/>
                  <a:pt x="19372" y="1736"/>
                </a:cubicBezTo>
                <a:cubicBezTo>
                  <a:pt x="19297" y="1784"/>
                  <a:pt x="19259" y="1828"/>
                  <a:pt x="19199" y="1885"/>
                </a:cubicBezTo>
                <a:cubicBezTo>
                  <a:pt x="19149" y="1932"/>
                  <a:pt x="19112" y="1979"/>
                  <a:pt x="19075" y="2034"/>
                </a:cubicBezTo>
                <a:cubicBezTo>
                  <a:pt x="19037" y="2090"/>
                  <a:pt x="19005" y="2145"/>
                  <a:pt x="18976" y="2208"/>
                </a:cubicBezTo>
                <a:cubicBezTo>
                  <a:pt x="18946" y="2272"/>
                  <a:pt x="18919" y="2347"/>
                  <a:pt x="18901" y="2406"/>
                </a:cubicBezTo>
                <a:cubicBezTo>
                  <a:pt x="18881" y="2469"/>
                  <a:pt x="18858" y="2565"/>
                  <a:pt x="18852" y="2629"/>
                </a:cubicBezTo>
                <a:cubicBezTo>
                  <a:pt x="18842" y="2744"/>
                  <a:pt x="18845" y="2877"/>
                  <a:pt x="18876" y="2977"/>
                </a:cubicBezTo>
                <a:cubicBezTo>
                  <a:pt x="18893" y="3032"/>
                  <a:pt x="18906" y="3095"/>
                  <a:pt x="18926" y="3150"/>
                </a:cubicBezTo>
                <a:cubicBezTo>
                  <a:pt x="18951" y="3218"/>
                  <a:pt x="18967" y="3246"/>
                  <a:pt x="18976" y="3324"/>
                </a:cubicBezTo>
              </a:path>
              <a:path w="14536" h="2432">
                <a:moveTo>
                  <a:pt x="20042" y="1315"/>
                </a:moveTo>
                <a:cubicBezTo>
                  <a:pt x="19980" y="1308"/>
                  <a:pt x="19952" y="1298"/>
                  <a:pt x="19893" y="1290"/>
                </a:cubicBezTo>
                <a:cubicBezTo>
                  <a:pt x="19794" y="1277"/>
                  <a:pt x="19693" y="1270"/>
                  <a:pt x="19596" y="1265"/>
                </a:cubicBezTo>
                <a:cubicBezTo>
                  <a:pt x="19429" y="1257"/>
                  <a:pt x="19264" y="1246"/>
                  <a:pt x="19100" y="1240"/>
                </a:cubicBezTo>
                <a:cubicBezTo>
                  <a:pt x="18867" y="1232"/>
                  <a:pt x="18636" y="1223"/>
                  <a:pt x="18405" y="1215"/>
                </a:cubicBezTo>
                <a:cubicBezTo>
                  <a:pt x="17188" y="1174"/>
                  <a:pt x="15973" y="1186"/>
                  <a:pt x="14759" y="1141"/>
                </a:cubicBezTo>
                <a:cubicBezTo>
                  <a:pt x="14502" y="1131"/>
                  <a:pt x="14245" y="1125"/>
                  <a:pt x="13990" y="1116"/>
                </a:cubicBezTo>
                <a:cubicBezTo>
                  <a:pt x="13831" y="1110"/>
                  <a:pt x="13677" y="1097"/>
                  <a:pt x="13519" y="1091"/>
                </a:cubicBezTo>
                <a:cubicBezTo>
                  <a:pt x="13286" y="1083"/>
                  <a:pt x="13056" y="1084"/>
                  <a:pt x="12824" y="1067"/>
                </a:cubicBezTo>
                <a:cubicBezTo>
                  <a:pt x="12674" y="1056"/>
                  <a:pt x="12529" y="1044"/>
                  <a:pt x="12378" y="1042"/>
                </a:cubicBezTo>
                <a:cubicBezTo>
                  <a:pt x="11939" y="1037"/>
                  <a:pt x="11500" y="1040"/>
                  <a:pt x="11063" y="1067"/>
                </a:cubicBezTo>
                <a:cubicBezTo>
                  <a:pt x="10889" y="1078"/>
                  <a:pt x="10716" y="1079"/>
                  <a:pt x="10542" y="1091"/>
                </a:cubicBezTo>
                <a:cubicBezTo>
                  <a:pt x="10378" y="1102"/>
                  <a:pt x="10210" y="1125"/>
                  <a:pt x="10046" y="1141"/>
                </a:cubicBezTo>
                <a:cubicBezTo>
                  <a:pt x="9887" y="1157"/>
                  <a:pt x="9733" y="1190"/>
                  <a:pt x="9575" y="1215"/>
                </a:cubicBezTo>
                <a:cubicBezTo>
                  <a:pt x="9411" y="1241"/>
                  <a:pt x="9244" y="1267"/>
                  <a:pt x="9079" y="1290"/>
                </a:cubicBezTo>
                <a:cubicBezTo>
                  <a:pt x="9007" y="1300"/>
                  <a:pt x="8899" y="1321"/>
                  <a:pt x="8830" y="1315"/>
                </a:cubicBezTo>
                <a:cubicBezTo>
                  <a:pt x="8729" y="1307"/>
                  <a:pt x="8686" y="1239"/>
                  <a:pt x="8607" y="1215"/>
                </a:cubicBezTo>
                <a:cubicBezTo>
                  <a:pt x="8610" y="1261"/>
                  <a:pt x="8634" y="1327"/>
                  <a:pt x="8632" y="1389"/>
                </a:cubicBezTo>
                <a:cubicBezTo>
                  <a:pt x="8630" y="1462"/>
                  <a:pt x="8614" y="1518"/>
                  <a:pt x="8607" y="1588"/>
                </a:cubicBezTo>
                <a:cubicBezTo>
                  <a:pt x="8598" y="1675"/>
                  <a:pt x="8605" y="1753"/>
                  <a:pt x="8582" y="1836"/>
                </a:cubicBezTo>
                <a:cubicBezTo>
                  <a:pt x="8574" y="1836"/>
                  <a:pt x="8566" y="1836"/>
                  <a:pt x="8558" y="1836"/>
                </a:cubicBezTo>
              </a:path>
              <a:path w="14536" h="2432">
                <a:moveTo>
                  <a:pt x="8285" y="1662"/>
                </a:moveTo>
                <a:cubicBezTo>
                  <a:pt x="8326" y="1703"/>
                  <a:pt x="8356" y="1734"/>
                  <a:pt x="8384" y="1786"/>
                </a:cubicBezTo>
                <a:cubicBezTo>
                  <a:pt x="8417" y="1849"/>
                  <a:pt x="8455" y="1922"/>
                  <a:pt x="8483" y="1984"/>
                </a:cubicBezTo>
                <a:cubicBezTo>
                  <a:pt x="8516" y="2057"/>
                  <a:pt x="8526" y="2101"/>
                  <a:pt x="8582" y="2158"/>
                </a:cubicBezTo>
                <a:cubicBezTo>
                  <a:pt x="8590" y="2166"/>
                  <a:pt x="8599" y="2175"/>
                  <a:pt x="8607" y="2183"/>
                </a:cubicBezTo>
                <a:cubicBezTo>
                  <a:pt x="8654" y="2136"/>
                  <a:pt x="8669" y="2088"/>
                  <a:pt x="8706" y="2034"/>
                </a:cubicBezTo>
                <a:cubicBezTo>
                  <a:pt x="8745" y="1978"/>
                  <a:pt x="8792" y="1932"/>
                  <a:pt x="8830" y="1885"/>
                </a:cubicBezTo>
                <a:cubicBezTo>
                  <a:pt x="8865" y="1842"/>
                  <a:pt x="8890" y="1802"/>
                  <a:pt x="8930" y="1761"/>
                </a:cubicBezTo>
                <a:cubicBezTo>
                  <a:pt x="8938" y="1753"/>
                  <a:pt x="8946" y="1744"/>
                  <a:pt x="8954" y="17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16"/>
          <p:cNvSpPr/>
          <p:nvPr/>
        </p:nvSpPr>
        <p:spPr>
          <a:xfrm>
            <a:off x="1017720" y="3348000"/>
            <a:ext cx="1527120" cy="733320"/>
          </a:xfrm>
          <a:custGeom>
            <a:avLst/>
            <a:gdLst/>
            <a:ahLst/>
            <a:rect l="l" t="t" r="r" b="b"/>
            <a:pathLst>
              <a:path w="4242" h="2035">
                <a:moveTo>
                  <a:pt x="6623" y="9624"/>
                </a:moveTo>
                <a:cubicBezTo>
                  <a:pt x="6543" y="9544"/>
                  <a:pt x="6534" y="9514"/>
                  <a:pt x="6424" y="9475"/>
                </a:cubicBezTo>
                <a:cubicBezTo>
                  <a:pt x="6282" y="9424"/>
                  <a:pt x="6051" y="9407"/>
                  <a:pt x="5904" y="9401"/>
                </a:cubicBezTo>
                <a:cubicBezTo>
                  <a:pt x="5721" y="9393"/>
                  <a:pt x="5517" y="9445"/>
                  <a:pt x="5333" y="9475"/>
                </a:cubicBezTo>
                <a:cubicBezTo>
                  <a:pt x="5158" y="9503"/>
                  <a:pt x="5006" y="9574"/>
                  <a:pt x="4862" y="9674"/>
                </a:cubicBezTo>
                <a:cubicBezTo>
                  <a:pt x="4699" y="9788"/>
                  <a:pt x="4505" y="9907"/>
                  <a:pt x="4390" y="10071"/>
                </a:cubicBezTo>
                <a:cubicBezTo>
                  <a:pt x="4319" y="10173"/>
                  <a:pt x="4207" y="10304"/>
                  <a:pt x="4167" y="10418"/>
                </a:cubicBezTo>
                <a:cubicBezTo>
                  <a:pt x="4139" y="10499"/>
                  <a:pt x="4104" y="10691"/>
                  <a:pt x="4167" y="10765"/>
                </a:cubicBezTo>
                <a:cubicBezTo>
                  <a:pt x="4266" y="10881"/>
                  <a:pt x="4444" y="10957"/>
                  <a:pt x="4589" y="10988"/>
                </a:cubicBezTo>
                <a:cubicBezTo>
                  <a:pt x="4896" y="11054"/>
                  <a:pt x="5217" y="11103"/>
                  <a:pt x="5531" y="11088"/>
                </a:cubicBezTo>
                <a:cubicBezTo>
                  <a:pt x="5757" y="11077"/>
                  <a:pt x="6005" y="11069"/>
                  <a:pt x="6226" y="11013"/>
                </a:cubicBezTo>
                <a:cubicBezTo>
                  <a:pt x="6412" y="10966"/>
                  <a:pt x="6584" y="10921"/>
                  <a:pt x="6747" y="10815"/>
                </a:cubicBezTo>
                <a:cubicBezTo>
                  <a:pt x="6861" y="10741"/>
                  <a:pt x="6959" y="10625"/>
                  <a:pt x="6995" y="10492"/>
                </a:cubicBezTo>
                <a:cubicBezTo>
                  <a:pt x="7039" y="10331"/>
                  <a:pt x="7016" y="10197"/>
                  <a:pt x="6945" y="10046"/>
                </a:cubicBezTo>
                <a:cubicBezTo>
                  <a:pt x="6882" y="9911"/>
                  <a:pt x="6772" y="9782"/>
                  <a:pt x="6648" y="9699"/>
                </a:cubicBezTo>
                <a:cubicBezTo>
                  <a:pt x="6489" y="9593"/>
                  <a:pt x="6222" y="9415"/>
                  <a:pt x="6028" y="9376"/>
                </a:cubicBezTo>
                <a:cubicBezTo>
                  <a:pt x="5814" y="9333"/>
                  <a:pt x="5668" y="9353"/>
                  <a:pt x="5457" y="9376"/>
                </a:cubicBezTo>
                <a:cubicBezTo>
                  <a:pt x="5172" y="9407"/>
                  <a:pt x="4911" y="9462"/>
                  <a:pt x="4663" y="9624"/>
                </a:cubicBezTo>
                <a:cubicBezTo>
                  <a:pt x="4509" y="9724"/>
                  <a:pt x="4389" y="9839"/>
                  <a:pt x="4266" y="9971"/>
                </a:cubicBezTo>
                <a:cubicBezTo>
                  <a:pt x="4145" y="10100"/>
                  <a:pt x="4089" y="10240"/>
                  <a:pt x="4068" y="10418"/>
                </a:cubicBezTo>
                <a:cubicBezTo>
                  <a:pt x="4049" y="10579"/>
                  <a:pt x="4115" y="10698"/>
                  <a:pt x="4217" y="10815"/>
                </a:cubicBezTo>
                <a:cubicBezTo>
                  <a:pt x="4307" y="10919"/>
                  <a:pt x="4489" y="11032"/>
                  <a:pt x="4614" y="11088"/>
                </a:cubicBezTo>
                <a:cubicBezTo>
                  <a:pt x="4798" y="11170"/>
                  <a:pt x="5012" y="11228"/>
                  <a:pt x="5209" y="11261"/>
                </a:cubicBezTo>
                <a:cubicBezTo>
                  <a:pt x="5436" y="11299"/>
                  <a:pt x="5649" y="11311"/>
                  <a:pt x="5879" y="11311"/>
                </a:cubicBezTo>
                <a:cubicBezTo>
                  <a:pt x="6092" y="11311"/>
                  <a:pt x="6297" y="11282"/>
                  <a:pt x="6499" y="11212"/>
                </a:cubicBezTo>
                <a:cubicBezTo>
                  <a:pt x="6669" y="11153"/>
                  <a:pt x="6794" y="11037"/>
                  <a:pt x="6921" y="10914"/>
                </a:cubicBezTo>
                <a:cubicBezTo>
                  <a:pt x="7045" y="10794"/>
                  <a:pt x="7066" y="10659"/>
                  <a:pt x="7069" y="10492"/>
                </a:cubicBezTo>
                <a:cubicBezTo>
                  <a:pt x="7072" y="10323"/>
                  <a:pt x="7029" y="10146"/>
                  <a:pt x="6945" y="9996"/>
                </a:cubicBezTo>
                <a:cubicBezTo>
                  <a:pt x="6866" y="9855"/>
                  <a:pt x="6699" y="9769"/>
                  <a:pt x="6573" y="9674"/>
                </a:cubicBezTo>
                <a:cubicBezTo>
                  <a:pt x="6429" y="9566"/>
                  <a:pt x="6260" y="9469"/>
                  <a:pt x="6077" y="9451"/>
                </a:cubicBezTo>
                <a:cubicBezTo>
                  <a:pt x="5763" y="9420"/>
                  <a:pt x="5330" y="9411"/>
                  <a:pt x="5035" y="9525"/>
                </a:cubicBezTo>
                <a:cubicBezTo>
                  <a:pt x="4875" y="9587"/>
                  <a:pt x="4679" y="9679"/>
                  <a:pt x="4539" y="9773"/>
                </a:cubicBezTo>
                <a:cubicBezTo>
                  <a:pt x="4414" y="9857"/>
                  <a:pt x="4300" y="9979"/>
                  <a:pt x="4242" y="10120"/>
                </a:cubicBezTo>
                <a:cubicBezTo>
                  <a:pt x="4191" y="10243"/>
                  <a:pt x="4215" y="10374"/>
                  <a:pt x="4266" y="10492"/>
                </a:cubicBezTo>
                <a:cubicBezTo>
                  <a:pt x="4335" y="10650"/>
                  <a:pt x="4423" y="10790"/>
                  <a:pt x="4564" y="10889"/>
                </a:cubicBezTo>
                <a:cubicBezTo>
                  <a:pt x="4720" y="10998"/>
                  <a:pt x="4911" y="11112"/>
                  <a:pt x="5085" y="11187"/>
                </a:cubicBezTo>
                <a:cubicBezTo>
                  <a:pt x="5267" y="11266"/>
                  <a:pt x="5482" y="11321"/>
                  <a:pt x="5680" y="11336"/>
                </a:cubicBezTo>
                <a:cubicBezTo>
                  <a:pt x="5865" y="11350"/>
                  <a:pt x="6072" y="11338"/>
                  <a:pt x="6251" y="11286"/>
                </a:cubicBezTo>
                <a:cubicBezTo>
                  <a:pt x="6408" y="11240"/>
                  <a:pt x="6549" y="11144"/>
                  <a:pt x="6672" y="11038"/>
                </a:cubicBezTo>
                <a:cubicBezTo>
                  <a:pt x="6786" y="10939"/>
                  <a:pt x="6868" y="10824"/>
                  <a:pt x="6921" y="10691"/>
                </a:cubicBezTo>
                <a:cubicBezTo>
                  <a:pt x="6982" y="10538"/>
                  <a:pt x="6977" y="10425"/>
                  <a:pt x="6945" y="10269"/>
                </a:cubicBezTo>
                <a:cubicBezTo>
                  <a:pt x="6902" y="10059"/>
                  <a:pt x="6808" y="9921"/>
                  <a:pt x="6648" y="9773"/>
                </a:cubicBezTo>
                <a:cubicBezTo>
                  <a:pt x="6548" y="9680"/>
                  <a:pt x="6333" y="9592"/>
                  <a:pt x="6201" y="9550"/>
                </a:cubicBezTo>
                <a:cubicBezTo>
                  <a:pt x="5984" y="9481"/>
                  <a:pt x="5755" y="9475"/>
                  <a:pt x="5531" y="9475"/>
                </a:cubicBezTo>
                <a:cubicBezTo>
                  <a:pt x="5354" y="9475"/>
                  <a:pt x="5157" y="9498"/>
                  <a:pt x="4986" y="9550"/>
                </a:cubicBezTo>
                <a:cubicBezTo>
                  <a:pt x="4849" y="9591"/>
                  <a:pt x="4631" y="9667"/>
                  <a:pt x="4514" y="9748"/>
                </a:cubicBezTo>
                <a:cubicBezTo>
                  <a:pt x="4402" y="9825"/>
                  <a:pt x="4282" y="9949"/>
                  <a:pt x="4217" y="10071"/>
                </a:cubicBezTo>
                <a:cubicBezTo>
                  <a:pt x="4168" y="10163"/>
                  <a:pt x="4139" y="10314"/>
                  <a:pt x="4142" y="10418"/>
                </a:cubicBezTo>
                <a:cubicBezTo>
                  <a:pt x="4146" y="10576"/>
                  <a:pt x="4237" y="10805"/>
                  <a:pt x="4316" y="10939"/>
                </a:cubicBezTo>
                <a:cubicBezTo>
                  <a:pt x="4366" y="11023"/>
                  <a:pt x="4427" y="11135"/>
                  <a:pt x="4490" y="11212"/>
                </a:cubicBezTo>
                <a:cubicBezTo>
                  <a:pt x="4563" y="11302"/>
                  <a:pt x="4499" y="11232"/>
                  <a:pt x="4514" y="11187"/>
                </a:cubicBezTo>
              </a:path>
              <a:path w="4242" h="2035">
                <a:moveTo>
                  <a:pt x="5159" y="9525"/>
                </a:moveTo>
                <a:cubicBezTo>
                  <a:pt x="5073" y="9479"/>
                  <a:pt x="5017" y="9438"/>
                  <a:pt x="4936" y="9401"/>
                </a:cubicBezTo>
                <a:cubicBezTo>
                  <a:pt x="4844" y="9359"/>
                  <a:pt x="4690" y="9319"/>
                  <a:pt x="4589" y="9302"/>
                </a:cubicBezTo>
                <a:cubicBezTo>
                  <a:pt x="4357" y="9263"/>
                  <a:pt x="3918" y="9247"/>
                  <a:pt x="3696" y="9327"/>
                </a:cubicBezTo>
                <a:cubicBezTo>
                  <a:pt x="3572" y="9371"/>
                  <a:pt x="3464" y="9409"/>
                  <a:pt x="3349" y="9475"/>
                </a:cubicBezTo>
                <a:cubicBezTo>
                  <a:pt x="3280" y="9514"/>
                  <a:pt x="3143" y="9603"/>
                  <a:pt x="3101" y="9674"/>
                </a:cubicBezTo>
                <a:cubicBezTo>
                  <a:pt x="3055" y="9752"/>
                  <a:pt x="3046" y="9813"/>
                  <a:pt x="3026" y="9897"/>
                </a:cubicBezTo>
                <a:cubicBezTo>
                  <a:pt x="3011" y="9962"/>
                  <a:pt x="3035" y="10104"/>
                  <a:pt x="2977" y="9996"/>
                </a:cubicBezTo>
                <a:cubicBezTo>
                  <a:pt x="2977" y="9988"/>
                  <a:pt x="2977" y="9979"/>
                  <a:pt x="2977" y="9971"/>
                </a:cubicBezTo>
              </a:path>
              <a:path w="4242" h="2035">
                <a:moveTo>
                  <a:pt x="2828" y="9823"/>
                </a:moveTo>
                <a:cubicBezTo>
                  <a:pt x="2828" y="9903"/>
                  <a:pt x="2844" y="9970"/>
                  <a:pt x="2853" y="10046"/>
                </a:cubicBezTo>
                <a:cubicBezTo>
                  <a:pt x="2853" y="10107"/>
                  <a:pt x="2844" y="10122"/>
                  <a:pt x="2877" y="10145"/>
                </a:cubicBezTo>
                <a:cubicBezTo>
                  <a:pt x="2931" y="10122"/>
                  <a:pt x="2979" y="10062"/>
                  <a:pt x="3026" y="10046"/>
                </a:cubicBezTo>
                <a:cubicBezTo>
                  <a:pt x="3105" y="10020"/>
                  <a:pt x="3215" y="10003"/>
                  <a:pt x="3299" y="9996"/>
                </a:cubicBezTo>
                <a:cubicBezTo>
                  <a:pt x="3368" y="9990"/>
                  <a:pt x="3415" y="10006"/>
                  <a:pt x="3473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If f(x) = x + 2 and g(x) = 4 – x</a:t>
            </a:r>
            <a:r>
              <a:rPr b="0" lang="en-US" sz="4400" spc="-1" strike="noStrike" baseline="30000">
                <a:solidFill>
                  <a:srgbClr val="8a84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g)(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f ○ f)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g ○ g)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4"/>
          <p:cNvSpPr/>
          <p:nvPr/>
        </p:nvSpPr>
        <p:spPr>
          <a:xfrm>
            <a:off x="2446200" y="347760"/>
            <a:ext cx="5554800" cy="1152360"/>
          </a:xfrm>
          <a:custGeom>
            <a:avLst/>
            <a:gdLst/>
            <a:ahLst/>
            <a:rect l="l" t="t" r="r" b="b"/>
            <a:pathLst>
              <a:path w="15430" h="3201">
                <a:moveTo>
                  <a:pt x="11187" y="1588"/>
                </a:moveTo>
                <a:cubicBezTo>
                  <a:pt x="11112" y="1508"/>
                  <a:pt x="11061" y="1451"/>
                  <a:pt x="10964" y="1389"/>
                </a:cubicBezTo>
                <a:cubicBezTo>
                  <a:pt x="10853" y="1318"/>
                  <a:pt x="10736" y="1246"/>
                  <a:pt x="10616" y="1191"/>
                </a:cubicBezTo>
                <a:cubicBezTo>
                  <a:pt x="10481" y="1129"/>
                  <a:pt x="10334" y="1113"/>
                  <a:pt x="10195" y="1067"/>
                </a:cubicBezTo>
                <a:cubicBezTo>
                  <a:pt x="10021" y="1009"/>
                  <a:pt x="9858" y="978"/>
                  <a:pt x="9674" y="967"/>
                </a:cubicBezTo>
                <a:cubicBezTo>
                  <a:pt x="9437" y="953"/>
                  <a:pt x="9188" y="957"/>
                  <a:pt x="8954" y="992"/>
                </a:cubicBezTo>
                <a:cubicBezTo>
                  <a:pt x="8721" y="1027"/>
                  <a:pt x="8485" y="1071"/>
                  <a:pt x="8260" y="1141"/>
                </a:cubicBezTo>
                <a:cubicBezTo>
                  <a:pt x="8105" y="1189"/>
                  <a:pt x="7930" y="1283"/>
                  <a:pt x="7789" y="1364"/>
                </a:cubicBezTo>
                <a:cubicBezTo>
                  <a:pt x="7545" y="1505"/>
                  <a:pt x="7364" y="1702"/>
                  <a:pt x="7193" y="1910"/>
                </a:cubicBezTo>
                <a:cubicBezTo>
                  <a:pt x="7079" y="2048"/>
                  <a:pt x="7016" y="2172"/>
                  <a:pt x="6945" y="2332"/>
                </a:cubicBezTo>
                <a:cubicBezTo>
                  <a:pt x="6896" y="2443"/>
                  <a:pt x="6839" y="2553"/>
                  <a:pt x="6821" y="2679"/>
                </a:cubicBezTo>
                <a:cubicBezTo>
                  <a:pt x="6807" y="2778"/>
                  <a:pt x="6792" y="2902"/>
                  <a:pt x="6796" y="3001"/>
                </a:cubicBezTo>
                <a:cubicBezTo>
                  <a:pt x="6799" y="3096"/>
                  <a:pt x="6839" y="3208"/>
                  <a:pt x="6871" y="3299"/>
                </a:cubicBezTo>
                <a:cubicBezTo>
                  <a:pt x="6939" y="3493"/>
                  <a:pt x="7115" y="3690"/>
                  <a:pt x="7293" y="3795"/>
                </a:cubicBezTo>
                <a:cubicBezTo>
                  <a:pt x="7401" y="3859"/>
                  <a:pt x="7546" y="3912"/>
                  <a:pt x="7665" y="3944"/>
                </a:cubicBezTo>
                <a:cubicBezTo>
                  <a:pt x="7762" y="3970"/>
                  <a:pt x="7911" y="3988"/>
                  <a:pt x="8012" y="3994"/>
                </a:cubicBezTo>
                <a:cubicBezTo>
                  <a:pt x="8146" y="4002"/>
                  <a:pt x="8276" y="4013"/>
                  <a:pt x="8409" y="4018"/>
                </a:cubicBezTo>
                <a:cubicBezTo>
                  <a:pt x="8627" y="4026"/>
                  <a:pt x="8840" y="4003"/>
                  <a:pt x="9054" y="3994"/>
                </a:cubicBezTo>
                <a:cubicBezTo>
                  <a:pt x="9212" y="3987"/>
                  <a:pt x="9345" y="3974"/>
                  <a:pt x="9500" y="3944"/>
                </a:cubicBezTo>
                <a:cubicBezTo>
                  <a:pt x="9743" y="3897"/>
                  <a:pt x="9986" y="3848"/>
                  <a:pt x="10220" y="3770"/>
                </a:cubicBezTo>
                <a:cubicBezTo>
                  <a:pt x="10379" y="3717"/>
                  <a:pt x="10539" y="3643"/>
                  <a:pt x="10691" y="3572"/>
                </a:cubicBezTo>
                <a:cubicBezTo>
                  <a:pt x="10829" y="3507"/>
                  <a:pt x="10943" y="3438"/>
                  <a:pt x="11063" y="3349"/>
                </a:cubicBezTo>
                <a:cubicBezTo>
                  <a:pt x="11161" y="3276"/>
                  <a:pt x="11243" y="3204"/>
                  <a:pt x="11311" y="3101"/>
                </a:cubicBezTo>
                <a:cubicBezTo>
                  <a:pt x="11396" y="2972"/>
                  <a:pt x="11446" y="2804"/>
                  <a:pt x="11460" y="2654"/>
                </a:cubicBezTo>
                <a:cubicBezTo>
                  <a:pt x="11469" y="2560"/>
                  <a:pt x="11457" y="2446"/>
                  <a:pt x="11435" y="2356"/>
                </a:cubicBezTo>
                <a:cubicBezTo>
                  <a:pt x="11410" y="2254"/>
                  <a:pt x="11359" y="2150"/>
                  <a:pt x="11311" y="2059"/>
                </a:cubicBezTo>
                <a:cubicBezTo>
                  <a:pt x="11239" y="1923"/>
                  <a:pt x="11137" y="1824"/>
                  <a:pt x="11013" y="1736"/>
                </a:cubicBezTo>
                <a:cubicBezTo>
                  <a:pt x="10902" y="1658"/>
                  <a:pt x="10820" y="1645"/>
                  <a:pt x="10691" y="1637"/>
                </a:cubicBezTo>
                <a:cubicBezTo>
                  <a:pt x="10607" y="1632"/>
                  <a:pt x="10547" y="1652"/>
                  <a:pt x="10468" y="1662"/>
                </a:cubicBezTo>
              </a:path>
              <a:path w="15430" h="3201">
                <a:moveTo>
                  <a:pt x="9302" y="3845"/>
                </a:moveTo>
                <a:cubicBezTo>
                  <a:pt x="9347" y="3858"/>
                  <a:pt x="9405" y="3910"/>
                  <a:pt x="9451" y="3919"/>
                </a:cubicBezTo>
                <a:cubicBezTo>
                  <a:pt x="9535" y="3936"/>
                  <a:pt x="9610" y="3938"/>
                  <a:pt x="9699" y="3944"/>
                </a:cubicBezTo>
                <a:cubicBezTo>
                  <a:pt x="10483" y="3999"/>
                  <a:pt x="11274" y="3941"/>
                  <a:pt x="12055" y="3994"/>
                </a:cubicBezTo>
                <a:cubicBezTo>
                  <a:pt x="12270" y="4009"/>
                  <a:pt x="12484" y="4036"/>
                  <a:pt x="12700" y="4043"/>
                </a:cubicBezTo>
                <a:cubicBezTo>
                  <a:pt x="12884" y="4049"/>
                  <a:pt x="13063" y="4063"/>
                  <a:pt x="13246" y="4068"/>
                </a:cubicBezTo>
                <a:cubicBezTo>
                  <a:pt x="13553" y="4077"/>
                  <a:pt x="13856" y="4090"/>
                  <a:pt x="14163" y="4093"/>
                </a:cubicBezTo>
                <a:cubicBezTo>
                  <a:pt x="15412" y="4104"/>
                  <a:pt x="16662" y="4118"/>
                  <a:pt x="17909" y="4118"/>
                </a:cubicBezTo>
                <a:cubicBezTo>
                  <a:pt x="18164" y="4118"/>
                  <a:pt x="18420" y="4118"/>
                  <a:pt x="18678" y="4118"/>
                </a:cubicBezTo>
                <a:cubicBezTo>
                  <a:pt x="19134" y="4118"/>
                  <a:pt x="19587" y="4138"/>
                  <a:pt x="20042" y="4142"/>
                </a:cubicBezTo>
                <a:cubicBezTo>
                  <a:pt x="20285" y="4144"/>
                  <a:pt x="20521" y="4159"/>
                  <a:pt x="20762" y="4167"/>
                </a:cubicBezTo>
                <a:cubicBezTo>
                  <a:pt x="20969" y="4174"/>
                  <a:pt x="21294" y="4217"/>
                  <a:pt x="21481" y="4142"/>
                </a:cubicBezTo>
                <a:cubicBezTo>
                  <a:pt x="21562" y="4109"/>
                  <a:pt x="21546" y="4118"/>
                  <a:pt x="21605" y="4043"/>
                </a:cubicBezTo>
                <a:cubicBezTo>
                  <a:pt x="21661" y="3972"/>
                  <a:pt x="21668" y="3891"/>
                  <a:pt x="21704" y="3820"/>
                </a:cubicBezTo>
                <a:cubicBezTo>
                  <a:pt x="21753" y="3724"/>
                  <a:pt x="21789" y="3619"/>
                  <a:pt x="21828" y="3522"/>
                </a:cubicBezTo>
                <a:cubicBezTo>
                  <a:pt x="21851" y="3465"/>
                  <a:pt x="21878" y="3414"/>
                  <a:pt x="21903" y="3349"/>
                </a:cubicBezTo>
                <a:cubicBezTo>
                  <a:pt x="21911" y="3332"/>
                  <a:pt x="21919" y="3316"/>
                  <a:pt x="21927" y="3299"/>
                </a:cubicBezTo>
                <a:cubicBezTo>
                  <a:pt x="21855" y="3368"/>
                  <a:pt x="21807" y="3432"/>
                  <a:pt x="21729" y="3497"/>
                </a:cubicBezTo>
                <a:cubicBezTo>
                  <a:pt x="21643" y="3569"/>
                  <a:pt x="21548" y="3631"/>
                  <a:pt x="21456" y="3696"/>
                </a:cubicBezTo>
                <a:cubicBezTo>
                  <a:pt x="21412" y="3718"/>
                  <a:pt x="21401" y="3721"/>
                  <a:pt x="21382" y="3746"/>
                </a:cubicBezTo>
                <a:cubicBezTo>
                  <a:pt x="21432" y="3692"/>
                  <a:pt x="21511" y="3625"/>
                  <a:pt x="21555" y="3572"/>
                </a:cubicBezTo>
                <a:cubicBezTo>
                  <a:pt x="21608" y="3508"/>
                  <a:pt x="21652" y="3436"/>
                  <a:pt x="21704" y="3373"/>
                </a:cubicBezTo>
                <a:cubicBezTo>
                  <a:pt x="21741" y="3329"/>
                  <a:pt x="21787" y="3274"/>
                  <a:pt x="21828" y="3225"/>
                </a:cubicBezTo>
                <a:cubicBezTo>
                  <a:pt x="21836" y="3217"/>
                  <a:pt x="21845" y="3208"/>
                  <a:pt x="21853" y="3200"/>
                </a:cubicBezTo>
                <a:cubicBezTo>
                  <a:pt x="21883" y="3248"/>
                  <a:pt x="21883" y="3319"/>
                  <a:pt x="21927" y="3373"/>
                </a:cubicBezTo>
                <a:cubicBezTo>
                  <a:pt x="22020" y="3487"/>
                  <a:pt x="22098" y="3496"/>
                  <a:pt x="22175" y="3621"/>
                </a:cubicBezTo>
                <a:cubicBezTo>
                  <a:pt x="22159" y="3613"/>
                  <a:pt x="22142" y="3605"/>
                  <a:pt x="22126" y="35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5"/>
          <p:cNvSpPr/>
          <p:nvPr/>
        </p:nvSpPr>
        <p:spPr>
          <a:xfrm>
            <a:off x="1089000" y="1598760"/>
            <a:ext cx="3948120" cy="785520"/>
          </a:xfrm>
          <a:custGeom>
            <a:avLst/>
            <a:gdLst/>
            <a:ahLst/>
            <a:rect l="l" t="t" r="r" b="b"/>
            <a:pathLst>
              <a:path w="10965" h="2184">
                <a:moveTo>
                  <a:pt x="5978" y="4762"/>
                </a:moveTo>
                <a:cubicBezTo>
                  <a:pt x="5915" y="4740"/>
                  <a:pt x="5850" y="4710"/>
                  <a:pt x="5779" y="4688"/>
                </a:cubicBezTo>
                <a:cubicBezTo>
                  <a:pt x="5700" y="4663"/>
                  <a:pt x="5638" y="4651"/>
                  <a:pt x="5556" y="4638"/>
                </a:cubicBezTo>
                <a:cubicBezTo>
                  <a:pt x="5471" y="4625"/>
                  <a:pt x="5395" y="4617"/>
                  <a:pt x="5308" y="4614"/>
                </a:cubicBezTo>
                <a:cubicBezTo>
                  <a:pt x="5212" y="4611"/>
                  <a:pt x="5123" y="4630"/>
                  <a:pt x="5035" y="4638"/>
                </a:cubicBezTo>
                <a:cubicBezTo>
                  <a:pt x="4912" y="4649"/>
                  <a:pt x="4781" y="4678"/>
                  <a:pt x="4663" y="4713"/>
                </a:cubicBezTo>
                <a:cubicBezTo>
                  <a:pt x="4561" y="4743"/>
                  <a:pt x="4480" y="4787"/>
                  <a:pt x="4390" y="4837"/>
                </a:cubicBezTo>
                <a:cubicBezTo>
                  <a:pt x="4300" y="4887"/>
                  <a:pt x="4203" y="4927"/>
                  <a:pt x="4118" y="4986"/>
                </a:cubicBezTo>
                <a:cubicBezTo>
                  <a:pt x="3983" y="5080"/>
                  <a:pt x="3867" y="5205"/>
                  <a:pt x="3770" y="5333"/>
                </a:cubicBezTo>
                <a:cubicBezTo>
                  <a:pt x="3704" y="5420"/>
                  <a:pt x="3659" y="5552"/>
                  <a:pt x="3646" y="5655"/>
                </a:cubicBezTo>
                <a:cubicBezTo>
                  <a:pt x="3635" y="5744"/>
                  <a:pt x="3653" y="5823"/>
                  <a:pt x="3671" y="5904"/>
                </a:cubicBezTo>
                <a:cubicBezTo>
                  <a:pt x="3698" y="6026"/>
                  <a:pt x="3733" y="6044"/>
                  <a:pt x="3795" y="6127"/>
                </a:cubicBezTo>
                <a:cubicBezTo>
                  <a:pt x="3851" y="6202"/>
                  <a:pt x="3884" y="6234"/>
                  <a:pt x="3969" y="6276"/>
                </a:cubicBezTo>
                <a:cubicBezTo>
                  <a:pt x="4048" y="6315"/>
                  <a:pt x="4134" y="6346"/>
                  <a:pt x="4217" y="6375"/>
                </a:cubicBezTo>
                <a:cubicBezTo>
                  <a:pt x="4313" y="6408"/>
                  <a:pt x="4415" y="6438"/>
                  <a:pt x="4514" y="6449"/>
                </a:cubicBezTo>
                <a:cubicBezTo>
                  <a:pt x="4742" y="6475"/>
                  <a:pt x="4984" y="6443"/>
                  <a:pt x="5209" y="6424"/>
                </a:cubicBezTo>
                <a:cubicBezTo>
                  <a:pt x="5329" y="6414"/>
                  <a:pt x="5440" y="6404"/>
                  <a:pt x="5556" y="6375"/>
                </a:cubicBezTo>
                <a:cubicBezTo>
                  <a:pt x="5673" y="6345"/>
                  <a:pt x="5772" y="6302"/>
                  <a:pt x="5879" y="6251"/>
                </a:cubicBezTo>
                <a:cubicBezTo>
                  <a:pt x="6017" y="6185"/>
                  <a:pt x="6070" y="6126"/>
                  <a:pt x="6176" y="6028"/>
                </a:cubicBezTo>
                <a:cubicBezTo>
                  <a:pt x="6244" y="5965"/>
                  <a:pt x="6285" y="5911"/>
                  <a:pt x="6325" y="5829"/>
                </a:cubicBezTo>
                <a:cubicBezTo>
                  <a:pt x="6357" y="5764"/>
                  <a:pt x="6402" y="5654"/>
                  <a:pt x="6400" y="5581"/>
                </a:cubicBezTo>
                <a:cubicBezTo>
                  <a:pt x="6398" y="5528"/>
                  <a:pt x="6392" y="5407"/>
                  <a:pt x="6375" y="5358"/>
                </a:cubicBezTo>
                <a:cubicBezTo>
                  <a:pt x="6343" y="5264"/>
                  <a:pt x="6281" y="5187"/>
                  <a:pt x="6226" y="5110"/>
                </a:cubicBezTo>
                <a:cubicBezTo>
                  <a:pt x="6174" y="5038"/>
                  <a:pt x="6121" y="4972"/>
                  <a:pt x="6052" y="4911"/>
                </a:cubicBezTo>
                <a:cubicBezTo>
                  <a:pt x="5974" y="4842"/>
                  <a:pt x="5872" y="4784"/>
                  <a:pt x="5779" y="4738"/>
                </a:cubicBezTo>
                <a:cubicBezTo>
                  <a:pt x="5662" y="4680"/>
                  <a:pt x="5529" y="4664"/>
                  <a:pt x="5407" y="4638"/>
                </a:cubicBezTo>
                <a:cubicBezTo>
                  <a:pt x="5298" y="4614"/>
                  <a:pt x="5199" y="4614"/>
                  <a:pt x="5085" y="4614"/>
                </a:cubicBezTo>
                <a:cubicBezTo>
                  <a:pt x="4986" y="4614"/>
                  <a:pt x="4882" y="4635"/>
                  <a:pt x="4787" y="4663"/>
                </a:cubicBezTo>
                <a:cubicBezTo>
                  <a:pt x="4620" y="4713"/>
                  <a:pt x="4411" y="4768"/>
                  <a:pt x="4266" y="4862"/>
                </a:cubicBezTo>
                <a:cubicBezTo>
                  <a:pt x="4191" y="4911"/>
                  <a:pt x="4110" y="4975"/>
                  <a:pt x="4043" y="5035"/>
                </a:cubicBezTo>
                <a:cubicBezTo>
                  <a:pt x="3979" y="5092"/>
                  <a:pt x="3918" y="5164"/>
                  <a:pt x="3870" y="5234"/>
                </a:cubicBezTo>
                <a:cubicBezTo>
                  <a:pt x="3824" y="5301"/>
                  <a:pt x="3775" y="5380"/>
                  <a:pt x="3746" y="5457"/>
                </a:cubicBezTo>
                <a:cubicBezTo>
                  <a:pt x="3718" y="5532"/>
                  <a:pt x="3699" y="5598"/>
                  <a:pt x="3696" y="5680"/>
                </a:cubicBezTo>
                <a:cubicBezTo>
                  <a:pt x="3693" y="5771"/>
                  <a:pt x="3702" y="5844"/>
                  <a:pt x="3721" y="5928"/>
                </a:cubicBezTo>
                <a:cubicBezTo>
                  <a:pt x="3741" y="6018"/>
                  <a:pt x="3760" y="6053"/>
                  <a:pt x="3820" y="6127"/>
                </a:cubicBezTo>
                <a:cubicBezTo>
                  <a:pt x="3882" y="6205"/>
                  <a:pt x="3963" y="6270"/>
                  <a:pt x="4043" y="6325"/>
                </a:cubicBezTo>
                <a:cubicBezTo>
                  <a:pt x="4124" y="6381"/>
                  <a:pt x="4195" y="6416"/>
                  <a:pt x="4291" y="6449"/>
                </a:cubicBezTo>
                <a:cubicBezTo>
                  <a:pt x="4416" y="6492"/>
                  <a:pt x="4537" y="6520"/>
                  <a:pt x="4663" y="6548"/>
                </a:cubicBezTo>
                <a:cubicBezTo>
                  <a:pt x="4773" y="6572"/>
                  <a:pt x="4871" y="6573"/>
                  <a:pt x="4986" y="6573"/>
                </a:cubicBezTo>
                <a:cubicBezTo>
                  <a:pt x="5114" y="6573"/>
                  <a:pt x="5210" y="6561"/>
                  <a:pt x="5333" y="6524"/>
                </a:cubicBezTo>
                <a:cubicBezTo>
                  <a:pt x="5460" y="6486"/>
                  <a:pt x="5590" y="6439"/>
                  <a:pt x="5705" y="6375"/>
                </a:cubicBezTo>
                <a:cubicBezTo>
                  <a:pt x="5792" y="6326"/>
                  <a:pt x="5884" y="6247"/>
                  <a:pt x="5953" y="6176"/>
                </a:cubicBezTo>
                <a:cubicBezTo>
                  <a:pt x="6019" y="6108"/>
                  <a:pt x="6079" y="6033"/>
                  <a:pt x="6127" y="5953"/>
                </a:cubicBezTo>
                <a:cubicBezTo>
                  <a:pt x="6165" y="5889"/>
                  <a:pt x="6209" y="5801"/>
                  <a:pt x="6226" y="5730"/>
                </a:cubicBezTo>
                <a:cubicBezTo>
                  <a:pt x="6252" y="5618"/>
                  <a:pt x="6211" y="5487"/>
                  <a:pt x="6201" y="5383"/>
                </a:cubicBezTo>
                <a:cubicBezTo>
                  <a:pt x="6192" y="5296"/>
                  <a:pt x="6173" y="5237"/>
                  <a:pt x="6127" y="5159"/>
                </a:cubicBezTo>
                <a:cubicBezTo>
                  <a:pt x="6084" y="5086"/>
                  <a:pt x="6028" y="5028"/>
                  <a:pt x="5978" y="4961"/>
                </a:cubicBezTo>
                <a:cubicBezTo>
                  <a:pt x="5927" y="4892"/>
                  <a:pt x="5878" y="4835"/>
                  <a:pt x="5804" y="4787"/>
                </a:cubicBezTo>
                <a:cubicBezTo>
                  <a:pt x="5737" y="4743"/>
                  <a:pt x="5654" y="4718"/>
                  <a:pt x="5581" y="4688"/>
                </a:cubicBezTo>
                <a:cubicBezTo>
                  <a:pt x="5501" y="4655"/>
                  <a:pt x="5419" y="4626"/>
                  <a:pt x="5333" y="4614"/>
                </a:cubicBezTo>
                <a:cubicBezTo>
                  <a:pt x="5219" y="4599"/>
                  <a:pt x="5095" y="4615"/>
                  <a:pt x="4986" y="4638"/>
                </a:cubicBezTo>
                <a:cubicBezTo>
                  <a:pt x="4882" y="4660"/>
                  <a:pt x="4762" y="4687"/>
                  <a:pt x="4663" y="4738"/>
                </a:cubicBezTo>
                <a:cubicBezTo>
                  <a:pt x="4579" y="4781"/>
                  <a:pt x="4494" y="4837"/>
                  <a:pt x="4415" y="4887"/>
                </a:cubicBezTo>
                <a:cubicBezTo>
                  <a:pt x="4328" y="4942"/>
                  <a:pt x="4265" y="5014"/>
                  <a:pt x="4192" y="5085"/>
                </a:cubicBezTo>
                <a:cubicBezTo>
                  <a:pt x="4133" y="5142"/>
                  <a:pt x="4059" y="5212"/>
                  <a:pt x="4018" y="5283"/>
                </a:cubicBezTo>
                <a:cubicBezTo>
                  <a:pt x="3965" y="5375"/>
                  <a:pt x="3894" y="5528"/>
                  <a:pt x="3870" y="5631"/>
                </a:cubicBezTo>
                <a:cubicBezTo>
                  <a:pt x="3856" y="5689"/>
                  <a:pt x="3838" y="5822"/>
                  <a:pt x="3845" y="5879"/>
                </a:cubicBezTo>
                <a:cubicBezTo>
                  <a:pt x="3856" y="5971"/>
                  <a:pt x="3878" y="6040"/>
                  <a:pt x="3919" y="6127"/>
                </a:cubicBezTo>
                <a:cubicBezTo>
                  <a:pt x="3953" y="6199"/>
                  <a:pt x="3985" y="6256"/>
                  <a:pt x="4043" y="6325"/>
                </a:cubicBezTo>
                <a:cubicBezTo>
                  <a:pt x="4099" y="6391"/>
                  <a:pt x="4166" y="6435"/>
                  <a:pt x="4242" y="6474"/>
                </a:cubicBezTo>
                <a:cubicBezTo>
                  <a:pt x="4325" y="6517"/>
                  <a:pt x="4425" y="6543"/>
                  <a:pt x="4514" y="6573"/>
                </a:cubicBezTo>
                <a:cubicBezTo>
                  <a:pt x="4617" y="6607"/>
                  <a:pt x="4729" y="6619"/>
                  <a:pt x="4837" y="6623"/>
                </a:cubicBezTo>
                <a:cubicBezTo>
                  <a:pt x="5007" y="6629"/>
                  <a:pt x="5167" y="6615"/>
                  <a:pt x="5333" y="6598"/>
                </a:cubicBezTo>
                <a:cubicBezTo>
                  <a:pt x="5471" y="6584"/>
                  <a:pt x="5598" y="6543"/>
                  <a:pt x="5730" y="6499"/>
                </a:cubicBezTo>
                <a:cubicBezTo>
                  <a:pt x="5831" y="6465"/>
                  <a:pt x="5914" y="6416"/>
                  <a:pt x="6003" y="6375"/>
                </a:cubicBezTo>
                <a:cubicBezTo>
                  <a:pt x="6088" y="6336"/>
                  <a:pt x="6159" y="6293"/>
                  <a:pt x="6226" y="6226"/>
                </a:cubicBezTo>
                <a:cubicBezTo>
                  <a:pt x="6274" y="6178"/>
                  <a:pt x="6325" y="6093"/>
                  <a:pt x="6350" y="6028"/>
                </a:cubicBezTo>
                <a:cubicBezTo>
                  <a:pt x="6376" y="5962"/>
                  <a:pt x="6393" y="5899"/>
                  <a:pt x="6400" y="5829"/>
                </a:cubicBezTo>
                <a:cubicBezTo>
                  <a:pt x="6408" y="5745"/>
                  <a:pt x="6390" y="5682"/>
                  <a:pt x="6375" y="5606"/>
                </a:cubicBezTo>
                <a:cubicBezTo>
                  <a:pt x="6352" y="5494"/>
                  <a:pt x="6315" y="5383"/>
                  <a:pt x="6251" y="5283"/>
                </a:cubicBezTo>
                <a:cubicBezTo>
                  <a:pt x="6206" y="5212"/>
                  <a:pt x="6158" y="5148"/>
                  <a:pt x="6102" y="5085"/>
                </a:cubicBezTo>
                <a:cubicBezTo>
                  <a:pt x="6054" y="5031"/>
                  <a:pt x="5981" y="4927"/>
                  <a:pt x="5928" y="4887"/>
                </a:cubicBezTo>
                <a:cubicBezTo>
                  <a:pt x="5867" y="4841"/>
                  <a:pt x="5750" y="4791"/>
                  <a:pt x="5680" y="4762"/>
                </a:cubicBezTo>
                <a:cubicBezTo>
                  <a:pt x="5571" y="4716"/>
                  <a:pt x="5468" y="4690"/>
                  <a:pt x="5358" y="4663"/>
                </a:cubicBezTo>
                <a:cubicBezTo>
                  <a:pt x="5216" y="4629"/>
                  <a:pt x="5054" y="4626"/>
                  <a:pt x="4911" y="4663"/>
                </a:cubicBezTo>
                <a:cubicBezTo>
                  <a:pt x="4829" y="4684"/>
                  <a:pt x="4740" y="4710"/>
                  <a:pt x="4663" y="4738"/>
                </a:cubicBezTo>
                <a:cubicBezTo>
                  <a:pt x="4614" y="4762"/>
                  <a:pt x="4597" y="4770"/>
                  <a:pt x="4564" y="4787"/>
                </a:cubicBezTo>
              </a:path>
              <a:path w="10965" h="2184">
                <a:moveTo>
                  <a:pt x="4986" y="4663"/>
                </a:moveTo>
                <a:cubicBezTo>
                  <a:pt x="4941" y="4607"/>
                  <a:pt x="4918" y="4582"/>
                  <a:pt x="4862" y="4539"/>
                </a:cubicBezTo>
                <a:cubicBezTo>
                  <a:pt x="4829" y="4514"/>
                  <a:pt x="4734" y="4473"/>
                  <a:pt x="4688" y="4465"/>
                </a:cubicBezTo>
                <a:cubicBezTo>
                  <a:pt x="4588" y="4448"/>
                  <a:pt x="4493" y="4440"/>
                  <a:pt x="4390" y="4440"/>
                </a:cubicBezTo>
                <a:cubicBezTo>
                  <a:pt x="4272" y="4440"/>
                  <a:pt x="4181" y="4474"/>
                  <a:pt x="4068" y="4490"/>
                </a:cubicBezTo>
                <a:cubicBezTo>
                  <a:pt x="3953" y="4507"/>
                  <a:pt x="3877" y="4540"/>
                  <a:pt x="3770" y="4589"/>
                </a:cubicBezTo>
                <a:cubicBezTo>
                  <a:pt x="3706" y="4618"/>
                  <a:pt x="3623" y="4669"/>
                  <a:pt x="3572" y="4713"/>
                </a:cubicBezTo>
                <a:cubicBezTo>
                  <a:pt x="3521" y="4757"/>
                  <a:pt x="3470" y="4790"/>
                  <a:pt x="3423" y="4837"/>
                </a:cubicBezTo>
                <a:cubicBezTo>
                  <a:pt x="3383" y="4877"/>
                  <a:pt x="3340" y="4899"/>
                  <a:pt x="3299" y="4936"/>
                </a:cubicBezTo>
                <a:cubicBezTo>
                  <a:pt x="3269" y="4966"/>
                  <a:pt x="3255" y="4971"/>
                  <a:pt x="3225" y="4936"/>
                </a:cubicBezTo>
              </a:path>
              <a:path w="10965" h="2184">
                <a:moveTo>
                  <a:pt x="3076" y="4713"/>
                </a:moveTo>
                <a:cubicBezTo>
                  <a:pt x="3068" y="4809"/>
                  <a:pt x="3040" y="4892"/>
                  <a:pt x="3026" y="4986"/>
                </a:cubicBezTo>
                <a:cubicBezTo>
                  <a:pt x="3019" y="5033"/>
                  <a:pt x="3026" y="5087"/>
                  <a:pt x="3026" y="5135"/>
                </a:cubicBezTo>
                <a:cubicBezTo>
                  <a:pt x="3084" y="5096"/>
                  <a:pt x="3146" y="5087"/>
                  <a:pt x="3200" y="5060"/>
                </a:cubicBezTo>
                <a:cubicBezTo>
                  <a:pt x="3267" y="5027"/>
                  <a:pt x="3347" y="4978"/>
                  <a:pt x="3423" y="4961"/>
                </a:cubicBezTo>
                <a:cubicBezTo>
                  <a:pt x="3477" y="4949"/>
                  <a:pt x="3486" y="4938"/>
                  <a:pt x="3497" y="4961"/>
                </a:cubicBezTo>
              </a:path>
              <a:path w="10965" h="2184">
                <a:moveTo>
                  <a:pt x="6672" y="5531"/>
                </a:moveTo>
                <a:cubicBezTo>
                  <a:pt x="6846" y="5531"/>
                  <a:pt x="7019" y="5531"/>
                  <a:pt x="7193" y="5531"/>
                </a:cubicBezTo>
              </a:path>
              <a:path w="10965" h="2184">
                <a:moveTo>
                  <a:pt x="6747" y="5705"/>
                </a:moveTo>
                <a:cubicBezTo>
                  <a:pt x="6815" y="5739"/>
                  <a:pt x="6889" y="5730"/>
                  <a:pt x="6970" y="5730"/>
                </a:cubicBezTo>
                <a:cubicBezTo>
                  <a:pt x="7020" y="5730"/>
                  <a:pt x="7069" y="5730"/>
                  <a:pt x="7119" y="5730"/>
                </a:cubicBezTo>
              </a:path>
              <a:path w="10965" h="2184">
                <a:moveTo>
                  <a:pt x="7838" y="4936"/>
                </a:moveTo>
                <a:cubicBezTo>
                  <a:pt x="7818" y="5008"/>
                  <a:pt x="7800" y="5088"/>
                  <a:pt x="7789" y="5159"/>
                </a:cubicBezTo>
                <a:cubicBezTo>
                  <a:pt x="7777" y="5234"/>
                  <a:pt x="7753" y="5269"/>
                  <a:pt x="7714" y="5333"/>
                </a:cubicBezTo>
                <a:cubicBezTo>
                  <a:pt x="7692" y="5376"/>
                  <a:pt x="7689" y="5388"/>
                  <a:pt x="7665" y="5407"/>
                </a:cubicBezTo>
                <a:cubicBezTo>
                  <a:pt x="7732" y="5448"/>
                  <a:pt x="7785" y="5413"/>
                  <a:pt x="7863" y="5432"/>
                </a:cubicBezTo>
                <a:cubicBezTo>
                  <a:pt x="7953" y="5454"/>
                  <a:pt x="7974" y="5444"/>
                  <a:pt x="8062" y="5432"/>
                </a:cubicBezTo>
                <a:cubicBezTo>
                  <a:pt x="8139" y="5422"/>
                  <a:pt x="8151" y="5430"/>
                  <a:pt x="8210" y="5383"/>
                </a:cubicBezTo>
              </a:path>
              <a:path w="10965" h="2184">
                <a:moveTo>
                  <a:pt x="8161" y="4787"/>
                </a:moveTo>
                <a:cubicBezTo>
                  <a:pt x="8132" y="4865"/>
                  <a:pt x="8136" y="4926"/>
                  <a:pt x="8136" y="5011"/>
                </a:cubicBezTo>
                <a:cubicBezTo>
                  <a:pt x="8136" y="5116"/>
                  <a:pt x="8129" y="5254"/>
                  <a:pt x="8111" y="5358"/>
                </a:cubicBezTo>
                <a:cubicBezTo>
                  <a:pt x="8096" y="5447"/>
                  <a:pt x="8073" y="5544"/>
                  <a:pt x="8062" y="5631"/>
                </a:cubicBezTo>
                <a:cubicBezTo>
                  <a:pt x="8055" y="5685"/>
                  <a:pt x="8036" y="5897"/>
                  <a:pt x="8086" y="5928"/>
                </a:cubicBezTo>
                <a:cubicBezTo>
                  <a:pt x="8094" y="5928"/>
                  <a:pt x="8103" y="5928"/>
                  <a:pt x="8111" y="5928"/>
                </a:cubicBezTo>
              </a:path>
              <a:path w="10965" h="2184">
                <a:moveTo>
                  <a:pt x="8359" y="5432"/>
                </a:moveTo>
                <a:cubicBezTo>
                  <a:pt x="8467" y="5432"/>
                  <a:pt x="8574" y="5432"/>
                  <a:pt x="8682" y="5432"/>
                </a:cubicBezTo>
              </a:path>
              <a:path w="10965" h="2184">
                <a:moveTo>
                  <a:pt x="8905" y="5333"/>
                </a:moveTo>
                <a:cubicBezTo>
                  <a:pt x="8955" y="5432"/>
                  <a:pt x="9004" y="5532"/>
                  <a:pt x="9054" y="5631"/>
                </a:cubicBezTo>
                <a:cubicBezTo>
                  <a:pt x="9085" y="5692"/>
                  <a:pt x="9145" y="5745"/>
                  <a:pt x="9203" y="5779"/>
                </a:cubicBezTo>
                <a:cubicBezTo>
                  <a:pt x="9283" y="5826"/>
                  <a:pt x="9309" y="5849"/>
                  <a:pt x="9401" y="5829"/>
                </a:cubicBezTo>
              </a:path>
              <a:path w="10965" h="2184">
                <a:moveTo>
                  <a:pt x="9227" y="5234"/>
                </a:moveTo>
                <a:cubicBezTo>
                  <a:pt x="9156" y="5313"/>
                  <a:pt x="9086" y="5391"/>
                  <a:pt x="9029" y="5482"/>
                </a:cubicBezTo>
                <a:cubicBezTo>
                  <a:pt x="8985" y="5552"/>
                  <a:pt x="8965" y="5631"/>
                  <a:pt x="8930" y="5705"/>
                </a:cubicBezTo>
                <a:cubicBezTo>
                  <a:pt x="8903" y="5762"/>
                  <a:pt x="8879" y="5831"/>
                  <a:pt x="8855" y="5879"/>
                </a:cubicBezTo>
                <a:cubicBezTo>
                  <a:pt x="8847" y="5887"/>
                  <a:pt x="8838" y="5896"/>
                  <a:pt x="8830" y="5904"/>
                </a:cubicBezTo>
              </a:path>
              <a:path w="10965" h="2184">
                <a:moveTo>
                  <a:pt x="9252" y="4936"/>
                </a:moveTo>
                <a:cubicBezTo>
                  <a:pt x="9328" y="4884"/>
                  <a:pt x="9362" y="4833"/>
                  <a:pt x="9451" y="4887"/>
                </a:cubicBezTo>
                <a:cubicBezTo>
                  <a:pt x="9523" y="4931"/>
                  <a:pt x="9430" y="5024"/>
                  <a:pt x="9401" y="5060"/>
                </a:cubicBezTo>
                <a:cubicBezTo>
                  <a:pt x="9361" y="5110"/>
                  <a:pt x="9296" y="5120"/>
                  <a:pt x="9277" y="5184"/>
                </a:cubicBezTo>
                <a:cubicBezTo>
                  <a:pt x="9250" y="5277"/>
                  <a:pt x="9365" y="5280"/>
                  <a:pt x="9426" y="5283"/>
                </a:cubicBezTo>
                <a:cubicBezTo>
                  <a:pt x="9477" y="5283"/>
                  <a:pt x="9495" y="5282"/>
                  <a:pt x="9525" y="5259"/>
                </a:cubicBezTo>
              </a:path>
              <a:path w="10965" h="2184">
                <a:moveTo>
                  <a:pt x="9823" y="5135"/>
                </a:moveTo>
                <a:cubicBezTo>
                  <a:pt x="9823" y="5296"/>
                  <a:pt x="9822" y="5453"/>
                  <a:pt x="9847" y="5606"/>
                </a:cubicBezTo>
                <a:cubicBezTo>
                  <a:pt x="9847" y="5622"/>
                  <a:pt x="9847" y="5639"/>
                  <a:pt x="9847" y="5655"/>
                </a:cubicBezTo>
              </a:path>
              <a:path w="10965" h="2184">
                <a:moveTo>
                  <a:pt x="9599" y="5457"/>
                </a:moveTo>
                <a:cubicBezTo>
                  <a:pt x="9722" y="5438"/>
                  <a:pt x="9824" y="5432"/>
                  <a:pt x="9947" y="5432"/>
                </a:cubicBezTo>
                <a:cubicBezTo>
                  <a:pt x="9963" y="5432"/>
                  <a:pt x="9980" y="5432"/>
                  <a:pt x="9996" y="5432"/>
                </a:cubicBezTo>
              </a:path>
              <a:path w="10965" h="2184">
                <a:moveTo>
                  <a:pt x="10443" y="4887"/>
                </a:moveTo>
                <a:cubicBezTo>
                  <a:pt x="10435" y="4895"/>
                  <a:pt x="10426" y="4903"/>
                  <a:pt x="10418" y="4911"/>
                </a:cubicBezTo>
                <a:cubicBezTo>
                  <a:pt x="10468" y="4936"/>
                  <a:pt x="10472" y="4907"/>
                  <a:pt x="10517" y="4862"/>
                </a:cubicBezTo>
                <a:cubicBezTo>
                  <a:pt x="10556" y="4823"/>
                  <a:pt x="10602" y="4767"/>
                  <a:pt x="10666" y="4787"/>
                </a:cubicBezTo>
                <a:cubicBezTo>
                  <a:pt x="10716" y="4802"/>
                  <a:pt x="10775" y="4854"/>
                  <a:pt x="10765" y="4911"/>
                </a:cubicBezTo>
                <a:cubicBezTo>
                  <a:pt x="10749" y="5000"/>
                  <a:pt x="10723" y="5099"/>
                  <a:pt x="10691" y="5184"/>
                </a:cubicBezTo>
                <a:cubicBezTo>
                  <a:pt x="10663" y="5258"/>
                  <a:pt x="10608" y="5319"/>
                  <a:pt x="10567" y="5383"/>
                </a:cubicBezTo>
                <a:cubicBezTo>
                  <a:pt x="10526" y="5447"/>
                  <a:pt x="10483" y="5503"/>
                  <a:pt x="10443" y="5556"/>
                </a:cubicBezTo>
                <a:cubicBezTo>
                  <a:pt x="10417" y="5591"/>
                  <a:pt x="10354" y="5691"/>
                  <a:pt x="10344" y="5730"/>
                </a:cubicBezTo>
                <a:cubicBezTo>
                  <a:pt x="10331" y="5779"/>
                  <a:pt x="10326" y="5804"/>
                  <a:pt x="10319" y="5854"/>
                </a:cubicBezTo>
                <a:cubicBezTo>
                  <a:pt x="10396" y="5825"/>
                  <a:pt x="10457" y="5829"/>
                  <a:pt x="10542" y="5829"/>
                </a:cubicBezTo>
                <a:cubicBezTo>
                  <a:pt x="10612" y="5829"/>
                  <a:pt x="10667" y="5854"/>
                  <a:pt x="10740" y="5854"/>
                </a:cubicBezTo>
                <a:cubicBezTo>
                  <a:pt x="10796" y="5854"/>
                  <a:pt x="10844" y="5831"/>
                  <a:pt x="10889" y="5804"/>
                </a:cubicBezTo>
              </a:path>
              <a:path w="10965" h="2184">
                <a:moveTo>
                  <a:pt x="11038" y="5358"/>
                </a:moveTo>
                <a:cubicBezTo>
                  <a:pt x="11120" y="5335"/>
                  <a:pt x="11175" y="5333"/>
                  <a:pt x="11261" y="5333"/>
                </a:cubicBezTo>
              </a:path>
              <a:path w="10965" h="2184">
                <a:moveTo>
                  <a:pt x="11013" y="5507"/>
                </a:moveTo>
                <a:cubicBezTo>
                  <a:pt x="11105" y="5556"/>
                  <a:pt x="11135" y="5556"/>
                  <a:pt x="11237" y="5556"/>
                </a:cubicBezTo>
                <a:cubicBezTo>
                  <a:pt x="11253" y="5556"/>
                  <a:pt x="11270" y="5556"/>
                  <a:pt x="11286" y="5556"/>
                </a:cubicBezTo>
              </a:path>
              <a:path w="10965" h="2184">
                <a:moveTo>
                  <a:pt x="11881" y="4787"/>
                </a:moveTo>
                <a:cubicBezTo>
                  <a:pt x="11837" y="4891"/>
                  <a:pt x="11812" y="4962"/>
                  <a:pt x="11757" y="5060"/>
                </a:cubicBezTo>
                <a:cubicBezTo>
                  <a:pt x="11706" y="5150"/>
                  <a:pt x="11704" y="5239"/>
                  <a:pt x="11683" y="5333"/>
                </a:cubicBezTo>
                <a:cubicBezTo>
                  <a:pt x="11660" y="5435"/>
                  <a:pt x="11644" y="5505"/>
                  <a:pt x="11683" y="5606"/>
                </a:cubicBezTo>
                <a:cubicBezTo>
                  <a:pt x="11713" y="5684"/>
                  <a:pt x="11788" y="5738"/>
                  <a:pt x="11857" y="5779"/>
                </a:cubicBezTo>
                <a:cubicBezTo>
                  <a:pt x="11943" y="5831"/>
                  <a:pt x="12006" y="5829"/>
                  <a:pt x="12105" y="5829"/>
                </a:cubicBezTo>
                <a:cubicBezTo>
                  <a:pt x="12190" y="5829"/>
                  <a:pt x="12243" y="5785"/>
                  <a:pt x="12303" y="5730"/>
                </a:cubicBezTo>
                <a:cubicBezTo>
                  <a:pt x="12345" y="5691"/>
                  <a:pt x="12376" y="5614"/>
                  <a:pt x="12353" y="5556"/>
                </a:cubicBezTo>
                <a:cubicBezTo>
                  <a:pt x="12339" y="5521"/>
                  <a:pt x="12289" y="5455"/>
                  <a:pt x="12254" y="5432"/>
                </a:cubicBezTo>
                <a:cubicBezTo>
                  <a:pt x="12179" y="5384"/>
                  <a:pt x="12135" y="5402"/>
                  <a:pt x="12080" y="5457"/>
                </a:cubicBezTo>
                <a:cubicBezTo>
                  <a:pt x="12009" y="5529"/>
                  <a:pt x="12028" y="5591"/>
                  <a:pt x="12055" y="5680"/>
                </a:cubicBezTo>
                <a:cubicBezTo>
                  <a:pt x="12078" y="5757"/>
                  <a:pt x="12111" y="5786"/>
                  <a:pt x="12154" y="5829"/>
                </a:cubicBezTo>
              </a:path>
              <a:path w="10965" h="2184">
                <a:moveTo>
                  <a:pt x="12402" y="5358"/>
                </a:moveTo>
                <a:cubicBezTo>
                  <a:pt x="12507" y="5332"/>
                  <a:pt x="12625" y="5335"/>
                  <a:pt x="12725" y="5308"/>
                </a:cubicBezTo>
                <a:cubicBezTo>
                  <a:pt x="12741" y="5300"/>
                  <a:pt x="12758" y="5291"/>
                  <a:pt x="12774" y="5283"/>
                </a:cubicBezTo>
              </a:path>
              <a:path w="10965" h="2184">
                <a:moveTo>
                  <a:pt x="12973" y="5110"/>
                </a:moveTo>
                <a:cubicBezTo>
                  <a:pt x="12987" y="5208"/>
                  <a:pt x="13017" y="5282"/>
                  <a:pt x="13072" y="5383"/>
                </a:cubicBezTo>
                <a:cubicBezTo>
                  <a:pt x="13117" y="5465"/>
                  <a:pt x="13171" y="5548"/>
                  <a:pt x="13246" y="5606"/>
                </a:cubicBezTo>
                <a:cubicBezTo>
                  <a:pt x="13327" y="5669"/>
                  <a:pt x="13396" y="5731"/>
                  <a:pt x="13469" y="5804"/>
                </a:cubicBezTo>
                <a:cubicBezTo>
                  <a:pt x="13502" y="5837"/>
                  <a:pt x="13523" y="5829"/>
                  <a:pt x="13568" y="5829"/>
                </a:cubicBezTo>
              </a:path>
              <a:path w="10965" h="2184">
                <a:moveTo>
                  <a:pt x="13345" y="5110"/>
                </a:moveTo>
                <a:cubicBezTo>
                  <a:pt x="13260" y="5200"/>
                  <a:pt x="13181" y="5276"/>
                  <a:pt x="13122" y="5383"/>
                </a:cubicBezTo>
                <a:cubicBezTo>
                  <a:pt x="13075" y="5467"/>
                  <a:pt x="12966" y="5616"/>
                  <a:pt x="12948" y="5705"/>
                </a:cubicBezTo>
                <a:cubicBezTo>
                  <a:pt x="12942" y="5735"/>
                  <a:pt x="12900" y="5872"/>
                  <a:pt x="12948" y="5755"/>
                </a:cubicBezTo>
              </a:path>
              <a:path w="10965" h="2184">
                <a:moveTo>
                  <a:pt x="13370" y="4663"/>
                </a:moveTo>
                <a:cubicBezTo>
                  <a:pt x="13477" y="4647"/>
                  <a:pt x="13556" y="4616"/>
                  <a:pt x="13643" y="4663"/>
                </a:cubicBezTo>
                <a:cubicBezTo>
                  <a:pt x="13706" y="4697"/>
                  <a:pt x="13732" y="4749"/>
                  <a:pt x="13692" y="4812"/>
                </a:cubicBezTo>
                <a:cubicBezTo>
                  <a:pt x="13658" y="4866"/>
                  <a:pt x="13611" y="4938"/>
                  <a:pt x="13568" y="4986"/>
                </a:cubicBezTo>
                <a:cubicBezTo>
                  <a:pt x="13547" y="5009"/>
                  <a:pt x="13466" y="5088"/>
                  <a:pt x="13543" y="5110"/>
                </a:cubicBezTo>
                <a:cubicBezTo>
                  <a:pt x="13669" y="5145"/>
                  <a:pt x="13858" y="5110"/>
                  <a:pt x="13990" y="51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Ink 6"/>
          <p:cNvSpPr/>
          <p:nvPr/>
        </p:nvSpPr>
        <p:spPr>
          <a:xfrm>
            <a:off x="6429240" y="1509840"/>
            <a:ext cx="1554120" cy="347400"/>
          </a:xfrm>
          <a:custGeom>
            <a:avLst/>
            <a:gdLst/>
            <a:ahLst/>
            <a:rect l="l" t="t" r="r" b="b"/>
            <a:pathLst>
              <a:path w="4317" h="968">
                <a:moveTo>
                  <a:pt x="18107" y="4217"/>
                </a:moveTo>
                <a:cubicBezTo>
                  <a:pt x="18058" y="4280"/>
                  <a:pt x="18045" y="4346"/>
                  <a:pt x="18008" y="4415"/>
                </a:cubicBezTo>
                <a:cubicBezTo>
                  <a:pt x="17951" y="4522"/>
                  <a:pt x="17922" y="4621"/>
                  <a:pt x="17884" y="4738"/>
                </a:cubicBezTo>
                <a:cubicBezTo>
                  <a:pt x="17848" y="4848"/>
                  <a:pt x="17860" y="4908"/>
                  <a:pt x="17909" y="5011"/>
                </a:cubicBezTo>
                <a:cubicBezTo>
                  <a:pt x="17928" y="5051"/>
                  <a:pt x="18007" y="5162"/>
                  <a:pt x="18058" y="5159"/>
                </a:cubicBezTo>
                <a:cubicBezTo>
                  <a:pt x="18074" y="5151"/>
                  <a:pt x="18091" y="5143"/>
                  <a:pt x="18107" y="5135"/>
                </a:cubicBezTo>
              </a:path>
              <a:path w="4317" h="968">
                <a:moveTo>
                  <a:pt x="18355" y="4564"/>
                </a:moveTo>
                <a:cubicBezTo>
                  <a:pt x="18465" y="4686"/>
                  <a:pt x="18558" y="4759"/>
                  <a:pt x="18678" y="4862"/>
                </a:cubicBezTo>
                <a:cubicBezTo>
                  <a:pt x="18743" y="4918"/>
                  <a:pt x="18788" y="4956"/>
                  <a:pt x="18876" y="4961"/>
                </a:cubicBezTo>
                <a:cubicBezTo>
                  <a:pt x="18893" y="4961"/>
                  <a:pt x="18909" y="4961"/>
                  <a:pt x="18926" y="4961"/>
                </a:cubicBezTo>
              </a:path>
              <a:path w="4317" h="968">
                <a:moveTo>
                  <a:pt x="18752" y="4490"/>
                </a:moveTo>
                <a:cubicBezTo>
                  <a:pt x="18679" y="4563"/>
                  <a:pt x="18636" y="4632"/>
                  <a:pt x="18579" y="4713"/>
                </a:cubicBezTo>
                <a:cubicBezTo>
                  <a:pt x="18521" y="4795"/>
                  <a:pt x="18491" y="4882"/>
                  <a:pt x="18430" y="4961"/>
                </a:cubicBezTo>
                <a:cubicBezTo>
                  <a:pt x="18402" y="4989"/>
                  <a:pt x="18393" y="5002"/>
                  <a:pt x="18405" y="5035"/>
                </a:cubicBezTo>
              </a:path>
              <a:path w="4317" h="968">
                <a:moveTo>
                  <a:pt x="18951" y="4614"/>
                </a:moveTo>
                <a:cubicBezTo>
                  <a:pt x="18972" y="4704"/>
                  <a:pt x="19010" y="4799"/>
                  <a:pt x="19025" y="4887"/>
                </a:cubicBezTo>
                <a:cubicBezTo>
                  <a:pt x="19025" y="4931"/>
                  <a:pt x="19022" y="4945"/>
                  <a:pt x="19050" y="4961"/>
                </a:cubicBezTo>
              </a:path>
              <a:path w="4317" h="968">
                <a:moveTo>
                  <a:pt x="18802" y="4787"/>
                </a:moveTo>
                <a:cubicBezTo>
                  <a:pt x="18873" y="4756"/>
                  <a:pt x="18990" y="4749"/>
                  <a:pt x="19075" y="4738"/>
                </a:cubicBezTo>
                <a:cubicBezTo>
                  <a:pt x="19091" y="4738"/>
                  <a:pt x="19108" y="4738"/>
                  <a:pt x="19124" y="4738"/>
                </a:cubicBezTo>
              </a:path>
              <a:path w="4317" h="968">
                <a:moveTo>
                  <a:pt x="19472" y="4415"/>
                </a:moveTo>
                <a:cubicBezTo>
                  <a:pt x="19586" y="4382"/>
                  <a:pt x="19678" y="4335"/>
                  <a:pt x="19695" y="4490"/>
                </a:cubicBezTo>
                <a:cubicBezTo>
                  <a:pt x="19706" y="4587"/>
                  <a:pt x="19582" y="4635"/>
                  <a:pt x="19521" y="4688"/>
                </a:cubicBezTo>
                <a:cubicBezTo>
                  <a:pt x="19486" y="4718"/>
                  <a:pt x="19323" y="4783"/>
                  <a:pt x="19323" y="4837"/>
                </a:cubicBezTo>
                <a:cubicBezTo>
                  <a:pt x="19323" y="4947"/>
                  <a:pt x="19462" y="4926"/>
                  <a:pt x="19521" y="4911"/>
                </a:cubicBezTo>
                <a:cubicBezTo>
                  <a:pt x="19546" y="4903"/>
                  <a:pt x="19571" y="4895"/>
                  <a:pt x="19596" y="4887"/>
                </a:cubicBezTo>
              </a:path>
              <a:path w="4317" h="968">
                <a:moveTo>
                  <a:pt x="19844" y="4316"/>
                </a:moveTo>
                <a:cubicBezTo>
                  <a:pt x="19909" y="4381"/>
                  <a:pt x="19974" y="4471"/>
                  <a:pt x="19993" y="4564"/>
                </a:cubicBezTo>
                <a:cubicBezTo>
                  <a:pt x="20013" y="4665"/>
                  <a:pt x="20003" y="4814"/>
                  <a:pt x="19968" y="4911"/>
                </a:cubicBezTo>
                <a:cubicBezTo>
                  <a:pt x="19955" y="4946"/>
                  <a:pt x="19866" y="5039"/>
                  <a:pt x="19819" y="5035"/>
                </a:cubicBezTo>
                <a:cubicBezTo>
                  <a:pt x="19796" y="5013"/>
                  <a:pt x="19788" y="5008"/>
                  <a:pt x="19794" y="4986"/>
                </a:cubicBezTo>
              </a:path>
              <a:path w="4317" h="968">
                <a:moveTo>
                  <a:pt x="20166" y="4341"/>
                </a:moveTo>
                <a:cubicBezTo>
                  <a:pt x="20173" y="4447"/>
                  <a:pt x="20173" y="4588"/>
                  <a:pt x="20216" y="4688"/>
                </a:cubicBezTo>
                <a:cubicBezTo>
                  <a:pt x="20269" y="4811"/>
                  <a:pt x="20396" y="4914"/>
                  <a:pt x="20513" y="4961"/>
                </a:cubicBezTo>
                <a:cubicBezTo>
                  <a:pt x="20530" y="4961"/>
                  <a:pt x="20546" y="4961"/>
                  <a:pt x="20563" y="4961"/>
                </a:cubicBezTo>
              </a:path>
              <a:path w="4317" h="968">
                <a:moveTo>
                  <a:pt x="20712" y="4490"/>
                </a:moveTo>
                <a:cubicBezTo>
                  <a:pt x="20743" y="4574"/>
                  <a:pt x="20773" y="4658"/>
                  <a:pt x="20811" y="4738"/>
                </a:cubicBezTo>
                <a:cubicBezTo>
                  <a:pt x="20832" y="4782"/>
                  <a:pt x="20860" y="4865"/>
                  <a:pt x="20910" y="4887"/>
                </a:cubicBezTo>
                <a:cubicBezTo>
                  <a:pt x="20918" y="4887"/>
                  <a:pt x="20927" y="4887"/>
                  <a:pt x="20935" y="4887"/>
                </a:cubicBezTo>
              </a:path>
              <a:path w="4317" h="968">
                <a:moveTo>
                  <a:pt x="20811" y="4564"/>
                </a:moveTo>
                <a:cubicBezTo>
                  <a:pt x="20757" y="4660"/>
                  <a:pt x="20708" y="4738"/>
                  <a:pt x="20662" y="4837"/>
                </a:cubicBezTo>
                <a:cubicBezTo>
                  <a:pt x="20631" y="4903"/>
                  <a:pt x="20612" y="4885"/>
                  <a:pt x="20638" y="4936"/>
                </a:cubicBezTo>
              </a:path>
              <a:path w="4317" h="968">
                <a:moveTo>
                  <a:pt x="21059" y="4465"/>
                </a:moveTo>
                <a:cubicBezTo>
                  <a:pt x="21085" y="4553"/>
                  <a:pt x="21099" y="4703"/>
                  <a:pt x="21134" y="4787"/>
                </a:cubicBezTo>
                <a:cubicBezTo>
                  <a:pt x="21156" y="4810"/>
                  <a:pt x="21164" y="4815"/>
                  <a:pt x="21158" y="4837"/>
                </a:cubicBezTo>
              </a:path>
              <a:path w="4317" h="968">
                <a:moveTo>
                  <a:pt x="21059" y="4713"/>
                </a:moveTo>
                <a:cubicBezTo>
                  <a:pt x="21129" y="4687"/>
                  <a:pt x="21210" y="4674"/>
                  <a:pt x="21282" y="4663"/>
                </a:cubicBezTo>
                <a:cubicBezTo>
                  <a:pt x="21299" y="4663"/>
                  <a:pt x="21315" y="4663"/>
                  <a:pt x="21332" y="4663"/>
                </a:cubicBezTo>
              </a:path>
              <a:path w="4317" h="968">
                <a:moveTo>
                  <a:pt x="21580" y="4316"/>
                </a:moveTo>
                <a:cubicBezTo>
                  <a:pt x="21732" y="4316"/>
                  <a:pt x="21751" y="4339"/>
                  <a:pt x="21679" y="4490"/>
                </a:cubicBezTo>
                <a:cubicBezTo>
                  <a:pt x="21646" y="4558"/>
                  <a:pt x="21557" y="4599"/>
                  <a:pt x="21530" y="4663"/>
                </a:cubicBezTo>
                <a:cubicBezTo>
                  <a:pt x="21505" y="4723"/>
                  <a:pt x="21574" y="4802"/>
                  <a:pt x="21630" y="4812"/>
                </a:cubicBezTo>
                <a:cubicBezTo>
                  <a:pt x="21698" y="4824"/>
                  <a:pt x="21744" y="4810"/>
                  <a:pt x="21803" y="4787"/>
                </a:cubicBezTo>
              </a:path>
              <a:path w="4317" h="968">
                <a:moveTo>
                  <a:pt x="21977" y="4192"/>
                </a:moveTo>
                <a:cubicBezTo>
                  <a:pt x="22054" y="4331"/>
                  <a:pt x="22153" y="4450"/>
                  <a:pt x="22175" y="4614"/>
                </a:cubicBezTo>
                <a:cubicBezTo>
                  <a:pt x="22187" y="4702"/>
                  <a:pt x="22162" y="4837"/>
                  <a:pt x="22076" y="4887"/>
                </a:cubicBezTo>
                <a:cubicBezTo>
                  <a:pt x="22003" y="4930"/>
                  <a:pt x="21908" y="4911"/>
                  <a:pt x="21828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nk 7"/>
          <p:cNvSpPr/>
          <p:nvPr/>
        </p:nvSpPr>
        <p:spPr>
          <a:xfrm>
            <a:off x="1062000" y="2232000"/>
            <a:ext cx="5992920" cy="741240"/>
          </a:xfrm>
          <a:custGeom>
            <a:avLst/>
            <a:gdLst/>
            <a:ahLst/>
            <a:rect l="l" t="t" r="r" b="b"/>
            <a:pathLst>
              <a:path w="16645" h="2060">
                <a:moveTo>
                  <a:pt x="5978" y="6672"/>
                </a:moveTo>
                <a:cubicBezTo>
                  <a:pt x="5839" y="6603"/>
                  <a:pt x="5704" y="6548"/>
                  <a:pt x="5556" y="6499"/>
                </a:cubicBezTo>
                <a:cubicBezTo>
                  <a:pt x="5449" y="6463"/>
                  <a:pt x="5342" y="6471"/>
                  <a:pt x="5234" y="6449"/>
                </a:cubicBezTo>
                <a:cubicBezTo>
                  <a:pt x="5130" y="6428"/>
                  <a:pt x="5020" y="6407"/>
                  <a:pt x="4911" y="6424"/>
                </a:cubicBezTo>
                <a:cubicBezTo>
                  <a:pt x="4784" y="6443"/>
                  <a:pt x="4663" y="6461"/>
                  <a:pt x="4539" y="6499"/>
                </a:cubicBezTo>
                <a:cubicBezTo>
                  <a:pt x="4434" y="6531"/>
                  <a:pt x="4357" y="6603"/>
                  <a:pt x="4266" y="6648"/>
                </a:cubicBezTo>
                <a:cubicBezTo>
                  <a:pt x="4172" y="6694"/>
                  <a:pt x="4097" y="6746"/>
                  <a:pt x="4018" y="6821"/>
                </a:cubicBezTo>
                <a:cubicBezTo>
                  <a:pt x="3958" y="6878"/>
                  <a:pt x="3925" y="6967"/>
                  <a:pt x="3894" y="7045"/>
                </a:cubicBezTo>
                <a:cubicBezTo>
                  <a:pt x="3857" y="7139"/>
                  <a:pt x="3856" y="7266"/>
                  <a:pt x="3870" y="7367"/>
                </a:cubicBezTo>
                <a:cubicBezTo>
                  <a:pt x="3881" y="7446"/>
                  <a:pt x="3959" y="7642"/>
                  <a:pt x="4018" y="7689"/>
                </a:cubicBezTo>
                <a:cubicBezTo>
                  <a:pt x="4102" y="7756"/>
                  <a:pt x="4192" y="7808"/>
                  <a:pt x="4291" y="7863"/>
                </a:cubicBezTo>
                <a:cubicBezTo>
                  <a:pt x="4421" y="7935"/>
                  <a:pt x="4521" y="7938"/>
                  <a:pt x="4663" y="7962"/>
                </a:cubicBezTo>
                <a:cubicBezTo>
                  <a:pt x="4792" y="7984"/>
                  <a:pt x="4927" y="8003"/>
                  <a:pt x="5060" y="7987"/>
                </a:cubicBezTo>
                <a:cubicBezTo>
                  <a:pt x="5211" y="7968"/>
                  <a:pt x="5357" y="7945"/>
                  <a:pt x="5507" y="7913"/>
                </a:cubicBezTo>
                <a:cubicBezTo>
                  <a:pt x="5651" y="7882"/>
                  <a:pt x="5793" y="7845"/>
                  <a:pt x="5928" y="7789"/>
                </a:cubicBezTo>
                <a:cubicBezTo>
                  <a:pt x="6028" y="7748"/>
                  <a:pt x="6148" y="7686"/>
                  <a:pt x="6226" y="7615"/>
                </a:cubicBezTo>
                <a:cubicBezTo>
                  <a:pt x="6291" y="7556"/>
                  <a:pt x="6383" y="7456"/>
                  <a:pt x="6400" y="7367"/>
                </a:cubicBezTo>
                <a:cubicBezTo>
                  <a:pt x="6420" y="7263"/>
                  <a:pt x="6379" y="7188"/>
                  <a:pt x="6350" y="7094"/>
                </a:cubicBezTo>
                <a:cubicBezTo>
                  <a:pt x="6313" y="6975"/>
                  <a:pt x="6238" y="6907"/>
                  <a:pt x="6152" y="6821"/>
                </a:cubicBezTo>
                <a:cubicBezTo>
                  <a:pt x="6027" y="6696"/>
                  <a:pt x="5873" y="6585"/>
                  <a:pt x="5705" y="6524"/>
                </a:cubicBezTo>
                <a:cubicBezTo>
                  <a:pt x="5587" y="6481"/>
                  <a:pt x="5431" y="6415"/>
                  <a:pt x="5308" y="6400"/>
                </a:cubicBezTo>
                <a:cubicBezTo>
                  <a:pt x="5158" y="6382"/>
                  <a:pt x="5007" y="6393"/>
                  <a:pt x="4862" y="6400"/>
                </a:cubicBezTo>
                <a:cubicBezTo>
                  <a:pt x="4719" y="6407"/>
                  <a:pt x="4605" y="6414"/>
                  <a:pt x="4465" y="6449"/>
                </a:cubicBezTo>
                <a:cubicBezTo>
                  <a:pt x="4345" y="6479"/>
                  <a:pt x="4223" y="6534"/>
                  <a:pt x="4118" y="6598"/>
                </a:cubicBezTo>
                <a:cubicBezTo>
                  <a:pt x="4036" y="6648"/>
                  <a:pt x="3931" y="6722"/>
                  <a:pt x="3870" y="6796"/>
                </a:cubicBezTo>
                <a:cubicBezTo>
                  <a:pt x="3816" y="6862"/>
                  <a:pt x="3767" y="6963"/>
                  <a:pt x="3746" y="7045"/>
                </a:cubicBezTo>
                <a:cubicBezTo>
                  <a:pt x="3727" y="7120"/>
                  <a:pt x="3754" y="7246"/>
                  <a:pt x="3770" y="7317"/>
                </a:cubicBezTo>
                <a:cubicBezTo>
                  <a:pt x="3790" y="7407"/>
                  <a:pt x="3862" y="7517"/>
                  <a:pt x="3919" y="7590"/>
                </a:cubicBezTo>
                <a:cubicBezTo>
                  <a:pt x="3987" y="7676"/>
                  <a:pt x="4082" y="7746"/>
                  <a:pt x="4167" y="7813"/>
                </a:cubicBezTo>
                <a:cubicBezTo>
                  <a:pt x="4308" y="7925"/>
                  <a:pt x="4440" y="7992"/>
                  <a:pt x="4614" y="8037"/>
                </a:cubicBezTo>
                <a:cubicBezTo>
                  <a:pt x="4761" y="8075"/>
                  <a:pt x="4883" y="8086"/>
                  <a:pt x="5035" y="8086"/>
                </a:cubicBezTo>
                <a:cubicBezTo>
                  <a:pt x="5231" y="8086"/>
                  <a:pt x="5416" y="8056"/>
                  <a:pt x="5606" y="8012"/>
                </a:cubicBezTo>
                <a:cubicBezTo>
                  <a:pt x="5734" y="7982"/>
                  <a:pt x="5875" y="7923"/>
                  <a:pt x="5978" y="7838"/>
                </a:cubicBezTo>
                <a:cubicBezTo>
                  <a:pt x="6074" y="7759"/>
                  <a:pt x="6132" y="7690"/>
                  <a:pt x="6201" y="7590"/>
                </a:cubicBezTo>
                <a:cubicBezTo>
                  <a:pt x="6273" y="7486"/>
                  <a:pt x="6276" y="7416"/>
                  <a:pt x="6276" y="7293"/>
                </a:cubicBezTo>
                <a:cubicBezTo>
                  <a:pt x="6276" y="7195"/>
                  <a:pt x="6214" y="7098"/>
                  <a:pt x="6152" y="7020"/>
                </a:cubicBezTo>
                <a:cubicBezTo>
                  <a:pt x="6087" y="6938"/>
                  <a:pt x="6017" y="6889"/>
                  <a:pt x="5928" y="6846"/>
                </a:cubicBezTo>
                <a:cubicBezTo>
                  <a:pt x="5821" y="6794"/>
                  <a:pt x="5817" y="6811"/>
                  <a:pt x="5705" y="6821"/>
                </a:cubicBezTo>
                <a:cubicBezTo>
                  <a:pt x="5688" y="6821"/>
                  <a:pt x="5672" y="6821"/>
                  <a:pt x="5655" y="6821"/>
                </a:cubicBezTo>
              </a:path>
              <a:path w="16645" h="2060">
                <a:moveTo>
                  <a:pt x="4812" y="7987"/>
                </a:moveTo>
                <a:cubicBezTo>
                  <a:pt x="4758" y="8007"/>
                  <a:pt x="4688" y="8048"/>
                  <a:pt x="4638" y="8062"/>
                </a:cubicBezTo>
                <a:cubicBezTo>
                  <a:pt x="4568" y="8081"/>
                  <a:pt x="4487" y="8121"/>
                  <a:pt x="4415" y="8136"/>
                </a:cubicBezTo>
                <a:cubicBezTo>
                  <a:pt x="4313" y="8158"/>
                  <a:pt x="4193" y="8179"/>
                  <a:pt x="4093" y="8210"/>
                </a:cubicBezTo>
                <a:cubicBezTo>
                  <a:pt x="4016" y="8234"/>
                  <a:pt x="3927" y="8248"/>
                  <a:pt x="3845" y="8260"/>
                </a:cubicBezTo>
                <a:cubicBezTo>
                  <a:pt x="3775" y="8270"/>
                  <a:pt x="3644" y="8255"/>
                  <a:pt x="3572" y="8235"/>
                </a:cubicBezTo>
                <a:cubicBezTo>
                  <a:pt x="3476" y="8208"/>
                  <a:pt x="3382" y="8161"/>
                  <a:pt x="3299" y="8111"/>
                </a:cubicBezTo>
                <a:cubicBezTo>
                  <a:pt x="3248" y="8080"/>
                  <a:pt x="3217" y="8054"/>
                  <a:pt x="3175" y="8012"/>
                </a:cubicBezTo>
                <a:cubicBezTo>
                  <a:pt x="3143" y="7980"/>
                  <a:pt x="3148" y="7950"/>
                  <a:pt x="3125" y="7913"/>
                </a:cubicBezTo>
                <a:cubicBezTo>
                  <a:pt x="3118" y="7979"/>
                  <a:pt x="3103" y="8078"/>
                  <a:pt x="3076" y="8136"/>
                </a:cubicBezTo>
                <a:cubicBezTo>
                  <a:pt x="3051" y="8161"/>
                  <a:pt x="3043" y="8169"/>
                  <a:pt x="3026" y="8186"/>
                </a:cubicBezTo>
                <a:cubicBezTo>
                  <a:pt x="2986" y="8135"/>
                  <a:pt x="2956" y="8100"/>
                  <a:pt x="2952" y="8037"/>
                </a:cubicBezTo>
                <a:cubicBezTo>
                  <a:pt x="2948" y="7971"/>
                  <a:pt x="2952" y="7904"/>
                  <a:pt x="2952" y="7838"/>
                </a:cubicBezTo>
                <a:cubicBezTo>
                  <a:pt x="3028" y="7838"/>
                  <a:pt x="3103" y="7845"/>
                  <a:pt x="3175" y="7863"/>
                </a:cubicBezTo>
                <a:cubicBezTo>
                  <a:pt x="3253" y="7883"/>
                  <a:pt x="3335" y="7887"/>
                  <a:pt x="3398" y="7938"/>
                </a:cubicBezTo>
                <a:cubicBezTo>
                  <a:pt x="3406" y="7946"/>
                  <a:pt x="3415" y="7954"/>
                  <a:pt x="3423" y="7962"/>
                </a:cubicBezTo>
              </a:path>
              <a:path w="16645" h="2060">
                <a:moveTo>
                  <a:pt x="6796" y="7144"/>
                </a:moveTo>
                <a:cubicBezTo>
                  <a:pt x="6878" y="7144"/>
                  <a:pt x="6939" y="7122"/>
                  <a:pt x="7020" y="7119"/>
                </a:cubicBezTo>
                <a:cubicBezTo>
                  <a:pt x="7086" y="7119"/>
                  <a:pt x="7103" y="7119"/>
                  <a:pt x="7144" y="7119"/>
                </a:cubicBezTo>
              </a:path>
              <a:path w="16645" h="2060">
                <a:moveTo>
                  <a:pt x="6747" y="7317"/>
                </a:moveTo>
                <a:cubicBezTo>
                  <a:pt x="6809" y="7379"/>
                  <a:pt x="6821" y="7367"/>
                  <a:pt x="6921" y="7367"/>
                </a:cubicBezTo>
              </a:path>
              <a:path w="16645" h="2060">
                <a:moveTo>
                  <a:pt x="7565" y="6821"/>
                </a:moveTo>
                <a:cubicBezTo>
                  <a:pt x="7565" y="6892"/>
                  <a:pt x="7563" y="6958"/>
                  <a:pt x="7541" y="7020"/>
                </a:cubicBezTo>
                <a:cubicBezTo>
                  <a:pt x="7521" y="7076"/>
                  <a:pt x="7471" y="7119"/>
                  <a:pt x="7441" y="7169"/>
                </a:cubicBezTo>
                <a:cubicBezTo>
                  <a:pt x="7433" y="7185"/>
                  <a:pt x="7425" y="7202"/>
                  <a:pt x="7417" y="7218"/>
                </a:cubicBezTo>
                <a:cubicBezTo>
                  <a:pt x="7444" y="7232"/>
                  <a:pt x="7500" y="7237"/>
                  <a:pt x="7541" y="7243"/>
                </a:cubicBezTo>
                <a:cubicBezTo>
                  <a:pt x="7642" y="7258"/>
                  <a:pt x="7760" y="7243"/>
                  <a:pt x="7863" y="7243"/>
                </a:cubicBezTo>
              </a:path>
              <a:path w="16645" h="2060">
                <a:moveTo>
                  <a:pt x="7962" y="6648"/>
                </a:moveTo>
                <a:cubicBezTo>
                  <a:pt x="7954" y="6717"/>
                  <a:pt x="7922" y="6780"/>
                  <a:pt x="7913" y="6846"/>
                </a:cubicBezTo>
                <a:cubicBezTo>
                  <a:pt x="7901" y="6940"/>
                  <a:pt x="7909" y="7028"/>
                  <a:pt x="7888" y="7119"/>
                </a:cubicBezTo>
                <a:cubicBezTo>
                  <a:pt x="7864" y="7222"/>
                  <a:pt x="7863" y="7310"/>
                  <a:pt x="7863" y="7417"/>
                </a:cubicBezTo>
                <a:cubicBezTo>
                  <a:pt x="7863" y="7499"/>
                  <a:pt x="7841" y="7730"/>
                  <a:pt x="7888" y="7714"/>
                </a:cubicBezTo>
              </a:path>
              <a:path w="16645" h="2060">
                <a:moveTo>
                  <a:pt x="8111" y="7293"/>
                </a:moveTo>
                <a:cubicBezTo>
                  <a:pt x="8197" y="7260"/>
                  <a:pt x="8223" y="7289"/>
                  <a:pt x="8310" y="7293"/>
                </a:cubicBezTo>
                <a:cubicBezTo>
                  <a:pt x="8390" y="7297"/>
                  <a:pt x="8452" y="7268"/>
                  <a:pt x="8533" y="7268"/>
                </a:cubicBezTo>
              </a:path>
              <a:path w="16645" h="2060">
                <a:moveTo>
                  <a:pt x="9153" y="6722"/>
                </a:moveTo>
                <a:cubicBezTo>
                  <a:pt x="9112" y="6797"/>
                  <a:pt x="9074" y="6872"/>
                  <a:pt x="9029" y="6945"/>
                </a:cubicBezTo>
                <a:cubicBezTo>
                  <a:pt x="8969" y="7044"/>
                  <a:pt x="8959" y="7090"/>
                  <a:pt x="8930" y="7193"/>
                </a:cubicBezTo>
                <a:cubicBezTo>
                  <a:pt x="8910" y="7261"/>
                  <a:pt x="8888" y="7342"/>
                  <a:pt x="8905" y="7417"/>
                </a:cubicBezTo>
                <a:cubicBezTo>
                  <a:pt x="8918" y="7477"/>
                  <a:pt x="8957" y="7601"/>
                  <a:pt x="9004" y="7640"/>
                </a:cubicBezTo>
                <a:cubicBezTo>
                  <a:pt x="9068" y="7682"/>
                  <a:pt x="9079" y="7698"/>
                  <a:pt x="9128" y="7689"/>
                </a:cubicBezTo>
              </a:path>
              <a:path w="16645" h="2060">
                <a:moveTo>
                  <a:pt x="9302" y="7169"/>
                </a:moveTo>
                <a:cubicBezTo>
                  <a:pt x="9340" y="7244"/>
                  <a:pt x="9377" y="7324"/>
                  <a:pt x="9426" y="7392"/>
                </a:cubicBezTo>
                <a:cubicBezTo>
                  <a:pt x="9464" y="7445"/>
                  <a:pt x="9519" y="7486"/>
                  <a:pt x="9575" y="7516"/>
                </a:cubicBezTo>
                <a:cubicBezTo>
                  <a:pt x="9634" y="7547"/>
                  <a:pt x="9694" y="7565"/>
                  <a:pt x="9748" y="7590"/>
                </a:cubicBezTo>
                <a:cubicBezTo>
                  <a:pt x="9797" y="7613"/>
                  <a:pt x="9798" y="7615"/>
                  <a:pt x="9823" y="7565"/>
                </a:cubicBezTo>
              </a:path>
              <a:path w="16645" h="2060">
                <a:moveTo>
                  <a:pt x="9575" y="7020"/>
                </a:moveTo>
                <a:cubicBezTo>
                  <a:pt x="9500" y="7118"/>
                  <a:pt x="9455" y="7187"/>
                  <a:pt x="9401" y="7293"/>
                </a:cubicBezTo>
                <a:cubicBezTo>
                  <a:pt x="9364" y="7366"/>
                  <a:pt x="9326" y="7423"/>
                  <a:pt x="9302" y="7491"/>
                </a:cubicBezTo>
                <a:cubicBezTo>
                  <a:pt x="9296" y="7508"/>
                  <a:pt x="9184" y="7640"/>
                  <a:pt x="9252" y="7640"/>
                </a:cubicBezTo>
                <a:cubicBezTo>
                  <a:pt x="9260" y="7632"/>
                  <a:pt x="9269" y="7623"/>
                  <a:pt x="9277" y="7615"/>
                </a:cubicBezTo>
              </a:path>
              <a:path w="16645" h="2060">
                <a:moveTo>
                  <a:pt x="9971" y="6995"/>
                </a:moveTo>
                <a:cubicBezTo>
                  <a:pt x="9987" y="7093"/>
                  <a:pt x="10009" y="7199"/>
                  <a:pt x="10021" y="7293"/>
                </a:cubicBezTo>
                <a:cubicBezTo>
                  <a:pt x="10031" y="7373"/>
                  <a:pt x="10027" y="7471"/>
                  <a:pt x="10071" y="7541"/>
                </a:cubicBezTo>
                <a:cubicBezTo>
                  <a:pt x="10079" y="7549"/>
                  <a:pt x="10088" y="7557"/>
                  <a:pt x="10096" y="7565"/>
                </a:cubicBezTo>
              </a:path>
              <a:path w="16645" h="2060">
                <a:moveTo>
                  <a:pt x="9823" y="7293"/>
                </a:moveTo>
                <a:cubicBezTo>
                  <a:pt x="9907" y="7293"/>
                  <a:pt x="9970" y="7278"/>
                  <a:pt x="10046" y="7268"/>
                </a:cubicBezTo>
                <a:cubicBezTo>
                  <a:pt x="10125" y="7258"/>
                  <a:pt x="10165" y="7265"/>
                  <a:pt x="10244" y="7243"/>
                </a:cubicBezTo>
              </a:path>
              <a:path w="16645" h="2060">
                <a:moveTo>
                  <a:pt x="10393" y="6995"/>
                </a:moveTo>
                <a:cubicBezTo>
                  <a:pt x="10493" y="6846"/>
                  <a:pt x="10456" y="6926"/>
                  <a:pt x="10592" y="6871"/>
                </a:cubicBezTo>
                <a:cubicBezTo>
                  <a:pt x="10612" y="6863"/>
                  <a:pt x="10740" y="6859"/>
                  <a:pt x="10740" y="6921"/>
                </a:cubicBezTo>
                <a:cubicBezTo>
                  <a:pt x="10740" y="7006"/>
                  <a:pt x="10676" y="7071"/>
                  <a:pt x="10641" y="7119"/>
                </a:cubicBezTo>
                <a:cubicBezTo>
                  <a:pt x="10602" y="7173"/>
                  <a:pt x="10580" y="7238"/>
                  <a:pt x="10542" y="7293"/>
                </a:cubicBezTo>
                <a:cubicBezTo>
                  <a:pt x="10498" y="7356"/>
                  <a:pt x="10455" y="7421"/>
                  <a:pt x="10418" y="7491"/>
                </a:cubicBezTo>
                <a:cubicBezTo>
                  <a:pt x="10410" y="7508"/>
                  <a:pt x="10401" y="7524"/>
                  <a:pt x="10393" y="7541"/>
                </a:cubicBezTo>
                <a:cubicBezTo>
                  <a:pt x="10448" y="7573"/>
                  <a:pt x="10500" y="7565"/>
                  <a:pt x="10567" y="7565"/>
                </a:cubicBezTo>
                <a:cubicBezTo>
                  <a:pt x="10640" y="7565"/>
                  <a:pt x="10695" y="7587"/>
                  <a:pt x="10765" y="7590"/>
                </a:cubicBezTo>
                <a:cubicBezTo>
                  <a:pt x="10841" y="7593"/>
                  <a:pt x="10903" y="7597"/>
                  <a:pt x="10964" y="7565"/>
                </a:cubicBezTo>
                <a:cubicBezTo>
                  <a:pt x="10980" y="7557"/>
                  <a:pt x="10997" y="7549"/>
                  <a:pt x="11013" y="7541"/>
                </a:cubicBezTo>
              </a:path>
              <a:path w="16645" h="2060">
                <a:moveTo>
                  <a:pt x="10988" y="6424"/>
                </a:moveTo>
                <a:cubicBezTo>
                  <a:pt x="11041" y="6491"/>
                  <a:pt x="11032" y="6544"/>
                  <a:pt x="11063" y="6623"/>
                </a:cubicBezTo>
                <a:cubicBezTo>
                  <a:pt x="11096" y="6708"/>
                  <a:pt x="11105" y="6819"/>
                  <a:pt x="11137" y="6896"/>
                </a:cubicBezTo>
                <a:cubicBezTo>
                  <a:pt x="11179" y="6999"/>
                  <a:pt x="11218" y="7101"/>
                  <a:pt x="11237" y="7218"/>
                </a:cubicBezTo>
                <a:cubicBezTo>
                  <a:pt x="11250" y="7299"/>
                  <a:pt x="11234" y="7414"/>
                  <a:pt x="11212" y="7491"/>
                </a:cubicBezTo>
                <a:cubicBezTo>
                  <a:pt x="11196" y="7548"/>
                  <a:pt x="11124" y="7617"/>
                  <a:pt x="11088" y="7665"/>
                </a:cubicBezTo>
                <a:cubicBezTo>
                  <a:pt x="11078" y="7679"/>
                  <a:pt x="10986" y="7782"/>
                  <a:pt x="10964" y="7739"/>
                </a:cubicBezTo>
                <a:cubicBezTo>
                  <a:pt x="10972" y="7731"/>
                  <a:pt x="10980" y="7722"/>
                  <a:pt x="10988" y="7714"/>
                </a:cubicBezTo>
              </a:path>
              <a:path w="16645" h="2060">
                <a:moveTo>
                  <a:pt x="11336" y="6300"/>
                </a:moveTo>
                <a:cubicBezTo>
                  <a:pt x="11336" y="6345"/>
                  <a:pt x="11339" y="6365"/>
                  <a:pt x="11311" y="6325"/>
                </a:cubicBezTo>
                <a:cubicBezTo>
                  <a:pt x="11373" y="6294"/>
                  <a:pt x="11425" y="6258"/>
                  <a:pt x="11485" y="6226"/>
                </a:cubicBezTo>
                <a:cubicBezTo>
                  <a:pt x="11527" y="6203"/>
                  <a:pt x="11591" y="6214"/>
                  <a:pt x="11609" y="6276"/>
                </a:cubicBezTo>
                <a:cubicBezTo>
                  <a:pt x="11628" y="6340"/>
                  <a:pt x="11607" y="6441"/>
                  <a:pt x="11584" y="6499"/>
                </a:cubicBezTo>
                <a:cubicBezTo>
                  <a:pt x="11562" y="6557"/>
                  <a:pt x="11522" y="6623"/>
                  <a:pt x="11485" y="6672"/>
                </a:cubicBezTo>
                <a:cubicBezTo>
                  <a:pt x="11472" y="6690"/>
                  <a:pt x="11346" y="6811"/>
                  <a:pt x="11410" y="6747"/>
                </a:cubicBezTo>
                <a:cubicBezTo>
                  <a:pt x="11467" y="6690"/>
                  <a:pt x="11521" y="6736"/>
                  <a:pt x="11584" y="6747"/>
                </a:cubicBezTo>
                <a:cubicBezTo>
                  <a:pt x="11645" y="6757"/>
                  <a:pt x="11700" y="6769"/>
                  <a:pt x="11757" y="6772"/>
                </a:cubicBezTo>
                <a:cubicBezTo>
                  <a:pt x="11799" y="6772"/>
                  <a:pt x="11807" y="6772"/>
                  <a:pt x="11832" y="6772"/>
                </a:cubicBezTo>
              </a:path>
              <a:path w="16645" h="2060">
                <a:moveTo>
                  <a:pt x="11906" y="7144"/>
                </a:moveTo>
                <a:cubicBezTo>
                  <a:pt x="12011" y="7144"/>
                  <a:pt x="12106" y="7156"/>
                  <a:pt x="12204" y="7169"/>
                </a:cubicBezTo>
                <a:cubicBezTo>
                  <a:pt x="12229" y="7169"/>
                  <a:pt x="12253" y="7169"/>
                  <a:pt x="12278" y="7169"/>
                </a:cubicBezTo>
              </a:path>
              <a:path w="16645" h="2060">
                <a:moveTo>
                  <a:pt x="11931" y="7392"/>
                </a:moveTo>
                <a:cubicBezTo>
                  <a:pt x="12014" y="7392"/>
                  <a:pt x="12096" y="7392"/>
                  <a:pt x="12179" y="7392"/>
                </a:cubicBezTo>
              </a:path>
              <a:path w="16645" h="2060">
                <a:moveTo>
                  <a:pt x="13246" y="6499"/>
                </a:moveTo>
                <a:cubicBezTo>
                  <a:pt x="13282" y="6559"/>
                  <a:pt x="13269" y="6611"/>
                  <a:pt x="13221" y="6672"/>
                </a:cubicBezTo>
                <a:cubicBezTo>
                  <a:pt x="13171" y="6736"/>
                  <a:pt x="13093" y="6789"/>
                  <a:pt x="13047" y="6846"/>
                </a:cubicBezTo>
                <a:cubicBezTo>
                  <a:pt x="13018" y="6882"/>
                  <a:pt x="13007" y="6912"/>
                  <a:pt x="12973" y="6945"/>
                </a:cubicBezTo>
                <a:cubicBezTo>
                  <a:pt x="13047" y="6995"/>
                  <a:pt x="13094" y="6973"/>
                  <a:pt x="13171" y="6995"/>
                </a:cubicBezTo>
                <a:cubicBezTo>
                  <a:pt x="13251" y="7017"/>
                  <a:pt x="13308" y="7020"/>
                  <a:pt x="13395" y="7020"/>
                </a:cubicBezTo>
                <a:cubicBezTo>
                  <a:pt x="13486" y="7020"/>
                  <a:pt x="13483" y="7017"/>
                  <a:pt x="13568" y="6970"/>
                </a:cubicBezTo>
              </a:path>
              <a:path w="16645" h="2060">
                <a:moveTo>
                  <a:pt x="13692" y="6375"/>
                </a:moveTo>
                <a:cubicBezTo>
                  <a:pt x="13665" y="6456"/>
                  <a:pt x="13628" y="6560"/>
                  <a:pt x="13618" y="6648"/>
                </a:cubicBezTo>
                <a:cubicBezTo>
                  <a:pt x="13584" y="6942"/>
                  <a:pt x="13629" y="7252"/>
                  <a:pt x="13593" y="7541"/>
                </a:cubicBezTo>
                <a:cubicBezTo>
                  <a:pt x="13593" y="7599"/>
                  <a:pt x="13593" y="7607"/>
                  <a:pt x="13593" y="7640"/>
                </a:cubicBezTo>
              </a:path>
              <a:path w="16645" h="2060">
                <a:moveTo>
                  <a:pt x="13940" y="7119"/>
                </a:moveTo>
                <a:cubicBezTo>
                  <a:pt x="14106" y="7119"/>
                  <a:pt x="14276" y="7134"/>
                  <a:pt x="14436" y="7094"/>
                </a:cubicBezTo>
              </a:path>
              <a:path w="16645" h="2060">
                <a:moveTo>
                  <a:pt x="15230" y="6276"/>
                </a:moveTo>
                <a:cubicBezTo>
                  <a:pt x="15198" y="6356"/>
                  <a:pt x="15153" y="6424"/>
                  <a:pt x="15106" y="6499"/>
                </a:cubicBezTo>
                <a:cubicBezTo>
                  <a:pt x="15038" y="6607"/>
                  <a:pt x="14953" y="6726"/>
                  <a:pt x="14908" y="6846"/>
                </a:cubicBezTo>
                <a:cubicBezTo>
                  <a:pt x="14866" y="6960"/>
                  <a:pt x="14854" y="7077"/>
                  <a:pt x="14833" y="7193"/>
                </a:cubicBezTo>
                <a:cubicBezTo>
                  <a:pt x="14813" y="7301"/>
                  <a:pt x="14818" y="7386"/>
                  <a:pt x="14858" y="7491"/>
                </a:cubicBezTo>
                <a:cubicBezTo>
                  <a:pt x="14869" y="7520"/>
                  <a:pt x="14921" y="7605"/>
                  <a:pt x="14957" y="7615"/>
                </a:cubicBezTo>
                <a:cubicBezTo>
                  <a:pt x="14974" y="7615"/>
                  <a:pt x="14990" y="7615"/>
                  <a:pt x="15007" y="7615"/>
                </a:cubicBezTo>
              </a:path>
              <a:path w="16645" h="2060">
                <a:moveTo>
                  <a:pt x="15329" y="6970"/>
                </a:moveTo>
                <a:cubicBezTo>
                  <a:pt x="15341" y="7065"/>
                  <a:pt x="15378" y="7092"/>
                  <a:pt x="15429" y="7169"/>
                </a:cubicBezTo>
                <a:cubicBezTo>
                  <a:pt x="15478" y="7243"/>
                  <a:pt x="15530" y="7336"/>
                  <a:pt x="15602" y="7392"/>
                </a:cubicBezTo>
                <a:cubicBezTo>
                  <a:pt x="15660" y="7437"/>
                  <a:pt x="15738" y="7478"/>
                  <a:pt x="15801" y="7516"/>
                </a:cubicBezTo>
                <a:cubicBezTo>
                  <a:pt x="15857" y="7545"/>
                  <a:pt x="15881" y="7550"/>
                  <a:pt x="15925" y="7516"/>
                </a:cubicBezTo>
              </a:path>
              <a:path w="16645" h="2060">
                <a:moveTo>
                  <a:pt x="15652" y="6846"/>
                </a:moveTo>
                <a:cubicBezTo>
                  <a:pt x="15583" y="6953"/>
                  <a:pt x="15504" y="7053"/>
                  <a:pt x="15453" y="7169"/>
                </a:cubicBezTo>
                <a:cubicBezTo>
                  <a:pt x="15413" y="7261"/>
                  <a:pt x="15372" y="7350"/>
                  <a:pt x="15329" y="7441"/>
                </a:cubicBezTo>
                <a:cubicBezTo>
                  <a:pt x="15303" y="7495"/>
                  <a:pt x="15170" y="7592"/>
                  <a:pt x="15230" y="7590"/>
                </a:cubicBezTo>
                <a:cubicBezTo>
                  <a:pt x="15271" y="7549"/>
                  <a:pt x="15285" y="7519"/>
                  <a:pt x="15280" y="7466"/>
                </a:cubicBezTo>
              </a:path>
              <a:path w="16645" h="2060">
                <a:moveTo>
                  <a:pt x="15825" y="6424"/>
                </a:moveTo>
                <a:cubicBezTo>
                  <a:pt x="15962" y="6390"/>
                  <a:pt x="16010" y="6357"/>
                  <a:pt x="16123" y="6449"/>
                </a:cubicBezTo>
                <a:cubicBezTo>
                  <a:pt x="16196" y="6509"/>
                  <a:pt x="16129" y="6549"/>
                  <a:pt x="16098" y="6598"/>
                </a:cubicBezTo>
                <a:cubicBezTo>
                  <a:pt x="16062" y="6653"/>
                  <a:pt x="16021" y="6675"/>
                  <a:pt x="15974" y="6722"/>
                </a:cubicBezTo>
                <a:cubicBezTo>
                  <a:pt x="15919" y="6777"/>
                  <a:pt x="15909" y="6811"/>
                  <a:pt x="15999" y="6821"/>
                </a:cubicBezTo>
                <a:cubicBezTo>
                  <a:pt x="16087" y="6831"/>
                  <a:pt x="16184" y="6821"/>
                  <a:pt x="16272" y="6821"/>
                </a:cubicBezTo>
              </a:path>
              <a:path w="16645" h="2060">
                <a:moveTo>
                  <a:pt x="16619" y="6796"/>
                </a:moveTo>
                <a:cubicBezTo>
                  <a:pt x="16619" y="6895"/>
                  <a:pt x="16599" y="6974"/>
                  <a:pt x="16594" y="7069"/>
                </a:cubicBezTo>
                <a:cubicBezTo>
                  <a:pt x="16590" y="7145"/>
                  <a:pt x="16607" y="7199"/>
                  <a:pt x="16619" y="7268"/>
                </a:cubicBezTo>
                <a:cubicBezTo>
                  <a:pt x="16628" y="7324"/>
                  <a:pt x="16644" y="7329"/>
                  <a:pt x="16619" y="7342"/>
                </a:cubicBezTo>
              </a:path>
              <a:path w="16645" h="2060">
                <a:moveTo>
                  <a:pt x="16321" y="7045"/>
                </a:moveTo>
                <a:cubicBezTo>
                  <a:pt x="16454" y="7018"/>
                  <a:pt x="16586" y="7042"/>
                  <a:pt x="16718" y="7020"/>
                </a:cubicBezTo>
                <a:cubicBezTo>
                  <a:pt x="16743" y="7012"/>
                  <a:pt x="16768" y="7003"/>
                  <a:pt x="16793" y="6995"/>
                </a:cubicBezTo>
              </a:path>
              <a:path w="16645" h="2060">
                <a:moveTo>
                  <a:pt x="17214" y="6747"/>
                </a:moveTo>
                <a:cubicBezTo>
                  <a:pt x="17207" y="6801"/>
                  <a:pt x="17188" y="6877"/>
                  <a:pt x="17165" y="6921"/>
                </a:cubicBezTo>
                <a:cubicBezTo>
                  <a:pt x="17140" y="6969"/>
                  <a:pt x="17066" y="6974"/>
                  <a:pt x="17090" y="7045"/>
                </a:cubicBezTo>
                <a:cubicBezTo>
                  <a:pt x="17112" y="7111"/>
                  <a:pt x="17297" y="7060"/>
                  <a:pt x="17338" y="7045"/>
                </a:cubicBezTo>
                <a:cubicBezTo>
                  <a:pt x="17355" y="7037"/>
                  <a:pt x="17371" y="7028"/>
                  <a:pt x="17388" y="7020"/>
                </a:cubicBezTo>
              </a:path>
              <a:path w="16645" h="2060">
                <a:moveTo>
                  <a:pt x="17438" y="6474"/>
                </a:moveTo>
                <a:cubicBezTo>
                  <a:pt x="17402" y="6582"/>
                  <a:pt x="17405" y="6663"/>
                  <a:pt x="17388" y="6772"/>
                </a:cubicBezTo>
                <a:cubicBezTo>
                  <a:pt x="17367" y="6903"/>
                  <a:pt x="17384" y="6991"/>
                  <a:pt x="17388" y="7119"/>
                </a:cubicBezTo>
                <a:cubicBezTo>
                  <a:pt x="17391" y="7216"/>
                  <a:pt x="17408" y="7299"/>
                  <a:pt x="17413" y="7392"/>
                </a:cubicBezTo>
                <a:cubicBezTo>
                  <a:pt x="17413" y="7408"/>
                  <a:pt x="17413" y="7425"/>
                  <a:pt x="17413" y="7441"/>
                </a:cubicBezTo>
              </a:path>
              <a:path w="16645" h="2060">
                <a:moveTo>
                  <a:pt x="17636" y="7045"/>
                </a:moveTo>
                <a:cubicBezTo>
                  <a:pt x="17700" y="7174"/>
                  <a:pt x="17744" y="7302"/>
                  <a:pt x="17859" y="7392"/>
                </a:cubicBezTo>
                <a:cubicBezTo>
                  <a:pt x="17913" y="7434"/>
                  <a:pt x="17973" y="7461"/>
                  <a:pt x="18033" y="7491"/>
                </a:cubicBezTo>
              </a:path>
              <a:path w="16645" h="2060">
                <a:moveTo>
                  <a:pt x="17934" y="7069"/>
                </a:moveTo>
                <a:cubicBezTo>
                  <a:pt x="17823" y="7141"/>
                  <a:pt x="17762" y="7206"/>
                  <a:pt x="17686" y="7317"/>
                </a:cubicBezTo>
                <a:cubicBezTo>
                  <a:pt x="17665" y="7347"/>
                  <a:pt x="17561" y="7469"/>
                  <a:pt x="17587" y="7516"/>
                </a:cubicBezTo>
                <a:cubicBezTo>
                  <a:pt x="17595" y="7516"/>
                  <a:pt x="17603" y="7516"/>
                  <a:pt x="17611" y="7516"/>
                </a:cubicBezTo>
              </a:path>
              <a:path w="16645" h="2060">
                <a:moveTo>
                  <a:pt x="18182" y="6871"/>
                </a:moveTo>
                <a:cubicBezTo>
                  <a:pt x="18182" y="6985"/>
                  <a:pt x="18202" y="7083"/>
                  <a:pt x="18207" y="7193"/>
                </a:cubicBezTo>
                <a:cubicBezTo>
                  <a:pt x="18210" y="7273"/>
                  <a:pt x="18241" y="7318"/>
                  <a:pt x="18256" y="7392"/>
                </a:cubicBezTo>
              </a:path>
              <a:path w="16645" h="2060">
                <a:moveTo>
                  <a:pt x="18033" y="7069"/>
                </a:moveTo>
                <a:cubicBezTo>
                  <a:pt x="18136" y="7044"/>
                  <a:pt x="18228" y="7063"/>
                  <a:pt x="18331" y="7045"/>
                </a:cubicBezTo>
                <a:cubicBezTo>
                  <a:pt x="18404" y="7020"/>
                  <a:pt x="18427" y="7012"/>
                  <a:pt x="18479" y="7020"/>
                </a:cubicBezTo>
              </a:path>
              <a:path w="16645" h="2060">
                <a:moveTo>
                  <a:pt x="18827" y="6846"/>
                </a:moveTo>
                <a:cubicBezTo>
                  <a:pt x="18804" y="6886"/>
                  <a:pt x="18738" y="6979"/>
                  <a:pt x="18703" y="6995"/>
                </a:cubicBezTo>
                <a:cubicBezTo>
                  <a:pt x="18666" y="7012"/>
                  <a:pt x="18566" y="7079"/>
                  <a:pt x="18678" y="7119"/>
                </a:cubicBezTo>
                <a:cubicBezTo>
                  <a:pt x="18744" y="7142"/>
                  <a:pt x="18854" y="7160"/>
                  <a:pt x="18926" y="7144"/>
                </a:cubicBezTo>
                <a:cubicBezTo>
                  <a:pt x="18943" y="7136"/>
                  <a:pt x="18959" y="7127"/>
                  <a:pt x="18976" y="7119"/>
                </a:cubicBezTo>
              </a:path>
              <a:path w="16645" h="2060">
                <a:moveTo>
                  <a:pt x="19100" y="6672"/>
                </a:moveTo>
                <a:cubicBezTo>
                  <a:pt x="18996" y="6828"/>
                  <a:pt x="18941" y="6910"/>
                  <a:pt x="18926" y="7094"/>
                </a:cubicBezTo>
                <a:cubicBezTo>
                  <a:pt x="18917" y="7197"/>
                  <a:pt x="18913" y="7323"/>
                  <a:pt x="18951" y="7417"/>
                </a:cubicBezTo>
                <a:cubicBezTo>
                  <a:pt x="18970" y="7465"/>
                  <a:pt x="18973" y="7497"/>
                  <a:pt x="19000" y="7516"/>
                </a:cubicBezTo>
              </a:path>
              <a:path w="16645" h="2060">
                <a:moveTo>
                  <a:pt x="19248" y="6424"/>
                </a:moveTo>
                <a:cubicBezTo>
                  <a:pt x="19418" y="6586"/>
                  <a:pt x="19531" y="6726"/>
                  <a:pt x="19571" y="6970"/>
                </a:cubicBezTo>
                <a:cubicBezTo>
                  <a:pt x="19607" y="7187"/>
                  <a:pt x="19634" y="7365"/>
                  <a:pt x="19496" y="7541"/>
                </a:cubicBezTo>
                <a:cubicBezTo>
                  <a:pt x="19430" y="7625"/>
                  <a:pt x="19343" y="7635"/>
                  <a:pt x="19248" y="7590"/>
                </a:cubicBezTo>
                <a:cubicBezTo>
                  <a:pt x="19223" y="7574"/>
                  <a:pt x="19199" y="7557"/>
                  <a:pt x="19174" y="75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nk 8"/>
          <p:cNvSpPr/>
          <p:nvPr/>
        </p:nvSpPr>
        <p:spPr>
          <a:xfrm>
            <a:off x="946080" y="2874960"/>
            <a:ext cx="1519200" cy="2876400"/>
          </a:xfrm>
          <a:custGeom>
            <a:avLst/>
            <a:gdLst/>
            <a:ahLst/>
            <a:rect l="l" t="t" r="r" b="b"/>
            <a:pathLst>
              <a:path w="4218" h="7988">
                <a:moveTo>
                  <a:pt x="6350" y="8136"/>
                </a:moveTo>
                <a:cubicBezTo>
                  <a:pt x="6279" y="8106"/>
                  <a:pt x="6222" y="8084"/>
                  <a:pt x="6152" y="8062"/>
                </a:cubicBezTo>
                <a:cubicBezTo>
                  <a:pt x="6059" y="8032"/>
                  <a:pt x="5995" y="8032"/>
                  <a:pt x="5904" y="8012"/>
                </a:cubicBezTo>
                <a:cubicBezTo>
                  <a:pt x="5801" y="7990"/>
                  <a:pt x="5714" y="7987"/>
                  <a:pt x="5606" y="7987"/>
                </a:cubicBezTo>
                <a:cubicBezTo>
                  <a:pt x="5477" y="7987"/>
                  <a:pt x="5360" y="8000"/>
                  <a:pt x="5234" y="8012"/>
                </a:cubicBezTo>
                <a:cubicBezTo>
                  <a:pt x="5111" y="8024"/>
                  <a:pt x="4982" y="8011"/>
                  <a:pt x="4862" y="8037"/>
                </a:cubicBezTo>
                <a:cubicBezTo>
                  <a:pt x="4718" y="8068"/>
                  <a:pt x="4581" y="8121"/>
                  <a:pt x="4440" y="8161"/>
                </a:cubicBezTo>
                <a:cubicBezTo>
                  <a:pt x="4325" y="8194"/>
                  <a:pt x="4248" y="8236"/>
                  <a:pt x="4142" y="8285"/>
                </a:cubicBezTo>
                <a:cubicBezTo>
                  <a:pt x="4074" y="8317"/>
                  <a:pt x="3953" y="8367"/>
                  <a:pt x="3919" y="8409"/>
                </a:cubicBezTo>
                <a:cubicBezTo>
                  <a:pt x="3890" y="8445"/>
                  <a:pt x="3812" y="8535"/>
                  <a:pt x="3795" y="8582"/>
                </a:cubicBezTo>
                <a:cubicBezTo>
                  <a:pt x="3765" y="8662"/>
                  <a:pt x="3790" y="8739"/>
                  <a:pt x="3795" y="8781"/>
                </a:cubicBezTo>
                <a:cubicBezTo>
                  <a:pt x="3804" y="8858"/>
                  <a:pt x="3813" y="8890"/>
                  <a:pt x="3845" y="8954"/>
                </a:cubicBezTo>
                <a:cubicBezTo>
                  <a:pt x="3889" y="9043"/>
                  <a:pt x="3950" y="9090"/>
                  <a:pt x="4018" y="9153"/>
                </a:cubicBezTo>
                <a:cubicBezTo>
                  <a:pt x="4075" y="9206"/>
                  <a:pt x="4165" y="9208"/>
                  <a:pt x="4242" y="9252"/>
                </a:cubicBezTo>
                <a:cubicBezTo>
                  <a:pt x="4346" y="9312"/>
                  <a:pt x="4429" y="9348"/>
                  <a:pt x="4539" y="9376"/>
                </a:cubicBezTo>
                <a:cubicBezTo>
                  <a:pt x="4661" y="9408"/>
                  <a:pt x="4763" y="9447"/>
                  <a:pt x="4887" y="9475"/>
                </a:cubicBezTo>
                <a:cubicBezTo>
                  <a:pt x="5104" y="9524"/>
                  <a:pt x="5306" y="9582"/>
                  <a:pt x="5531" y="9599"/>
                </a:cubicBezTo>
                <a:cubicBezTo>
                  <a:pt x="5721" y="9614"/>
                  <a:pt x="5833" y="9583"/>
                  <a:pt x="6003" y="9550"/>
                </a:cubicBezTo>
                <a:cubicBezTo>
                  <a:pt x="6133" y="9525"/>
                  <a:pt x="6278" y="9514"/>
                  <a:pt x="6400" y="9451"/>
                </a:cubicBezTo>
                <a:cubicBezTo>
                  <a:pt x="6484" y="9408"/>
                  <a:pt x="6576" y="9362"/>
                  <a:pt x="6648" y="9302"/>
                </a:cubicBezTo>
                <a:cubicBezTo>
                  <a:pt x="6714" y="9247"/>
                  <a:pt x="6757" y="9178"/>
                  <a:pt x="6796" y="9103"/>
                </a:cubicBezTo>
                <a:cubicBezTo>
                  <a:pt x="6841" y="9015"/>
                  <a:pt x="6828" y="8943"/>
                  <a:pt x="6821" y="8855"/>
                </a:cubicBezTo>
                <a:cubicBezTo>
                  <a:pt x="6812" y="8736"/>
                  <a:pt x="6785" y="8678"/>
                  <a:pt x="6722" y="8582"/>
                </a:cubicBezTo>
                <a:cubicBezTo>
                  <a:pt x="6674" y="8508"/>
                  <a:pt x="6611" y="8395"/>
                  <a:pt x="6548" y="8334"/>
                </a:cubicBezTo>
                <a:cubicBezTo>
                  <a:pt x="6486" y="8274"/>
                  <a:pt x="6379" y="8221"/>
                  <a:pt x="6300" y="8186"/>
                </a:cubicBezTo>
                <a:cubicBezTo>
                  <a:pt x="6202" y="8142"/>
                  <a:pt x="6103" y="8133"/>
                  <a:pt x="6003" y="8111"/>
                </a:cubicBezTo>
                <a:cubicBezTo>
                  <a:pt x="5868" y="8081"/>
                  <a:pt x="5746" y="8049"/>
                  <a:pt x="5606" y="8037"/>
                </a:cubicBezTo>
                <a:cubicBezTo>
                  <a:pt x="5360" y="8016"/>
                  <a:pt x="5104" y="8038"/>
                  <a:pt x="4862" y="8062"/>
                </a:cubicBezTo>
                <a:cubicBezTo>
                  <a:pt x="4760" y="8072"/>
                  <a:pt x="4663" y="8081"/>
                  <a:pt x="4564" y="8111"/>
                </a:cubicBezTo>
                <a:cubicBezTo>
                  <a:pt x="4401" y="8160"/>
                  <a:pt x="4219" y="8207"/>
                  <a:pt x="4068" y="8285"/>
                </a:cubicBezTo>
                <a:cubicBezTo>
                  <a:pt x="3965" y="8338"/>
                  <a:pt x="3945" y="8359"/>
                  <a:pt x="3870" y="8434"/>
                </a:cubicBezTo>
                <a:cubicBezTo>
                  <a:pt x="3807" y="8497"/>
                  <a:pt x="3782" y="8545"/>
                  <a:pt x="3746" y="8632"/>
                </a:cubicBezTo>
                <a:cubicBezTo>
                  <a:pt x="3708" y="8725"/>
                  <a:pt x="3732" y="8730"/>
                  <a:pt x="3746" y="8806"/>
                </a:cubicBezTo>
                <a:cubicBezTo>
                  <a:pt x="3763" y="8900"/>
                  <a:pt x="3786" y="8928"/>
                  <a:pt x="3820" y="9004"/>
                </a:cubicBezTo>
                <a:cubicBezTo>
                  <a:pt x="3857" y="9088"/>
                  <a:pt x="3900" y="9113"/>
                  <a:pt x="3969" y="9178"/>
                </a:cubicBezTo>
                <a:cubicBezTo>
                  <a:pt x="4041" y="9246"/>
                  <a:pt x="4151" y="9344"/>
                  <a:pt x="4242" y="9376"/>
                </a:cubicBezTo>
                <a:cubicBezTo>
                  <a:pt x="4326" y="9406"/>
                  <a:pt x="4431" y="9421"/>
                  <a:pt x="4514" y="9451"/>
                </a:cubicBezTo>
                <a:cubicBezTo>
                  <a:pt x="4614" y="9487"/>
                  <a:pt x="4733" y="9515"/>
                  <a:pt x="4837" y="9525"/>
                </a:cubicBezTo>
                <a:cubicBezTo>
                  <a:pt x="4963" y="9537"/>
                  <a:pt x="5082" y="9550"/>
                  <a:pt x="5209" y="9550"/>
                </a:cubicBezTo>
                <a:cubicBezTo>
                  <a:pt x="5371" y="9550"/>
                  <a:pt x="5522" y="9540"/>
                  <a:pt x="5680" y="9525"/>
                </a:cubicBezTo>
                <a:cubicBezTo>
                  <a:pt x="5794" y="9514"/>
                  <a:pt x="5916" y="9497"/>
                  <a:pt x="6028" y="9475"/>
                </a:cubicBezTo>
                <a:cubicBezTo>
                  <a:pt x="6135" y="9454"/>
                  <a:pt x="6228" y="9429"/>
                  <a:pt x="6325" y="9376"/>
                </a:cubicBezTo>
                <a:cubicBezTo>
                  <a:pt x="6430" y="9318"/>
                  <a:pt x="6496" y="9303"/>
                  <a:pt x="6573" y="9227"/>
                </a:cubicBezTo>
                <a:cubicBezTo>
                  <a:pt x="6649" y="9152"/>
                  <a:pt x="6705" y="9101"/>
                  <a:pt x="6747" y="9004"/>
                </a:cubicBezTo>
                <a:cubicBezTo>
                  <a:pt x="6783" y="8919"/>
                  <a:pt x="6794" y="8871"/>
                  <a:pt x="6796" y="8781"/>
                </a:cubicBezTo>
                <a:cubicBezTo>
                  <a:pt x="6800" y="8636"/>
                  <a:pt x="6752" y="8585"/>
                  <a:pt x="6697" y="8483"/>
                </a:cubicBezTo>
                <a:cubicBezTo>
                  <a:pt x="6638" y="8374"/>
                  <a:pt x="6649" y="8378"/>
                  <a:pt x="6548" y="8310"/>
                </a:cubicBezTo>
                <a:cubicBezTo>
                  <a:pt x="6465" y="8254"/>
                  <a:pt x="6395" y="8200"/>
                  <a:pt x="6300" y="8161"/>
                </a:cubicBezTo>
                <a:cubicBezTo>
                  <a:pt x="6208" y="8123"/>
                  <a:pt x="6124" y="8106"/>
                  <a:pt x="6028" y="8086"/>
                </a:cubicBezTo>
                <a:cubicBezTo>
                  <a:pt x="5916" y="8062"/>
                  <a:pt x="5796" y="8055"/>
                  <a:pt x="5680" y="8037"/>
                </a:cubicBezTo>
                <a:cubicBezTo>
                  <a:pt x="5590" y="8023"/>
                  <a:pt x="5505" y="8012"/>
                  <a:pt x="5407" y="8012"/>
                </a:cubicBezTo>
                <a:cubicBezTo>
                  <a:pt x="5255" y="8012"/>
                  <a:pt x="5108" y="8005"/>
                  <a:pt x="4961" y="8037"/>
                </a:cubicBezTo>
                <a:cubicBezTo>
                  <a:pt x="4875" y="8056"/>
                  <a:pt x="4776" y="8077"/>
                  <a:pt x="4688" y="8086"/>
                </a:cubicBezTo>
                <a:cubicBezTo>
                  <a:pt x="4557" y="8100"/>
                  <a:pt x="4437" y="8155"/>
                  <a:pt x="4316" y="8210"/>
                </a:cubicBezTo>
                <a:cubicBezTo>
                  <a:pt x="4239" y="8245"/>
                  <a:pt x="4184" y="8286"/>
                  <a:pt x="4118" y="8334"/>
                </a:cubicBezTo>
                <a:cubicBezTo>
                  <a:pt x="4040" y="8390"/>
                  <a:pt x="3998" y="8398"/>
                  <a:pt x="3944" y="8483"/>
                </a:cubicBezTo>
                <a:cubicBezTo>
                  <a:pt x="3913" y="8532"/>
                  <a:pt x="3878" y="8583"/>
                  <a:pt x="3845" y="8632"/>
                </a:cubicBezTo>
                <a:cubicBezTo>
                  <a:pt x="3792" y="8711"/>
                  <a:pt x="3795" y="8757"/>
                  <a:pt x="3795" y="8855"/>
                </a:cubicBezTo>
                <a:cubicBezTo>
                  <a:pt x="3795" y="8945"/>
                  <a:pt x="3794" y="9016"/>
                  <a:pt x="3820" y="9103"/>
                </a:cubicBezTo>
                <a:cubicBezTo>
                  <a:pt x="3843" y="9179"/>
                  <a:pt x="3878" y="9236"/>
                  <a:pt x="3919" y="9302"/>
                </a:cubicBezTo>
                <a:cubicBezTo>
                  <a:pt x="3950" y="9352"/>
                  <a:pt x="3983" y="9364"/>
                  <a:pt x="4018" y="9401"/>
                </a:cubicBezTo>
                <a:cubicBezTo>
                  <a:pt x="4051" y="9436"/>
                  <a:pt x="4069" y="9474"/>
                  <a:pt x="4118" y="9500"/>
                </a:cubicBezTo>
                <a:cubicBezTo>
                  <a:pt x="4143" y="9513"/>
                  <a:pt x="4285" y="9598"/>
                  <a:pt x="4291" y="9599"/>
                </a:cubicBezTo>
                <a:cubicBezTo>
                  <a:pt x="4376" y="9617"/>
                  <a:pt x="4444" y="9656"/>
                  <a:pt x="4514" y="9674"/>
                </a:cubicBezTo>
                <a:cubicBezTo>
                  <a:pt x="4553" y="9684"/>
                  <a:pt x="4598" y="9668"/>
                  <a:pt x="4638" y="9674"/>
                </a:cubicBezTo>
              </a:path>
              <a:path w="4218" h="7988">
                <a:moveTo>
                  <a:pt x="6276" y="11336"/>
                </a:moveTo>
                <a:cubicBezTo>
                  <a:pt x="6177" y="11292"/>
                  <a:pt x="6080" y="11220"/>
                  <a:pt x="5978" y="11187"/>
                </a:cubicBezTo>
                <a:cubicBezTo>
                  <a:pt x="5788" y="11125"/>
                  <a:pt x="5556" y="11092"/>
                  <a:pt x="5358" y="11088"/>
                </a:cubicBezTo>
                <a:cubicBezTo>
                  <a:pt x="5183" y="11084"/>
                  <a:pt x="5033" y="11103"/>
                  <a:pt x="4862" y="11137"/>
                </a:cubicBezTo>
                <a:cubicBezTo>
                  <a:pt x="4695" y="11171"/>
                  <a:pt x="4516" y="11200"/>
                  <a:pt x="4366" y="11286"/>
                </a:cubicBezTo>
                <a:cubicBezTo>
                  <a:pt x="4245" y="11355"/>
                  <a:pt x="4148" y="11447"/>
                  <a:pt x="4068" y="11559"/>
                </a:cubicBezTo>
                <a:cubicBezTo>
                  <a:pt x="3999" y="11656"/>
                  <a:pt x="3967" y="11762"/>
                  <a:pt x="3969" y="11881"/>
                </a:cubicBezTo>
                <a:cubicBezTo>
                  <a:pt x="3971" y="12007"/>
                  <a:pt x="4015" y="12127"/>
                  <a:pt x="4093" y="12229"/>
                </a:cubicBezTo>
                <a:cubicBezTo>
                  <a:pt x="4213" y="12386"/>
                  <a:pt x="4382" y="12534"/>
                  <a:pt x="4539" y="12650"/>
                </a:cubicBezTo>
                <a:cubicBezTo>
                  <a:pt x="4692" y="12763"/>
                  <a:pt x="4870" y="12835"/>
                  <a:pt x="5035" y="12923"/>
                </a:cubicBezTo>
                <a:cubicBezTo>
                  <a:pt x="5198" y="13010"/>
                  <a:pt x="5396" y="13096"/>
                  <a:pt x="5581" y="13122"/>
                </a:cubicBezTo>
                <a:cubicBezTo>
                  <a:pt x="5591" y="13123"/>
                  <a:pt x="5880" y="13137"/>
                  <a:pt x="5978" y="13122"/>
                </a:cubicBezTo>
                <a:cubicBezTo>
                  <a:pt x="6144" y="13096"/>
                  <a:pt x="6248" y="13023"/>
                  <a:pt x="6375" y="12923"/>
                </a:cubicBezTo>
                <a:cubicBezTo>
                  <a:pt x="6491" y="12832"/>
                  <a:pt x="6593" y="12692"/>
                  <a:pt x="6648" y="12551"/>
                </a:cubicBezTo>
                <a:cubicBezTo>
                  <a:pt x="6700" y="12416"/>
                  <a:pt x="6735" y="12224"/>
                  <a:pt x="6722" y="12080"/>
                </a:cubicBezTo>
                <a:cubicBezTo>
                  <a:pt x="6702" y="11857"/>
                  <a:pt x="6640" y="11667"/>
                  <a:pt x="6548" y="11460"/>
                </a:cubicBezTo>
                <a:cubicBezTo>
                  <a:pt x="6489" y="11326"/>
                  <a:pt x="6365" y="11154"/>
                  <a:pt x="6251" y="11063"/>
                </a:cubicBezTo>
                <a:cubicBezTo>
                  <a:pt x="6121" y="10960"/>
                  <a:pt x="5977" y="10921"/>
                  <a:pt x="5829" y="10864"/>
                </a:cubicBezTo>
                <a:cubicBezTo>
                  <a:pt x="5684" y="10809"/>
                  <a:pt x="5542" y="10802"/>
                  <a:pt x="5383" y="10815"/>
                </a:cubicBezTo>
                <a:cubicBezTo>
                  <a:pt x="5165" y="10833"/>
                  <a:pt x="5006" y="10898"/>
                  <a:pt x="4812" y="10988"/>
                </a:cubicBezTo>
                <a:cubicBezTo>
                  <a:pt x="4693" y="11043"/>
                  <a:pt x="4599" y="11137"/>
                  <a:pt x="4490" y="11212"/>
                </a:cubicBezTo>
              </a:path>
              <a:path w="4218" h="7988">
                <a:moveTo>
                  <a:pt x="3101" y="13543"/>
                </a:moveTo>
                <a:cubicBezTo>
                  <a:pt x="3108" y="13447"/>
                  <a:pt x="3125" y="13368"/>
                  <a:pt x="3125" y="13271"/>
                </a:cubicBezTo>
                <a:cubicBezTo>
                  <a:pt x="3125" y="13198"/>
                  <a:pt x="3095" y="13150"/>
                  <a:pt x="3026" y="13122"/>
                </a:cubicBezTo>
                <a:cubicBezTo>
                  <a:pt x="2964" y="13097"/>
                  <a:pt x="2846" y="13187"/>
                  <a:pt x="2803" y="13221"/>
                </a:cubicBezTo>
                <a:cubicBezTo>
                  <a:pt x="2737" y="13273"/>
                  <a:pt x="2685" y="13340"/>
                  <a:pt x="2654" y="13419"/>
                </a:cubicBezTo>
                <a:cubicBezTo>
                  <a:pt x="2613" y="13523"/>
                  <a:pt x="2632" y="13573"/>
                  <a:pt x="2679" y="13667"/>
                </a:cubicBezTo>
                <a:cubicBezTo>
                  <a:pt x="2714" y="13737"/>
                  <a:pt x="2772" y="13798"/>
                  <a:pt x="2853" y="13816"/>
                </a:cubicBezTo>
                <a:cubicBezTo>
                  <a:pt x="2934" y="13834"/>
                  <a:pt x="3015" y="13823"/>
                  <a:pt x="3076" y="13767"/>
                </a:cubicBezTo>
                <a:cubicBezTo>
                  <a:pt x="3115" y="13731"/>
                  <a:pt x="3163" y="13645"/>
                  <a:pt x="3175" y="13593"/>
                </a:cubicBezTo>
                <a:cubicBezTo>
                  <a:pt x="3187" y="13540"/>
                  <a:pt x="3175" y="13473"/>
                  <a:pt x="3175" y="13419"/>
                </a:cubicBezTo>
                <a:cubicBezTo>
                  <a:pt x="3166" y="13489"/>
                  <a:pt x="3150" y="13544"/>
                  <a:pt x="3150" y="13618"/>
                </a:cubicBezTo>
                <a:cubicBezTo>
                  <a:pt x="3150" y="13739"/>
                  <a:pt x="3165" y="13848"/>
                  <a:pt x="3175" y="13965"/>
                </a:cubicBezTo>
                <a:cubicBezTo>
                  <a:pt x="3188" y="14114"/>
                  <a:pt x="3177" y="14264"/>
                  <a:pt x="3200" y="14412"/>
                </a:cubicBezTo>
                <a:cubicBezTo>
                  <a:pt x="3218" y="14530"/>
                  <a:pt x="3247" y="14662"/>
                  <a:pt x="3225" y="14784"/>
                </a:cubicBezTo>
                <a:cubicBezTo>
                  <a:pt x="3209" y="14874"/>
                  <a:pt x="3184" y="14921"/>
                  <a:pt x="3101" y="14932"/>
                </a:cubicBezTo>
                <a:cubicBezTo>
                  <a:pt x="2980" y="14948"/>
                  <a:pt x="2930" y="14885"/>
                  <a:pt x="2853" y="14808"/>
                </a:cubicBezTo>
                <a:cubicBezTo>
                  <a:pt x="2774" y="14729"/>
                  <a:pt x="2762" y="14643"/>
                  <a:pt x="2753" y="14536"/>
                </a:cubicBezTo>
              </a:path>
              <a:path w="4218" h="7988">
                <a:moveTo>
                  <a:pt x="3621" y="12973"/>
                </a:moveTo>
                <a:cubicBezTo>
                  <a:pt x="3598" y="13061"/>
                  <a:pt x="3577" y="13134"/>
                  <a:pt x="3547" y="13221"/>
                </a:cubicBezTo>
                <a:cubicBezTo>
                  <a:pt x="3509" y="13329"/>
                  <a:pt x="3473" y="13409"/>
                  <a:pt x="3448" y="13519"/>
                </a:cubicBezTo>
                <a:cubicBezTo>
                  <a:pt x="3422" y="13635"/>
                  <a:pt x="3393" y="13827"/>
                  <a:pt x="3497" y="13915"/>
                </a:cubicBezTo>
                <a:cubicBezTo>
                  <a:pt x="3522" y="13932"/>
                  <a:pt x="3547" y="13948"/>
                  <a:pt x="3572" y="13965"/>
                </a:cubicBezTo>
              </a:path>
              <a:path w="4218" h="7988">
                <a:moveTo>
                  <a:pt x="3795" y="13469"/>
                </a:moveTo>
                <a:cubicBezTo>
                  <a:pt x="3871" y="13412"/>
                  <a:pt x="3897" y="13419"/>
                  <a:pt x="3994" y="13419"/>
                </a:cubicBezTo>
                <a:cubicBezTo>
                  <a:pt x="4045" y="13419"/>
                  <a:pt x="4063" y="13418"/>
                  <a:pt x="4093" y="13395"/>
                </a:cubicBezTo>
              </a:path>
              <a:path w="4218" h="7988">
                <a:moveTo>
                  <a:pt x="4266" y="13295"/>
                </a:moveTo>
                <a:cubicBezTo>
                  <a:pt x="4255" y="13324"/>
                  <a:pt x="4190" y="13444"/>
                  <a:pt x="4192" y="13469"/>
                </a:cubicBezTo>
                <a:cubicBezTo>
                  <a:pt x="4199" y="13539"/>
                  <a:pt x="4246" y="13573"/>
                  <a:pt x="4291" y="13618"/>
                </a:cubicBezTo>
                <a:cubicBezTo>
                  <a:pt x="4342" y="13669"/>
                  <a:pt x="4407" y="13640"/>
                  <a:pt x="4465" y="13618"/>
                </a:cubicBezTo>
              </a:path>
              <a:path w="4218" h="7988">
                <a:moveTo>
                  <a:pt x="4589" y="13196"/>
                </a:moveTo>
                <a:cubicBezTo>
                  <a:pt x="4540" y="13268"/>
                  <a:pt x="4517" y="13331"/>
                  <a:pt x="4514" y="13419"/>
                </a:cubicBezTo>
                <a:cubicBezTo>
                  <a:pt x="4509" y="13587"/>
                  <a:pt x="4493" y="13789"/>
                  <a:pt x="4539" y="13940"/>
                </a:cubicBezTo>
                <a:cubicBezTo>
                  <a:pt x="4539" y="13948"/>
                  <a:pt x="4539" y="13957"/>
                  <a:pt x="4539" y="13965"/>
                </a:cubicBezTo>
              </a:path>
              <a:path w="4218" h="7988">
                <a:moveTo>
                  <a:pt x="4762" y="13320"/>
                </a:moveTo>
                <a:cubicBezTo>
                  <a:pt x="4850" y="13301"/>
                  <a:pt x="4951" y="13316"/>
                  <a:pt x="5035" y="13295"/>
                </a:cubicBezTo>
                <a:cubicBezTo>
                  <a:pt x="5052" y="13287"/>
                  <a:pt x="5068" y="13279"/>
                  <a:pt x="5085" y="13271"/>
                </a:cubicBezTo>
              </a:path>
              <a:path w="4218" h="7988">
                <a:moveTo>
                  <a:pt x="4762" y="13271"/>
                </a:moveTo>
                <a:cubicBezTo>
                  <a:pt x="4708" y="13309"/>
                  <a:pt x="4642" y="13372"/>
                  <a:pt x="4713" y="13444"/>
                </a:cubicBezTo>
                <a:cubicBezTo>
                  <a:pt x="4771" y="13502"/>
                  <a:pt x="4844" y="13487"/>
                  <a:pt x="4911" y="13469"/>
                </a:cubicBezTo>
                <a:cubicBezTo>
                  <a:pt x="4992" y="13448"/>
                  <a:pt x="5090" y="13420"/>
                  <a:pt x="5159" y="13494"/>
                </a:cubicBezTo>
                <a:cubicBezTo>
                  <a:pt x="5218" y="13557"/>
                  <a:pt x="5231" y="13687"/>
                  <a:pt x="5234" y="13767"/>
                </a:cubicBezTo>
                <a:cubicBezTo>
                  <a:pt x="5237" y="13838"/>
                  <a:pt x="5216" y="13962"/>
                  <a:pt x="5159" y="14015"/>
                </a:cubicBezTo>
                <a:cubicBezTo>
                  <a:pt x="5120" y="14051"/>
                  <a:pt x="5040" y="14085"/>
                  <a:pt x="4986" y="14064"/>
                </a:cubicBezTo>
                <a:cubicBezTo>
                  <a:pt x="4930" y="14042"/>
                  <a:pt x="4917" y="13938"/>
                  <a:pt x="4911" y="13891"/>
                </a:cubicBezTo>
              </a:path>
              <a:path w="4218" h="7988">
                <a:moveTo>
                  <a:pt x="5457" y="13395"/>
                </a:moveTo>
                <a:cubicBezTo>
                  <a:pt x="5508" y="13607"/>
                  <a:pt x="5531" y="13773"/>
                  <a:pt x="5531" y="13990"/>
                </a:cubicBezTo>
                <a:cubicBezTo>
                  <a:pt x="5531" y="14091"/>
                  <a:pt x="5495" y="14198"/>
                  <a:pt x="5407" y="14263"/>
                </a:cubicBezTo>
                <a:cubicBezTo>
                  <a:pt x="5330" y="14321"/>
                  <a:pt x="5302" y="14264"/>
                  <a:pt x="5259" y="14213"/>
                </a:cubicBezTo>
              </a:path>
              <a:path w="4218" h="7988">
                <a:moveTo>
                  <a:pt x="5482" y="11261"/>
                </a:moveTo>
                <a:cubicBezTo>
                  <a:pt x="5422" y="11261"/>
                  <a:pt x="5379" y="11244"/>
                  <a:pt x="5333" y="11237"/>
                </a:cubicBezTo>
                <a:cubicBezTo>
                  <a:pt x="5251" y="11224"/>
                  <a:pt x="5215" y="11174"/>
                  <a:pt x="5135" y="11137"/>
                </a:cubicBezTo>
                <a:cubicBezTo>
                  <a:pt x="5035" y="11090"/>
                  <a:pt x="4942" y="11026"/>
                  <a:pt x="4837" y="10988"/>
                </a:cubicBezTo>
                <a:cubicBezTo>
                  <a:pt x="4706" y="10941"/>
                  <a:pt x="4577" y="10895"/>
                  <a:pt x="4440" y="10864"/>
                </a:cubicBezTo>
                <a:cubicBezTo>
                  <a:pt x="4245" y="10820"/>
                  <a:pt x="4090" y="10815"/>
                  <a:pt x="3894" y="10815"/>
                </a:cubicBezTo>
                <a:cubicBezTo>
                  <a:pt x="3770" y="10815"/>
                  <a:pt x="3637" y="10840"/>
                  <a:pt x="3522" y="10889"/>
                </a:cubicBezTo>
                <a:cubicBezTo>
                  <a:pt x="3438" y="10925"/>
                  <a:pt x="3291" y="10995"/>
                  <a:pt x="3225" y="11063"/>
                </a:cubicBezTo>
                <a:cubicBezTo>
                  <a:pt x="3163" y="11128"/>
                  <a:pt x="3101" y="11185"/>
                  <a:pt x="3051" y="11261"/>
                </a:cubicBezTo>
                <a:cubicBezTo>
                  <a:pt x="2960" y="11401"/>
                  <a:pt x="3015" y="11337"/>
                  <a:pt x="2977" y="11311"/>
                </a:cubicBezTo>
              </a:path>
              <a:path w="4218" h="7988">
                <a:moveTo>
                  <a:pt x="2853" y="11088"/>
                </a:moveTo>
                <a:cubicBezTo>
                  <a:pt x="2812" y="11204"/>
                  <a:pt x="2803" y="11246"/>
                  <a:pt x="2803" y="11361"/>
                </a:cubicBezTo>
                <a:cubicBezTo>
                  <a:pt x="2803" y="11418"/>
                  <a:pt x="2828" y="11462"/>
                  <a:pt x="2853" y="11509"/>
                </a:cubicBezTo>
                <a:cubicBezTo>
                  <a:pt x="2898" y="11596"/>
                  <a:pt x="2973" y="11561"/>
                  <a:pt x="3051" y="11534"/>
                </a:cubicBezTo>
                <a:cubicBezTo>
                  <a:pt x="3153" y="11498"/>
                  <a:pt x="3232" y="11469"/>
                  <a:pt x="3324" y="11410"/>
                </a:cubicBezTo>
              </a:path>
              <a:path w="4218" h="7988">
                <a:moveTo>
                  <a:pt x="2902" y="15503"/>
                </a:moveTo>
                <a:cubicBezTo>
                  <a:pt x="3062" y="15503"/>
                  <a:pt x="3216" y="15508"/>
                  <a:pt x="3373" y="15478"/>
                </a:cubicBezTo>
              </a:path>
              <a:path w="4218" h="7988">
                <a:moveTo>
                  <a:pt x="3696" y="15230"/>
                </a:moveTo>
                <a:cubicBezTo>
                  <a:pt x="3801" y="15246"/>
                  <a:pt x="3923" y="15251"/>
                  <a:pt x="4018" y="15304"/>
                </a:cubicBezTo>
                <a:cubicBezTo>
                  <a:pt x="4026" y="15312"/>
                  <a:pt x="4035" y="15321"/>
                  <a:pt x="4043" y="15329"/>
                </a:cubicBezTo>
                <a:cubicBezTo>
                  <a:pt x="4024" y="15398"/>
                  <a:pt x="3987" y="15412"/>
                  <a:pt x="3919" y="15453"/>
                </a:cubicBezTo>
                <a:cubicBezTo>
                  <a:pt x="3871" y="15482"/>
                  <a:pt x="3782" y="15535"/>
                  <a:pt x="3746" y="15577"/>
                </a:cubicBezTo>
                <a:cubicBezTo>
                  <a:pt x="3710" y="15619"/>
                  <a:pt x="3710" y="15724"/>
                  <a:pt x="3721" y="15776"/>
                </a:cubicBezTo>
                <a:cubicBezTo>
                  <a:pt x="3739" y="15857"/>
                  <a:pt x="3782" y="15950"/>
                  <a:pt x="3870" y="15974"/>
                </a:cubicBezTo>
                <a:cubicBezTo>
                  <a:pt x="3928" y="15974"/>
                  <a:pt x="3953" y="15974"/>
                  <a:pt x="3994" y="15974"/>
                </a:cubicBezTo>
              </a:path>
              <a:path w="4218" h="7988">
                <a:moveTo>
                  <a:pt x="4415" y="15205"/>
                </a:moveTo>
                <a:cubicBezTo>
                  <a:pt x="4338" y="15250"/>
                  <a:pt x="4343" y="15286"/>
                  <a:pt x="4291" y="15354"/>
                </a:cubicBezTo>
                <a:cubicBezTo>
                  <a:pt x="4220" y="15447"/>
                  <a:pt x="4232" y="15516"/>
                  <a:pt x="4242" y="15627"/>
                </a:cubicBezTo>
                <a:cubicBezTo>
                  <a:pt x="4251" y="15727"/>
                  <a:pt x="4281" y="15789"/>
                  <a:pt x="4366" y="15850"/>
                </a:cubicBezTo>
                <a:cubicBezTo>
                  <a:pt x="4434" y="15899"/>
                  <a:pt x="4461" y="15910"/>
                  <a:pt x="4539" y="15875"/>
                </a:cubicBezTo>
                <a:cubicBezTo>
                  <a:pt x="4602" y="15847"/>
                  <a:pt x="4660" y="15766"/>
                  <a:pt x="4688" y="15701"/>
                </a:cubicBezTo>
                <a:cubicBezTo>
                  <a:pt x="4729" y="15606"/>
                  <a:pt x="4758" y="15506"/>
                  <a:pt x="4762" y="15404"/>
                </a:cubicBezTo>
                <a:cubicBezTo>
                  <a:pt x="4765" y="15319"/>
                  <a:pt x="4733" y="15212"/>
                  <a:pt x="4663" y="15156"/>
                </a:cubicBezTo>
                <a:cubicBezTo>
                  <a:pt x="4605" y="15109"/>
                  <a:pt x="4562" y="15136"/>
                  <a:pt x="4514" y="15180"/>
                </a:cubicBezTo>
                <a:cubicBezTo>
                  <a:pt x="4484" y="15207"/>
                  <a:pt x="4474" y="15220"/>
                  <a:pt x="4465" y="15255"/>
                </a:cubicBezTo>
              </a:path>
              <a:path w="4218" h="7988">
                <a:moveTo>
                  <a:pt x="4862" y="15056"/>
                </a:moveTo>
                <a:cubicBezTo>
                  <a:pt x="4973" y="15064"/>
                  <a:pt x="5032" y="15092"/>
                  <a:pt x="5135" y="15131"/>
                </a:cubicBezTo>
                <a:cubicBezTo>
                  <a:pt x="5234" y="15168"/>
                  <a:pt x="5250" y="15203"/>
                  <a:pt x="5308" y="15280"/>
                </a:cubicBezTo>
                <a:cubicBezTo>
                  <a:pt x="5367" y="15357"/>
                  <a:pt x="5305" y="15364"/>
                  <a:pt x="5259" y="15429"/>
                </a:cubicBezTo>
                <a:cubicBezTo>
                  <a:pt x="5206" y="15504"/>
                  <a:pt x="5143" y="15567"/>
                  <a:pt x="5035" y="15528"/>
                </a:cubicBezTo>
                <a:cubicBezTo>
                  <a:pt x="5027" y="15520"/>
                  <a:pt x="5019" y="15511"/>
                  <a:pt x="5011" y="15503"/>
                </a:cubicBezTo>
                <a:cubicBezTo>
                  <a:pt x="5035" y="15453"/>
                  <a:pt x="5058" y="15353"/>
                  <a:pt x="5135" y="15379"/>
                </a:cubicBezTo>
                <a:cubicBezTo>
                  <a:pt x="5189" y="15397"/>
                  <a:pt x="5228" y="15490"/>
                  <a:pt x="5259" y="15528"/>
                </a:cubicBezTo>
                <a:cubicBezTo>
                  <a:pt x="5321" y="15602"/>
                  <a:pt x="5336" y="15640"/>
                  <a:pt x="5432" y="15652"/>
                </a:cubicBezTo>
              </a:path>
              <a:path w="4218" h="7988">
                <a:moveTo>
                  <a:pt x="5829" y="15032"/>
                </a:moveTo>
                <a:cubicBezTo>
                  <a:pt x="5798" y="15206"/>
                  <a:pt x="5797" y="15377"/>
                  <a:pt x="5779" y="15553"/>
                </a:cubicBezTo>
                <a:cubicBezTo>
                  <a:pt x="5764" y="15694"/>
                  <a:pt x="5732" y="15835"/>
                  <a:pt x="5705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Ink 9"/>
          <p:cNvSpPr/>
          <p:nvPr/>
        </p:nvSpPr>
        <p:spPr>
          <a:xfrm>
            <a:off x="990720" y="3384720"/>
            <a:ext cx="1152360" cy="625320"/>
          </a:xfrm>
          <a:custGeom>
            <a:avLst/>
            <a:gdLst/>
            <a:ahLst/>
            <a:rect l="l" t="t" r="r" b="b"/>
            <a:pathLst>
              <a:path w="3201" h="1737">
                <a:moveTo>
                  <a:pt x="5680" y="9897"/>
                </a:moveTo>
                <a:cubicBezTo>
                  <a:pt x="5666" y="9814"/>
                  <a:pt x="5655" y="9808"/>
                  <a:pt x="5606" y="9748"/>
                </a:cubicBezTo>
                <a:cubicBezTo>
                  <a:pt x="5525" y="9649"/>
                  <a:pt x="5428" y="9591"/>
                  <a:pt x="5308" y="9550"/>
                </a:cubicBezTo>
                <a:cubicBezTo>
                  <a:pt x="5182" y="9507"/>
                  <a:pt x="5067" y="9500"/>
                  <a:pt x="4936" y="9500"/>
                </a:cubicBezTo>
                <a:cubicBezTo>
                  <a:pt x="4807" y="9500"/>
                  <a:pt x="4690" y="9497"/>
                  <a:pt x="4564" y="9525"/>
                </a:cubicBezTo>
                <a:cubicBezTo>
                  <a:pt x="4424" y="9556"/>
                  <a:pt x="4301" y="9629"/>
                  <a:pt x="4167" y="9674"/>
                </a:cubicBezTo>
                <a:cubicBezTo>
                  <a:pt x="4045" y="9715"/>
                  <a:pt x="3965" y="9775"/>
                  <a:pt x="3870" y="9847"/>
                </a:cubicBezTo>
                <a:cubicBezTo>
                  <a:pt x="3779" y="9916"/>
                  <a:pt x="3755" y="10018"/>
                  <a:pt x="3721" y="10120"/>
                </a:cubicBezTo>
                <a:cubicBezTo>
                  <a:pt x="3689" y="10216"/>
                  <a:pt x="3689" y="10274"/>
                  <a:pt x="3721" y="10368"/>
                </a:cubicBezTo>
                <a:cubicBezTo>
                  <a:pt x="3754" y="10465"/>
                  <a:pt x="3803" y="10562"/>
                  <a:pt x="3870" y="10641"/>
                </a:cubicBezTo>
                <a:cubicBezTo>
                  <a:pt x="3972" y="10761"/>
                  <a:pt x="4078" y="10819"/>
                  <a:pt x="4217" y="10889"/>
                </a:cubicBezTo>
                <a:cubicBezTo>
                  <a:pt x="4393" y="10977"/>
                  <a:pt x="4569" y="11038"/>
                  <a:pt x="4762" y="11088"/>
                </a:cubicBezTo>
                <a:cubicBezTo>
                  <a:pt x="4934" y="11133"/>
                  <a:pt x="5064" y="11126"/>
                  <a:pt x="5234" y="11112"/>
                </a:cubicBezTo>
                <a:cubicBezTo>
                  <a:pt x="5455" y="11094"/>
                  <a:pt x="5590" y="11010"/>
                  <a:pt x="5755" y="10864"/>
                </a:cubicBezTo>
                <a:cubicBezTo>
                  <a:pt x="5882" y="10751"/>
                  <a:pt x="5884" y="10648"/>
                  <a:pt x="5928" y="10492"/>
                </a:cubicBezTo>
                <a:cubicBezTo>
                  <a:pt x="5973" y="10331"/>
                  <a:pt x="5931" y="10196"/>
                  <a:pt x="5854" y="10046"/>
                </a:cubicBezTo>
                <a:cubicBezTo>
                  <a:pt x="5791" y="9923"/>
                  <a:pt x="5662" y="9830"/>
                  <a:pt x="5556" y="9748"/>
                </a:cubicBezTo>
                <a:cubicBezTo>
                  <a:pt x="5415" y="9639"/>
                  <a:pt x="5258" y="9550"/>
                  <a:pt x="5085" y="9500"/>
                </a:cubicBezTo>
                <a:cubicBezTo>
                  <a:pt x="4920" y="9452"/>
                  <a:pt x="4759" y="9451"/>
                  <a:pt x="4589" y="9451"/>
                </a:cubicBezTo>
                <a:cubicBezTo>
                  <a:pt x="4416" y="9451"/>
                  <a:pt x="4247" y="9469"/>
                  <a:pt x="4093" y="9550"/>
                </a:cubicBezTo>
                <a:cubicBezTo>
                  <a:pt x="3995" y="9602"/>
                  <a:pt x="3844" y="9702"/>
                  <a:pt x="3770" y="9773"/>
                </a:cubicBezTo>
                <a:cubicBezTo>
                  <a:pt x="3690" y="9849"/>
                  <a:pt x="3664" y="9973"/>
                  <a:pt x="3646" y="10071"/>
                </a:cubicBezTo>
                <a:cubicBezTo>
                  <a:pt x="3615" y="10237"/>
                  <a:pt x="3641" y="10340"/>
                  <a:pt x="3721" y="10492"/>
                </a:cubicBezTo>
                <a:cubicBezTo>
                  <a:pt x="3782" y="10607"/>
                  <a:pt x="3894" y="10712"/>
                  <a:pt x="3994" y="10790"/>
                </a:cubicBezTo>
                <a:cubicBezTo>
                  <a:pt x="4116" y="10885"/>
                  <a:pt x="4242" y="10947"/>
                  <a:pt x="4390" y="10988"/>
                </a:cubicBezTo>
                <a:cubicBezTo>
                  <a:pt x="4585" y="11042"/>
                  <a:pt x="4759" y="11063"/>
                  <a:pt x="4961" y="11063"/>
                </a:cubicBezTo>
                <a:cubicBezTo>
                  <a:pt x="5095" y="11063"/>
                  <a:pt x="5238" y="11022"/>
                  <a:pt x="5358" y="10964"/>
                </a:cubicBezTo>
                <a:cubicBezTo>
                  <a:pt x="5448" y="10920"/>
                  <a:pt x="5555" y="10823"/>
                  <a:pt x="5606" y="10740"/>
                </a:cubicBezTo>
                <a:cubicBezTo>
                  <a:pt x="5665" y="10643"/>
                  <a:pt x="5747" y="10460"/>
                  <a:pt x="5730" y="10344"/>
                </a:cubicBezTo>
                <a:cubicBezTo>
                  <a:pt x="5714" y="10234"/>
                  <a:pt x="5668" y="10061"/>
                  <a:pt x="5606" y="9971"/>
                </a:cubicBezTo>
                <a:cubicBezTo>
                  <a:pt x="5550" y="9890"/>
                  <a:pt x="5396" y="9743"/>
                  <a:pt x="5308" y="9699"/>
                </a:cubicBezTo>
                <a:cubicBezTo>
                  <a:pt x="5184" y="9637"/>
                  <a:pt x="5021" y="9591"/>
                  <a:pt x="4887" y="9550"/>
                </a:cubicBezTo>
                <a:cubicBezTo>
                  <a:pt x="4699" y="9493"/>
                  <a:pt x="4507" y="9540"/>
                  <a:pt x="4316" y="9550"/>
                </a:cubicBezTo>
                <a:cubicBezTo>
                  <a:pt x="4141" y="9559"/>
                  <a:pt x="3927" y="9626"/>
                  <a:pt x="3795" y="9748"/>
                </a:cubicBezTo>
                <a:cubicBezTo>
                  <a:pt x="3751" y="9788"/>
                  <a:pt x="3669" y="9863"/>
                  <a:pt x="3646" y="9922"/>
                </a:cubicBezTo>
                <a:cubicBezTo>
                  <a:pt x="3625" y="9976"/>
                  <a:pt x="3599" y="10084"/>
                  <a:pt x="3621" y="10145"/>
                </a:cubicBezTo>
                <a:cubicBezTo>
                  <a:pt x="3634" y="10181"/>
                  <a:pt x="3647" y="10165"/>
                  <a:pt x="3671" y="10195"/>
                </a:cubicBezTo>
              </a:path>
              <a:path w="3201" h="1737">
                <a:moveTo>
                  <a:pt x="4142" y="9525"/>
                </a:moveTo>
                <a:cubicBezTo>
                  <a:pt x="4081" y="9475"/>
                  <a:pt x="4024" y="9454"/>
                  <a:pt x="3944" y="9451"/>
                </a:cubicBezTo>
                <a:cubicBezTo>
                  <a:pt x="3837" y="9447"/>
                  <a:pt x="3782" y="9423"/>
                  <a:pt x="3696" y="9401"/>
                </a:cubicBezTo>
                <a:cubicBezTo>
                  <a:pt x="3579" y="9372"/>
                  <a:pt x="3519" y="9428"/>
                  <a:pt x="3423" y="9451"/>
                </a:cubicBezTo>
                <a:cubicBezTo>
                  <a:pt x="3333" y="9472"/>
                  <a:pt x="3288" y="9456"/>
                  <a:pt x="3200" y="9500"/>
                </a:cubicBezTo>
                <a:cubicBezTo>
                  <a:pt x="3109" y="9546"/>
                  <a:pt x="3045" y="9617"/>
                  <a:pt x="2977" y="9674"/>
                </a:cubicBezTo>
                <a:cubicBezTo>
                  <a:pt x="2954" y="9697"/>
                  <a:pt x="2946" y="9708"/>
                  <a:pt x="2952" y="9674"/>
                </a:cubicBezTo>
              </a:path>
              <a:path w="3201" h="1737">
                <a:moveTo>
                  <a:pt x="2828" y="9475"/>
                </a:moveTo>
                <a:cubicBezTo>
                  <a:pt x="2811" y="9475"/>
                  <a:pt x="2795" y="9475"/>
                  <a:pt x="2778" y="9475"/>
                </a:cubicBezTo>
                <a:cubicBezTo>
                  <a:pt x="2766" y="9557"/>
                  <a:pt x="2774" y="9581"/>
                  <a:pt x="2778" y="9674"/>
                </a:cubicBezTo>
                <a:cubicBezTo>
                  <a:pt x="2780" y="9723"/>
                  <a:pt x="2778" y="9774"/>
                  <a:pt x="2778" y="9823"/>
                </a:cubicBezTo>
                <a:cubicBezTo>
                  <a:pt x="2833" y="9801"/>
                  <a:pt x="2885" y="9755"/>
                  <a:pt x="2952" y="9748"/>
                </a:cubicBezTo>
                <a:cubicBezTo>
                  <a:pt x="2990" y="9744"/>
                  <a:pt x="3241" y="9748"/>
                  <a:pt x="3200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Ink 10"/>
          <p:cNvSpPr/>
          <p:nvPr/>
        </p:nvSpPr>
        <p:spPr>
          <a:xfrm>
            <a:off x="2598840" y="3106800"/>
            <a:ext cx="86652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7218" y="8954"/>
                </a:moveTo>
                <a:cubicBezTo>
                  <a:pt x="7278" y="8919"/>
                  <a:pt x="7343" y="8930"/>
                  <a:pt x="7417" y="8930"/>
                </a:cubicBezTo>
                <a:cubicBezTo>
                  <a:pt x="7526" y="8930"/>
                  <a:pt x="7558" y="8932"/>
                  <a:pt x="7640" y="9004"/>
                </a:cubicBezTo>
              </a:path>
              <a:path w="2407" h="1043">
                <a:moveTo>
                  <a:pt x="7268" y="9302"/>
                </a:moveTo>
                <a:cubicBezTo>
                  <a:pt x="7384" y="9302"/>
                  <a:pt x="7499" y="9302"/>
                  <a:pt x="7615" y="9302"/>
                </a:cubicBezTo>
              </a:path>
              <a:path w="2407" h="1043">
                <a:moveTo>
                  <a:pt x="7813" y="9029"/>
                </a:moveTo>
                <a:cubicBezTo>
                  <a:pt x="7919" y="9029"/>
                  <a:pt x="8006" y="9012"/>
                  <a:pt x="8111" y="9004"/>
                </a:cubicBezTo>
                <a:cubicBezTo>
                  <a:pt x="8152" y="9004"/>
                  <a:pt x="8194" y="9004"/>
                  <a:pt x="8235" y="9004"/>
                </a:cubicBezTo>
              </a:path>
              <a:path w="2407" h="1043">
                <a:moveTo>
                  <a:pt x="8558" y="8632"/>
                </a:moveTo>
                <a:cubicBezTo>
                  <a:pt x="8542" y="8795"/>
                  <a:pt x="8533" y="8941"/>
                  <a:pt x="8533" y="9103"/>
                </a:cubicBezTo>
                <a:cubicBezTo>
                  <a:pt x="8533" y="9186"/>
                  <a:pt x="8543" y="9294"/>
                  <a:pt x="8558" y="9376"/>
                </a:cubicBezTo>
                <a:cubicBezTo>
                  <a:pt x="8568" y="9432"/>
                  <a:pt x="8562" y="9548"/>
                  <a:pt x="8582" y="9599"/>
                </a:cubicBezTo>
                <a:cubicBezTo>
                  <a:pt x="8605" y="9622"/>
                  <a:pt x="8613" y="9633"/>
                  <a:pt x="8607" y="9599"/>
                </a:cubicBezTo>
              </a:path>
              <a:path w="2407" h="1043">
                <a:moveTo>
                  <a:pt x="8830" y="8781"/>
                </a:moveTo>
                <a:cubicBezTo>
                  <a:pt x="8888" y="8829"/>
                  <a:pt x="8906" y="8915"/>
                  <a:pt x="8880" y="9004"/>
                </a:cubicBezTo>
                <a:cubicBezTo>
                  <a:pt x="8857" y="9081"/>
                  <a:pt x="8855" y="9161"/>
                  <a:pt x="8855" y="9252"/>
                </a:cubicBezTo>
                <a:cubicBezTo>
                  <a:pt x="8855" y="9366"/>
                  <a:pt x="8889" y="9435"/>
                  <a:pt x="8930" y="9525"/>
                </a:cubicBezTo>
                <a:cubicBezTo>
                  <a:pt x="8966" y="9605"/>
                  <a:pt x="9008" y="9666"/>
                  <a:pt x="9103" y="9674"/>
                </a:cubicBezTo>
                <a:cubicBezTo>
                  <a:pt x="9211" y="9683"/>
                  <a:pt x="9289" y="9659"/>
                  <a:pt x="9376" y="9599"/>
                </a:cubicBezTo>
                <a:cubicBezTo>
                  <a:pt x="9515" y="9502"/>
                  <a:pt x="9549" y="9453"/>
                  <a:pt x="9599" y="9302"/>
                </a:cubicBezTo>
                <a:cubicBezTo>
                  <a:pt x="9634" y="9197"/>
                  <a:pt x="9627" y="9104"/>
                  <a:pt x="9575" y="9004"/>
                </a:cubicBezTo>
                <a:cubicBezTo>
                  <a:pt x="9528" y="8914"/>
                  <a:pt x="9440" y="8783"/>
                  <a:pt x="9351" y="8731"/>
                </a:cubicBezTo>
                <a:cubicBezTo>
                  <a:pt x="9269" y="8683"/>
                  <a:pt x="9063" y="8694"/>
                  <a:pt x="8979" y="8706"/>
                </a:cubicBezTo>
                <a:cubicBezTo>
                  <a:pt x="8884" y="8719"/>
                  <a:pt x="8857" y="8785"/>
                  <a:pt x="8806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nk 11"/>
          <p:cNvSpPr/>
          <p:nvPr/>
        </p:nvSpPr>
        <p:spPr>
          <a:xfrm>
            <a:off x="4313160" y="2768760"/>
            <a:ext cx="2214720" cy="652320"/>
          </a:xfrm>
          <a:custGeom>
            <a:avLst/>
            <a:gdLst/>
            <a:ahLst/>
            <a:rect l="l" t="t" r="r" b="b"/>
            <a:pathLst>
              <a:path w="6152" h="1812">
                <a:moveTo>
                  <a:pt x="12080" y="8334"/>
                </a:moveTo>
                <a:cubicBezTo>
                  <a:pt x="12193" y="8334"/>
                  <a:pt x="12296" y="8346"/>
                  <a:pt x="12402" y="8359"/>
                </a:cubicBezTo>
                <a:cubicBezTo>
                  <a:pt x="12427" y="8359"/>
                  <a:pt x="12452" y="8359"/>
                  <a:pt x="12477" y="8359"/>
                </a:cubicBezTo>
              </a:path>
              <a:path w="6152" h="1812">
                <a:moveTo>
                  <a:pt x="12005" y="8558"/>
                </a:moveTo>
                <a:cubicBezTo>
                  <a:pt x="11942" y="8589"/>
                  <a:pt x="12112" y="8629"/>
                  <a:pt x="12154" y="8632"/>
                </a:cubicBezTo>
                <a:cubicBezTo>
                  <a:pt x="12179" y="8632"/>
                  <a:pt x="12204" y="8632"/>
                  <a:pt x="12229" y="8632"/>
                </a:cubicBezTo>
              </a:path>
              <a:path w="6152" h="1812">
                <a:moveTo>
                  <a:pt x="13097" y="8334"/>
                </a:moveTo>
                <a:cubicBezTo>
                  <a:pt x="13061" y="8412"/>
                  <a:pt x="13030" y="8515"/>
                  <a:pt x="12973" y="8558"/>
                </a:cubicBezTo>
                <a:cubicBezTo>
                  <a:pt x="12965" y="8566"/>
                  <a:pt x="12956" y="8574"/>
                  <a:pt x="12948" y="8582"/>
                </a:cubicBezTo>
                <a:cubicBezTo>
                  <a:pt x="13006" y="8652"/>
                  <a:pt x="13048" y="8632"/>
                  <a:pt x="13146" y="8632"/>
                </a:cubicBezTo>
                <a:cubicBezTo>
                  <a:pt x="13242" y="8632"/>
                  <a:pt x="13282" y="8645"/>
                  <a:pt x="13345" y="8582"/>
                </a:cubicBezTo>
              </a:path>
              <a:path w="6152" h="1812">
                <a:moveTo>
                  <a:pt x="13395" y="8111"/>
                </a:moveTo>
                <a:cubicBezTo>
                  <a:pt x="13344" y="8214"/>
                  <a:pt x="13332" y="8293"/>
                  <a:pt x="13320" y="8409"/>
                </a:cubicBezTo>
                <a:cubicBezTo>
                  <a:pt x="13304" y="8564"/>
                  <a:pt x="13295" y="8702"/>
                  <a:pt x="13295" y="8855"/>
                </a:cubicBezTo>
                <a:cubicBezTo>
                  <a:pt x="13295" y="8914"/>
                  <a:pt x="13300" y="8975"/>
                  <a:pt x="13320" y="9029"/>
                </a:cubicBezTo>
                <a:cubicBezTo>
                  <a:pt x="13328" y="9046"/>
                  <a:pt x="13337" y="9062"/>
                  <a:pt x="13345" y="9079"/>
                </a:cubicBezTo>
              </a:path>
              <a:path w="6152" h="1812">
                <a:moveTo>
                  <a:pt x="13618" y="8657"/>
                </a:moveTo>
                <a:cubicBezTo>
                  <a:pt x="13709" y="8629"/>
                  <a:pt x="13794" y="8632"/>
                  <a:pt x="13891" y="8632"/>
                </a:cubicBezTo>
                <a:cubicBezTo>
                  <a:pt x="13957" y="8632"/>
                  <a:pt x="13974" y="8632"/>
                  <a:pt x="14015" y="8632"/>
                </a:cubicBezTo>
              </a:path>
              <a:path w="6152" h="1812">
                <a:moveTo>
                  <a:pt x="14188" y="8409"/>
                </a:moveTo>
                <a:cubicBezTo>
                  <a:pt x="14213" y="8489"/>
                  <a:pt x="14252" y="8642"/>
                  <a:pt x="14312" y="8706"/>
                </a:cubicBezTo>
                <a:cubicBezTo>
                  <a:pt x="14379" y="8778"/>
                  <a:pt x="14470" y="8854"/>
                  <a:pt x="14536" y="8930"/>
                </a:cubicBezTo>
                <a:cubicBezTo>
                  <a:pt x="14590" y="8992"/>
                  <a:pt x="14672" y="9079"/>
                  <a:pt x="14759" y="9103"/>
                </a:cubicBezTo>
                <a:cubicBezTo>
                  <a:pt x="14775" y="9103"/>
                  <a:pt x="14792" y="9103"/>
                  <a:pt x="14808" y="9103"/>
                </a:cubicBezTo>
              </a:path>
              <a:path w="6152" h="1812">
                <a:moveTo>
                  <a:pt x="14536" y="8434"/>
                </a:moveTo>
                <a:cubicBezTo>
                  <a:pt x="14429" y="8578"/>
                  <a:pt x="14294" y="8725"/>
                  <a:pt x="14213" y="8880"/>
                </a:cubicBezTo>
                <a:cubicBezTo>
                  <a:pt x="14183" y="8937"/>
                  <a:pt x="14176" y="8991"/>
                  <a:pt x="14163" y="9029"/>
                </a:cubicBezTo>
              </a:path>
              <a:path w="6152" h="1812">
                <a:moveTo>
                  <a:pt x="14536" y="8161"/>
                </a:moveTo>
                <a:cubicBezTo>
                  <a:pt x="14555" y="8157"/>
                  <a:pt x="14861" y="8031"/>
                  <a:pt x="14833" y="8186"/>
                </a:cubicBezTo>
                <a:cubicBezTo>
                  <a:pt x="14822" y="8246"/>
                  <a:pt x="14736" y="8313"/>
                  <a:pt x="14684" y="8334"/>
                </a:cubicBezTo>
                <a:cubicBezTo>
                  <a:pt x="14676" y="8334"/>
                  <a:pt x="14668" y="8334"/>
                  <a:pt x="14660" y="8334"/>
                </a:cubicBezTo>
                <a:cubicBezTo>
                  <a:pt x="14714" y="8460"/>
                  <a:pt x="14695" y="8377"/>
                  <a:pt x="14808" y="8409"/>
                </a:cubicBezTo>
                <a:cubicBezTo>
                  <a:pt x="14879" y="8429"/>
                  <a:pt x="14934" y="8464"/>
                  <a:pt x="14982" y="8483"/>
                </a:cubicBezTo>
                <a:cubicBezTo>
                  <a:pt x="15032" y="8483"/>
                  <a:pt x="15048" y="8483"/>
                  <a:pt x="15032" y="8434"/>
                </a:cubicBezTo>
              </a:path>
              <a:path w="6152" h="1812">
                <a:moveTo>
                  <a:pt x="15156" y="8855"/>
                </a:moveTo>
                <a:cubicBezTo>
                  <a:pt x="15254" y="8855"/>
                  <a:pt x="15308" y="8813"/>
                  <a:pt x="15404" y="8806"/>
                </a:cubicBezTo>
                <a:cubicBezTo>
                  <a:pt x="15478" y="8806"/>
                  <a:pt x="15503" y="8806"/>
                  <a:pt x="15553" y="8806"/>
                </a:cubicBezTo>
              </a:path>
              <a:path w="6152" h="1812">
                <a:moveTo>
                  <a:pt x="15825" y="8483"/>
                </a:moveTo>
                <a:cubicBezTo>
                  <a:pt x="15818" y="8495"/>
                  <a:pt x="15700" y="8702"/>
                  <a:pt x="15701" y="8706"/>
                </a:cubicBezTo>
                <a:cubicBezTo>
                  <a:pt x="15729" y="8734"/>
                  <a:pt x="15738" y="8748"/>
                  <a:pt x="15726" y="8781"/>
                </a:cubicBezTo>
                <a:cubicBezTo>
                  <a:pt x="15790" y="8790"/>
                  <a:pt x="15829" y="8806"/>
                  <a:pt x="15900" y="8806"/>
                </a:cubicBezTo>
                <a:cubicBezTo>
                  <a:pt x="15950" y="8806"/>
                  <a:pt x="15999" y="8806"/>
                  <a:pt x="16049" y="8806"/>
                </a:cubicBezTo>
              </a:path>
              <a:path w="6152" h="1812">
                <a:moveTo>
                  <a:pt x="16049" y="8260"/>
                </a:moveTo>
                <a:cubicBezTo>
                  <a:pt x="16042" y="8380"/>
                  <a:pt x="16005" y="8511"/>
                  <a:pt x="16024" y="8632"/>
                </a:cubicBezTo>
                <a:cubicBezTo>
                  <a:pt x="16046" y="8773"/>
                  <a:pt x="16025" y="8945"/>
                  <a:pt x="16073" y="9079"/>
                </a:cubicBezTo>
                <a:cubicBezTo>
                  <a:pt x="16085" y="9113"/>
                  <a:pt x="16124" y="9141"/>
                  <a:pt x="16148" y="9153"/>
                </a:cubicBezTo>
              </a:path>
              <a:path w="6152" h="1812">
                <a:moveTo>
                  <a:pt x="16346" y="8731"/>
                </a:moveTo>
                <a:cubicBezTo>
                  <a:pt x="16378" y="8788"/>
                  <a:pt x="16505" y="9036"/>
                  <a:pt x="16594" y="9079"/>
                </a:cubicBezTo>
                <a:cubicBezTo>
                  <a:pt x="16678" y="9079"/>
                  <a:pt x="16712" y="9081"/>
                  <a:pt x="16768" y="9103"/>
                </a:cubicBezTo>
              </a:path>
              <a:path w="6152" h="1812">
                <a:moveTo>
                  <a:pt x="16495" y="8657"/>
                </a:moveTo>
                <a:cubicBezTo>
                  <a:pt x="16382" y="8770"/>
                  <a:pt x="16217" y="8891"/>
                  <a:pt x="16148" y="9029"/>
                </a:cubicBezTo>
                <a:cubicBezTo>
                  <a:pt x="16097" y="9131"/>
                  <a:pt x="16113" y="9021"/>
                  <a:pt x="16098" y="9153"/>
                </a:cubicBezTo>
              </a:path>
              <a:path w="6152" h="1812">
                <a:moveTo>
                  <a:pt x="16867" y="8731"/>
                </a:moveTo>
                <a:cubicBezTo>
                  <a:pt x="17021" y="8742"/>
                  <a:pt x="17148" y="8809"/>
                  <a:pt x="17264" y="8731"/>
                </a:cubicBezTo>
              </a:path>
              <a:path w="6152" h="1812">
                <a:moveTo>
                  <a:pt x="17537" y="8483"/>
                </a:moveTo>
                <a:cubicBezTo>
                  <a:pt x="17502" y="8496"/>
                  <a:pt x="17401" y="8540"/>
                  <a:pt x="17388" y="8582"/>
                </a:cubicBezTo>
                <a:cubicBezTo>
                  <a:pt x="17368" y="8645"/>
                  <a:pt x="17469" y="8692"/>
                  <a:pt x="17512" y="8706"/>
                </a:cubicBezTo>
                <a:cubicBezTo>
                  <a:pt x="17588" y="8731"/>
                  <a:pt x="17658" y="8702"/>
                  <a:pt x="17711" y="8657"/>
                </a:cubicBezTo>
                <a:cubicBezTo>
                  <a:pt x="17719" y="8649"/>
                  <a:pt x="17727" y="8640"/>
                  <a:pt x="17735" y="8632"/>
                </a:cubicBezTo>
              </a:path>
              <a:path w="6152" h="1812">
                <a:moveTo>
                  <a:pt x="17835" y="8136"/>
                </a:moveTo>
                <a:cubicBezTo>
                  <a:pt x="17812" y="8274"/>
                  <a:pt x="17776" y="8421"/>
                  <a:pt x="17760" y="8558"/>
                </a:cubicBezTo>
                <a:cubicBezTo>
                  <a:pt x="17745" y="8688"/>
                  <a:pt x="17782" y="8877"/>
                  <a:pt x="17810" y="9004"/>
                </a:cubicBezTo>
                <a:cubicBezTo>
                  <a:pt x="17818" y="9029"/>
                  <a:pt x="17827" y="9054"/>
                  <a:pt x="17835" y="9079"/>
                </a:cubicBezTo>
              </a:path>
              <a:path w="6152" h="1812">
                <a:moveTo>
                  <a:pt x="12948" y="8930"/>
                </a:moveTo>
                <a:cubicBezTo>
                  <a:pt x="12998" y="8820"/>
                  <a:pt x="13061" y="8782"/>
                  <a:pt x="13122" y="8706"/>
                </a:cubicBezTo>
                <a:cubicBezTo>
                  <a:pt x="13236" y="8564"/>
                  <a:pt x="13343" y="8446"/>
                  <a:pt x="13494" y="8334"/>
                </a:cubicBezTo>
                <a:cubicBezTo>
                  <a:pt x="13519" y="8318"/>
                  <a:pt x="13543" y="8301"/>
                  <a:pt x="13568" y="8285"/>
                </a:cubicBezTo>
              </a:path>
              <a:path w="6152" h="1812">
                <a:moveTo>
                  <a:pt x="16743" y="8954"/>
                </a:moveTo>
                <a:cubicBezTo>
                  <a:pt x="16799" y="8885"/>
                  <a:pt x="16835" y="8853"/>
                  <a:pt x="16917" y="8806"/>
                </a:cubicBezTo>
                <a:cubicBezTo>
                  <a:pt x="17005" y="8756"/>
                  <a:pt x="17137" y="8693"/>
                  <a:pt x="17239" y="8657"/>
                </a:cubicBezTo>
                <a:cubicBezTo>
                  <a:pt x="17385" y="8606"/>
                  <a:pt x="17539" y="8557"/>
                  <a:pt x="17686" y="8508"/>
                </a:cubicBezTo>
                <a:cubicBezTo>
                  <a:pt x="17807" y="8467"/>
                  <a:pt x="17895" y="8490"/>
                  <a:pt x="18008" y="8434"/>
                </a:cubicBezTo>
                <a:cubicBezTo>
                  <a:pt x="18095" y="8391"/>
                  <a:pt x="18095" y="8395"/>
                  <a:pt x="18107" y="8359"/>
                </a:cubicBezTo>
              </a:path>
              <a:path w="6152" h="1812">
                <a:moveTo>
                  <a:pt x="16371" y="8086"/>
                </a:moveTo>
                <a:cubicBezTo>
                  <a:pt x="16186" y="7976"/>
                  <a:pt x="16023" y="7891"/>
                  <a:pt x="15825" y="7813"/>
                </a:cubicBezTo>
                <a:cubicBezTo>
                  <a:pt x="15569" y="7712"/>
                  <a:pt x="15331" y="7693"/>
                  <a:pt x="15056" y="7689"/>
                </a:cubicBezTo>
                <a:cubicBezTo>
                  <a:pt x="14786" y="7685"/>
                  <a:pt x="14551" y="7702"/>
                  <a:pt x="14288" y="7764"/>
                </a:cubicBezTo>
                <a:cubicBezTo>
                  <a:pt x="14042" y="7822"/>
                  <a:pt x="13816" y="7892"/>
                  <a:pt x="13593" y="8012"/>
                </a:cubicBezTo>
                <a:cubicBezTo>
                  <a:pt x="13477" y="8074"/>
                  <a:pt x="13275" y="8207"/>
                  <a:pt x="13221" y="8334"/>
                </a:cubicBezTo>
                <a:cubicBezTo>
                  <a:pt x="13168" y="8458"/>
                  <a:pt x="13157" y="8582"/>
                  <a:pt x="13221" y="8706"/>
                </a:cubicBezTo>
                <a:cubicBezTo>
                  <a:pt x="13308" y="8874"/>
                  <a:pt x="13506" y="9014"/>
                  <a:pt x="13667" y="9103"/>
                </a:cubicBezTo>
                <a:cubicBezTo>
                  <a:pt x="13845" y="9201"/>
                  <a:pt x="14111" y="9343"/>
                  <a:pt x="14312" y="9376"/>
                </a:cubicBezTo>
                <a:cubicBezTo>
                  <a:pt x="14577" y="9419"/>
                  <a:pt x="14833" y="9446"/>
                  <a:pt x="15106" y="9475"/>
                </a:cubicBezTo>
                <a:cubicBezTo>
                  <a:pt x="15358" y="9502"/>
                  <a:pt x="15621" y="9520"/>
                  <a:pt x="15875" y="9500"/>
                </a:cubicBezTo>
                <a:cubicBezTo>
                  <a:pt x="16063" y="9485"/>
                  <a:pt x="16323" y="9460"/>
                  <a:pt x="16495" y="9376"/>
                </a:cubicBezTo>
                <a:cubicBezTo>
                  <a:pt x="16602" y="9324"/>
                  <a:pt x="16804" y="9181"/>
                  <a:pt x="16867" y="9079"/>
                </a:cubicBezTo>
                <a:cubicBezTo>
                  <a:pt x="16936" y="8968"/>
                  <a:pt x="16975" y="8786"/>
                  <a:pt x="16966" y="8657"/>
                </a:cubicBezTo>
                <a:cubicBezTo>
                  <a:pt x="16951" y="8434"/>
                  <a:pt x="16792" y="8258"/>
                  <a:pt x="16619" y="8136"/>
                </a:cubicBezTo>
                <a:cubicBezTo>
                  <a:pt x="16430" y="8003"/>
                  <a:pt x="16179" y="7900"/>
                  <a:pt x="15949" y="7888"/>
                </a:cubicBezTo>
                <a:cubicBezTo>
                  <a:pt x="15817" y="7888"/>
                  <a:pt x="15685" y="7888"/>
                  <a:pt x="15553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Ink 12"/>
          <p:cNvSpPr/>
          <p:nvPr/>
        </p:nvSpPr>
        <p:spPr>
          <a:xfrm>
            <a:off x="1017720" y="3330720"/>
            <a:ext cx="3179520" cy="642960"/>
          </a:xfrm>
          <a:custGeom>
            <a:avLst/>
            <a:gdLst/>
            <a:ahLst/>
            <a:rect l="l" t="t" r="r" b="b"/>
            <a:pathLst>
              <a:path w="8831" h="1787">
                <a:moveTo>
                  <a:pt x="5655" y="9699"/>
                </a:moveTo>
                <a:cubicBezTo>
                  <a:pt x="5592" y="9593"/>
                  <a:pt x="5580" y="9570"/>
                  <a:pt x="5482" y="9500"/>
                </a:cubicBezTo>
                <a:cubicBezTo>
                  <a:pt x="5414" y="9451"/>
                  <a:pt x="5269" y="9389"/>
                  <a:pt x="5184" y="9376"/>
                </a:cubicBezTo>
                <a:cubicBezTo>
                  <a:pt x="5057" y="9356"/>
                  <a:pt x="4946" y="9313"/>
                  <a:pt x="4812" y="9302"/>
                </a:cubicBezTo>
                <a:cubicBezTo>
                  <a:pt x="4671" y="9290"/>
                  <a:pt x="4568" y="9351"/>
                  <a:pt x="4440" y="9376"/>
                </a:cubicBezTo>
                <a:cubicBezTo>
                  <a:pt x="4330" y="9398"/>
                  <a:pt x="4217" y="9441"/>
                  <a:pt x="4118" y="9500"/>
                </a:cubicBezTo>
                <a:cubicBezTo>
                  <a:pt x="4006" y="9566"/>
                  <a:pt x="3976" y="9655"/>
                  <a:pt x="3894" y="9748"/>
                </a:cubicBezTo>
                <a:cubicBezTo>
                  <a:pt x="3779" y="9879"/>
                  <a:pt x="3781" y="9913"/>
                  <a:pt x="3746" y="10071"/>
                </a:cubicBezTo>
                <a:cubicBezTo>
                  <a:pt x="3724" y="10170"/>
                  <a:pt x="3739" y="10245"/>
                  <a:pt x="3770" y="10344"/>
                </a:cubicBezTo>
                <a:cubicBezTo>
                  <a:pt x="3807" y="10465"/>
                  <a:pt x="3874" y="10518"/>
                  <a:pt x="3969" y="10592"/>
                </a:cubicBezTo>
                <a:cubicBezTo>
                  <a:pt x="4152" y="10735"/>
                  <a:pt x="4312" y="10816"/>
                  <a:pt x="4539" y="10864"/>
                </a:cubicBezTo>
                <a:cubicBezTo>
                  <a:pt x="4737" y="10906"/>
                  <a:pt x="4933" y="10959"/>
                  <a:pt x="5135" y="10964"/>
                </a:cubicBezTo>
                <a:cubicBezTo>
                  <a:pt x="5270" y="10968"/>
                  <a:pt x="5378" y="10956"/>
                  <a:pt x="5507" y="10914"/>
                </a:cubicBezTo>
                <a:cubicBezTo>
                  <a:pt x="5614" y="10879"/>
                  <a:pt x="5707" y="10855"/>
                  <a:pt x="5755" y="10740"/>
                </a:cubicBezTo>
                <a:cubicBezTo>
                  <a:pt x="5799" y="10634"/>
                  <a:pt x="5787" y="10520"/>
                  <a:pt x="5779" y="10418"/>
                </a:cubicBezTo>
                <a:cubicBezTo>
                  <a:pt x="5767" y="10259"/>
                  <a:pt x="5698" y="10174"/>
                  <a:pt x="5631" y="10046"/>
                </a:cubicBezTo>
                <a:cubicBezTo>
                  <a:pt x="5545" y="9884"/>
                  <a:pt x="5469" y="9822"/>
                  <a:pt x="5333" y="9699"/>
                </a:cubicBezTo>
                <a:cubicBezTo>
                  <a:pt x="5210" y="9588"/>
                  <a:pt x="5034" y="9472"/>
                  <a:pt x="4862" y="9451"/>
                </a:cubicBezTo>
                <a:cubicBezTo>
                  <a:pt x="4697" y="9431"/>
                  <a:pt x="4397" y="9410"/>
                  <a:pt x="4242" y="9475"/>
                </a:cubicBezTo>
                <a:cubicBezTo>
                  <a:pt x="4163" y="9508"/>
                  <a:pt x="4024" y="9610"/>
                  <a:pt x="3969" y="9674"/>
                </a:cubicBezTo>
                <a:cubicBezTo>
                  <a:pt x="3893" y="9762"/>
                  <a:pt x="3856" y="9863"/>
                  <a:pt x="3820" y="9971"/>
                </a:cubicBezTo>
                <a:cubicBezTo>
                  <a:pt x="3787" y="10070"/>
                  <a:pt x="3787" y="10245"/>
                  <a:pt x="3820" y="10344"/>
                </a:cubicBezTo>
                <a:cubicBezTo>
                  <a:pt x="3857" y="10453"/>
                  <a:pt x="3973" y="10555"/>
                  <a:pt x="4043" y="10641"/>
                </a:cubicBezTo>
                <a:cubicBezTo>
                  <a:pt x="4155" y="10778"/>
                  <a:pt x="4317" y="10884"/>
                  <a:pt x="4490" y="10939"/>
                </a:cubicBezTo>
                <a:cubicBezTo>
                  <a:pt x="4638" y="10986"/>
                  <a:pt x="4783" y="10988"/>
                  <a:pt x="4936" y="10988"/>
                </a:cubicBezTo>
                <a:cubicBezTo>
                  <a:pt x="5069" y="10988"/>
                  <a:pt x="5181" y="10949"/>
                  <a:pt x="5308" y="10914"/>
                </a:cubicBezTo>
                <a:cubicBezTo>
                  <a:pt x="5411" y="10886"/>
                  <a:pt x="5542" y="10835"/>
                  <a:pt x="5606" y="10740"/>
                </a:cubicBezTo>
                <a:cubicBezTo>
                  <a:pt x="5689" y="10617"/>
                  <a:pt x="5738" y="10493"/>
                  <a:pt x="5755" y="10344"/>
                </a:cubicBezTo>
                <a:cubicBezTo>
                  <a:pt x="5766" y="10243"/>
                  <a:pt x="5736" y="10165"/>
                  <a:pt x="5705" y="10071"/>
                </a:cubicBezTo>
                <a:cubicBezTo>
                  <a:pt x="5672" y="9974"/>
                  <a:pt x="5638" y="9899"/>
                  <a:pt x="5581" y="9823"/>
                </a:cubicBezTo>
                <a:cubicBezTo>
                  <a:pt x="5566" y="9803"/>
                  <a:pt x="5471" y="9718"/>
                  <a:pt x="5432" y="9699"/>
                </a:cubicBezTo>
                <a:cubicBezTo>
                  <a:pt x="5381" y="9675"/>
                  <a:pt x="5382" y="9703"/>
                  <a:pt x="5333" y="9674"/>
                </a:cubicBezTo>
                <a:cubicBezTo>
                  <a:pt x="5276" y="9640"/>
                  <a:pt x="5169" y="9632"/>
                  <a:pt x="5110" y="9599"/>
                </a:cubicBezTo>
                <a:cubicBezTo>
                  <a:pt x="5027" y="9553"/>
                  <a:pt x="4956" y="9510"/>
                  <a:pt x="4862" y="9475"/>
                </a:cubicBezTo>
                <a:cubicBezTo>
                  <a:pt x="4753" y="9435"/>
                  <a:pt x="4615" y="9417"/>
                  <a:pt x="4514" y="9376"/>
                </a:cubicBezTo>
                <a:cubicBezTo>
                  <a:pt x="4359" y="9313"/>
                  <a:pt x="4281" y="9344"/>
                  <a:pt x="4118" y="9302"/>
                </a:cubicBezTo>
                <a:cubicBezTo>
                  <a:pt x="4029" y="9279"/>
                  <a:pt x="3927" y="9212"/>
                  <a:pt x="3820" y="9252"/>
                </a:cubicBezTo>
                <a:cubicBezTo>
                  <a:pt x="3694" y="9299"/>
                  <a:pt x="3558" y="9338"/>
                  <a:pt x="3423" y="9376"/>
                </a:cubicBezTo>
                <a:cubicBezTo>
                  <a:pt x="3333" y="9401"/>
                  <a:pt x="3257" y="9417"/>
                  <a:pt x="3175" y="9475"/>
                </a:cubicBezTo>
                <a:cubicBezTo>
                  <a:pt x="3113" y="9519"/>
                  <a:pt x="3056" y="9571"/>
                  <a:pt x="3001" y="9624"/>
                </a:cubicBezTo>
                <a:cubicBezTo>
                  <a:pt x="2965" y="9659"/>
                  <a:pt x="2987" y="9638"/>
                  <a:pt x="2952" y="9674"/>
                </a:cubicBezTo>
              </a:path>
              <a:path w="8831" h="1787">
                <a:moveTo>
                  <a:pt x="2877" y="9451"/>
                </a:moveTo>
                <a:cubicBezTo>
                  <a:pt x="2841" y="9543"/>
                  <a:pt x="2828" y="9572"/>
                  <a:pt x="2828" y="9674"/>
                </a:cubicBezTo>
                <a:cubicBezTo>
                  <a:pt x="2973" y="9674"/>
                  <a:pt x="3134" y="9702"/>
                  <a:pt x="3249" y="9624"/>
                </a:cubicBezTo>
              </a:path>
              <a:path w="8831" h="1787">
                <a:moveTo>
                  <a:pt x="6697" y="10368"/>
                </a:moveTo>
                <a:cubicBezTo>
                  <a:pt x="6750" y="10488"/>
                  <a:pt x="6774" y="10485"/>
                  <a:pt x="6871" y="10567"/>
                </a:cubicBezTo>
                <a:cubicBezTo>
                  <a:pt x="6974" y="10654"/>
                  <a:pt x="7052" y="10745"/>
                  <a:pt x="7169" y="10815"/>
                </a:cubicBezTo>
                <a:cubicBezTo>
                  <a:pt x="7225" y="10844"/>
                  <a:pt x="7249" y="10854"/>
                  <a:pt x="7293" y="10864"/>
                </a:cubicBezTo>
              </a:path>
              <a:path w="8831" h="1787">
                <a:moveTo>
                  <a:pt x="7193" y="10269"/>
                </a:moveTo>
                <a:cubicBezTo>
                  <a:pt x="7151" y="10301"/>
                  <a:pt x="7087" y="10385"/>
                  <a:pt x="7045" y="10443"/>
                </a:cubicBezTo>
                <a:cubicBezTo>
                  <a:pt x="6975" y="10539"/>
                  <a:pt x="6909" y="10643"/>
                  <a:pt x="6846" y="10740"/>
                </a:cubicBezTo>
                <a:cubicBezTo>
                  <a:pt x="6806" y="10802"/>
                  <a:pt x="6764" y="10831"/>
                  <a:pt x="6722" y="10889"/>
                </a:cubicBezTo>
              </a:path>
              <a:path w="8831" h="1787">
                <a:moveTo>
                  <a:pt x="7392" y="10220"/>
                </a:moveTo>
                <a:cubicBezTo>
                  <a:pt x="7426" y="10314"/>
                  <a:pt x="7438" y="10397"/>
                  <a:pt x="7466" y="10492"/>
                </a:cubicBezTo>
                <a:cubicBezTo>
                  <a:pt x="7495" y="10588"/>
                  <a:pt x="7498" y="10672"/>
                  <a:pt x="7541" y="10765"/>
                </a:cubicBezTo>
                <a:cubicBezTo>
                  <a:pt x="7561" y="10806"/>
                  <a:pt x="7569" y="10812"/>
                  <a:pt x="7565" y="10840"/>
                </a:cubicBezTo>
              </a:path>
              <a:path w="8831" h="1787">
                <a:moveTo>
                  <a:pt x="7317" y="10517"/>
                </a:moveTo>
                <a:cubicBezTo>
                  <a:pt x="7384" y="10492"/>
                  <a:pt x="7483" y="10519"/>
                  <a:pt x="7541" y="10492"/>
                </a:cubicBezTo>
                <a:cubicBezTo>
                  <a:pt x="7603" y="10430"/>
                  <a:pt x="7639" y="10409"/>
                  <a:pt x="7714" y="10418"/>
                </a:cubicBezTo>
              </a:path>
              <a:path w="8831" h="1787">
                <a:moveTo>
                  <a:pt x="7813" y="10269"/>
                </a:moveTo>
                <a:cubicBezTo>
                  <a:pt x="7885" y="10178"/>
                  <a:pt x="7876" y="10195"/>
                  <a:pt x="7987" y="10195"/>
                </a:cubicBezTo>
                <a:cubicBezTo>
                  <a:pt x="8072" y="10195"/>
                  <a:pt x="8179" y="10225"/>
                  <a:pt x="8136" y="10344"/>
                </a:cubicBezTo>
                <a:cubicBezTo>
                  <a:pt x="8117" y="10395"/>
                  <a:pt x="8051" y="10401"/>
                  <a:pt x="8012" y="10443"/>
                </a:cubicBezTo>
                <a:cubicBezTo>
                  <a:pt x="7959" y="10500"/>
                  <a:pt x="7901" y="10554"/>
                  <a:pt x="7888" y="10641"/>
                </a:cubicBezTo>
                <a:cubicBezTo>
                  <a:pt x="7878" y="10707"/>
                  <a:pt x="7907" y="10754"/>
                  <a:pt x="7962" y="10790"/>
                </a:cubicBezTo>
                <a:cubicBezTo>
                  <a:pt x="8060" y="10854"/>
                  <a:pt x="8163" y="10798"/>
                  <a:pt x="8260" y="10765"/>
                </a:cubicBezTo>
              </a:path>
              <a:path w="8831" h="1787">
                <a:moveTo>
                  <a:pt x="8582" y="10269"/>
                </a:moveTo>
                <a:cubicBezTo>
                  <a:pt x="8582" y="10387"/>
                  <a:pt x="8578" y="10527"/>
                  <a:pt x="8607" y="10641"/>
                </a:cubicBezTo>
                <a:cubicBezTo>
                  <a:pt x="8624" y="10709"/>
                  <a:pt x="8668" y="10772"/>
                  <a:pt x="8682" y="10840"/>
                </a:cubicBezTo>
              </a:path>
              <a:path w="8831" h="1787">
                <a:moveTo>
                  <a:pt x="8409" y="10517"/>
                </a:moveTo>
                <a:cubicBezTo>
                  <a:pt x="8551" y="10558"/>
                  <a:pt x="8636" y="10567"/>
                  <a:pt x="8781" y="10567"/>
                </a:cubicBezTo>
              </a:path>
              <a:path w="8831" h="1787">
                <a:moveTo>
                  <a:pt x="9153" y="10269"/>
                </a:moveTo>
                <a:cubicBezTo>
                  <a:pt x="9302" y="10269"/>
                  <a:pt x="9283" y="10298"/>
                  <a:pt x="9401" y="10344"/>
                </a:cubicBezTo>
                <a:cubicBezTo>
                  <a:pt x="9474" y="10372"/>
                  <a:pt x="9457" y="10464"/>
                  <a:pt x="9376" y="10492"/>
                </a:cubicBezTo>
                <a:cubicBezTo>
                  <a:pt x="9245" y="10538"/>
                  <a:pt x="9202" y="10622"/>
                  <a:pt x="9277" y="10790"/>
                </a:cubicBezTo>
                <a:cubicBezTo>
                  <a:pt x="9300" y="10841"/>
                  <a:pt x="9444" y="10948"/>
                  <a:pt x="9500" y="10964"/>
                </a:cubicBezTo>
                <a:cubicBezTo>
                  <a:pt x="9517" y="10964"/>
                  <a:pt x="9533" y="10964"/>
                  <a:pt x="9550" y="10964"/>
                </a:cubicBezTo>
              </a:path>
              <a:path w="8831" h="1787">
                <a:moveTo>
                  <a:pt x="6176" y="10344"/>
                </a:moveTo>
                <a:cubicBezTo>
                  <a:pt x="6275" y="10290"/>
                  <a:pt x="6311" y="10294"/>
                  <a:pt x="6424" y="10294"/>
                </a:cubicBezTo>
              </a:path>
              <a:path w="8831" h="1787">
                <a:moveTo>
                  <a:pt x="6201" y="10517"/>
                </a:moveTo>
                <a:cubicBezTo>
                  <a:pt x="6360" y="10597"/>
                  <a:pt x="6443" y="10560"/>
                  <a:pt x="6623" y="10517"/>
                </a:cubicBezTo>
              </a:path>
              <a:path w="8831" h="1787">
                <a:moveTo>
                  <a:pt x="10046" y="10443"/>
                </a:moveTo>
                <a:cubicBezTo>
                  <a:pt x="10122" y="10540"/>
                  <a:pt x="10182" y="10643"/>
                  <a:pt x="10269" y="10740"/>
                </a:cubicBezTo>
                <a:cubicBezTo>
                  <a:pt x="10352" y="10833"/>
                  <a:pt x="10442" y="10915"/>
                  <a:pt x="10542" y="10988"/>
                </a:cubicBezTo>
              </a:path>
              <a:path w="8831" h="1787">
                <a:moveTo>
                  <a:pt x="10443" y="10344"/>
                </a:moveTo>
                <a:cubicBezTo>
                  <a:pt x="10333" y="10417"/>
                  <a:pt x="10208" y="10463"/>
                  <a:pt x="10120" y="10567"/>
                </a:cubicBezTo>
                <a:cubicBezTo>
                  <a:pt x="10061" y="10637"/>
                  <a:pt x="9964" y="10773"/>
                  <a:pt x="9947" y="10864"/>
                </a:cubicBezTo>
                <a:cubicBezTo>
                  <a:pt x="9947" y="10889"/>
                  <a:pt x="9947" y="10914"/>
                  <a:pt x="9947" y="10939"/>
                </a:cubicBezTo>
              </a:path>
              <a:path w="8831" h="1787">
                <a:moveTo>
                  <a:pt x="10790" y="10418"/>
                </a:moveTo>
                <a:cubicBezTo>
                  <a:pt x="10772" y="10541"/>
                  <a:pt x="10746" y="10667"/>
                  <a:pt x="10740" y="10790"/>
                </a:cubicBezTo>
                <a:cubicBezTo>
                  <a:pt x="10740" y="10831"/>
                  <a:pt x="10740" y="10839"/>
                  <a:pt x="10740" y="10864"/>
                </a:cubicBezTo>
              </a:path>
              <a:path w="8831" h="1787">
                <a:moveTo>
                  <a:pt x="10542" y="10443"/>
                </a:moveTo>
                <a:cubicBezTo>
                  <a:pt x="10694" y="10457"/>
                  <a:pt x="10810" y="10492"/>
                  <a:pt x="10964" y="10492"/>
                </a:cubicBezTo>
              </a:path>
              <a:path w="8831" h="1787">
                <a:moveTo>
                  <a:pt x="11237" y="10269"/>
                </a:moveTo>
                <a:cubicBezTo>
                  <a:pt x="11185" y="10336"/>
                  <a:pt x="11153" y="10347"/>
                  <a:pt x="11112" y="10418"/>
                </a:cubicBezTo>
                <a:cubicBezTo>
                  <a:pt x="11192" y="10431"/>
                  <a:pt x="11248" y="10476"/>
                  <a:pt x="11311" y="10492"/>
                </a:cubicBezTo>
                <a:cubicBezTo>
                  <a:pt x="11362" y="10505"/>
                  <a:pt x="11456" y="10492"/>
                  <a:pt x="11509" y="10492"/>
                </a:cubicBezTo>
              </a:path>
              <a:path w="8831" h="1787">
                <a:moveTo>
                  <a:pt x="11658" y="10046"/>
                </a:moveTo>
                <a:cubicBezTo>
                  <a:pt x="11598" y="10320"/>
                  <a:pt x="11530" y="10592"/>
                  <a:pt x="11460" y="10864"/>
                </a:cubicBezTo>
                <a:cubicBezTo>
                  <a:pt x="11443" y="10922"/>
                  <a:pt x="11427" y="10980"/>
                  <a:pt x="11410" y="11038"/>
                </a:cubicBezTo>
              </a:path>
              <a:path w="8831" h="1787">
                <a:moveTo>
                  <a:pt x="9525" y="10567"/>
                </a:moveTo>
                <a:cubicBezTo>
                  <a:pt x="9667" y="10496"/>
                  <a:pt x="9644" y="10553"/>
                  <a:pt x="9773" y="10567"/>
                </a:cubicBezTo>
                <a:cubicBezTo>
                  <a:pt x="9790" y="10567"/>
                  <a:pt x="9806" y="10567"/>
                  <a:pt x="9823" y="10567"/>
                </a:cubicBezTo>
              </a:path>
              <a:path w="8831" h="1787">
                <a:moveTo>
                  <a:pt x="9624" y="10691"/>
                </a:moveTo>
                <a:cubicBezTo>
                  <a:pt x="9681" y="10768"/>
                  <a:pt x="9725" y="10808"/>
                  <a:pt x="9798" y="108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nk 13"/>
          <p:cNvSpPr/>
          <p:nvPr/>
        </p:nvSpPr>
        <p:spPr>
          <a:xfrm>
            <a:off x="6027840" y="3303720"/>
            <a:ext cx="2000160" cy="884160"/>
          </a:xfrm>
          <a:custGeom>
            <a:avLst/>
            <a:gdLst/>
            <a:ahLst/>
            <a:rect l="l" t="t" r="r" b="b"/>
            <a:pathLst>
              <a:path w="5557" h="2456">
                <a:moveTo>
                  <a:pt x="16966" y="10046"/>
                </a:moveTo>
                <a:cubicBezTo>
                  <a:pt x="16983" y="10021"/>
                  <a:pt x="16999" y="9996"/>
                  <a:pt x="17016" y="9971"/>
                </a:cubicBezTo>
                <a:cubicBezTo>
                  <a:pt x="17052" y="10043"/>
                  <a:pt x="17035" y="10137"/>
                  <a:pt x="17016" y="10220"/>
                </a:cubicBezTo>
                <a:cubicBezTo>
                  <a:pt x="16986" y="10353"/>
                  <a:pt x="16889" y="10522"/>
                  <a:pt x="16842" y="10641"/>
                </a:cubicBezTo>
                <a:cubicBezTo>
                  <a:pt x="16815" y="10709"/>
                  <a:pt x="16776" y="10774"/>
                  <a:pt x="16743" y="10840"/>
                </a:cubicBezTo>
                <a:cubicBezTo>
                  <a:pt x="16785" y="10864"/>
                  <a:pt x="16866" y="10882"/>
                  <a:pt x="16917" y="10889"/>
                </a:cubicBezTo>
                <a:cubicBezTo>
                  <a:pt x="17024" y="10903"/>
                  <a:pt x="17132" y="10896"/>
                  <a:pt x="17239" y="10914"/>
                </a:cubicBezTo>
                <a:cubicBezTo>
                  <a:pt x="17358" y="10935"/>
                  <a:pt x="17470" y="10946"/>
                  <a:pt x="17587" y="10914"/>
                </a:cubicBezTo>
                <a:cubicBezTo>
                  <a:pt x="17603" y="10906"/>
                  <a:pt x="17620" y="10897"/>
                  <a:pt x="17636" y="10889"/>
                </a:cubicBezTo>
              </a:path>
              <a:path w="5557" h="2456">
                <a:moveTo>
                  <a:pt x="17636" y="9847"/>
                </a:moveTo>
                <a:cubicBezTo>
                  <a:pt x="17636" y="9941"/>
                  <a:pt x="17624" y="10028"/>
                  <a:pt x="17611" y="10120"/>
                </a:cubicBezTo>
                <a:cubicBezTo>
                  <a:pt x="17587" y="10292"/>
                  <a:pt x="17573" y="10468"/>
                  <a:pt x="17562" y="10641"/>
                </a:cubicBezTo>
                <a:cubicBezTo>
                  <a:pt x="17552" y="10805"/>
                  <a:pt x="17587" y="10971"/>
                  <a:pt x="17587" y="11137"/>
                </a:cubicBezTo>
                <a:cubicBezTo>
                  <a:pt x="17587" y="11257"/>
                  <a:pt x="17581" y="11393"/>
                  <a:pt x="17611" y="11509"/>
                </a:cubicBezTo>
                <a:cubicBezTo>
                  <a:pt x="17625" y="11562"/>
                  <a:pt x="17615" y="11579"/>
                  <a:pt x="17661" y="11609"/>
                </a:cubicBezTo>
              </a:path>
              <a:path w="5557" h="2456">
                <a:moveTo>
                  <a:pt x="17959" y="10939"/>
                </a:moveTo>
                <a:cubicBezTo>
                  <a:pt x="18088" y="10917"/>
                  <a:pt x="18200" y="10914"/>
                  <a:pt x="18331" y="10914"/>
                </a:cubicBezTo>
                <a:cubicBezTo>
                  <a:pt x="18412" y="10914"/>
                  <a:pt x="18944" y="10972"/>
                  <a:pt x="18976" y="10889"/>
                </a:cubicBezTo>
                <a:cubicBezTo>
                  <a:pt x="18976" y="10840"/>
                  <a:pt x="18976" y="10823"/>
                  <a:pt x="18976" y="10790"/>
                </a:cubicBezTo>
              </a:path>
              <a:path w="5557" h="2456">
                <a:moveTo>
                  <a:pt x="19819" y="9773"/>
                </a:moveTo>
                <a:cubicBezTo>
                  <a:pt x="19783" y="9929"/>
                  <a:pt x="19708" y="10071"/>
                  <a:pt x="19645" y="10220"/>
                </a:cubicBezTo>
                <a:cubicBezTo>
                  <a:pt x="19582" y="10369"/>
                  <a:pt x="19535" y="10529"/>
                  <a:pt x="19521" y="10691"/>
                </a:cubicBezTo>
                <a:cubicBezTo>
                  <a:pt x="19507" y="10853"/>
                  <a:pt x="19514" y="11028"/>
                  <a:pt x="19546" y="11187"/>
                </a:cubicBezTo>
                <a:cubicBezTo>
                  <a:pt x="19566" y="11285"/>
                  <a:pt x="19628" y="11459"/>
                  <a:pt x="19695" y="11534"/>
                </a:cubicBezTo>
                <a:cubicBezTo>
                  <a:pt x="19745" y="11559"/>
                  <a:pt x="19761" y="11567"/>
                  <a:pt x="19794" y="11584"/>
                </a:cubicBezTo>
              </a:path>
              <a:path w="5557" h="2456">
                <a:moveTo>
                  <a:pt x="19918" y="10641"/>
                </a:moveTo>
                <a:cubicBezTo>
                  <a:pt x="20022" y="10597"/>
                  <a:pt x="20102" y="10571"/>
                  <a:pt x="20216" y="10567"/>
                </a:cubicBezTo>
                <a:cubicBezTo>
                  <a:pt x="20301" y="10567"/>
                  <a:pt x="20333" y="10559"/>
                  <a:pt x="20365" y="10492"/>
                </a:cubicBezTo>
              </a:path>
              <a:path w="5557" h="2456">
                <a:moveTo>
                  <a:pt x="20712" y="10269"/>
                </a:moveTo>
                <a:cubicBezTo>
                  <a:pt x="20695" y="10287"/>
                  <a:pt x="20533" y="10434"/>
                  <a:pt x="20538" y="10492"/>
                </a:cubicBezTo>
                <a:cubicBezTo>
                  <a:pt x="20545" y="10574"/>
                  <a:pt x="20641" y="10570"/>
                  <a:pt x="20687" y="10592"/>
                </a:cubicBezTo>
                <a:cubicBezTo>
                  <a:pt x="20755" y="10624"/>
                  <a:pt x="20902" y="10687"/>
                  <a:pt x="20985" y="10641"/>
                </a:cubicBezTo>
                <a:cubicBezTo>
                  <a:pt x="21010" y="10616"/>
                  <a:pt x="21034" y="10592"/>
                  <a:pt x="21059" y="10567"/>
                </a:cubicBezTo>
              </a:path>
              <a:path w="5557" h="2456">
                <a:moveTo>
                  <a:pt x="21059" y="9847"/>
                </a:moveTo>
                <a:cubicBezTo>
                  <a:pt x="21001" y="10021"/>
                  <a:pt x="20972" y="10164"/>
                  <a:pt x="20960" y="10344"/>
                </a:cubicBezTo>
                <a:cubicBezTo>
                  <a:pt x="20941" y="10628"/>
                  <a:pt x="20962" y="10932"/>
                  <a:pt x="21010" y="11212"/>
                </a:cubicBezTo>
                <a:cubicBezTo>
                  <a:pt x="21026" y="11303"/>
                  <a:pt x="21022" y="11449"/>
                  <a:pt x="21059" y="11534"/>
                </a:cubicBezTo>
                <a:cubicBezTo>
                  <a:pt x="21067" y="11542"/>
                  <a:pt x="21076" y="11551"/>
                  <a:pt x="21084" y="11559"/>
                </a:cubicBezTo>
              </a:path>
              <a:path w="5557" h="2456">
                <a:moveTo>
                  <a:pt x="21034" y="9475"/>
                </a:moveTo>
                <a:cubicBezTo>
                  <a:pt x="21115" y="9464"/>
                  <a:pt x="21178" y="9583"/>
                  <a:pt x="21233" y="9674"/>
                </a:cubicBezTo>
                <a:cubicBezTo>
                  <a:pt x="21519" y="10149"/>
                  <a:pt x="21507" y="10539"/>
                  <a:pt x="21555" y="11162"/>
                </a:cubicBezTo>
                <a:cubicBezTo>
                  <a:pt x="21563" y="11263"/>
                  <a:pt x="21469" y="11414"/>
                  <a:pt x="21406" y="11485"/>
                </a:cubicBezTo>
                <a:cubicBezTo>
                  <a:pt x="21347" y="11551"/>
                  <a:pt x="21382" y="11522"/>
                  <a:pt x="21307" y="11485"/>
                </a:cubicBezTo>
              </a:path>
              <a:path w="5557" h="2456">
                <a:moveTo>
                  <a:pt x="21555" y="9451"/>
                </a:moveTo>
                <a:cubicBezTo>
                  <a:pt x="21604" y="9323"/>
                  <a:pt x="21626" y="9220"/>
                  <a:pt x="21754" y="9178"/>
                </a:cubicBezTo>
                <a:cubicBezTo>
                  <a:pt x="21827" y="9154"/>
                  <a:pt x="21892" y="9259"/>
                  <a:pt x="21927" y="9302"/>
                </a:cubicBezTo>
                <a:cubicBezTo>
                  <a:pt x="22017" y="9412"/>
                  <a:pt x="21902" y="9442"/>
                  <a:pt x="21853" y="9500"/>
                </a:cubicBezTo>
                <a:cubicBezTo>
                  <a:pt x="21824" y="9534"/>
                  <a:pt x="21754" y="9635"/>
                  <a:pt x="21779" y="9674"/>
                </a:cubicBezTo>
                <a:cubicBezTo>
                  <a:pt x="21804" y="9713"/>
                  <a:pt x="21964" y="9746"/>
                  <a:pt x="22002" y="9748"/>
                </a:cubicBezTo>
                <a:cubicBezTo>
                  <a:pt x="22151" y="9755"/>
                  <a:pt x="22187" y="9744"/>
                  <a:pt x="22299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Ink 14"/>
          <p:cNvSpPr/>
          <p:nvPr/>
        </p:nvSpPr>
        <p:spPr>
          <a:xfrm>
            <a:off x="6348240" y="4286160"/>
            <a:ext cx="1001880" cy="492120"/>
          </a:xfrm>
          <a:custGeom>
            <a:avLst/>
            <a:gdLst/>
            <a:ahLst/>
            <a:rect l="l" t="t" r="r" b="b"/>
            <a:pathLst>
              <a:path w="2779" h="1366">
                <a:moveTo>
                  <a:pt x="17859" y="12080"/>
                </a:moveTo>
                <a:cubicBezTo>
                  <a:pt x="17809" y="12161"/>
                  <a:pt x="17735" y="12222"/>
                  <a:pt x="17686" y="12303"/>
                </a:cubicBezTo>
                <a:cubicBezTo>
                  <a:pt x="17630" y="12396"/>
                  <a:pt x="17626" y="12470"/>
                  <a:pt x="17711" y="12551"/>
                </a:cubicBezTo>
                <a:cubicBezTo>
                  <a:pt x="17772" y="12608"/>
                  <a:pt x="17881" y="12671"/>
                  <a:pt x="17959" y="12700"/>
                </a:cubicBezTo>
                <a:cubicBezTo>
                  <a:pt x="18052" y="12735"/>
                  <a:pt x="18114" y="12708"/>
                  <a:pt x="18207" y="12700"/>
                </a:cubicBezTo>
              </a:path>
              <a:path w="2779" h="1366">
                <a:moveTo>
                  <a:pt x="18281" y="11906"/>
                </a:moveTo>
                <a:cubicBezTo>
                  <a:pt x="18223" y="12030"/>
                  <a:pt x="18169" y="12165"/>
                  <a:pt x="18157" y="12303"/>
                </a:cubicBezTo>
                <a:cubicBezTo>
                  <a:pt x="18135" y="12564"/>
                  <a:pt x="18124" y="12896"/>
                  <a:pt x="18182" y="13146"/>
                </a:cubicBezTo>
                <a:cubicBezTo>
                  <a:pt x="18182" y="13325"/>
                  <a:pt x="18221" y="13184"/>
                  <a:pt x="18306" y="12700"/>
                </a:cubicBezTo>
              </a:path>
              <a:path w="2779" h="1366">
                <a:moveTo>
                  <a:pt x="18405" y="12650"/>
                </a:moveTo>
                <a:cubicBezTo>
                  <a:pt x="18545" y="12632"/>
                  <a:pt x="18690" y="12614"/>
                  <a:pt x="18827" y="12601"/>
                </a:cubicBezTo>
                <a:cubicBezTo>
                  <a:pt x="18930" y="12601"/>
                  <a:pt x="18967" y="12599"/>
                  <a:pt x="19025" y="12551"/>
                </a:cubicBezTo>
              </a:path>
              <a:path w="2779" h="1366">
                <a:moveTo>
                  <a:pt x="19422" y="12105"/>
                </a:moveTo>
                <a:cubicBezTo>
                  <a:pt x="19422" y="12512"/>
                  <a:pt x="19203" y="13547"/>
                  <a:pt x="19447" y="13221"/>
                </a:cubicBezTo>
              </a:path>
              <a:path w="2779" h="1366">
                <a:moveTo>
                  <a:pt x="19819" y="12204"/>
                </a:moveTo>
                <a:cubicBezTo>
                  <a:pt x="19819" y="12409"/>
                  <a:pt x="19805" y="12407"/>
                  <a:pt x="19869" y="12675"/>
                </a:cubicBezTo>
                <a:cubicBezTo>
                  <a:pt x="19893" y="12778"/>
                  <a:pt x="19963" y="12902"/>
                  <a:pt x="20042" y="12973"/>
                </a:cubicBezTo>
                <a:cubicBezTo>
                  <a:pt x="20118" y="13042"/>
                  <a:pt x="20176" y="13061"/>
                  <a:pt x="20265" y="13022"/>
                </a:cubicBezTo>
                <a:cubicBezTo>
                  <a:pt x="20375" y="12974"/>
                  <a:pt x="20356" y="12953"/>
                  <a:pt x="20389" y="12849"/>
                </a:cubicBezTo>
                <a:cubicBezTo>
                  <a:pt x="20416" y="12764"/>
                  <a:pt x="20397" y="12698"/>
                  <a:pt x="20340" y="12626"/>
                </a:cubicBezTo>
                <a:cubicBezTo>
                  <a:pt x="20295" y="12569"/>
                  <a:pt x="20225" y="12559"/>
                  <a:pt x="20166" y="12601"/>
                </a:cubicBezTo>
                <a:cubicBezTo>
                  <a:pt x="20066" y="12673"/>
                  <a:pt x="19989" y="12803"/>
                  <a:pt x="19968" y="12923"/>
                </a:cubicBezTo>
                <a:cubicBezTo>
                  <a:pt x="19968" y="13015"/>
                  <a:pt x="19970" y="13042"/>
                  <a:pt x="19943" y="130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Ink 15"/>
          <p:cNvSpPr/>
          <p:nvPr/>
        </p:nvSpPr>
        <p:spPr>
          <a:xfrm>
            <a:off x="6661080" y="4911840"/>
            <a:ext cx="635040" cy="330120"/>
          </a:xfrm>
          <a:custGeom>
            <a:avLst/>
            <a:gdLst/>
            <a:ahLst/>
            <a:rect l="l" t="t" r="r" b="b"/>
            <a:pathLst>
              <a:path w="1762" h="918">
                <a:moveTo>
                  <a:pt x="18504" y="13965"/>
                </a:moveTo>
                <a:cubicBezTo>
                  <a:pt x="18621" y="14000"/>
                  <a:pt x="18755" y="14008"/>
                  <a:pt x="18876" y="13965"/>
                </a:cubicBezTo>
                <a:cubicBezTo>
                  <a:pt x="18909" y="13948"/>
                  <a:pt x="18943" y="13932"/>
                  <a:pt x="18976" y="13915"/>
                </a:cubicBezTo>
              </a:path>
              <a:path w="1762" h="918">
                <a:moveTo>
                  <a:pt x="19224" y="13643"/>
                </a:moveTo>
                <a:cubicBezTo>
                  <a:pt x="19193" y="13758"/>
                  <a:pt x="19174" y="13846"/>
                  <a:pt x="19174" y="13965"/>
                </a:cubicBezTo>
                <a:cubicBezTo>
                  <a:pt x="19174" y="14119"/>
                  <a:pt x="19167" y="14261"/>
                  <a:pt x="19149" y="14412"/>
                </a:cubicBezTo>
                <a:cubicBezTo>
                  <a:pt x="19149" y="14428"/>
                  <a:pt x="19149" y="14445"/>
                  <a:pt x="19149" y="14461"/>
                </a:cubicBezTo>
              </a:path>
              <a:path w="1762" h="918">
                <a:moveTo>
                  <a:pt x="19447" y="13841"/>
                </a:moveTo>
                <a:cubicBezTo>
                  <a:pt x="19597" y="13807"/>
                  <a:pt x="19676" y="13752"/>
                  <a:pt x="19794" y="13841"/>
                </a:cubicBezTo>
                <a:cubicBezTo>
                  <a:pt x="19895" y="13917"/>
                  <a:pt x="19760" y="14065"/>
                  <a:pt x="19720" y="14114"/>
                </a:cubicBezTo>
                <a:cubicBezTo>
                  <a:pt x="19618" y="14239"/>
                  <a:pt x="19506" y="14202"/>
                  <a:pt x="19521" y="14436"/>
                </a:cubicBezTo>
                <a:cubicBezTo>
                  <a:pt x="19525" y="14493"/>
                  <a:pt x="19691" y="14478"/>
                  <a:pt x="19720" y="14486"/>
                </a:cubicBezTo>
                <a:cubicBezTo>
                  <a:pt x="19844" y="14521"/>
                  <a:pt x="19961" y="14547"/>
                  <a:pt x="20092" y="14560"/>
                </a:cubicBezTo>
                <a:cubicBezTo>
                  <a:pt x="20169" y="14560"/>
                  <a:pt x="20212" y="14550"/>
                  <a:pt x="20265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Ink 16"/>
          <p:cNvSpPr/>
          <p:nvPr/>
        </p:nvSpPr>
        <p:spPr>
          <a:xfrm>
            <a:off x="6697800" y="339840"/>
            <a:ext cx="1714320" cy="963360"/>
          </a:xfrm>
          <a:custGeom>
            <a:avLst/>
            <a:gdLst/>
            <a:ahLst/>
            <a:rect l="l" t="t" r="r" b="b"/>
            <a:pathLst>
              <a:path w="4763" h="2679">
                <a:moveTo>
                  <a:pt x="18604" y="3373"/>
                </a:moveTo>
                <a:cubicBezTo>
                  <a:pt x="18673" y="3394"/>
                  <a:pt x="18755" y="3430"/>
                  <a:pt x="18827" y="3448"/>
                </a:cubicBezTo>
                <a:cubicBezTo>
                  <a:pt x="18965" y="3482"/>
                  <a:pt x="19106" y="3522"/>
                  <a:pt x="19248" y="3547"/>
                </a:cubicBezTo>
                <a:cubicBezTo>
                  <a:pt x="19404" y="3575"/>
                  <a:pt x="19586" y="3588"/>
                  <a:pt x="19745" y="3597"/>
                </a:cubicBezTo>
                <a:cubicBezTo>
                  <a:pt x="19953" y="3609"/>
                  <a:pt x="20156" y="3621"/>
                  <a:pt x="20365" y="3621"/>
                </a:cubicBezTo>
                <a:cubicBezTo>
                  <a:pt x="20607" y="3621"/>
                  <a:pt x="20843" y="3615"/>
                  <a:pt x="21084" y="3597"/>
                </a:cubicBezTo>
                <a:cubicBezTo>
                  <a:pt x="21390" y="3574"/>
                  <a:pt x="21653" y="3520"/>
                  <a:pt x="21952" y="3473"/>
                </a:cubicBezTo>
                <a:cubicBezTo>
                  <a:pt x="22201" y="3434"/>
                  <a:pt x="22460" y="3361"/>
                  <a:pt x="22696" y="3274"/>
                </a:cubicBezTo>
                <a:cubicBezTo>
                  <a:pt x="22840" y="3221"/>
                  <a:pt x="23001" y="3127"/>
                  <a:pt x="23118" y="3026"/>
                </a:cubicBezTo>
                <a:cubicBezTo>
                  <a:pt x="23194" y="2960"/>
                  <a:pt x="23300" y="2851"/>
                  <a:pt x="23341" y="2753"/>
                </a:cubicBezTo>
                <a:cubicBezTo>
                  <a:pt x="23378" y="2664"/>
                  <a:pt x="23373" y="2554"/>
                  <a:pt x="23366" y="2456"/>
                </a:cubicBezTo>
                <a:cubicBezTo>
                  <a:pt x="23357" y="2325"/>
                  <a:pt x="23324" y="2248"/>
                  <a:pt x="23267" y="2133"/>
                </a:cubicBezTo>
                <a:cubicBezTo>
                  <a:pt x="23192" y="1983"/>
                  <a:pt x="23093" y="1868"/>
                  <a:pt x="22994" y="1736"/>
                </a:cubicBezTo>
                <a:cubicBezTo>
                  <a:pt x="22857" y="1553"/>
                  <a:pt x="22772" y="1494"/>
                  <a:pt x="22597" y="1364"/>
                </a:cubicBezTo>
                <a:cubicBezTo>
                  <a:pt x="22424" y="1235"/>
                  <a:pt x="22227" y="1167"/>
                  <a:pt x="22027" y="1091"/>
                </a:cubicBezTo>
                <a:cubicBezTo>
                  <a:pt x="21787" y="999"/>
                  <a:pt x="21563" y="956"/>
                  <a:pt x="21307" y="943"/>
                </a:cubicBezTo>
                <a:cubicBezTo>
                  <a:pt x="20994" y="927"/>
                  <a:pt x="20696" y="965"/>
                  <a:pt x="20389" y="1017"/>
                </a:cubicBezTo>
                <a:cubicBezTo>
                  <a:pt x="20187" y="1051"/>
                  <a:pt x="20012" y="1098"/>
                  <a:pt x="19819" y="1166"/>
                </a:cubicBezTo>
                <a:cubicBezTo>
                  <a:pt x="19641" y="1228"/>
                  <a:pt x="19478" y="1281"/>
                  <a:pt x="19323" y="1389"/>
                </a:cubicBezTo>
                <a:cubicBezTo>
                  <a:pt x="19139" y="1518"/>
                  <a:pt x="18959" y="1654"/>
                  <a:pt x="18827" y="1836"/>
                </a:cubicBezTo>
                <a:cubicBezTo>
                  <a:pt x="18768" y="1917"/>
                  <a:pt x="18737" y="2037"/>
                  <a:pt x="18703" y="2133"/>
                </a:cubicBezTo>
                <a:cubicBezTo>
                  <a:pt x="18664" y="2245"/>
                  <a:pt x="18647" y="2336"/>
                  <a:pt x="18653" y="2456"/>
                </a:cubicBezTo>
                <a:cubicBezTo>
                  <a:pt x="18659" y="2564"/>
                  <a:pt x="18675" y="2673"/>
                  <a:pt x="18703" y="2778"/>
                </a:cubicBezTo>
                <a:cubicBezTo>
                  <a:pt x="18727" y="2867"/>
                  <a:pt x="18777" y="2950"/>
                  <a:pt x="18827" y="3026"/>
                </a:cubicBezTo>
                <a:cubicBezTo>
                  <a:pt x="18874" y="3098"/>
                  <a:pt x="18914" y="3123"/>
                  <a:pt x="18976" y="3175"/>
                </a:cubicBezTo>
                <a:cubicBezTo>
                  <a:pt x="19016" y="3209"/>
                  <a:pt x="19068" y="3230"/>
                  <a:pt x="19100" y="3274"/>
                </a:cubicBezTo>
                <a:cubicBezTo>
                  <a:pt x="19100" y="3291"/>
                  <a:pt x="19100" y="3307"/>
                  <a:pt x="19100" y="33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Ink 17"/>
          <p:cNvSpPr/>
          <p:nvPr/>
        </p:nvSpPr>
        <p:spPr>
          <a:xfrm>
            <a:off x="2268360" y="285840"/>
            <a:ext cx="1938600" cy="1116000"/>
          </a:xfrm>
          <a:custGeom>
            <a:avLst/>
            <a:gdLst/>
            <a:ahLst/>
            <a:rect l="l" t="t" r="r" b="b"/>
            <a:pathLst>
              <a:path w="5384" h="3101">
                <a:moveTo>
                  <a:pt x="9947" y="967"/>
                </a:moveTo>
                <a:cubicBezTo>
                  <a:pt x="9643" y="862"/>
                  <a:pt x="9422" y="799"/>
                  <a:pt x="9103" y="794"/>
                </a:cubicBezTo>
                <a:cubicBezTo>
                  <a:pt x="8574" y="786"/>
                  <a:pt x="8074" y="1006"/>
                  <a:pt x="7640" y="1290"/>
                </a:cubicBezTo>
                <a:cubicBezTo>
                  <a:pt x="7406" y="1444"/>
                  <a:pt x="7220" y="1617"/>
                  <a:pt x="7020" y="1811"/>
                </a:cubicBezTo>
                <a:cubicBezTo>
                  <a:pt x="6837" y="1988"/>
                  <a:pt x="6675" y="2184"/>
                  <a:pt x="6548" y="2406"/>
                </a:cubicBezTo>
                <a:cubicBezTo>
                  <a:pt x="6446" y="2583"/>
                  <a:pt x="6364" y="2751"/>
                  <a:pt x="6325" y="2952"/>
                </a:cubicBezTo>
                <a:cubicBezTo>
                  <a:pt x="6285" y="3156"/>
                  <a:pt x="6289" y="3303"/>
                  <a:pt x="6400" y="3473"/>
                </a:cubicBezTo>
                <a:cubicBezTo>
                  <a:pt x="6492" y="3615"/>
                  <a:pt x="6753" y="3639"/>
                  <a:pt x="6896" y="3671"/>
                </a:cubicBezTo>
                <a:cubicBezTo>
                  <a:pt x="7105" y="3718"/>
                  <a:pt x="7329" y="3737"/>
                  <a:pt x="7541" y="3746"/>
                </a:cubicBezTo>
                <a:cubicBezTo>
                  <a:pt x="7903" y="3762"/>
                  <a:pt x="8274" y="3756"/>
                  <a:pt x="8632" y="3746"/>
                </a:cubicBezTo>
                <a:cubicBezTo>
                  <a:pt x="8902" y="3738"/>
                  <a:pt x="9157" y="3732"/>
                  <a:pt x="9426" y="3696"/>
                </a:cubicBezTo>
                <a:cubicBezTo>
                  <a:pt x="9674" y="3662"/>
                  <a:pt x="9926" y="3628"/>
                  <a:pt x="10170" y="3572"/>
                </a:cubicBezTo>
                <a:cubicBezTo>
                  <a:pt x="10465" y="3505"/>
                  <a:pt x="10837" y="3395"/>
                  <a:pt x="11088" y="3225"/>
                </a:cubicBezTo>
                <a:cubicBezTo>
                  <a:pt x="11212" y="3141"/>
                  <a:pt x="11366" y="2995"/>
                  <a:pt x="11460" y="2877"/>
                </a:cubicBezTo>
                <a:cubicBezTo>
                  <a:pt x="11542" y="2774"/>
                  <a:pt x="11630" y="2637"/>
                  <a:pt x="11658" y="2505"/>
                </a:cubicBezTo>
                <a:cubicBezTo>
                  <a:pt x="11691" y="2349"/>
                  <a:pt x="11708" y="2160"/>
                  <a:pt x="11633" y="2009"/>
                </a:cubicBezTo>
                <a:cubicBezTo>
                  <a:pt x="11497" y="1735"/>
                  <a:pt x="11206" y="1490"/>
                  <a:pt x="10964" y="1315"/>
                </a:cubicBezTo>
                <a:cubicBezTo>
                  <a:pt x="10723" y="1141"/>
                  <a:pt x="10450" y="1038"/>
                  <a:pt x="10170" y="943"/>
                </a:cubicBezTo>
                <a:cubicBezTo>
                  <a:pt x="9925" y="860"/>
                  <a:pt x="9659" y="808"/>
                  <a:pt x="9401" y="794"/>
                </a:cubicBezTo>
                <a:cubicBezTo>
                  <a:pt x="9137" y="780"/>
                  <a:pt x="8842" y="817"/>
                  <a:pt x="8582" y="868"/>
                </a:cubicBezTo>
                <a:cubicBezTo>
                  <a:pt x="8342" y="915"/>
                  <a:pt x="8100" y="993"/>
                  <a:pt x="7888" y="1116"/>
                </a:cubicBezTo>
                <a:cubicBezTo>
                  <a:pt x="7635" y="1263"/>
                  <a:pt x="7464" y="1388"/>
                  <a:pt x="7268" y="1612"/>
                </a:cubicBezTo>
                <a:cubicBezTo>
                  <a:pt x="7134" y="1765"/>
                  <a:pt x="7026" y="1910"/>
                  <a:pt x="6921" y="2084"/>
                </a:cubicBezTo>
                <a:cubicBezTo>
                  <a:pt x="6827" y="2241"/>
                  <a:pt x="6756" y="2400"/>
                  <a:pt x="6722" y="2580"/>
                </a:cubicBezTo>
                <a:cubicBezTo>
                  <a:pt x="6687" y="2764"/>
                  <a:pt x="6676" y="2967"/>
                  <a:pt x="6722" y="3150"/>
                </a:cubicBezTo>
                <a:cubicBezTo>
                  <a:pt x="6752" y="3268"/>
                  <a:pt x="6809" y="3386"/>
                  <a:pt x="6896" y="3473"/>
                </a:cubicBezTo>
                <a:cubicBezTo>
                  <a:pt x="7020" y="3596"/>
                  <a:pt x="7163" y="3632"/>
                  <a:pt x="7317" y="3696"/>
                </a:cubicBezTo>
                <a:cubicBezTo>
                  <a:pt x="7499" y="3772"/>
                  <a:pt x="7673" y="3770"/>
                  <a:pt x="7863" y="3795"/>
                </a:cubicBezTo>
                <a:cubicBezTo>
                  <a:pt x="8069" y="3822"/>
                  <a:pt x="8276" y="3841"/>
                  <a:pt x="8483" y="3845"/>
                </a:cubicBezTo>
                <a:cubicBezTo>
                  <a:pt x="8668" y="3848"/>
                  <a:pt x="8846" y="3854"/>
                  <a:pt x="9029" y="3870"/>
                </a:cubicBezTo>
                <a:cubicBezTo>
                  <a:pt x="9170" y="3882"/>
                  <a:pt x="9310" y="3890"/>
                  <a:pt x="9451" y="3894"/>
                </a:cubicBezTo>
                <a:cubicBezTo>
                  <a:pt x="9467" y="3894"/>
                  <a:pt x="9484" y="3894"/>
                  <a:pt x="9500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k 18"/>
          <p:cNvSpPr/>
          <p:nvPr/>
        </p:nvSpPr>
        <p:spPr>
          <a:xfrm>
            <a:off x="2990880" y="34920"/>
            <a:ext cx="1224000" cy="1001880"/>
          </a:xfrm>
          <a:custGeom>
            <a:avLst/>
            <a:gdLst/>
            <a:ahLst/>
            <a:rect l="l" t="t" r="r" b="b"/>
            <a:pathLst>
              <a:path w="3399" h="2779">
                <a:moveTo>
                  <a:pt x="10988" y="2877"/>
                </a:moveTo>
                <a:cubicBezTo>
                  <a:pt x="11054" y="2812"/>
                  <a:pt x="11123" y="2734"/>
                  <a:pt x="11187" y="2679"/>
                </a:cubicBezTo>
                <a:cubicBezTo>
                  <a:pt x="11254" y="2622"/>
                  <a:pt x="11324" y="2573"/>
                  <a:pt x="11385" y="2505"/>
                </a:cubicBezTo>
                <a:cubicBezTo>
                  <a:pt x="11462" y="2420"/>
                  <a:pt x="11498" y="2356"/>
                  <a:pt x="11559" y="2257"/>
                </a:cubicBezTo>
                <a:cubicBezTo>
                  <a:pt x="11659" y="2096"/>
                  <a:pt x="11694" y="1951"/>
                  <a:pt x="11708" y="1761"/>
                </a:cubicBezTo>
                <a:cubicBezTo>
                  <a:pt x="11716" y="1654"/>
                  <a:pt x="11703" y="1542"/>
                  <a:pt x="11683" y="1439"/>
                </a:cubicBezTo>
                <a:cubicBezTo>
                  <a:pt x="11656" y="1299"/>
                  <a:pt x="11584" y="1108"/>
                  <a:pt x="11509" y="992"/>
                </a:cubicBezTo>
                <a:cubicBezTo>
                  <a:pt x="11438" y="883"/>
                  <a:pt x="11329" y="806"/>
                  <a:pt x="11237" y="719"/>
                </a:cubicBezTo>
                <a:cubicBezTo>
                  <a:pt x="11091" y="581"/>
                  <a:pt x="10956" y="504"/>
                  <a:pt x="10790" y="397"/>
                </a:cubicBezTo>
                <a:cubicBezTo>
                  <a:pt x="10657" y="312"/>
                  <a:pt x="10525" y="216"/>
                  <a:pt x="10368" y="174"/>
                </a:cubicBezTo>
                <a:cubicBezTo>
                  <a:pt x="10131" y="111"/>
                  <a:pt x="9892" y="99"/>
                  <a:pt x="9649" y="99"/>
                </a:cubicBezTo>
                <a:cubicBezTo>
                  <a:pt x="9489" y="99"/>
                  <a:pt x="9335" y="91"/>
                  <a:pt x="9178" y="124"/>
                </a:cubicBezTo>
                <a:cubicBezTo>
                  <a:pt x="9045" y="152"/>
                  <a:pt x="8911" y="176"/>
                  <a:pt x="8781" y="198"/>
                </a:cubicBezTo>
                <a:cubicBezTo>
                  <a:pt x="8716" y="209"/>
                  <a:pt x="8634" y="219"/>
                  <a:pt x="8582" y="273"/>
                </a:cubicBezTo>
                <a:cubicBezTo>
                  <a:pt x="8534" y="323"/>
                  <a:pt x="8523" y="406"/>
                  <a:pt x="8508" y="471"/>
                </a:cubicBezTo>
                <a:cubicBezTo>
                  <a:pt x="8485" y="575"/>
                  <a:pt x="8474" y="688"/>
                  <a:pt x="8458" y="794"/>
                </a:cubicBezTo>
                <a:cubicBezTo>
                  <a:pt x="8442" y="895"/>
                  <a:pt x="8418" y="989"/>
                  <a:pt x="8409" y="1091"/>
                </a:cubicBezTo>
                <a:cubicBezTo>
                  <a:pt x="8402" y="1168"/>
                  <a:pt x="8394" y="1250"/>
                  <a:pt x="8384" y="1315"/>
                </a:cubicBezTo>
                <a:cubicBezTo>
                  <a:pt x="8358" y="1272"/>
                  <a:pt x="8336" y="1234"/>
                  <a:pt x="8310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Ink 19"/>
          <p:cNvSpPr/>
          <p:nvPr/>
        </p:nvSpPr>
        <p:spPr>
          <a:xfrm>
            <a:off x="2884320" y="312840"/>
            <a:ext cx="303480" cy="276120"/>
          </a:xfrm>
          <a:custGeom>
            <a:avLst/>
            <a:gdLst/>
            <a:ahLst/>
            <a:rect l="l" t="t" r="r" b="b"/>
            <a:pathLst>
              <a:path w="844" h="770">
                <a:moveTo>
                  <a:pt x="8062" y="992"/>
                </a:moveTo>
                <a:cubicBezTo>
                  <a:pt x="8045" y="984"/>
                  <a:pt x="8029" y="975"/>
                  <a:pt x="8012" y="967"/>
                </a:cubicBezTo>
                <a:cubicBezTo>
                  <a:pt x="8012" y="1050"/>
                  <a:pt x="8022" y="1073"/>
                  <a:pt x="8062" y="1141"/>
                </a:cubicBezTo>
                <a:cubicBezTo>
                  <a:pt x="8101" y="1207"/>
                  <a:pt x="8099" y="1269"/>
                  <a:pt x="8136" y="1339"/>
                </a:cubicBezTo>
                <a:cubicBezTo>
                  <a:pt x="8188" y="1437"/>
                  <a:pt x="8235" y="1538"/>
                  <a:pt x="8285" y="1637"/>
                </a:cubicBezTo>
                <a:cubicBezTo>
                  <a:pt x="8323" y="1580"/>
                  <a:pt x="8377" y="1500"/>
                  <a:pt x="8409" y="1439"/>
                </a:cubicBezTo>
                <a:cubicBezTo>
                  <a:pt x="8468" y="1326"/>
                  <a:pt x="8550" y="1267"/>
                  <a:pt x="8632" y="1166"/>
                </a:cubicBezTo>
                <a:cubicBezTo>
                  <a:pt x="8697" y="1086"/>
                  <a:pt x="8780" y="1034"/>
                  <a:pt x="8830" y="943"/>
                </a:cubicBezTo>
                <a:cubicBezTo>
                  <a:pt x="8855" y="893"/>
                  <a:pt x="8863" y="877"/>
                  <a:pt x="8806" y="8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981080" y="1905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pg 116-117 #40—50 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k 6"/>
          <p:cNvSpPr/>
          <p:nvPr/>
        </p:nvSpPr>
        <p:spPr>
          <a:xfrm>
            <a:off x="1955880" y="2894040"/>
            <a:ext cx="2741400" cy="803160"/>
          </a:xfrm>
          <a:custGeom>
            <a:avLst/>
            <a:gdLst/>
            <a:ahLst/>
            <a:rect l="l" t="t" r="r" b="b"/>
            <a:pathLst>
              <a:path w="7616" h="2233">
                <a:moveTo>
                  <a:pt x="7838" y="8334"/>
                </a:moveTo>
                <a:cubicBezTo>
                  <a:pt x="7710" y="8198"/>
                  <a:pt x="7628" y="8125"/>
                  <a:pt x="7441" y="8086"/>
                </a:cubicBezTo>
                <a:cubicBezTo>
                  <a:pt x="7247" y="8046"/>
                  <a:pt x="7068" y="8037"/>
                  <a:pt x="6871" y="8037"/>
                </a:cubicBezTo>
                <a:cubicBezTo>
                  <a:pt x="6653" y="8037"/>
                  <a:pt x="6462" y="8087"/>
                  <a:pt x="6251" y="8136"/>
                </a:cubicBezTo>
                <a:cubicBezTo>
                  <a:pt x="6096" y="8172"/>
                  <a:pt x="5885" y="8235"/>
                  <a:pt x="5755" y="8334"/>
                </a:cubicBezTo>
                <a:cubicBezTo>
                  <a:pt x="5634" y="8426"/>
                  <a:pt x="5523" y="8571"/>
                  <a:pt x="5457" y="8706"/>
                </a:cubicBezTo>
                <a:cubicBezTo>
                  <a:pt x="5410" y="8803"/>
                  <a:pt x="5418" y="8980"/>
                  <a:pt x="5457" y="9079"/>
                </a:cubicBezTo>
                <a:cubicBezTo>
                  <a:pt x="5509" y="9211"/>
                  <a:pt x="5694" y="9395"/>
                  <a:pt x="5829" y="9451"/>
                </a:cubicBezTo>
                <a:cubicBezTo>
                  <a:pt x="5978" y="9512"/>
                  <a:pt x="6191" y="9579"/>
                  <a:pt x="6350" y="9599"/>
                </a:cubicBezTo>
                <a:cubicBezTo>
                  <a:pt x="6561" y="9626"/>
                  <a:pt x="6767" y="9589"/>
                  <a:pt x="6970" y="9550"/>
                </a:cubicBezTo>
                <a:cubicBezTo>
                  <a:pt x="7175" y="9511"/>
                  <a:pt x="7313" y="9434"/>
                  <a:pt x="7491" y="9327"/>
                </a:cubicBezTo>
                <a:cubicBezTo>
                  <a:pt x="7676" y="9216"/>
                  <a:pt x="7712" y="9143"/>
                  <a:pt x="7789" y="8954"/>
                </a:cubicBezTo>
                <a:cubicBezTo>
                  <a:pt x="7844" y="8818"/>
                  <a:pt x="7852" y="8703"/>
                  <a:pt x="7789" y="8558"/>
                </a:cubicBezTo>
                <a:cubicBezTo>
                  <a:pt x="7736" y="8437"/>
                  <a:pt x="7636" y="8367"/>
                  <a:pt x="7541" y="8285"/>
                </a:cubicBezTo>
                <a:cubicBezTo>
                  <a:pt x="7470" y="8224"/>
                  <a:pt x="7406" y="8228"/>
                  <a:pt x="7317" y="8210"/>
                </a:cubicBezTo>
              </a:path>
              <a:path w="7616" h="2233">
                <a:moveTo>
                  <a:pt x="7045" y="9500"/>
                </a:moveTo>
                <a:cubicBezTo>
                  <a:pt x="7090" y="9549"/>
                  <a:pt x="7131" y="9570"/>
                  <a:pt x="7169" y="9599"/>
                </a:cubicBezTo>
                <a:cubicBezTo>
                  <a:pt x="7244" y="9656"/>
                  <a:pt x="7254" y="9662"/>
                  <a:pt x="7342" y="9699"/>
                </a:cubicBezTo>
                <a:cubicBezTo>
                  <a:pt x="7457" y="9747"/>
                  <a:pt x="7558" y="9778"/>
                  <a:pt x="7665" y="9823"/>
                </a:cubicBezTo>
                <a:cubicBezTo>
                  <a:pt x="7794" y="9877"/>
                  <a:pt x="7929" y="9933"/>
                  <a:pt x="8062" y="9971"/>
                </a:cubicBezTo>
                <a:cubicBezTo>
                  <a:pt x="8235" y="10020"/>
                  <a:pt x="8407" y="10076"/>
                  <a:pt x="8582" y="10120"/>
                </a:cubicBezTo>
                <a:cubicBezTo>
                  <a:pt x="8816" y="10178"/>
                  <a:pt x="9063" y="10241"/>
                  <a:pt x="9302" y="10269"/>
                </a:cubicBezTo>
                <a:cubicBezTo>
                  <a:pt x="9733" y="10319"/>
                  <a:pt x="10248" y="10295"/>
                  <a:pt x="10666" y="10220"/>
                </a:cubicBezTo>
                <a:cubicBezTo>
                  <a:pt x="10906" y="10177"/>
                  <a:pt x="11100" y="10131"/>
                  <a:pt x="11336" y="10071"/>
                </a:cubicBezTo>
                <a:cubicBezTo>
                  <a:pt x="11544" y="10018"/>
                  <a:pt x="11696" y="9934"/>
                  <a:pt x="11881" y="9823"/>
                </a:cubicBezTo>
                <a:cubicBezTo>
                  <a:pt x="12036" y="9730"/>
                  <a:pt x="12182" y="9660"/>
                  <a:pt x="12328" y="9550"/>
                </a:cubicBezTo>
                <a:cubicBezTo>
                  <a:pt x="12433" y="9471"/>
                  <a:pt x="12524" y="9382"/>
                  <a:pt x="12626" y="9302"/>
                </a:cubicBezTo>
                <a:cubicBezTo>
                  <a:pt x="12680" y="9260"/>
                  <a:pt x="12839" y="9157"/>
                  <a:pt x="12774" y="9178"/>
                </a:cubicBezTo>
                <a:cubicBezTo>
                  <a:pt x="12740" y="9189"/>
                  <a:pt x="12684" y="9236"/>
                  <a:pt x="12626" y="9252"/>
                </a:cubicBezTo>
                <a:cubicBezTo>
                  <a:pt x="12513" y="9284"/>
                  <a:pt x="12377" y="9360"/>
                  <a:pt x="12254" y="9376"/>
                </a:cubicBezTo>
                <a:cubicBezTo>
                  <a:pt x="12198" y="9383"/>
                  <a:pt x="12136" y="9376"/>
                  <a:pt x="12080" y="9376"/>
                </a:cubicBezTo>
                <a:cubicBezTo>
                  <a:pt x="12141" y="9325"/>
                  <a:pt x="12183" y="9295"/>
                  <a:pt x="12254" y="9252"/>
                </a:cubicBezTo>
                <a:cubicBezTo>
                  <a:pt x="12294" y="9228"/>
                  <a:pt x="12389" y="9158"/>
                  <a:pt x="12427" y="9153"/>
                </a:cubicBezTo>
                <a:cubicBezTo>
                  <a:pt x="12518" y="9140"/>
                  <a:pt x="12676" y="9191"/>
                  <a:pt x="12750" y="9227"/>
                </a:cubicBezTo>
                <a:cubicBezTo>
                  <a:pt x="12843" y="9273"/>
                  <a:pt x="12950" y="9349"/>
                  <a:pt x="13047" y="94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Ink 7"/>
          <p:cNvSpPr/>
          <p:nvPr/>
        </p:nvSpPr>
        <p:spPr>
          <a:xfrm>
            <a:off x="6045120" y="259884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7090" y="7466"/>
                </a:moveTo>
                <a:cubicBezTo>
                  <a:pt x="16993" y="7581"/>
                  <a:pt x="16884" y="7714"/>
                  <a:pt x="16842" y="7863"/>
                </a:cubicBezTo>
                <a:cubicBezTo>
                  <a:pt x="16801" y="8009"/>
                  <a:pt x="16759" y="8213"/>
                  <a:pt x="16818" y="8359"/>
                </a:cubicBezTo>
                <a:cubicBezTo>
                  <a:pt x="16860" y="8462"/>
                  <a:pt x="16955" y="8525"/>
                  <a:pt x="17066" y="8508"/>
                </a:cubicBezTo>
                <a:cubicBezTo>
                  <a:pt x="17091" y="8500"/>
                  <a:pt x="17115" y="8491"/>
                  <a:pt x="17140" y="8483"/>
                </a:cubicBezTo>
              </a:path>
              <a:path w="3325" h="1291">
                <a:moveTo>
                  <a:pt x="17388" y="7689"/>
                </a:moveTo>
                <a:cubicBezTo>
                  <a:pt x="17445" y="7810"/>
                  <a:pt x="17505" y="7996"/>
                  <a:pt x="17611" y="8086"/>
                </a:cubicBezTo>
                <a:cubicBezTo>
                  <a:pt x="17710" y="8170"/>
                  <a:pt x="17841" y="8263"/>
                  <a:pt x="17959" y="8285"/>
                </a:cubicBezTo>
              </a:path>
              <a:path w="3325" h="1291">
                <a:moveTo>
                  <a:pt x="17810" y="7813"/>
                </a:moveTo>
                <a:cubicBezTo>
                  <a:pt x="17693" y="7937"/>
                  <a:pt x="17583" y="8065"/>
                  <a:pt x="17462" y="8186"/>
                </a:cubicBezTo>
                <a:cubicBezTo>
                  <a:pt x="17403" y="8245"/>
                  <a:pt x="17363" y="8245"/>
                  <a:pt x="17438" y="8260"/>
                </a:cubicBezTo>
              </a:path>
              <a:path w="3325" h="1291">
                <a:moveTo>
                  <a:pt x="18182" y="7813"/>
                </a:moveTo>
                <a:cubicBezTo>
                  <a:pt x="18200" y="7936"/>
                  <a:pt x="18199" y="8113"/>
                  <a:pt x="18231" y="8235"/>
                </a:cubicBezTo>
                <a:cubicBezTo>
                  <a:pt x="18253" y="8279"/>
                  <a:pt x="18256" y="8291"/>
                  <a:pt x="18281" y="8310"/>
                </a:cubicBezTo>
              </a:path>
              <a:path w="3325" h="1291">
                <a:moveTo>
                  <a:pt x="18058" y="8086"/>
                </a:moveTo>
                <a:cubicBezTo>
                  <a:pt x="18186" y="8086"/>
                  <a:pt x="18304" y="8081"/>
                  <a:pt x="18430" y="8062"/>
                </a:cubicBezTo>
              </a:path>
              <a:path w="3325" h="1291">
                <a:moveTo>
                  <a:pt x="18653" y="7640"/>
                </a:moveTo>
                <a:cubicBezTo>
                  <a:pt x="18767" y="7631"/>
                  <a:pt x="18878" y="7644"/>
                  <a:pt x="18901" y="7789"/>
                </a:cubicBezTo>
                <a:cubicBezTo>
                  <a:pt x="18922" y="7922"/>
                  <a:pt x="18859" y="8020"/>
                  <a:pt x="18777" y="8111"/>
                </a:cubicBezTo>
                <a:cubicBezTo>
                  <a:pt x="18730" y="8164"/>
                  <a:pt x="18693" y="8180"/>
                  <a:pt x="18653" y="8235"/>
                </a:cubicBezTo>
                <a:cubicBezTo>
                  <a:pt x="18713" y="8319"/>
                  <a:pt x="18772" y="8335"/>
                  <a:pt x="18876" y="8285"/>
                </a:cubicBezTo>
                <a:cubicBezTo>
                  <a:pt x="18901" y="8268"/>
                  <a:pt x="18926" y="8252"/>
                  <a:pt x="18951" y="8235"/>
                </a:cubicBezTo>
              </a:path>
              <a:path w="3325" h="1291">
                <a:moveTo>
                  <a:pt x="19224" y="7441"/>
                </a:moveTo>
                <a:cubicBezTo>
                  <a:pt x="19248" y="7564"/>
                  <a:pt x="19299" y="7684"/>
                  <a:pt x="19323" y="7813"/>
                </a:cubicBezTo>
                <a:cubicBezTo>
                  <a:pt x="19354" y="7980"/>
                  <a:pt x="19359" y="8124"/>
                  <a:pt x="19298" y="8285"/>
                </a:cubicBezTo>
                <a:cubicBezTo>
                  <a:pt x="19279" y="8334"/>
                  <a:pt x="19215" y="8495"/>
                  <a:pt x="19124" y="8409"/>
                </a:cubicBezTo>
                <a:cubicBezTo>
                  <a:pt x="19116" y="8384"/>
                  <a:pt x="19108" y="8359"/>
                  <a:pt x="19100" y="8334"/>
                </a:cubicBezTo>
              </a:path>
              <a:path w="3325" h="1291">
                <a:moveTo>
                  <a:pt x="19447" y="7268"/>
                </a:moveTo>
                <a:cubicBezTo>
                  <a:pt x="19553" y="7244"/>
                  <a:pt x="19796" y="7186"/>
                  <a:pt x="19869" y="7342"/>
                </a:cubicBezTo>
                <a:cubicBezTo>
                  <a:pt x="19930" y="7471"/>
                  <a:pt x="19793" y="7513"/>
                  <a:pt x="19720" y="7565"/>
                </a:cubicBezTo>
                <a:cubicBezTo>
                  <a:pt x="19608" y="7645"/>
                  <a:pt x="19810" y="7695"/>
                  <a:pt x="19844" y="7714"/>
                </a:cubicBezTo>
                <a:cubicBezTo>
                  <a:pt x="19949" y="7771"/>
                  <a:pt x="19997" y="7781"/>
                  <a:pt x="20117" y="77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nk 8"/>
          <p:cNvSpPr/>
          <p:nvPr/>
        </p:nvSpPr>
        <p:spPr>
          <a:xfrm>
            <a:off x="839880" y="2894040"/>
            <a:ext cx="1035000" cy="428760"/>
          </a:xfrm>
          <a:custGeom>
            <a:avLst/>
            <a:gdLst/>
            <a:ahLst/>
            <a:rect l="l" t="t" r="r" b="b"/>
            <a:pathLst>
              <a:path w="2878" h="1191">
                <a:moveTo>
                  <a:pt x="3026" y="8310"/>
                </a:moveTo>
                <a:cubicBezTo>
                  <a:pt x="3026" y="8229"/>
                  <a:pt x="3034" y="8194"/>
                  <a:pt x="2977" y="8136"/>
                </a:cubicBezTo>
                <a:cubicBezTo>
                  <a:pt x="2937" y="8096"/>
                  <a:pt x="2891" y="8022"/>
                  <a:pt x="2828" y="8037"/>
                </a:cubicBezTo>
                <a:cubicBezTo>
                  <a:pt x="2723" y="8062"/>
                  <a:pt x="2685" y="8172"/>
                  <a:pt x="2654" y="8260"/>
                </a:cubicBezTo>
                <a:cubicBezTo>
                  <a:pt x="2621" y="8353"/>
                  <a:pt x="2608" y="8460"/>
                  <a:pt x="2604" y="8558"/>
                </a:cubicBezTo>
                <a:cubicBezTo>
                  <a:pt x="2599" y="8688"/>
                  <a:pt x="2553" y="9078"/>
                  <a:pt x="2629" y="9153"/>
                </a:cubicBezTo>
              </a:path>
              <a:path w="2878" h="1191">
                <a:moveTo>
                  <a:pt x="2332" y="8706"/>
                </a:moveTo>
                <a:cubicBezTo>
                  <a:pt x="2435" y="8771"/>
                  <a:pt x="2476" y="8781"/>
                  <a:pt x="2604" y="8781"/>
                </a:cubicBezTo>
                <a:cubicBezTo>
                  <a:pt x="2712" y="8781"/>
                  <a:pt x="2819" y="8781"/>
                  <a:pt x="2927" y="8781"/>
                </a:cubicBezTo>
              </a:path>
              <a:path w="2878" h="1191">
                <a:moveTo>
                  <a:pt x="3497" y="8161"/>
                </a:moveTo>
                <a:cubicBezTo>
                  <a:pt x="3454" y="8248"/>
                  <a:pt x="3406" y="8330"/>
                  <a:pt x="3349" y="8409"/>
                </a:cubicBezTo>
                <a:cubicBezTo>
                  <a:pt x="3256" y="8538"/>
                  <a:pt x="3197" y="8697"/>
                  <a:pt x="3175" y="8855"/>
                </a:cubicBezTo>
                <a:cubicBezTo>
                  <a:pt x="3162" y="8952"/>
                  <a:pt x="3157" y="9078"/>
                  <a:pt x="3225" y="9153"/>
                </a:cubicBezTo>
                <a:cubicBezTo>
                  <a:pt x="3267" y="9153"/>
                  <a:pt x="3293" y="9159"/>
                  <a:pt x="3324" y="9178"/>
                </a:cubicBezTo>
              </a:path>
              <a:path w="2878" h="1191">
                <a:moveTo>
                  <a:pt x="3597" y="8657"/>
                </a:moveTo>
                <a:cubicBezTo>
                  <a:pt x="3607" y="8752"/>
                  <a:pt x="3633" y="8806"/>
                  <a:pt x="3696" y="8880"/>
                </a:cubicBezTo>
                <a:cubicBezTo>
                  <a:pt x="3768" y="8964"/>
                  <a:pt x="3834" y="9044"/>
                  <a:pt x="3944" y="9079"/>
                </a:cubicBezTo>
                <a:cubicBezTo>
                  <a:pt x="3961" y="9079"/>
                  <a:pt x="3977" y="9079"/>
                  <a:pt x="3994" y="9079"/>
                </a:cubicBezTo>
              </a:path>
              <a:path w="2878" h="1191">
                <a:moveTo>
                  <a:pt x="3994" y="8632"/>
                </a:moveTo>
                <a:cubicBezTo>
                  <a:pt x="3830" y="8821"/>
                  <a:pt x="3737" y="8945"/>
                  <a:pt x="3621" y="9153"/>
                </a:cubicBezTo>
                <a:cubicBezTo>
                  <a:pt x="3584" y="9209"/>
                  <a:pt x="3546" y="9234"/>
                  <a:pt x="3597" y="9227"/>
                </a:cubicBezTo>
              </a:path>
              <a:path w="2878" h="1191">
                <a:moveTo>
                  <a:pt x="4018" y="8086"/>
                </a:moveTo>
                <a:cubicBezTo>
                  <a:pt x="4175" y="8135"/>
                  <a:pt x="4277" y="8185"/>
                  <a:pt x="4366" y="8334"/>
                </a:cubicBezTo>
                <a:cubicBezTo>
                  <a:pt x="4455" y="8483"/>
                  <a:pt x="4486" y="8634"/>
                  <a:pt x="4465" y="8806"/>
                </a:cubicBezTo>
                <a:cubicBezTo>
                  <a:pt x="4451" y="8921"/>
                  <a:pt x="4378" y="9070"/>
                  <a:pt x="4291" y="9153"/>
                </a:cubicBezTo>
                <a:cubicBezTo>
                  <a:pt x="4250" y="9192"/>
                  <a:pt x="4199" y="9227"/>
                  <a:pt x="4142" y="9227"/>
                </a:cubicBezTo>
              </a:path>
              <a:path w="2878" h="1191">
                <a:moveTo>
                  <a:pt x="4837" y="8855"/>
                </a:moveTo>
                <a:cubicBezTo>
                  <a:pt x="4920" y="8855"/>
                  <a:pt x="5002" y="8855"/>
                  <a:pt x="5085" y="8855"/>
                </a:cubicBezTo>
              </a:path>
              <a:path w="2878" h="1191">
                <a:moveTo>
                  <a:pt x="4837" y="9103"/>
                </a:moveTo>
                <a:cubicBezTo>
                  <a:pt x="4984" y="9096"/>
                  <a:pt x="5066" y="9074"/>
                  <a:pt x="5209" y="9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nk 9"/>
          <p:cNvSpPr/>
          <p:nvPr/>
        </p:nvSpPr>
        <p:spPr>
          <a:xfrm>
            <a:off x="2108160" y="3054240"/>
            <a:ext cx="623880" cy="303480"/>
          </a:xfrm>
          <a:custGeom>
            <a:avLst/>
            <a:gdLst/>
            <a:ahLst/>
            <a:rect l="l" t="t" r="r" b="b"/>
            <a:pathLst>
              <a:path w="1737" h="845">
                <a:moveTo>
                  <a:pt x="5928" y="8582"/>
                </a:moveTo>
                <a:cubicBezTo>
                  <a:pt x="5938" y="8674"/>
                  <a:pt x="5951" y="8766"/>
                  <a:pt x="5978" y="8855"/>
                </a:cubicBezTo>
                <a:cubicBezTo>
                  <a:pt x="6012" y="8971"/>
                  <a:pt x="6075" y="9084"/>
                  <a:pt x="6152" y="9178"/>
                </a:cubicBezTo>
                <a:cubicBezTo>
                  <a:pt x="6192" y="9227"/>
                  <a:pt x="6288" y="9335"/>
                  <a:pt x="6350" y="9327"/>
                </a:cubicBezTo>
                <a:cubicBezTo>
                  <a:pt x="6367" y="9319"/>
                  <a:pt x="6383" y="9310"/>
                  <a:pt x="6400" y="9302"/>
                </a:cubicBezTo>
              </a:path>
              <a:path w="1737" h="845">
                <a:moveTo>
                  <a:pt x="6325" y="8706"/>
                </a:moveTo>
                <a:cubicBezTo>
                  <a:pt x="6190" y="8853"/>
                  <a:pt x="6054" y="8998"/>
                  <a:pt x="5928" y="9153"/>
                </a:cubicBezTo>
                <a:cubicBezTo>
                  <a:pt x="5863" y="9233"/>
                  <a:pt x="5857" y="9225"/>
                  <a:pt x="5879" y="9302"/>
                </a:cubicBezTo>
              </a:path>
              <a:path w="1737" h="845">
                <a:moveTo>
                  <a:pt x="6672" y="8632"/>
                </a:moveTo>
                <a:cubicBezTo>
                  <a:pt x="6672" y="8798"/>
                  <a:pt x="6657" y="8942"/>
                  <a:pt x="6648" y="9103"/>
                </a:cubicBezTo>
                <a:cubicBezTo>
                  <a:pt x="6648" y="9162"/>
                  <a:pt x="6651" y="9188"/>
                  <a:pt x="6672" y="9227"/>
                </a:cubicBezTo>
              </a:path>
              <a:path w="1737" h="845">
                <a:moveTo>
                  <a:pt x="6548" y="9004"/>
                </a:moveTo>
                <a:cubicBezTo>
                  <a:pt x="6664" y="9004"/>
                  <a:pt x="6780" y="9004"/>
                  <a:pt x="6896" y="9004"/>
                </a:cubicBezTo>
              </a:path>
              <a:path w="1737" h="845">
                <a:moveTo>
                  <a:pt x="7144" y="8558"/>
                </a:moveTo>
                <a:cubicBezTo>
                  <a:pt x="7344" y="8477"/>
                  <a:pt x="7330" y="8476"/>
                  <a:pt x="7466" y="8632"/>
                </a:cubicBezTo>
                <a:cubicBezTo>
                  <a:pt x="7510" y="8682"/>
                  <a:pt x="7486" y="8805"/>
                  <a:pt x="7441" y="8855"/>
                </a:cubicBezTo>
                <a:cubicBezTo>
                  <a:pt x="7396" y="8906"/>
                  <a:pt x="7205" y="8965"/>
                  <a:pt x="7268" y="9079"/>
                </a:cubicBezTo>
                <a:cubicBezTo>
                  <a:pt x="7325" y="9181"/>
                  <a:pt x="7497" y="9153"/>
                  <a:pt x="7590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Ink 10"/>
          <p:cNvSpPr/>
          <p:nvPr/>
        </p:nvSpPr>
        <p:spPr>
          <a:xfrm>
            <a:off x="3160800" y="2919240"/>
            <a:ext cx="1679400" cy="625680"/>
          </a:xfrm>
          <a:custGeom>
            <a:avLst/>
            <a:gdLst/>
            <a:ahLst/>
            <a:rect l="l" t="t" r="r" b="b"/>
            <a:pathLst>
              <a:path w="4664" h="1737">
                <a:moveTo>
                  <a:pt x="9302" y="8855"/>
                </a:moveTo>
                <a:cubicBezTo>
                  <a:pt x="9285" y="8757"/>
                  <a:pt x="9275" y="8761"/>
                  <a:pt x="9203" y="8706"/>
                </a:cubicBezTo>
                <a:cubicBezTo>
                  <a:pt x="9093" y="8623"/>
                  <a:pt x="9110" y="8671"/>
                  <a:pt x="9004" y="8706"/>
                </a:cubicBezTo>
                <a:cubicBezTo>
                  <a:pt x="8941" y="8727"/>
                  <a:pt x="8845" y="8783"/>
                  <a:pt x="8806" y="8855"/>
                </a:cubicBezTo>
                <a:cubicBezTo>
                  <a:pt x="8798" y="8880"/>
                  <a:pt x="8789" y="8905"/>
                  <a:pt x="8781" y="8930"/>
                </a:cubicBezTo>
                <a:cubicBezTo>
                  <a:pt x="8828" y="8987"/>
                  <a:pt x="8850" y="9018"/>
                  <a:pt x="8930" y="9029"/>
                </a:cubicBezTo>
                <a:cubicBezTo>
                  <a:pt x="9033" y="9043"/>
                  <a:pt x="9103" y="9023"/>
                  <a:pt x="9178" y="8954"/>
                </a:cubicBezTo>
                <a:cubicBezTo>
                  <a:pt x="9220" y="8916"/>
                  <a:pt x="9317" y="8748"/>
                  <a:pt x="9277" y="8855"/>
                </a:cubicBezTo>
                <a:cubicBezTo>
                  <a:pt x="9234" y="8971"/>
                  <a:pt x="9246" y="9062"/>
                  <a:pt x="9252" y="9178"/>
                </a:cubicBezTo>
                <a:cubicBezTo>
                  <a:pt x="9259" y="9315"/>
                  <a:pt x="9299" y="9460"/>
                  <a:pt x="9277" y="9599"/>
                </a:cubicBezTo>
                <a:cubicBezTo>
                  <a:pt x="9259" y="9714"/>
                  <a:pt x="9207" y="9775"/>
                  <a:pt x="9103" y="9823"/>
                </a:cubicBezTo>
                <a:cubicBezTo>
                  <a:pt x="8992" y="9874"/>
                  <a:pt x="8890" y="9856"/>
                  <a:pt x="8830" y="9748"/>
                </a:cubicBezTo>
                <a:cubicBezTo>
                  <a:pt x="8801" y="9659"/>
                  <a:pt x="8793" y="9619"/>
                  <a:pt x="8806" y="9550"/>
                </a:cubicBezTo>
              </a:path>
              <a:path w="4664" h="1737">
                <a:moveTo>
                  <a:pt x="9823" y="8409"/>
                </a:moveTo>
                <a:cubicBezTo>
                  <a:pt x="9789" y="8509"/>
                  <a:pt x="9717" y="8606"/>
                  <a:pt x="9699" y="8706"/>
                </a:cubicBezTo>
                <a:cubicBezTo>
                  <a:pt x="9677" y="8827"/>
                  <a:pt x="9722" y="8936"/>
                  <a:pt x="9798" y="9029"/>
                </a:cubicBezTo>
                <a:cubicBezTo>
                  <a:pt x="9859" y="9103"/>
                  <a:pt x="10001" y="9196"/>
                  <a:pt x="10096" y="9227"/>
                </a:cubicBezTo>
                <a:cubicBezTo>
                  <a:pt x="10112" y="9227"/>
                  <a:pt x="10129" y="9227"/>
                  <a:pt x="10145" y="9227"/>
                </a:cubicBezTo>
              </a:path>
              <a:path w="4664" h="1737">
                <a:moveTo>
                  <a:pt x="10071" y="8706"/>
                </a:moveTo>
                <a:cubicBezTo>
                  <a:pt x="10199" y="8852"/>
                  <a:pt x="10305" y="8975"/>
                  <a:pt x="10468" y="9079"/>
                </a:cubicBezTo>
                <a:cubicBezTo>
                  <a:pt x="10522" y="9105"/>
                  <a:pt x="10542" y="9117"/>
                  <a:pt x="10567" y="9153"/>
                </a:cubicBezTo>
              </a:path>
              <a:path w="4664" h="1737">
                <a:moveTo>
                  <a:pt x="10368" y="8632"/>
                </a:moveTo>
                <a:cubicBezTo>
                  <a:pt x="10270" y="8747"/>
                  <a:pt x="10159" y="8903"/>
                  <a:pt x="10046" y="9004"/>
                </a:cubicBezTo>
                <a:cubicBezTo>
                  <a:pt x="10002" y="9043"/>
                  <a:pt x="9966" y="9042"/>
                  <a:pt x="10021" y="9079"/>
                </a:cubicBezTo>
              </a:path>
              <a:path w="4664" h="1737">
                <a:moveTo>
                  <a:pt x="10368" y="8359"/>
                </a:moveTo>
                <a:cubicBezTo>
                  <a:pt x="10487" y="8381"/>
                  <a:pt x="10549" y="8445"/>
                  <a:pt x="10616" y="8558"/>
                </a:cubicBezTo>
                <a:cubicBezTo>
                  <a:pt x="10695" y="8690"/>
                  <a:pt x="10758" y="8847"/>
                  <a:pt x="10740" y="9004"/>
                </a:cubicBezTo>
                <a:cubicBezTo>
                  <a:pt x="10735" y="9051"/>
                  <a:pt x="10687" y="9146"/>
                  <a:pt x="10641" y="9153"/>
                </a:cubicBezTo>
                <a:cubicBezTo>
                  <a:pt x="10625" y="9153"/>
                  <a:pt x="10608" y="9153"/>
                  <a:pt x="10592" y="9153"/>
                </a:cubicBezTo>
              </a:path>
              <a:path w="4664" h="1737">
                <a:moveTo>
                  <a:pt x="10914" y="8781"/>
                </a:moveTo>
                <a:cubicBezTo>
                  <a:pt x="11050" y="8781"/>
                  <a:pt x="11157" y="8791"/>
                  <a:pt x="11286" y="8806"/>
                </a:cubicBezTo>
              </a:path>
              <a:path w="4664" h="1737">
                <a:moveTo>
                  <a:pt x="10889" y="9004"/>
                </a:moveTo>
                <a:cubicBezTo>
                  <a:pt x="10966" y="9082"/>
                  <a:pt x="11083" y="9121"/>
                  <a:pt x="11212" y="9079"/>
                </a:cubicBezTo>
                <a:cubicBezTo>
                  <a:pt x="11237" y="9062"/>
                  <a:pt x="11261" y="9046"/>
                  <a:pt x="11286" y="9029"/>
                </a:cubicBezTo>
              </a:path>
              <a:path w="4664" h="1737">
                <a:moveTo>
                  <a:pt x="11609" y="8483"/>
                </a:moveTo>
                <a:cubicBezTo>
                  <a:pt x="11597" y="8501"/>
                  <a:pt x="11487" y="8622"/>
                  <a:pt x="11509" y="8657"/>
                </a:cubicBezTo>
                <a:cubicBezTo>
                  <a:pt x="11550" y="8725"/>
                  <a:pt x="11663" y="8728"/>
                  <a:pt x="11733" y="8731"/>
                </a:cubicBezTo>
                <a:cubicBezTo>
                  <a:pt x="11787" y="8734"/>
                  <a:pt x="11828" y="8713"/>
                  <a:pt x="11881" y="8706"/>
                </a:cubicBezTo>
              </a:path>
              <a:path w="4664" h="1737">
                <a:moveTo>
                  <a:pt x="11981" y="8210"/>
                </a:moveTo>
                <a:cubicBezTo>
                  <a:pt x="11894" y="8398"/>
                  <a:pt x="11847" y="8528"/>
                  <a:pt x="11832" y="8731"/>
                </a:cubicBezTo>
                <a:cubicBezTo>
                  <a:pt x="11824" y="8838"/>
                  <a:pt x="11811" y="9012"/>
                  <a:pt x="11857" y="9103"/>
                </a:cubicBezTo>
              </a:path>
              <a:path w="4664" h="1737">
                <a:moveTo>
                  <a:pt x="12129" y="8806"/>
                </a:moveTo>
                <a:cubicBezTo>
                  <a:pt x="12172" y="8823"/>
                  <a:pt x="12345" y="8903"/>
                  <a:pt x="12402" y="8855"/>
                </a:cubicBezTo>
                <a:cubicBezTo>
                  <a:pt x="12419" y="8830"/>
                  <a:pt x="12435" y="8806"/>
                  <a:pt x="12452" y="8781"/>
                </a:cubicBezTo>
              </a:path>
              <a:path w="4664" h="1737">
                <a:moveTo>
                  <a:pt x="12526" y="8558"/>
                </a:moveTo>
                <a:cubicBezTo>
                  <a:pt x="12618" y="8682"/>
                  <a:pt x="12705" y="8808"/>
                  <a:pt x="12799" y="8930"/>
                </a:cubicBezTo>
                <a:cubicBezTo>
                  <a:pt x="12837" y="8967"/>
                  <a:pt x="12861" y="8985"/>
                  <a:pt x="12898" y="9004"/>
                </a:cubicBezTo>
              </a:path>
              <a:path w="4664" h="1737">
                <a:moveTo>
                  <a:pt x="12998" y="8508"/>
                </a:moveTo>
                <a:cubicBezTo>
                  <a:pt x="12858" y="8674"/>
                  <a:pt x="12720" y="8770"/>
                  <a:pt x="12601" y="8954"/>
                </a:cubicBezTo>
                <a:cubicBezTo>
                  <a:pt x="12562" y="9014"/>
                  <a:pt x="12535" y="9088"/>
                  <a:pt x="12526" y="9153"/>
                </a:cubicBezTo>
              </a:path>
              <a:path w="4664" h="1737">
                <a:moveTo>
                  <a:pt x="13171" y="8136"/>
                </a:moveTo>
                <a:cubicBezTo>
                  <a:pt x="13242" y="8109"/>
                  <a:pt x="13281" y="8097"/>
                  <a:pt x="13345" y="8136"/>
                </a:cubicBezTo>
                <a:cubicBezTo>
                  <a:pt x="13299" y="8216"/>
                  <a:pt x="13267" y="8222"/>
                  <a:pt x="13196" y="8260"/>
                </a:cubicBezTo>
                <a:cubicBezTo>
                  <a:pt x="13188" y="8268"/>
                  <a:pt x="13179" y="8277"/>
                  <a:pt x="13171" y="8285"/>
                </a:cubicBezTo>
                <a:cubicBezTo>
                  <a:pt x="13228" y="8341"/>
                  <a:pt x="13286" y="8385"/>
                  <a:pt x="13345" y="8434"/>
                </a:cubicBezTo>
                <a:cubicBezTo>
                  <a:pt x="13390" y="8478"/>
                  <a:pt x="13400" y="8494"/>
                  <a:pt x="13444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Ink 11"/>
          <p:cNvSpPr/>
          <p:nvPr/>
        </p:nvSpPr>
        <p:spPr>
          <a:xfrm>
            <a:off x="6089760" y="3241800"/>
            <a:ext cx="1455480" cy="357120"/>
          </a:xfrm>
          <a:custGeom>
            <a:avLst/>
            <a:gdLst/>
            <a:ahLst/>
            <a:rect l="l" t="t" r="r" b="b"/>
            <a:pathLst>
              <a:path w="4044" h="993">
                <a:moveTo>
                  <a:pt x="17289" y="9004"/>
                </a:moveTo>
                <a:cubicBezTo>
                  <a:pt x="17151" y="9182"/>
                  <a:pt x="16778" y="9482"/>
                  <a:pt x="16942" y="9748"/>
                </a:cubicBezTo>
                <a:cubicBezTo>
                  <a:pt x="17024" y="9881"/>
                  <a:pt x="17236" y="9834"/>
                  <a:pt x="17363" y="9823"/>
                </a:cubicBezTo>
              </a:path>
              <a:path w="4044" h="993">
                <a:moveTo>
                  <a:pt x="17587" y="9153"/>
                </a:moveTo>
                <a:cubicBezTo>
                  <a:pt x="17614" y="9297"/>
                  <a:pt x="17668" y="9499"/>
                  <a:pt x="17785" y="9599"/>
                </a:cubicBezTo>
                <a:cubicBezTo>
                  <a:pt x="17899" y="9697"/>
                  <a:pt x="18117" y="9793"/>
                  <a:pt x="18256" y="9823"/>
                </a:cubicBezTo>
              </a:path>
              <a:path w="4044" h="993">
                <a:moveTo>
                  <a:pt x="17959" y="9376"/>
                </a:moveTo>
                <a:cubicBezTo>
                  <a:pt x="17793" y="9516"/>
                  <a:pt x="17386" y="9647"/>
                  <a:pt x="17512" y="9823"/>
                </a:cubicBezTo>
                <a:cubicBezTo>
                  <a:pt x="17529" y="9823"/>
                  <a:pt x="17545" y="9823"/>
                  <a:pt x="17562" y="9823"/>
                </a:cubicBezTo>
              </a:path>
              <a:path w="4044" h="993">
                <a:moveTo>
                  <a:pt x="18380" y="9302"/>
                </a:moveTo>
                <a:cubicBezTo>
                  <a:pt x="18405" y="9450"/>
                  <a:pt x="18414" y="9606"/>
                  <a:pt x="18455" y="9748"/>
                </a:cubicBezTo>
                <a:cubicBezTo>
                  <a:pt x="18463" y="9773"/>
                  <a:pt x="18471" y="9798"/>
                  <a:pt x="18479" y="9823"/>
                </a:cubicBezTo>
              </a:path>
              <a:path w="4044" h="993">
                <a:moveTo>
                  <a:pt x="18207" y="9525"/>
                </a:moveTo>
                <a:cubicBezTo>
                  <a:pt x="18295" y="9570"/>
                  <a:pt x="18424" y="9550"/>
                  <a:pt x="18529" y="9550"/>
                </a:cubicBezTo>
                <a:cubicBezTo>
                  <a:pt x="18562" y="9550"/>
                  <a:pt x="18595" y="9550"/>
                  <a:pt x="18628" y="9550"/>
                </a:cubicBezTo>
              </a:path>
              <a:path w="4044" h="993">
                <a:moveTo>
                  <a:pt x="18876" y="9252"/>
                </a:moveTo>
                <a:cubicBezTo>
                  <a:pt x="18959" y="9267"/>
                  <a:pt x="19089" y="9283"/>
                  <a:pt x="19124" y="9376"/>
                </a:cubicBezTo>
                <a:cubicBezTo>
                  <a:pt x="19140" y="9420"/>
                  <a:pt x="19109" y="9572"/>
                  <a:pt x="19075" y="9599"/>
                </a:cubicBezTo>
                <a:cubicBezTo>
                  <a:pt x="19037" y="9629"/>
                  <a:pt x="18975" y="9663"/>
                  <a:pt x="18926" y="9699"/>
                </a:cubicBezTo>
                <a:cubicBezTo>
                  <a:pt x="18937" y="9773"/>
                  <a:pt x="18977" y="9848"/>
                  <a:pt x="19075" y="9823"/>
                </a:cubicBezTo>
                <a:cubicBezTo>
                  <a:pt x="19164" y="9778"/>
                  <a:pt x="19187" y="9765"/>
                  <a:pt x="19248" y="9748"/>
                </a:cubicBezTo>
              </a:path>
              <a:path w="4044" h="993">
                <a:moveTo>
                  <a:pt x="19372" y="9079"/>
                </a:moveTo>
                <a:cubicBezTo>
                  <a:pt x="19424" y="9212"/>
                  <a:pt x="19466" y="9334"/>
                  <a:pt x="19496" y="9475"/>
                </a:cubicBezTo>
                <a:cubicBezTo>
                  <a:pt x="19530" y="9636"/>
                  <a:pt x="19502" y="9856"/>
                  <a:pt x="19372" y="9971"/>
                </a:cubicBezTo>
                <a:cubicBezTo>
                  <a:pt x="19316" y="9971"/>
                  <a:pt x="19295" y="9966"/>
                  <a:pt x="19273" y="9922"/>
                </a:cubicBezTo>
              </a:path>
              <a:path w="4044" h="993">
                <a:moveTo>
                  <a:pt x="19720" y="9252"/>
                </a:moveTo>
                <a:cubicBezTo>
                  <a:pt x="19613" y="9423"/>
                  <a:pt x="19443" y="9604"/>
                  <a:pt x="19521" y="9823"/>
                </a:cubicBezTo>
                <a:cubicBezTo>
                  <a:pt x="19563" y="9941"/>
                  <a:pt x="19719" y="9958"/>
                  <a:pt x="19819" y="9971"/>
                </a:cubicBezTo>
              </a:path>
              <a:path w="4044" h="993">
                <a:moveTo>
                  <a:pt x="20067" y="9376"/>
                </a:moveTo>
                <a:cubicBezTo>
                  <a:pt x="20125" y="9563"/>
                  <a:pt x="20170" y="9710"/>
                  <a:pt x="20315" y="9847"/>
                </a:cubicBezTo>
                <a:cubicBezTo>
                  <a:pt x="20405" y="9931"/>
                  <a:pt x="20478" y="9971"/>
                  <a:pt x="20588" y="9996"/>
                </a:cubicBezTo>
              </a:path>
              <a:path w="4044" h="993">
                <a:moveTo>
                  <a:pt x="20389" y="9451"/>
                </a:moveTo>
                <a:cubicBezTo>
                  <a:pt x="20255" y="9576"/>
                  <a:pt x="20001" y="9769"/>
                  <a:pt x="19943" y="9971"/>
                </a:cubicBezTo>
                <a:cubicBezTo>
                  <a:pt x="19951" y="9971"/>
                  <a:pt x="19960" y="9971"/>
                  <a:pt x="19968" y="9971"/>
                </a:cubicBezTo>
              </a:path>
              <a:path w="4044" h="993">
                <a:moveTo>
                  <a:pt x="20712" y="9401"/>
                </a:moveTo>
                <a:cubicBezTo>
                  <a:pt x="20750" y="9574"/>
                  <a:pt x="20786" y="9722"/>
                  <a:pt x="20786" y="9897"/>
                </a:cubicBezTo>
              </a:path>
              <a:path w="4044" h="993">
                <a:moveTo>
                  <a:pt x="20588" y="9624"/>
                </a:moveTo>
                <a:cubicBezTo>
                  <a:pt x="20702" y="9693"/>
                  <a:pt x="20818" y="9674"/>
                  <a:pt x="20960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nk 12"/>
          <p:cNvSpPr/>
          <p:nvPr/>
        </p:nvSpPr>
        <p:spPr>
          <a:xfrm>
            <a:off x="7715160" y="3303720"/>
            <a:ext cx="258840" cy="339480"/>
          </a:xfrm>
          <a:custGeom>
            <a:avLst/>
            <a:gdLst/>
            <a:ahLst/>
            <a:rect l="l" t="t" r="r" b="b"/>
            <a:pathLst>
              <a:path w="721" h="943">
                <a:moveTo>
                  <a:pt x="21456" y="9227"/>
                </a:moveTo>
                <a:cubicBezTo>
                  <a:pt x="21654" y="9352"/>
                  <a:pt x="21648" y="9334"/>
                  <a:pt x="21555" y="9525"/>
                </a:cubicBezTo>
                <a:cubicBezTo>
                  <a:pt x="21513" y="9612"/>
                  <a:pt x="21417" y="9621"/>
                  <a:pt x="21431" y="9748"/>
                </a:cubicBezTo>
                <a:cubicBezTo>
                  <a:pt x="21440" y="9828"/>
                  <a:pt x="21547" y="9919"/>
                  <a:pt x="21630" y="9897"/>
                </a:cubicBezTo>
                <a:cubicBezTo>
                  <a:pt x="21663" y="9880"/>
                  <a:pt x="21696" y="9864"/>
                  <a:pt x="21729" y="9847"/>
                </a:cubicBezTo>
              </a:path>
              <a:path w="721" h="943">
                <a:moveTo>
                  <a:pt x="22002" y="9178"/>
                </a:moveTo>
                <a:cubicBezTo>
                  <a:pt x="22091" y="9349"/>
                  <a:pt x="22144" y="9479"/>
                  <a:pt x="22151" y="9674"/>
                </a:cubicBezTo>
                <a:cubicBezTo>
                  <a:pt x="22158" y="9857"/>
                  <a:pt x="22082" y="9969"/>
                  <a:pt x="21927" y="10071"/>
                </a:cubicBezTo>
                <a:cubicBezTo>
                  <a:pt x="21894" y="10087"/>
                  <a:pt x="21861" y="10104"/>
                  <a:pt x="21828" y="10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nk 13"/>
          <p:cNvSpPr/>
          <p:nvPr/>
        </p:nvSpPr>
        <p:spPr>
          <a:xfrm>
            <a:off x="1054080" y="3652920"/>
            <a:ext cx="3205080" cy="652320"/>
          </a:xfrm>
          <a:custGeom>
            <a:avLst/>
            <a:gdLst/>
            <a:ahLst/>
            <a:rect l="l" t="t" r="r" b="b"/>
            <a:pathLst>
              <a:path w="8906" h="1812">
                <a:moveTo>
                  <a:pt x="3547" y="10716"/>
                </a:moveTo>
                <a:cubicBezTo>
                  <a:pt x="3523" y="10827"/>
                  <a:pt x="3522" y="10915"/>
                  <a:pt x="3497" y="10765"/>
                </a:cubicBezTo>
                <a:cubicBezTo>
                  <a:pt x="3485" y="10693"/>
                  <a:pt x="3472" y="10628"/>
                  <a:pt x="3448" y="10567"/>
                </a:cubicBezTo>
                <a:cubicBezTo>
                  <a:pt x="3417" y="10491"/>
                  <a:pt x="3397" y="10410"/>
                  <a:pt x="3299" y="10418"/>
                </a:cubicBezTo>
                <a:cubicBezTo>
                  <a:pt x="3182" y="10428"/>
                  <a:pt x="3147" y="10555"/>
                  <a:pt x="3101" y="10641"/>
                </a:cubicBezTo>
                <a:cubicBezTo>
                  <a:pt x="3058" y="10722"/>
                  <a:pt x="2986" y="10842"/>
                  <a:pt x="3001" y="10939"/>
                </a:cubicBezTo>
                <a:cubicBezTo>
                  <a:pt x="3017" y="11044"/>
                  <a:pt x="3124" y="11069"/>
                  <a:pt x="3200" y="11013"/>
                </a:cubicBezTo>
                <a:cubicBezTo>
                  <a:pt x="3267" y="10964"/>
                  <a:pt x="3277" y="10930"/>
                  <a:pt x="3324" y="10864"/>
                </a:cubicBezTo>
                <a:cubicBezTo>
                  <a:pt x="3352" y="10823"/>
                  <a:pt x="3375" y="10786"/>
                  <a:pt x="3398" y="10740"/>
                </a:cubicBezTo>
                <a:cubicBezTo>
                  <a:pt x="3398" y="10885"/>
                  <a:pt x="3412" y="11019"/>
                  <a:pt x="3423" y="11162"/>
                </a:cubicBezTo>
                <a:cubicBezTo>
                  <a:pt x="3437" y="11335"/>
                  <a:pt x="3440" y="11540"/>
                  <a:pt x="3398" y="11708"/>
                </a:cubicBezTo>
                <a:cubicBezTo>
                  <a:pt x="3376" y="11793"/>
                  <a:pt x="3318" y="11905"/>
                  <a:pt x="3225" y="11931"/>
                </a:cubicBezTo>
                <a:cubicBezTo>
                  <a:pt x="3140" y="11955"/>
                  <a:pt x="3026" y="11903"/>
                  <a:pt x="2977" y="11832"/>
                </a:cubicBezTo>
                <a:cubicBezTo>
                  <a:pt x="2950" y="11750"/>
                  <a:pt x="2939" y="11717"/>
                  <a:pt x="2927" y="11658"/>
                </a:cubicBezTo>
              </a:path>
              <a:path w="8906" h="1812">
                <a:moveTo>
                  <a:pt x="3969" y="10145"/>
                </a:moveTo>
                <a:cubicBezTo>
                  <a:pt x="3989" y="10217"/>
                  <a:pt x="3955" y="10263"/>
                  <a:pt x="3919" y="10344"/>
                </a:cubicBezTo>
                <a:cubicBezTo>
                  <a:pt x="3856" y="10485"/>
                  <a:pt x="3803" y="10615"/>
                  <a:pt x="3795" y="10765"/>
                </a:cubicBezTo>
                <a:cubicBezTo>
                  <a:pt x="3788" y="10888"/>
                  <a:pt x="3802" y="11030"/>
                  <a:pt x="3870" y="11137"/>
                </a:cubicBezTo>
                <a:cubicBezTo>
                  <a:pt x="3898" y="11166"/>
                  <a:pt x="3911" y="11174"/>
                  <a:pt x="3944" y="11162"/>
                </a:cubicBezTo>
              </a:path>
              <a:path w="8906" h="1812">
                <a:moveTo>
                  <a:pt x="4440" y="10269"/>
                </a:moveTo>
                <a:cubicBezTo>
                  <a:pt x="4299" y="10340"/>
                  <a:pt x="4212" y="10371"/>
                  <a:pt x="4142" y="10517"/>
                </a:cubicBezTo>
                <a:cubicBezTo>
                  <a:pt x="4093" y="10619"/>
                  <a:pt x="4090" y="10734"/>
                  <a:pt x="4118" y="10840"/>
                </a:cubicBezTo>
                <a:cubicBezTo>
                  <a:pt x="4131" y="10890"/>
                  <a:pt x="4163" y="10977"/>
                  <a:pt x="4192" y="11013"/>
                </a:cubicBezTo>
                <a:cubicBezTo>
                  <a:pt x="4200" y="11021"/>
                  <a:pt x="4209" y="11030"/>
                  <a:pt x="4217" y="11038"/>
                </a:cubicBezTo>
              </a:path>
              <a:path w="8906" h="1812">
                <a:moveTo>
                  <a:pt x="4118" y="10765"/>
                </a:moveTo>
                <a:cubicBezTo>
                  <a:pt x="4189" y="10808"/>
                  <a:pt x="4278" y="10812"/>
                  <a:pt x="4366" y="10815"/>
                </a:cubicBezTo>
                <a:cubicBezTo>
                  <a:pt x="4391" y="10815"/>
                  <a:pt x="4415" y="10815"/>
                  <a:pt x="4440" y="10815"/>
                </a:cubicBezTo>
              </a:path>
              <a:path w="8906" h="1812">
                <a:moveTo>
                  <a:pt x="4936" y="10418"/>
                </a:moveTo>
                <a:cubicBezTo>
                  <a:pt x="4848" y="10494"/>
                  <a:pt x="4739" y="10594"/>
                  <a:pt x="4713" y="10716"/>
                </a:cubicBezTo>
                <a:cubicBezTo>
                  <a:pt x="4688" y="10833"/>
                  <a:pt x="4698" y="10905"/>
                  <a:pt x="4738" y="11013"/>
                </a:cubicBezTo>
                <a:cubicBezTo>
                  <a:pt x="4775" y="11114"/>
                  <a:pt x="4786" y="11101"/>
                  <a:pt x="4887" y="11137"/>
                </a:cubicBezTo>
              </a:path>
              <a:path w="8906" h="1812">
                <a:moveTo>
                  <a:pt x="5035" y="10740"/>
                </a:moveTo>
                <a:cubicBezTo>
                  <a:pt x="5083" y="10836"/>
                  <a:pt x="5124" y="10943"/>
                  <a:pt x="5209" y="11013"/>
                </a:cubicBezTo>
                <a:cubicBezTo>
                  <a:pt x="5276" y="11068"/>
                  <a:pt x="5330" y="11102"/>
                  <a:pt x="5407" y="11137"/>
                </a:cubicBezTo>
              </a:path>
              <a:path w="8906" h="1812">
                <a:moveTo>
                  <a:pt x="5358" y="10641"/>
                </a:moveTo>
                <a:cubicBezTo>
                  <a:pt x="5255" y="10744"/>
                  <a:pt x="5149" y="10849"/>
                  <a:pt x="5060" y="10964"/>
                </a:cubicBezTo>
                <a:cubicBezTo>
                  <a:pt x="5032" y="11001"/>
                  <a:pt x="4933" y="11131"/>
                  <a:pt x="4961" y="11187"/>
                </a:cubicBezTo>
                <a:cubicBezTo>
                  <a:pt x="4969" y="11187"/>
                  <a:pt x="4978" y="11187"/>
                  <a:pt x="4986" y="11187"/>
                </a:cubicBezTo>
              </a:path>
              <a:path w="8906" h="1812">
                <a:moveTo>
                  <a:pt x="5407" y="10269"/>
                </a:moveTo>
                <a:cubicBezTo>
                  <a:pt x="5511" y="10363"/>
                  <a:pt x="5595" y="10446"/>
                  <a:pt x="5631" y="10592"/>
                </a:cubicBezTo>
                <a:cubicBezTo>
                  <a:pt x="5667" y="10738"/>
                  <a:pt x="5704" y="10937"/>
                  <a:pt x="5680" y="11088"/>
                </a:cubicBezTo>
                <a:cubicBezTo>
                  <a:pt x="5678" y="11098"/>
                  <a:pt x="5591" y="11319"/>
                  <a:pt x="5581" y="11311"/>
                </a:cubicBezTo>
                <a:cubicBezTo>
                  <a:pt x="5581" y="11294"/>
                  <a:pt x="5581" y="11278"/>
                  <a:pt x="5581" y="11261"/>
                </a:cubicBezTo>
              </a:path>
              <a:path w="8906" h="1812">
                <a:moveTo>
                  <a:pt x="5904" y="10195"/>
                </a:moveTo>
                <a:cubicBezTo>
                  <a:pt x="5959" y="10374"/>
                  <a:pt x="6036" y="10551"/>
                  <a:pt x="6052" y="10740"/>
                </a:cubicBezTo>
                <a:cubicBezTo>
                  <a:pt x="6065" y="10894"/>
                  <a:pt x="6049" y="10982"/>
                  <a:pt x="5978" y="11112"/>
                </a:cubicBezTo>
                <a:cubicBezTo>
                  <a:pt x="5950" y="11163"/>
                  <a:pt x="5922" y="11231"/>
                  <a:pt x="5904" y="11212"/>
                </a:cubicBezTo>
              </a:path>
              <a:path w="8906" h="1812">
                <a:moveTo>
                  <a:pt x="6375" y="10864"/>
                </a:moveTo>
                <a:cubicBezTo>
                  <a:pt x="6480" y="10894"/>
                  <a:pt x="6608" y="10905"/>
                  <a:pt x="6697" y="10964"/>
                </a:cubicBezTo>
              </a:path>
              <a:path w="8906" h="1812">
                <a:moveTo>
                  <a:pt x="6325" y="11038"/>
                </a:moveTo>
                <a:cubicBezTo>
                  <a:pt x="6422" y="11087"/>
                  <a:pt x="6477" y="11136"/>
                  <a:pt x="6573" y="11112"/>
                </a:cubicBezTo>
              </a:path>
              <a:path w="8906" h="1812">
                <a:moveTo>
                  <a:pt x="7342" y="10567"/>
                </a:moveTo>
                <a:cubicBezTo>
                  <a:pt x="7310" y="10641"/>
                  <a:pt x="7304" y="10731"/>
                  <a:pt x="7268" y="10815"/>
                </a:cubicBezTo>
                <a:cubicBezTo>
                  <a:pt x="7236" y="10890"/>
                  <a:pt x="7205" y="10965"/>
                  <a:pt x="7169" y="11038"/>
                </a:cubicBezTo>
                <a:cubicBezTo>
                  <a:pt x="7144" y="11088"/>
                  <a:pt x="7136" y="11104"/>
                  <a:pt x="7119" y="11137"/>
                </a:cubicBezTo>
                <a:cubicBezTo>
                  <a:pt x="7171" y="11179"/>
                  <a:pt x="7225" y="11223"/>
                  <a:pt x="7293" y="11237"/>
                </a:cubicBezTo>
                <a:cubicBezTo>
                  <a:pt x="7382" y="11255"/>
                  <a:pt x="7455" y="11273"/>
                  <a:pt x="7541" y="11237"/>
                </a:cubicBezTo>
                <a:cubicBezTo>
                  <a:pt x="7557" y="11229"/>
                  <a:pt x="7574" y="11220"/>
                  <a:pt x="7590" y="11212"/>
                </a:cubicBezTo>
              </a:path>
              <a:path w="8906" h="1812">
                <a:moveTo>
                  <a:pt x="7615" y="10492"/>
                </a:moveTo>
                <a:cubicBezTo>
                  <a:pt x="7615" y="10685"/>
                  <a:pt x="7604" y="10873"/>
                  <a:pt x="7590" y="11063"/>
                </a:cubicBezTo>
                <a:cubicBezTo>
                  <a:pt x="7575" y="11269"/>
                  <a:pt x="7589" y="11483"/>
                  <a:pt x="7615" y="11683"/>
                </a:cubicBezTo>
                <a:cubicBezTo>
                  <a:pt x="7623" y="11742"/>
                  <a:pt x="7600" y="11756"/>
                  <a:pt x="7640" y="11782"/>
                </a:cubicBezTo>
              </a:path>
              <a:path w="8906" h="1812">
                <a:moveTo>
                  <a:pt x="7813" y="11237"/>
                </a:moveTo>
                <a:cubicBezTo>
                  <a:pt x="7933" y="11237"/>
                  <a:pt x="8045" y="11251"/>
                  <a:pt x="8161" y="11261"/>
                </a:cubicBezTo>
                <a:cubicBezTo>
                  <a:pt x="8269" y="11270"/>
                  <a:pt x="8377" y="11282"/>
                  <a:pt x="8483" y="11286"/>
                </a:cubicBezTo>
                <a:cubicBezTo>
                  <a:pt x="8551" y="11286"/>
                  <a:pt x="8570" y="11289"/>
                  <a:pt x="8607" y="11261"/>
                </a:cubicBezTo>
              </a:path>
              <a:path w="8906" h="1812">
                <a:moveTo>
                  <a:pt x="9079" y="10592"/>
                </a:moveTo>
                <a:cubicBezTo>
                  <a:pt x="9010" y="10704"/>
                  <a:pt x="8913" y="10820"/>
                  <a:pt x="8855" y="10939"/>
                </a:cubicBezTo>
                <a:cubicBezTo>
                  <a:pt x="8801" y="11051"/>
                  <a:pt x="8784" y="11189"/>
                  <a:pt x="8781" y="11311"/>
                </a:cubicBezTo>
                <a:cubicBezTo>
                  <a:pt x="8777" y="11440"/>
                  <a:pt x="8823" y="11570"/>
                  <a:pt x="8880" y="11683"/>
                </a:cubicBezTo>
                <a:cubicBezTo>
                  <a:pt x="8978" y="11877"/>
                  <a:pt x="9037" y="11885"/>
                  <a:pt x="9203" y="11807"/>
                </a:cubicBezTo>
              </a:path>
              <a:path w="8906" h="1812">
                <a:moveTo>
                  <a:pt x="9203" y="11063"/>
                </a:moveTo>
                <a:cubicBezTo>
                  <a:pt x="9227" y="11160"/>
                  <a:pt x="9287" y="11203"/>
                  <a:pt x="9351" y="11286"/>
                </a:cubicBezTo>
                <a:cubicBezTo>
                  <a:pt x="9438" y="11399"/>
                  <a:pt x="9537" y="11518"/>
                  <a:pt x="9649" y="11609"/>
                </a:cubicBezTo>
                <a:cubicBezTo>
                  <a:pt x="9730" y="11675"/>
                  <a:pt x="9801" y="11701"/>
                  <a:pt x="9897" y="11733"/>
                </a:cubicBezTo>
              </a:path>
              <a:path w="8906" h="1812">
                <a:moveTo>
                  <a:pt x="9624" y="11063"/>
                </a:moveTo>
                <a:cubicBezTo>
                  <a:pt x="9498" y="11182"/>
                  <a:pt x="9438" y="11246"/>
                  <a:pt x="9351" y="11385"/>
                </a:cubicBezTo>
                <a:cubicBezTo>
                  <a:pt x="9318" y="11437"/>
                  <a:pt x="9256" y="11566"/>
                  <a:pt x="9277" y="11633"/>
                </a:cubicBezTo>
                <a:cubicBezTo>
                  <a:pt x="9285" y="11641"/>
                  <a:pt x="9294" y="11650"/>
                  <a:pt x="9302" y="11658"/>
                </a:cubicBezTo>
              </a:path>
              <a:path w="8906" h="1812">
                <a:moveTo>
                  <a:pt x="9897" y="11038"/>
                </a:moveTo>
                <a:cubicBezTo>
                  <a:pt x="9897" y="11222"/>
                  <a:pt x="9889" y="11302"/>
                  <a:pt x="9947" y="11460"/>
                </a:cubicBezTo>
                <a:cubicBezTo>
                  <a:pt x="9967" y="11521"/>
                  <a:pt x="9965" y="11535"/>
                  <a:pt x="9996" y="11559"/>
                </a:cubicBezTo>
              </a:path>
              <a:path w="8906" h="1812">
                <a:moveTo>
                  <a:pt x="9798" y="11336"/>
                </a:moveTo>
                <a:cubicBezTo>
                  <a:pt x="9893" y="11319"/>
                  <a:pt x="9971" y="11355"/>
                  <a:pt x="10071" y="11336"/>
                </a:cubicBezTo>
                <a:cubicBezTo>
                  <a:pt x="10096" y="11328"/>
                  <a:pt x="10120" y="11319"/>
                  <a:pt x="10145" y="11311"/>
                </a:cubicBezTo>
              </a:path>
              <a:path w="8906" h="1812">
                <a:moveTo>
                  <a:pt x="10443" y="10840"/>
                </a:moveTo>
                <a:cubicBezTo>
                  <a:pt x="10561" y="10864"/>
                  <a:pt x="10729" y="10863"/>
                  <a:pt x="10691" y="11038"/>
                </a:cubicBezTo>
                <a:cubicBezTo>
                  <a:pt x="10672" y="11126"/>
                  <a:pt x="10603" y="11159"/>
                  <a:pt x="10542" y="11212"/>
                </a:cubicBezTo>
                <a:cubicBezTo>
                  <a:pt x="10480" y="11266"/>
                  <a:pt x="10426" y="11319"/>
                  <a:pt x="10443" y="11410"/>
                </a:cubicBezTo>
                <a:cubicBezTo>
                  <a:pt x="10460" y="11499"/>
                  <a:pt x="10569" y="11556"/>
                  <a:pt x="10641" y="11584"/>
                </a:cubicBezTo>
                <a:cubicBezTo>
                  <a:pt x="10747" y="11625"/>
                  <a:pt x="10744" y="11612"/>
                  <a:pt x="10840" y="11559"/>
                </a:cubicBezTo>
              </a:path>
              <a:path w="8906" h="1812">
                <a:moveTo>
                  <a:pt x="10964" y="10592"/>
                </a:moveTo>
                <a:cubicBezTo>
                  <a:pt x="11030" y="10741"/>
                  <a:pt x="11099" y="10870"/>
                  <a:pt x="11112" y="11038"/>
                </a:cubicBezTo>
                <a:cubicBezTo>
                  <a:pt x="11126" y="11212"/>
                  <a:pt x="11148" y="11466"/>
                  <a:pt x="11088" y="11633"/>
                </a:cubicBezTo>
                <a:cubicBezTo>
                  <a:pt x="11050" y="11739"/>
                  <a:pt x="10997" y="11828"/>
                  <a:pt x="10939" y="11906"/>
                </a:cubicBezTo>
                <a:cubicBezTo>
                  <a:pt x="10899" y="11960"/>
                  <a:pt x="10905" y="11969"/>
                  <a:pt x="10889" y="11906"/>
                </a:cubicBezTo>
              </a:path>
              <a:path w="8906" h="1812">
                <a:moveTo>
                  <a:pt x="11237" y="10443"/>
                </a:moveTo>
                <a:cubicBezTo>
                  <a:pt x="11355" y="10425"/>
                  <a:pt x="11545" y="10375"/>
                  <a:pt x="11559" y="10567"/>
                </a:cubicBezTo>
                <a:cubicBezTo>
                  <a:pt x="11565" y="10654"/>
                  <a:pt x="11516" y="10718"/>
                  <a:pt x="11460" y="10765"/>
                </a:cubicBezTo>
                <a:cubicBezTo>
                  <a:pt x="11409" y="10808"/>
                  <a:pt x="11397" y="10844"/>
                  <a:pt x="11460" y="10889"/>
                </a:cubicBezTo>
                <a:cubicBezTo>
                  <a:pt x="11512" y="10927"/>
                  <a:pt x="11643" y="10981"/>
                  <a:pt x="11708" y="10964"/>
                </a:cubicBezTo>
                <a:cubicBezTo>
                  <a:pt x="11749" y="10947"/>
                  <a:pt x="11791" y="10931"/>
                  <a:pt x="11832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nk 14"/>
          <p:cNvSpPr/>
          <p:nvPr/>
        </p:nvSpPr>
        <p:spPr>
          <a:xfrm>
            <a:off x="6456240" y="3732120"/>
            <a:ext cx="1724040" cy="366840"/>
          </a:xfrm>
          <a:custGeom>
            <a:avLst/>
            <a:gdLst/>
            <a:ahLst/>
            <a:rect l="l" t="t" r="r" b="b"/>
            <a:pathLst>
              <a:path w="4788" h="1018">
                <a:moveTo>
                  <a:pt x="18033" y="10765"/>
                </a:moveTo>
                <a:cubicBezTo>
                  <a:pt x="18055" y="10899"/>
                  <a:pt x="18136" y="11005"/>
                  <a:pt x="18231" y="11112"/>
                </a:cubicBezTo>
                <a:cubicBezTo>
                  <a:pt x="18327" y="11220"/>
                  <a:pt x="18480" y="11334"/>
                  <a:pt x="18628" y="11361"/>
                </a:cubicBezTo>
                <a:cubicBezTo>
                  <a:pt x="18653" y="11361"/>
                  <a:pt x="18678" y="11361"/>
                  <a:pt x="18703" y="11361"/>
                </a:cubicBezTo>
              </a:path>
              <a:path w="4788" h="1018">
                <a:moveTo>
                  <a:pt x="18306" y="10790"/>
                </a:moveTo>
                <a:cubicBezTo>
                  <a:pt x="18185" y="10991"/>
                  <a:pt x="17700" y="11367"/>
                  <a:pt x="17934" y="11385"/>
                </a:cubicBezTo>
                <a:cubicBezTo>
                  <a:pt x="17942" y="11377"/>
                  <a:pt x="17951" y="11369"/>
                  <a:pt x="17959" y="11361"/>
                </a:cubicBezTo>
              </a:path>
              <a:path w="4788" h="1018">
                <a:moveTo>
                  <a:pt x="18479" y="10368"/>
                </a:moveTo>
                <a:cubicBezTo>
                  <a:pt x="18618" y="10381"/>
                  <a:pt x="18784" y="10379"/>
                  <a:pt x="18802" y="10567"/>
                </a:cubicBezTo>
                <a:cubicBezTo>
                  <a:pt x="18809" y="10640"/>
                  <a:pt x="18732" y="10735"/>
                  <a:pt x="18728" y="10815"/>
                </a:cubicBezTo>
                <a:cubicBezTo>
                  <a:pt x="18724" y="10906"/>
                  <a:pt x="18819" y="10869"/>
                  <a:pt x="18876" y="10864"/>
                </a:cubicBezTo>
                <a:cubicBezTo>
                  <a:pt x="18901" y="10864"/>
                  <a:pt x="18926" y="10864"/>
                  <a:pt x="18951" y="10864"/>
                </a:cubicBezTo>
              </a:path>
              <a:path w="4788" h="1018">
                <a:moveTo>
                  <a:pt x="19124" y="10840"/>
                </a:moveTo>
                <a:cubicBezTo>
                  <a:pt x="19130" y="10989"/>
                  <a:pt x="19132" y="11104"/>
                  <a:pt x="19199" y="11237"/>
                </a:cubicBezTo>
              </a:path>
              <a:path w="4788" h="1018">
                <a:moveTo>
                  <a:pt x="18976" y="11013"/>
                </a:moveTo>
                <a:cubicBezTo>
                  <a:pt x="19139" y="11077"/>
                  <a:pt x="19182" y="11089"/>
                  <a:pt x="19348" y="11038"/>
                </a:cubicBezTo>
              </a:path>
              <a:path w="4788" h="1018">
                <a:moveTo>
                  <a:pt x="19794" y="10641"/>
                </a:moveTo>
                <a:cubicBezTo>
                  <a:pt x="19881" y="10717"/>
                  <a:pt x="19995" y="10766"/>
                  <a:pt x="19918" y="10889"/>
                </a:cubicBezTo>
                <a:cubicBezTo>
                  <a:pt x="19871" y="10964"/>
                  <a:pt x="19732" y="10974"/>
                  <a:pt x="19695" y="11063"/>
                </a:cubicBezTo>
                <a:cubicBezTo>
                  <a:pt x="19657" y="11154"/>
                  <a:pt x="19765" y="11240"/>
                  <a:pt x="19844" y="11237"/>
                </a:cubicBezTo>
                <a:cubicBezTo>
                  <a:pt x="19869" y="11229"/>
                  <a:pt x="19893" y="11220"/>
                  <a:pt x="19918" y="11212"/>
                </a:cubicBezTo>
              </a:path>
              <a:path w="4788" h="1018">
                <a:moveTo>
                  <a:pt x="20067" y="10815"/>
                </a:moveTo>
                <a:cubicBezTo>
                  <a:pt x="20117" y="10943"/>
                  <a:pt x="20156" y="11077"/>
                  <a:pt x="20241" y="11187"/>
                </a:cubicBezTo>
                <a:cubicBezTo>
                  <a:pt x="20295" y="11242"/>
                  <a:pt x="20316" y="11262"/>
                  <a:pt x="20365" y="11286"/>
                </a:cubicBezTo>
              </a:path>
              <a:path w="4788" h="1018">
                <a:moveTo>
                  <a:pt x="20365" y="10815"/>
                </a:moveTo>
                <a:cubicBezTo>
                  <a:pt x="20171" y="10931"/>
                  <a:pt x="20078" y="10975"/>
                  <a:pt x="19968" y="11162"/>
                </a:cubicBezTo>
                <a:cubicBezTo>
                  <a:pt x="19960" y="11179"/>
                  <a:pt x="19951" y="11195"/>
                  <a:pt x="19943" y="11212"/>
                </a:cubicBezTo>
              </a:path>
              <a:path w="4788" h="1018">
                <a:moveTo>
                  <a:pt x="20513" y="10740"/>
                </a:moveTo>
                <a:cubicBezTo>
                  <a:pt x="20538" y="10854"/>
                  <a:pt x="20563" y="10947"/>
                  <a:pt x="20563" y="11063"/>
                </a:cubicBezTo>
                <a:cubicBezTo>
                  <a:pt x="20563" y="11104"/>
                  <a:pt x="20563" y="11112"/>
                  <a:pt x="20563" y="11137"/>
                </a:cubicBezTo>
              </a:path>
              <a:path w="4788" h="1018">
                <a:moveTo>
                  <a:pt x="20365" y="10914"/>
                </a:moveTo>
                <a:cubicBezTo>
                  <a:pt x="20483" y="10922"/>
                  <a:pt x="20574" y="10948"/>
                  <a:pt x="20687" y="10914"/>
                </a:cubicBezTo>
              </a:path>
              <a:path w="4788" h="1018">
                <a:moveTo>
                  <a:pt x="20960" y="10567"/>
                </a:moveTo>
                <a:cubicBezTo>
                  <a:pt x="21073" y="10588"/>
                  <a:pt x="21193" y="10604"/>
                  <a:pt x="21208" y="10740"/>
                </a:cubicBezTo>
                <a:cubicBezTo>
                  <a:pt x="21217" y="10822"/>
                  <a:pt x="21161" y="10862"/>
                  <a:pt x="21109" y="10914"/>
                </a:cubicBezTo>
                <a:cubicBezTo>
                  <a:pt x="21048" y="10976"/>
                  <a:pt x="20990" y="10978"/>
                  <a:pt x="21010" y="11088"/>
                </a:cubicBezTo>
                <a:cubicBezTo>
                  <a:pt x="21022" y="11151"/>
                  <a:pt x="21085" y="11163"/>
                  <a:pt x="21134" y="11187"/>
                </a:cubicBezTo>
              </a:path>
              <a:path w="4788" h="1018">
                <a:moveTo>
                  <a:pt x="21431" y="10864"/>
                </a:moveTo>
                <a:cubicBezTo>
                  <a:pt x="21486" y="10960"/>
                  <a:pt x="21547" y="11043"/>
                  <a:pt x="21605" y="11137"/>
                </a:cubicBezTo>
                <a:cubicBezTo>
                  <a:pt x="21648" y="11203"/>
                  <a:pt x="21654" y="11223"/>
                  <a:pt x="21704" y="11237"/>
                </a:cubicBezTo>
              </a:path>
              <a:path w="4788" h="1018">
                <a:moveTo>
                  <a:pt x="21654" y="10840"/>
                </a:moveTo>
                <a:cubicBezTo>
                  <a:pt x="21528" y="10884"/>
                  <a:pt x="21405" y="10963"/>
                  <a:pt x="21332" y="11088"/>
                </a:cubicBezTo>
                <a:cubicBezTo>
                  <a:pt x="21293" y="11186"/>
                  <a:pt x="21276" y="11199"/>
                  <a:pt x="21282" y="11261"/>
                </a:cubicBezTo>
              </a:path>
              <a:path w="4788" h="1018">
                <a:moveTo>
                  <a:pt x="21927" y="10740"/>
                </a:moveTo>
                <a:cubicBezTo>
                  <a:pt x="21927" y="10887"/>
                  <a:pt x="21906" y="11050"/>
                  <a:pt x="21952" y="11187"/>
                </a:cubicBezTo>
              </a:path>
              <a:path w="4788" h="1018">
                <a:moveTo>
                  <a:pt x="21828" y="10939"/>
                </a:moveTo>
                <a:cubicBezTo>
                  <a:pt x="21938" y="10948"/>
                  <a:pt x="22038" y="10964"/>
                  <a:pt x="22151" y="10964"/>
                </a:cubicBezTo>
              </a:path>
              <a:path w="4788" h="1018">
                <a:moveTo>
                  <a:pt x="22448" y="10716"/>
                </a:moveTo>
                <a:cubicBezTo>
                  <a:pt x="22363" y="10792"/>
                  <a:pt x="22323" y="10825"/>
                  <a:pt x="22374" y="10939"/>
                </a:cubicBezTo>
                <a:cubicBezTo>
                  <a:pt x="22406" y="11009"/>
                  <a:pt x="22429" y="11004"/>
                  <a:pt x="22498" y="11013"/>
                </a:cubicBezTo>
              </a:path>
              <a:path w="4788" h="1018">
                <a:moveTo>
                  <a:pt x="22721" y="10567"/>
                </a:moveTo>
                <a:cubicBezTo>
                  <a:pt x="22613" y="10827"/>
                  <a:pt x="22551" y="10998"/>
                  <a:pt x="2249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k 15"/>
          <p:cNvSpPr/>
          <p:nvPr/>
        </p:nvSpPr>
        <p:spPr>
          <a:xfrm>
            <a:off x="7010280" y="4249800"/>
            <a:ext cx="1204920" cy="44748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19472" y="12005"/>
                </a:moveTo>
                <a:cubicBezTo>
                  <a:pt x="19498" y="12192"/>
                  <a:pt x="19566" y="12320"/>
                  <a:pt x="19670" y="12477"/>
                </a:cubicBezTo>
                <a:cubicBezTo>
                  <a:pt x="19775" y="12635"/>
                  <a:pt x="19878" y="12760"/>
                  <a:pt x="20042" y="12849"/>
                </a:cubicBezTo>
              </a:path>
              <a:path w="3349" h="1241">
                <a:moveTo>
                  <a:pt x="19819" y="12055"/>
                </a:moveTo>
                <a:cubicBezTo>
                  <a:pt x="19745" y="12204"/>
                  <a:pt x="19645" y="12366"/>
                  <a:pt x="19596" y="12526"/>
                </a:cubicBezTo>
                <a:cubicBezTo>
                  <a:pt x="19568" y="12615"/>
                  <a:pt x="19559" y="12689"/>
                  <a:pt x="19521" y="12774"/>
                </a:cubicBezTo>
              </a:path>
              <a:path w="3349" h="1241">
                <a:moveTo>
                  <a:pt x="19968" y="11832"/>
                </a:moveTo>
                <a:cubicBezTo>
                  <a:pt x="20052" y="11868"/>
                  <a:pt x="20276" y="11900"/>
                  <a:pt x="20216" y="12055"/>
                </a:cubicBezTo>
                <a:cubicBezTo>
                  <a:pt x="20195" y="12110"/>
                  <a:pt x="20088" y="12099"/>
                  <a:pt x="20092" y="12179"/>
                </a:cubicBezTo>
                <a:cubicBezTo>
                  <a:pt x="20098" y="12316"/>
                  <a:pt x="20244" y="12290"/>
                  <a:pt x="20340" y="12303"/>
                </a:cubicBezTo>
              </a:path>
              <a:path w="3349" h="1241">
                <a:moveTo>
                  <a:pt x="20638" y="12105"/>
                </a:moveTo>
                <a:cubicBezTo>
                  <a:pt x="20602" y="12359"/>
                  <a:pt x="20593" y="12324"/>
                  <a:pt x="20613" y="12502"/>
                </a:cubicBezTo>
              </a:path>
              <a:path w="3349" h="1241">
                <a:moveTo>
                  <a:pt x="20414" y="12204"/>
                </a:moveTo>
                <a:cubicBezTo>
                  <a:pt x="20547" y="12245"/>
                  <a:pt x="20628" y="12271"/>
                  <a:pt x="20762" y="12254"/>
                </a:cubicBezTo>
              </a:path>
              <a:path w="3349" h="1241">
                <a:moveTo>
                  <a:pt x="21034" y="11981"/>
                </a:moveTo>
                <a:cubicBezTo>
                  <a:pt x="20997" y="12069"/>
                  <a:pt x="20947" y="12161"/>
                  <a:pt x="21010" y="12254"/>
                </a:cubicBezTo>
                <a:cubicBezTo>
                  <a:pt x="21067" y="12338"/>
                  <a:pt x="21115" y="12353"/>
                  <a:pt x="21208" y="12353"/>
                </a:cubicBezTo>
              </a:path>
              <a:path w="3349" h="1241">
                <a:moveTo>
                  <a:pt x="21382" y="11857"/>
                </a:moveTo>
                <a:cubicBezTo>
                  <a:pt x="21307" y="11995"/>
                  <a:pt x="21288" y="12122"/>
                  <a:pt x="21258" y="12278"/>
                </a:cubicBezTo>
                <a:cubicBezTo>
                  <a:pt x="21233" y="12410"/>
                  <a:pt x="21225" y="12545"/>
                  <a:pt x="21208" y="12675"/>
                </a:cubicBezTo>
                <a:cubicBezTo>
                  <a:pt x="21208" y="12720"/>
                  <a:pt x="21205" y="12733"/>
                  <a:pt x="21233" y="12750"/>
                </a:cubicBezTo>
              </a:path>
              <a:path w="3349" h="1241">
                <a:moveTo>
                  <a:pt x="21406" y="12229"/>
                </a:moveTo>
                <a:cubicBezTo>
                  <a:pt x="21501" y="12306"/>
                  <a:pt x="21569" y="12393"/>
                  <a:pt x="21630" y="12502"/>
                </a:cubicBezTo>
                <a:cubicBezTo>
                  <a:pt x="21701" y="12629"/>
                  <a:pt x="21707" y="12647"/>
                  <a:pt x="21828" y="12725"/>
                </a:cubicBezTo>
              </a:path>
              <a:path w="3349" h="1241">
                <a:moveTo>
                  <a:pt x="21803" y="12154"/>
                </a:moveTo>
                <a:cubicBezTo>
                  <a:pt x="21672" y="12312"/>
                  <a:pt x="21606" y="12430"/>
                  <a:pt x="21506" y="12601"/>
                </a:cubicBezTo>
                <a:cubicBezTo>
                  <a:pt x="21462" y="12676"/>
                  <a:pt x="21441" y="12693"/>
                  <a:pt x="21431" y="12774"/>
                </a:cubicBezTo>
              </a:path>
              <a:path w="3349" h="1241">
                <a:moveTo>
                  <a:pt x="21977" y="12030"/>
                </a:moveTo>
                <a:cubicBezTo>
                  <a:pt x="22016" y="12108"/>
                  <a:pt x="22002" y="12209"/>
                  <a:pt x="22002" y="12303"/>
                </a:cubicBezTo>
                <a:cubicBezTo>
                  <a:pt x="22002" y="12416"/>
                  <a:pt x="22012" y="12521"/>
                  <a:pt x="21977" y="12626"/>
                </a:cubicBezTo>
              </a:path>
              <a:path w="3349" h="1241">
                <a:moveTo>
                  <a:pt x="21853" y="12278"/>
                </a:moveTo>
                <a:cubicBezTo>
                  <a:pt x="22045" y="12349"/>
                  <a:pt x="22119" y="12354"/>
                  <a:pt x="22324" y="12328"/>
                </a:cubicBezTo>
              </a:path>
              <a:path w="3349" h="1241">
                <a:moveTo>
                  <a:pt x="22473" y="11981"/>
                </a:moveTo>
                <a:cubicBezTo>
                  <a:pt x="22385" y="12024"/>
                  <a:pt x="22351" y="12037"/>
                  <a:pt x="22399" y="12129"/>
                </a:cubicBezTo>
                <a:cubicBezTo>
                  <a:pt x="22435" y="12198"/>
                  <a:pt x="22458" y="12263"/>
                  <a:pt x="22547" y="12278"/>
                </a:cubicBezTo>
                <a:cubicBezTo>
                  <a:pt x="22572" y="12278"/>
                  <a:pt x="22597" y="12278"/>
                  <a:pt x="22622" y="12278"/>
                </a:cubicBezTo>
              </a:path>
              <a:path w="3349" h="1241">
                <a:moveTo>
                  <a:pt x="22820" y="11807"/>
                </a:moveTo>
                <a:cubicBezTo>
                  <a:pt x="22730" y="12042"/>
                  <a:pt x="22724" y="12227"/>
                  <a:pt x="22696" y="12477"/>
                </a:cubicBezTo>
                <a:cubicBezTo>
                  <a:pt x="22674" y="12672"/>
                  <a:pt x="22635" y="12852"/>
                  <a:pt x="22622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k 16"/>
          <p:cNvSpPr/>
          <p:nvPr/>
        </p:nvSpPr>
        <p:spPr>
          <a:xfrm>
            <a:off x="2330280" y="4321080"/>
            <a:ext cx="2313000" cy="662040"/>
          </a:xfrm>
          <a:custGeom>
            <a:avLst/>
            <a:gdLst/>
            <a:ahLst/>
            <a:rect l="l" t="t" r="r" b="b"/>
            <a:pathLst>
              <a:path w="6425" h="1837">
                <a:moveTo>
                  <a:pt x="6474" y="12278"/>
                </a:moveTo>
                <a:cubicBezTo>
                  <a:pt x="6581" y="12244"/>
                  <a:pt x="6640" y="12267"/>
                  <a:pt x="6747" y="12303"/>
                </a:cubicBezTo>
                <a:cubicBezTo>
                  <a:pt x="6812" y="12325"/>
                  <a:pt x="6867" y="12326"/>
                  <a:pt x="6921" y="12353"/>
                </a:cubicBezTo>
              </a:path>
              <a:path w="6425" h="1837">
                <a:moveTo>
                  <a:pt x="6648" y="12502"/>
                </a:moveTo>
                <a:cubicBezTo>
                  <a:pt x="6687" y="12572"/>
                  <a:pt x="6733" y="12616"/>
                  <a:pt x="6821" y="12626"/>
                </a:cubicBezTo>
                <a:cubicBezTo>
                  <a:pt x="6862" y="12626"/>
                  <a:pt x="6904" y="12626"/>
                  <a:pt x="6945" y="12626"/>
                </a:cubicBezTo>
              </a:path>
              <a:path w="6425" h="1837">
                <a:moveTo>
                  <a:pt x="7392" y="12129"/>
                </a:moveTo>
                <a:cubicBezTo>
                  <a:pt x="7387" y="12217"/>
                  <a:pt x="7313" y="12295"/>
                  <a:pt x="7342" y="12378"/>
                </a:cubicBezTo>
                <a:cubicBezTo>
                  <a:pt x="7382" y="12490"/>
                  <a:pt x="7507" y="12494"/>
                  <a:pt x="7590" y="12551"/>
                </a:cubicBezTo>
                <a:cubicBezTo>
                  <a:pt x="7663" y="12601"/>
                  <a:pt x="7650" y="12601"/>
                  <a:pt x="7739" y="12601"/>
                </a:cubicBezTo>
              </a:path>
              <a:path w="6425" h="1837">
                <a:moveTo>
                  <a:pt x="7863" y="12005"/>
                </a:moveTo>
                <a:cubicBezTo>
                  <a:pt x="7835" y="12131"/>
                  <a:pt x="7809" y="12252"/>
                  <a:pt x="7789" y="12378"/>
                </a:cubicBezTo>
                <a:cubicBezTo>
                  <a:pt x="7765" y="12530"/>
                  <a:pt x="7764" y="12670"/>
                  <a:pt x="7764" y="12824"/>
                </a:cubicBezTo>
                <a:cubicBezTo>
                  <a:pt x="7764" y="12935"/>
                  <a:pt x="7772" y="13047"/>
                  <a:pt x="7764" y="13146"/>
                </a:cubicBezTo>
                <a:cubicBezTo>
                  <a:pt x="7764" y="13204"/>
                  <a:pt x="7747" y="13229"/>
                  <a:pt x="7789" y="13221"/>
                </a:cubicBezTo>
              </a:path>
              <a:path w="6425" h="1837">
                <a:moveTo>
                  <a:pt x="8012" y="12675"/>
                </a:moveTo>
                <a:cubicBezTo>
                  <a:pt x="8138" y="12651"/>
                  <a:pt x="8214" y="12669"/>
                  <a:pt x="8334" y="12675"/>
                </a:cubicBezTo>
                <a:cubicBezTo>
                  <a:pt x="8405" y="12678"/>
                  <a:pt x="8459" y="12700"/>
                  <a:pt x="8533" y="12700"/>
                </a:cubicBezTo>
                <a:cubicBezTo>
                  <a:pt x="8549" y="12700"/>
                  <a:pt x="8566" y="12700"/>
                  <a:pt x="8582" y="12700"/>
                </a:cubicBezTo>
              </a:path>
              <a:path w="6425" h="1837">
                <a:moveTo>
                  <a:pt x="9004" y="12278"/>
                </a:moveTo>
                <a:cubicBezTo>
                  <a:pt x="8956" y="12346"/>
                  <a:pt x="8884" y="12383"/>
                  <a:pt x="8830" y="12452"/>
                </a:cubicBezTo>
                <a:cubicBezTo>
                  <a:pt x="8765" y="12535"/>
                  <a:pt x="8718" y="12670"/>
                  <a:pt x="8706" y="12774"/>
                </a:cubicBezTo>
                <a:cubicBezTo>
                  <a:pt x="8694" y="12881"/>
                  <a:pt x="8684" y="13047"/>
                  <a:pt x="8731" y="13146"/>
                </a:cubicBezTo>
                <a:cubicBezTo>
                  <a:pt x="8791" y="13271"/>
                  <a:pt x="8822" y="13312"/>
                  <a:pt x="8905" y="13395"/>
                </a:cubicBezTo>
              </a:path>
              <a:path w="6425" h="1837">
                <a:moveTo>
                  <a:pt x="9103" y="12700"/>
                </a:moveTo>
                <a:cubicBezTo>
                  <a:pt x="9186" y="12813"/>
                  <a:pt x="9259" y="12941"/>
                  <a:pt x="9351" y="13047"/>
                </a:cubicBezTo>
                <a:cubicBezTo>
                  <a:pt x="9426" y="13133"/>
                  <a:pt x="9512" y="13230"/>
                  <a:pt x="9599" y="13295"/>
                </a:cubicBezTo>
              </a:path>
              <a:path w="6425" h="1837">
                <a:moveTo>
                  <a:pt x="9525" y="12675"/>
                </a:moveTo>
                <a:cubicBezTo>
                  <a:pt x="9442" y="12788"/>
                  <a:pt x="9405" y="12873"/>
                  <a:pt x="9351" y="12998"/>
                </a:cubicBezTo>
                <a:cubicBezTo>
                  <a:pt x="9299" y="13117"/>
                  <a:pt x="9285" y="13226"/>
                  <a:pt x="9252" y="13345"/>
                </a:cubicBezTo>
                <a:cubicBezTo>
                  <a:pt x="9246" y="13365"/>
                  <a:pt x="9186" y="13520"/>
                  <a:pt x="9252" y="13345"/>
                </a:cubicBezTo>
              </a:path>
              <a:path w="6425" h="1837">
                <a:moveTo>
                  <a:pt x="9550" y="12328"/>
                </a:moveTo>
                <a:cubicBezTo>
                  <a:pt x="9709" y="12233"/>
                  <a:pt x="9718" y="12184"/>
                  <a:pt x="9847" y="12303"/>
                </a:cubicBezTo>
                <a:cubicBezTo>
                  <a:pt x="9895" y="12347"/>
                  <a:pt x="9899" y="12397"/>
                  <a:pt x="9872" y="12452"/>
                </a:cubicBezTo>
                <a:cubicBezTo>
                  <a:pt x="9843" y="12509"/>
                  <a:pt x="9650" y="12602"/>
                  <a:pt x="9723" y="12675"/>
                </a:cubicBezTo>
                <a:cubicBezTo>
                  <a:pt x="9798" y="12750"/>
                  <a:pt x="9898" y="12744"/>
                  <a:pt x="9996" y="12750"/>
                </a:cubicBezTo>
              </a:path>
              <a:path w="6425" h="1837">
                <a:moveTo>
                  <a:pt x="10319" y="12626"/>
                </a:moveTo>
                <a:cubicBezTo>
                  <a:pt x="10281" y="12740"/>
                  <a:pt x="10244" y="12848"/>
                  <a:pt x="10269" y="12973"/>
                </a:cubicBezTo>
                <a:cubicBezTo>
                  <a:pt x="10291" y="13038"/>
                  <a:pt x="10299" y="13053"/>
                  <a:pt x="10294" y="13097"/>
                </a:cubicBezTo>
              </a:path>
              <a:path w="6425" h="1837">
                <a:moveTo>
                  <a:pt x="10096" y="12824"/>
                </a:moveTo>
                <a:cubicBezTo>
                  <a:pt x="10169" y="12833"/>
                  <a:pt x="10247" y="12856"/>
                  <a:pt x="10319" y="12874"/>
                </a:cubicBezTo>
                <a:cubicBezTo>
                  <a:pt x="10344" y="12882"/>
                  <a:pt x="10368" y="12890"/>
                  <a:pt x="10393" y="12898"/>
                </a:cubicBezTo>
              </a:path>
              <a:path w="6425" h="1837">
                <a:moveTo>
                  <a:pt x="10716" y="12477"/>
                </a:moveTo>
                <a:cubicBezTo>
                  <a:pt x="10644" y="12487"/>
                  <a:pt x="10620" y="12497"/>
                  <a:pt x="10616" y="12576"/>
                </a:cubicBezTo>
                <a:cubicBezTo>
                  <a:pt x="10612" y="12673"/>
                  <a:pt x="10645" y="12722"/>
                  <a:pt x="10691" y="12799"/>
                </a:cubicBezTo>
                <a:cubicBezTo>
                  <a:pt x="10723" y="12852"/>
                  <a:pt x="10763" y="12941"/>
                  <a:pt x="10840" y="12923"/>
                </a:cubicBezTo>
                <a:cubicBezTo>
                  <a:pt x="10883" y="12901"/>
                  <a:pt x="10894" y="12897"/>
                  <a:pt x="10914" y="12874"/>
                </a:cubicBezTo>
              </a:path>
              <a:path w="6425" h="1837">
                <a:moveTo>
                  <a:pt x="10939" y="12328"/>
                </a:moveTo>
                <a:cubicBezTo>
                  <a:pt x="10909" y="12463"/>
                  <a:pt x="10868" y="12586"/>
                  <a:pt x="10864" y="12725"/>
                </a:cubicBezTo>
                <a:cubicBezTo>
                  <a:pt x="10858" y="12929"/>
                  <a:pt x="10844" y="13151"/>
                  <a:pt x="10889" y="13345"/>
                </a:cubicBezTo>
                <a:cubicBezTo>
                  <a:pt x="10889" y="13353"/>
                  <a:pt x="10889" y="13362"/>
                  <a:pt x="10889" y="13370"/>
                </a:cubicBezTo>
              </a:path>
              <a:path w="6425" h="1837">
                <a:moveTo>
                  <a:pt x="11088" y="12700"/>
                </a:moveTo>
                <a:cubicBezTo>
                  <a:pt x="11168" y="12758"/>
                  <a:pt x="11197" y="12829"/>
                  <a:pt x="11237" y="12923"/>
                </a:cubicBezTo>
                <a:cubicBezTo>
                  <a:pt x="11291" y="13051"/>
                  <a:pt x="11346" y="13192"/>
                  <a:pt x="11435" y="13295"/>
                </a:cubicBezTo>
                <a:cubicBezTo>
                  <a:pt x="11458" y="13318"/>
                  <a:pt x="11462" y="13326"/>
                  <a:pt x="11485" y="13320"/>
                </a:cubicBezTo>
              </a:path>
              <a:path w="6425" h="1837">
                <a:moveTo>
                  <a:pt x="11485" y="12675"/>
                </a:moveTo>
                <a:cubicBezTo>
                  <a:pt x="11393" y="12734"/>
                  <a:pt x="11306" y="12787"/>
                  <a:pt x="11237" y="12874"/>
                </a:cubicBezTo>
                <a:cubicBezTo>
                  <a:pt x="11169" y="12960"/>
                  <a:pt x="11134" y="13049"/>
                  <a:pt x="11088" y="13146"/>
                </a:cubicBezTo>
                <a:cubicBezTo>
                  <a:pt x="11064" y="13198"/>
                  <a:pt x="11061" y="13209"/>
                  <a:pt x="11013" y="13221"/>
                </a:cubicBezTo>
              </a:path>
              <a:path w="6425" h="1837">
                <a:moveTo>
                  <a:pt x="11757" y="12650"/>
                </a:moveTo>
                <a:cubicBezTo>
                  <a:pt x="11757" y="12771"/>
                  <a:pt x="11744" y="12880"/>
                  <a:pt x="11733" y="12998"/>
                </a:cubicBezTo>
                <a:cubicBezTo>
                  <a:pt x="11724" y="13087"/>
                  <a:pt x="11733" y="13181"/>
                  <a:pt x="11733" y="13271"/>
                </a:cubicBezTo>
              </a:path>
              <a:path w="6425" h="1837">
                <a:moveTo>
                  <a:pt x="11658" y="12898"/>
                </a:moveTo>
                <a:cubicBezTo>
                  <a:pt x="11754" y="12926"/>
                  <a:pt x="11833" y="12969"/>
                  <a:pt x="11931" y="12973"/>
                </a:cubicBezTo>
                <a:cubicBezTo>
                  <a:pt x="12004" y="12973"/>
                  <a:pt x="12028" y="12974"/>
                  <a:pt x="12055" y="12923"/>
                </a:cubicBezTo>
              </a:path>
              <a:path w="6425" h="1837">
                <a:moveTo>
                  <a:pt x="12129" y="12576"/>
                </a:moveTo>
                <a:cubicBezTo>
                  <a:pt x="12069" y="12638"/>
                  <a:pt x="12071" y="12669"/>
                  <a:pt x="12105" y="12750"/>
                </a:cubicBezTo>
                <a:cubicBezTo>
                  <a:pt x="12135" y="12823"/>
                  <a:pt x="12174" y="12868"/>
                  <a:pt x="12229" y="12923"/>
                </a:cubicBezTo>
                <a:cubicBezTo>
                  <a:pt x="12304" y="12998"/>
                  <a:pt x="12378" y="12905"/>
                  <a:pt x="12427" y="12849"/>
                </a:cubicBezTo>
              </a:path>
              <a:path w="6425" h="1837">
                <a:moveTo>
                  <a:pt x="12526" y="12477"/>
                </a:moveTo>
                <a:cubicBezTo>
                  <a:pt x="12424" y="12506"/>
                  <a:pt x="12444" y="12572"/>
                  <a:pt x="12427" y="12675"/>
                </a:cubicBezTo>
                <a:cubicBezTo>
                  <a:pt x="12401" y="12834"/>
                  <a:pt x="12402" y="12984"/>
                  <a:pt x="12402" y="13146"/>
                </a:cubicBezTo>
                <a:cubicBezTo>
                  <a:pt x="12402" y="13237"/>
                  <a:pt x="12402" y="13328"/>
                  <a:pt x="12402" y="13419"/>
                </a:cubicBezTo>
              </a:path>
              <a:path w="6425" h="1837">
                <a:moveTo>
                  <a:pt x="12700" y="12254"/>
                </a:moveTo>
                <a:cubicBezTo>
                  <a:pt x="12827" y="12445"/>
                  <a:pt x="12901" y="12634"/>
                  <a:pt x="12898" y="12874"/>
                </a:cubicBezTo>
                <a:cubicBezTo>
                  <a:pt x="12895" y="13117"/>
                  <a:pt x="12878" y="13403"/>
                  <a:pt x="12750" y="13618"/>
                </a:cubicBezTo>
                <a:cubicBezTo>
                  <a:pt x="12635" y="13771"/>
                  <a:pt x="12639" y="13819"/>
                  <a:pt x="12526" y="138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k 17"/>
          <p:cNvSpPr/>
          <p:nvPr/>
        </p:nvSpPr>
        <p:spPr>
          <a:xfrm>
            <a:off x="2411280" y="4776840"/>
            <a:ext cx="1893960" cy="1027080"/>
          </a:xfrm>
          <a:custGeom>
            <a:avLst/>
            <a:gdLst/>
            <a:ahLst/>
            <a:rect l="l" t="t" r="r" b="b"/>
            <a:pathLst>
              <a:path w="5260" h="2853">
                <a:moveTo>
                  <a:pt x="6697" y="13444"/>
                </a:moveTo>
                <a:cubicBezTo>
                  <a:pt x="6785" y="13422"/>
                  <a:pt x="6872" y="13445"/>
                  <a:pt x="6970" y="13469"/>
                </a:cubicBezTo>
                <a:cubicBezTo>
                  <a:pt x="7062" y="13492"/>
                  <a:pt x="7087" y="13498"/>
                  <a:pt x="7144" y="13519"/>
                </a:cubicBezTo>
              </a:path>
              <a:path w="5260" h="2853">
                <a:moveTo>
                  <a:pt x="6697" y="13767"/>
                </a:moveTo>
                <a:cubicBezTo>
                  <a:pt x="6832" y="13825"/>
                  <a:pt x="6922" y="13841"/>
                  <a:pt x="7069" y="13841"/>
                </a:cubicBezTo>
              </a:path>
              <a:path w="5260" h="2853">
                <a:moveTo>
                  <a:pt x="7367" y="13395"/>
                </a:moveTo>
                <a:cubicBezTo>
                  <a:pt x="7391" y="13434"/>
                  <a:pt x="7412" y="13516"/>
                  <a:pt x="7392" y="13568"/>
                </a:cubicBezTo>
                <a:cubicBezTo>
                  <a:pt x="7373" y="13616"/>
                  <a:pt x="7364" y="13694"/>
                  <a:pt x="7342" y="13742"/>
                </a:cubicBezTo>
                <a:cubicBezTo>
                  <a:pt x="7322" y="13786"/>
                  <a:pt x="7342" y="13804"/>
                  <a:pt x="7392" y="13841"/>
                </a:cubicBezTo>
                <a:cubicBezTo>
                  <a:pt x="7506" y="13926"/>
                  <a:pt x="7603" y="13940"/>
                  <a:pt x="7739" y="13940"/>
                </a:cubicBezTo>
              </a:path>
              <a:path w="5260" h="2853">
                <a:moveTo>
                  <a:pt x="7888" y="13395"/>
                </a:moveTo>
                <a:cubicBezTo>
                  <a:pt x="7866" y="13535"/>
                  <a:pt x="7841" y="13674"/>
                  <a:pt x="7838" y="13816"/>
                </a:cubicBezTo>
                <a:cubicBezTo>
                  <a:pt x="7831" y="14100"/>
                  <a:pt x="7840" y="14380"/>
                  <a:pt x="7813" y="14660"/>
                </a:cubicBezTo>
                <a:cubicBezTo>
                  <a:pt x="7813" y="14701"/>
                  <a:pt x="7813" y="14709"/>
                  <a:pt x="7813" y="14734"/>
                </a:cubicBezTo>
              </a:path>
              <a:path w="5260" h="2853">
                <a:moveTo>
                  <a:pt x="8037" y="14114"/>
                </a:moveTo>
                <a:cubicBezTo>
                  <a:pt x="8154" y="14121"/>
                  <a:pt x="8244" y="14158"/>
                  <a:pt x="8359" y="14163"/>
                </a:cubicBezTo>
                <a:cubicBezTo>
                  <a:pt x="8437" y="14163"/>
                  <a:pt x="8479" y="14153"/>
                  <a:pt x="8533" y="14114"/>
                </a:cubicBezTo>
              </a:path>
              <a:path w="5260" h="2853">
                <a:moveTo>
                  <a:pt x="8632" y="14114"/>
                </a:moveTo>
                <a:cubicBezTo>
                  <a:pt x="8687" y="14294"/>
                  <a:pt x="8751" y="14464"/>
                  <a:pt x="8830" y="14635"/>
                </a:cubicBezTo>
                <a:cubicBezTo>
                  <a:pt x="8881" y="14746"/>
                  <a:pt x="8918" y="14804"/>
                  <a:pt x="9004" y="14883"/>
                </a:cubicBezTo>
              </a:path>
              <a:path w="5260" h="2853">
                <a:moveTo>
                  <a:pt x="9054" y="14114"/>
                </a:moveTo>
                <a:cubicBezTo>
                  <a:pt x="8937" y="14199"/>
                  <a:pt x="8853" y="14259"/>
                  <a:pt x="8781" y="14387"/>
                </a:cubicBezTo>
                <a:cubicBezTo>
                  <a:pt x="8714" y="14506"/>
                  <a:pt x="8639" y="14636"/>
                  <a:pt x="8582" y="14759"/>
                </a:cubicBezTo>
                <a:cubicBezTo>
                  <a:pt x="8553" y="14823"/>
                  <a:pt x="8541" y="14889"/>
                  <a:pt x="8533" y="14957"/>
                </a:cubicBezTo>
              </a:path>
              <a:path w="5260" h="2853">
                <a:moveTo>
                  <a:pt x="9178" y="13915"/>
                </a:moveTo>
                <a:cubicBezTo>
                  <a:pt x="9261" y="13905"/>
                  <a:pt x="9443" y="13858"/>
                  <a:pt x="9401" y="14015"/>
                </a:cubicBezTo>
                <a:cubicBezTo>
                  <a:pt x="9391" y="14050"/>
                  <a:pt x="9280" y="14151"/>
                  <a:pt x="9252" y="14188"/>
                </a:cubicBezTo>
                <a:cubicBezTo>
                  <a:pt x="9191" y="14269"/>
                  <a:pt x="9268" y="14324"/>
                  <a:pt x="9327" y="14387"/>
                </a:cubicBezTo>
                <a:cubicBezTo>
                  <a:pt x="9343" y="14403"/>
                  <a:pt x="9360" y="14420"/>
                  <a:pt x="9376" y="14436"/>
                </a:cubicBezTo>
              </a:path>
              <a:path w="5260" h="2853">
                <a:moveTo>
                  <a:pt x="9624" y="14412"/>
                </a:moveTo>
                <a:cubicBezTo>
                  <a:pt x="9765" y="14452"/>
                  <a:pt x="9791" y="14457"/>
                  <a:pt x="9872" y="14486"/>
                </a:cubicBezTo>
              </a:path>
              <a:path w="5260" h="2853">
                <a:moveTo>
                  <a:pt x="10096" y="14139"/>
                </a:moveTo>
                <a:cubicBezTo>
                  <a:pt x="10077" y="14253"/>
                  <a:pt x="10104" y="14303"/>
                  <a:pt x="10145" y="14412"/>
                </a:cubicBezTo>
                <a:cubicBezTo>
                  <a:pt x="10172" y="14485"/>
                  <a:pt x="10197" y="14518"/>
                  <a:pt x="10269" y="14536"/>
                </a:cubicBezTo>
              </a:path>
              <a:path w="5260" h="2853">
                <a:moveTo>
                  <a:pt x="10418" y="13990"/>
                </a:moveTo>
                <a:cubicBezTo>
                  <a:pt x="10361" y="14116"/>
                  <a:pt x="10339" y="14206"/>
                  <a:pt x="10319" y="14337"/>
                </a:cubicBezTo>
                <a:cubicBezTo>
                  <a:pt x="10294" y="14504"/>
                  <a:pt x="10294" y="14663"/>
                  <a:pt x="10294" y="14833"/>
                </a:cubicBezTo>
                <a:cubicBezTo>
                  <a:pt x="10294" y="14904"/>
                  <a:pt x="10298" y="14949"/>
                  <a:pt x="10269" y="15007"/>
                </a:cubicBezTo>
              </a:path>
              <a:path w="5260" h="2853">
                <a:moveTo>
                  <a:pt x="10542" y="14387"/>
                </a:moveTo>
                <a:cubicBezTo>
                  <a:pt x="10622" y="14532"/>
                  <a:pt x="10680" y="14677"/>
                  <a:pt x="10740" y="14833"/>
                </a:cubicBezTo>
                <a:cubicBezTo>
                  <a:pt x="10767" y="14904"/>
                  <a:pt x="10791" y="14949"/>
                  <a:pt x="10840" y="15007"/>
                </a:cubicBezTo>
              </a:path>
              <a:path w="5260" h="2853">
                <a:moveTo>
                  <a:pt x="10889" y="14387"/>
                </a:moveTo>
                <a:cubicBezTo>
                  <a:pt x="10718" y="14536"/>
                  <a:pt x="10678" y="14569"/>
                  <a:pt x="10592" y="14759"/>
                </a:cubicBezTo>
                <a:cubicBezTo>
                  <a:pt x="10556" y="14838"/>
                  <a:pt x="10496" y="14929"/>
                  <a:pt x="10468" y="15007"/>
                </a:cubicBezTo>
                <a:cubicBezTo>
                  <a:pt x="10468" y="15015"/>
                  <a:pt x="10468" y="15024"/>
                  <a:pt x="10468" y="15032"/>
                </a:cubicBezTo>
              </a:path>
              <a:path w="5260" h="2853">
                <a:moveTo>
                  <a:pt x="10988" y="14660"/>
                </a:moveTo>
                <a:cubicBezTo>
                  <a:pt x="11143" y="14677"/>
                  <a:pt x="11242" y="14698"/>
                  <a:pt x="11385" y="14660"/>
                </a:cubicBezTo>
              </a:path>
              <a:path w="5260" h="2853">
                <a:moveTo>
                  <a:pt x="11559" y="14188"/>
                </a:moveTo>
                <a:cubicBezTo>
                  <a:pt x="11526" y="14254"/>
                  <a:pt x="11481" y="14335"/>
                  <a:pt x="11509" y="14412"/>
                </a:cubicBezTo>
                <a:cubicBezTo>
                  <a:pt x="11527" y="14461"/>
                  <a:pt x="11544" y="14516"/>
                  <a:pt x="11584" y="14560"/>
                </a:cubicBezTo>
                <a:cubicBezTo>
                  <a:pt x="11658" y="14642"/>
                  <a:pt x="11674" y="14592"/>
                  <a:pt x="11782" y="14560"/>
                </a:cubicBezTo>
              </a:path>
              <a:path w="5260" h="2853">
                <a:moveTo>
                  <a:pt x="11956" y="13940"/>
                </a:moveTo>
                <a:cubicBezTo>
                  <a:pt x="11946" y="14130"/>
                  <a:pt x="11923" y="14321"/>
                  <a:pt x="11906" y="14511"/>
                </a:cubicBezTo>
                <a:cubicBezTo>
                  <a:pt x="11878" y="14825"/>
                  <a:pt x="11797" y="15128"/>
                  <a:pt x="11708" y="15429"/>
                </a:cubicBezTo>
              </a:path>
              <a:path w="5260" h="2853">
                <a:moveTo>
                  <a:pt x="7491" y="13271"/>
                </a:moveTo>
                <a:cubicBezTo>
                  <a:pt x="7491" y="13391"/>
                  <a:pt x="7508" y="13482"/>
                  <a:pt x="7565" y="13593"/>
                </a:cubicBezTo>
                <a:cubicBezTo>
                  <a:pt x="7679" y="13815"/>
                  <a:pt x="7824" y="14031"/>
                  <a:pt x="7962" y="14238"/>
                </a:cubicBezTo>
                <a:cubicBezTo>
                  <a:pt x="8096" y="14439"/>
                  <a:pt x="8217" y="14648"/>
                  <a:pt x="8285" y="14883"/>
                </a:cubicBezTo>
                <a:cubicBezTo>
                  <a:pt x="8316" y="14992"/>
                  <a:pt x="8342" y="15122"/>
                  <a:pt x="8359" y="15230"/>
                </a:cubicBezTo>
                <a:cubicBezTo>
                  <a:pt x="8374" y="15324"/>
                  <a:pt x="8359" y="15272"/>
                  <a:pt x="8434" y="15304"/>
                </a:cubicBezTo>
              </a:path>
              <a:path w="5260" h="2853">
                <a:moveTo>
                  <a:pt x="11311" y="13940"/>
                </a:moveTo>
                <a:cubicBezTo>
                  <a:pt x="11455" y="14151"/>
                  <a:pt x="11567" y="14370"/>
                  <a:pt x="11658" y="14610"/>
                </a:cubicBezTo>
                <a:cubicBezTo>
                  <a:pt x="11783" y="14937"/>
                  <a:pt x="11839" y="15257"/>
                  <a:pt x="11881" y="15602"/>
                </a:cubicBezTo>
                <a:cubicBezTo>
                  <a:pt x="11902" y="15777"/>
                  <a:pt x="11923" y="15947"/>
                  <a:pt x="11931" y="161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9" name="Ink 2"/>
          <p:cNvSpPr/>
          <p:nvPr/>
        </p:nvSpPr>
        <p:spPr>
          <a:xfrm>
            <a:off x="455760" y="1098720"/>
            <a:ext cx="241200" cy="446040"/>
          </a:xfrm>
          <a:custGeom>
            <a:avLst/>
            <a:gdLst/>
            <a:ahLst/>
            <a:rect l="l" t="t" r="r" b="b"/>
            <a:pathLst>
              <a:path w="671" h="1241">
                <a:moveTo>
                  <a:pt x="1364" y="3349"/>
                </a:moveTo>
                <a:cubicBezTo>
                  <a:pt x="1348" y="3349"/>
                  <a:pt x="1331" y="3349"/>
                  <a:pt x="1315" y="3349"/>
                </a:cubicBezTo>
                <a:cubicBezTo>
                  <a:pt x="1360" y="3291"/>
                  <a:pt x="1381" y="3268"/>
                  <a:pt x="1439" y="3225"/>
                </a:cubicBezTo>
                <a:cubicBezTo>
                  <a:pt x="1495" y="3183"/>
                  <a:pt x="1560" y="3151"/>
                  <a:pt x="1637" y="3175"/>
                </a:cubicBezTo>
                <a:cubicBezTo>
                  <a:pt x="1700" y="3195"/>
                  <a:pt x="1652" y="3296"/>
                  <a:pt x="1637" y="3324"/>
                </a:cubicBezTo>
                <a:cubicBezTo>
                  <a:pt x="1593" y="3406"/>
                  <a:pt x="1515" y="3470"/>
                  <a:pt x="1439" y="3522"/>
                </a:cubicBezTo>
                <a:cubicBezTo>
                  <a:pt x="1398" y="3550"/>
                  <a:pt x="1374" y="3562"/>
                  <a:pt x="1339" y="3597"/>
                </a:cubicBezTo>
                <a:cubicBezTo>
                  <a:pt x="1410" y="3562"/>
                  <a:pt x="1480" y="3525"/>
                  <a:pt x="1563" y="3547"/>
                </a:cubicBezTo>
                <a:cubicBezTo>
                  <a:pt x="1611" y="3560"/>
                  <a:pt x="1707" y="3605"/>
                  <a:pt x="1736" y="3646"/>
                </a:cubicBezTo>
                <a:cubicBezTo>
                  <a:pt x="1800" y="3736"/>
                  <a:pt x="1700" y="3842"/>
                  <a:pt x="1612" y="3870"/>
                </a:cubicBezTo>
                <a:cubicBezTo>
                  <a:pt x="1548" y="3890"/>
                  <a:pt x="1457" y="3916"/>
                  <a:pt x="1389" y="3919"/>
                </a:cubicBezTo>
                <a:cubicBezTo>
                  <a:pt x="1311" y="3922"/>
                  <a:pt x="1321" y="3908"/>
                  <a:pt x="1265" y="3894"/>
                </a:cubicBezTo>
              </a:path>
              <a:path w="671" h="1241">
                <a:moveTo>
                  <a:pt x="1414" y="3051"/>
                </a:moveTo>
                <a:cubicBezTo>
                  <a:pt x="1633" y="3160"/>
                  <a:pt x="1725" y="3209"/>
                  <a:pt x="1860" y="3398"/>
                </a:cubicBezTo>
                <a:cubicBezTo>
                  <a:pt x="1936" y="3504"/>
                  <a:pt x="1973" y="3658"/>
                  <a:pt x="1935" y="3795"/>
                </a:cubicBezTo>
                <a:cubicBezTo>
                  <a:pt x="1899" y="3925"/>
                  <a:pt x="1814" y="4015"/>
                  <a:pt x="1736" y="4118"/>
                </a:cubicBezTo>
                <a:cubicBezTo>
                  <a:pt x="1680" y="4193"/>
                  <a:pt x="1636" y="4249"/>
                  <a:pt x="1563" y="42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3"/>
          <p:cNvSpPr/>
          <p:nvPr/>
        </p:nvSpPr>
        <p:spPr>
          <a:xfrm>
            <a:off x="866880" y="982800"/>
            <a:ext cx="865080" cy="473040"/>
          </a:xfrm>
          <a:custGeom>
            <a:avLst/>
            <a:gdLst/>
            <a:ahLst/>
            <a:rect l="l" t="t" r="r" b="b"/>
            <a:pathLst>
              <a:path w="2407" h="1315">
                <a:moveTo>
                  <a:pt x="2877" y="2927"/>
                </a:moveTo>
                <a:cubicBezTo>
                  <a:pt x="2865" y="2842"/>
                  <a:pt x="2845" y="2853"/>
                  <a:pt x="2778" y="2803"/>
                </a:cubicBezTo>
                <a:cubicBezTo>
                  <a:pt x="2723" y="2762"/>
                  <a:pt x="2728" y="2733"/>
                  <a:pt x="2654" y="2729"/>
                </a:cubicBezTo>
                <a:cubicBezTo>
                  <a:pt x="2581" y="2725"/>
                  <a:pt x="2562" y="2768"/>
                  <a:pt x="2530" y="2828"/>
                </a:cubicBezTo>
                <a:cubicBezTo>
                  <a:pt x="2487" y="2908"/>
                  <a:pt x="2505" y="3012"/>
                  <a:pt x="2505" y="3101"/>
                </a:cubicBezTo>
                <a:cubicBezTo>
                  <a:pt x="2505" y="3212"/>
                  <a:pt x="2544" y="3313"/>
                  <a:pt x="2555" y="3423"/>
                </a:cubicBezTo>
                <a:cubicBezTo>
                  <a:pt x="2566" y="3534"/>
                  <a:pt x="2562" y="3640"/>
                  <a:pt x="2580" y="3746"/>
                </a:cubicBezTo>
                <a:cubicBezTo>
                  <a:pt x="2596" y="3839"/>
                  <a:pt x="2565" y="3829"/>
                  <a:pt x="2505" y="3820"/>
                </a:cubicBezTo>
              </a:path>
              <a:path w="2407" h="1315">
                <a:moveTo>
                  <a:pt x="2406" y="3597"/>
                </a:moveTo>
                <a:cubicBezTo>
                  <a:pt x="2513" y="3561"/>
                  <a:pt x="2598" y="3544"/>
                  <a:pt x="2704" y="3522"/>
                </a:cubicBezTo>
                <a:cubicBezTo>
                  <a:pt x="2729" y="3514"/>
                  <a:pt x="2753" y="3505"/>
                  <a:pt x="2778" y="3497"/>
                </a:cubicBezTo>
              </a:path>
              <a:path w="2407" h="1315">
                <a:moveTo>
                  <a:pt x="3274" y="3026"/>
                </a:moveTo>
                <a:cubicBezTo>
                  <a:pt x="3218" y="3140"/>
                  <a:pt x="3159" y="3250"/>
                  <a:pt x="3125" y="3373"/>
                </a:cubicBezTo>
                <a:cubicBezTo>
                  <a:pt x="3095" y="3482"/>
                  <a:pt x="3086" y="3589"/>
                  <a:pt x="3125" y="3696"/>
                </a:cubicBezTo>
                <a:cubicBezTo>
                  <a:pt x="3142" y="3744"/>
                  <a:pt x="3207" y="3840"/>
                  <a:pt x="3249" y="3870"/>
                </a:cubicBezTo>
                <a:cubicBezTo>
                  <a:pt x="3310" y="3913"/>
                  <a:pt x="3337" y="3931"/>
                  <a:pt x="3398" y="3894"/>
                </a:cubicBezTo>
              </a:path>
              <a:path w="2407" h="1315">
                <a:moveTo>
                  <a:pt x="3398" y="3448"/>
                </a:moveTo>
                <a:cubicBezTo>
                  <a:pt x="3445" y="3541"/>
                  <a:pt x="3505" y="3641"/>
                  <a:pt x="3597" y="3696"/>
                </a:cubicBezTo>
                <a:cubicBezTo>
                  <a:pt x="3663" y="3736"/>
                  <a:pt x="3752" y="3782"/>
                  <a:pt x="3820" y="3795"/>
                </a:cubicBezTo>
                <a:cubicBezTo>
                  <a:pt x="3870" y="3795"/>
                  <a:pt x="3886" y="3795"/>
                  <a:pt x="3919" y="3795"/>
                </a:cubicBezTo>
              </a:path>
              <a:path w="2407" h="1315">
                <a:moveTo>
                  <a:pt x="3746" y="3423"/>
                </a:moveTo>
                <a:cubicBezTo>
                  <a:pt x="3652" y="3539"/>
                  <a:pt x="3572" y="3649"/>
                  <a:pt x="3497" y="3770"/>
                </a:cubicBezTo>
                <a:cubicBezTo>
                  <a:pt x="3464" y="3823"/>
                  <a:pt x="3454" y="3882"/>
                  <a:pt x="3473" y="3919"/>
                </a:cubicBezTo>
              </a:path>
              <a:path w="2407" h="1315">
                <a:moveTo>
                  <a:pt x="3770" y="2877"/>
                </a:moveTo>
                <a:cubicBezTo>
                  <a:pt x="3908" y="2988"/>
                  <a:pt x="4068" y="3101"/>
                  <a:pt x="4142" y="3274"/>
                </a:cubicBezTo>
                <a:cubicBezTo>
                  <a:pt x="4206" y="3426"/>
                  <a:pt x="4199" y="3588"/>
                  <a:pt x="4167" y="3746"/>
                </a:cubicBezTo>
                <a:cubicBezTo>
                  <a:pt x="4142" y="3868"/>
                  <a:pt x="4053" y="3917"/>
                  <a:pt x="3969" y="3994"/>
                </a:cubicBezTo>
                <a:cubicBezTo>
                  <a:pt x="3915" y="4044"/>
                  <a:pt x="3942" y="4053"/>
                  <a:pt x="3894" y="3994"/>
                </a:cubicBezTo>
              </a:path>
              <a:path w="2407" h="1315">
                <a:moveTo>
                  <a:pt x="4415" y="3398"/>
                </a:moveTo>
                <a:cubicBezTo>
                  <a:pt x="4575" y="3386"/>
                  <a:pt x="4608" y="3398"/>
                  <a:pt x="4738" y="3398"/>
                </a:cubicBezTo>
              </a:path>
              <a:path w="2407" h="1315">
                <a:moveTo>
                  <a:pt x="4366" y="3646"/>
                </a:moveTo>
                <a:cubicBezTo>
                  <a:pt x="4509" y="3646"/>
                  <a:pt x="4679" y="3671"/>
                  <a:pt x="4812" y="3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4"/>
          <p:cNvSpPr/>
          <p:nvPr/>
        </p:nvSpPr>
        <p:spPr>
          <a:xfrm>
            <a:off x="1919160" y="1035000"/>
            <a:ext cx="322560" cy="420840"/>
          </a:xfrm>
          <a:custGeom>
            <a:avLst/>
            <a:gdLst/>
            <a:ahLst/>
            <a:rect l="l" t="t" r="r" b="b"/>
            <a:pathLst>
              <a:path w="894" h="1167">
                <a:moveTo>
                  <a:pt x="5333" y="3274"/>
                </a:moveTo>
                <a:cubicBezTo>
                  <a:pt x="5383" y="3364"/>
                  <a:pt x="5440" y="3454"/>
                  <a:pt x="5482" y="3547"/>
                </a:cubicBezTo>
                <a:cubicBezTo>
                  <a:pt x="5522" y="3637"/>
                  <a:pt x="5589" y="3742"/>
                  <a:pt x="5680" y="3795"/>
                </a:cubicBezTo>
                <a:cubicBezTo>
                  <a:pt x="5712" y="3813"/>
                  <a:pt x="5840" y="3883"/>
                  <a:pt x="5879" y="3870"/>
                </a:cubicBezTo>
                <a:cubicBezTo>
                  <a:pt x="5887" y="3862"/>
                  <a:pt x="5896" y="3853"/>
                  <a:pt x="5904" y="3845"/>
                </a:cubicBezTo>
              </a:path>
              <a:path w="894" h="1167">
                <a:moveTo>
                  <a:pt x="5705" y="3274"/>
                </a:moveTo>
                <a:cubicBezTo>
                  <a:pt x="5650" y="3423"/>
                  <a:pt x="5600" y="3603"/>
                  <a:pt x="5531" y="3746"/>
                </a:cubicBezTo>
                <a:cubicBezTo>
                  <a:pt x="5492" y="3827"/>
                  <a:pt x="5406" y="3910"/>
                  <a:pt x="5383" y="3994"/>
                </a:cubicBezTo>
                <a:cubicBezTo>
                  <a:pt x="5367" y="4052"/>
                  <a:pt x="5360" y="4043"/>
                  <a:pt x="5383" y="4043"/>
                </a:cubicBezTo>
              </a:path>
              <a:path w="894" h="1167">
                <a:moveTo>
                  <a:pt x="5779" y="2902"/>
                </a:moveTo>
                <a:cubicBezTo>
                  <a:pt x="5909" y="2890"/>
                  <a:pt x="5995" y="2836"/>
                  <a:pt x="6003" y="2977"/>
                </a:cubicBezTo>
                <a:cubicBezTo>
                  <a:pt x="6008" y="3064"/>
                  <a:pt x="5903" y="3151"/>
                  <a:pt x="5928" y="3225"/>
                </a:cubicBezTo>
                <a:cubicBezTo>
                  <a:pt x="5949" y="3288"/>
                  <a:pt x="6055" y="3274"/>
                  <a:pt x="6102" y="3274"/>
                </a:cubicBezTo>
                <a:cubicBezTo>
                  <a:pt x="6168" y="3274"/>
                  <a:pt x="6185" y="3274"/>
                  <a:pt x="6226" y="32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2562120" y="1017720"/>
            <a:ext cx="1536840" cy="625320"/>
          </a:xfrm>
          <a:custGeom>
            <a:avLst/>
            <a:gdLst/>
            <a:ahLst/>
            <a:rect l="l" t="t" r="r" b="b"/>
            <a:pathLst>
              <a:path w="4267" h="1737">
                <a:moveTo>
                  <a:pt x="7491" y="3398"/>
                </a:moveTo>
                <a:cubicBezTo>
                  <a:pt x="7550" y="3438"/>
                  <a:pt x="7562" y="3442"/>
                  <a:pt x="7590" y="3473"/>
                </a:cubicBezTo>
                <a:cubicBezTo>
                  <a:pt x="7583" y="3414"/>
                  <a:pt x="7571" y="3338"/>
                  <a:pt x="7516" y="3299"/>
                </a:cubicBezTo>
                <a:cubicBezTo>
                  <a:pt x="7454" y="3255"/>
                  <a:pt x="7424" y="3242"/>
                  <a:pt x="7367" y="3249"/>
                </a:cubicBezTo>
                <a:cubicBezTo>
                  <a:pt x="7283" y="3260"/>
                  <a:pt x="7282" y="3296"/>
                  <a:pt x="7243" y="3373"/>
                </a:cubicBezTo>
                <a:cubicBezTo>
                  <a:pt x="7200" y="3459"/>
                  <a:pt x="7172" y="3529"/>
                  <a:pt x="7218" y="3621"/>
                </a:cubicBezTo>
                <a:cubicBezTo>
                  <a:pt x="7244" y="3673"/>
                  <a:pt x="7335" y="3733"/>
                  <a:pt x="7392" y="3746"/>
                </a:cubicBezTo>
                <a:cubicBezTo>
                  <a:pt x="7478" y="3765"/>
                  <a:pt x="7549" y="3706"/>
                  <a:pt x="7590" y="3646"/>
                </a:cubicBezTo>
                <a:cubicBezTo>
                  <a:pt x="7631" y="3586"/>
                  <a:pt x="7656" y="3544"/>
                  <a:pt x="7665" y="3473"/>
                </a:cubicBezTo>
                <a:cubicBezTo>
                  <a:pt x="7582" y="3554"/>
                  <a:pt x="7615" y="3652"/>
                  <a:pt x="7615" y="3770"/>
                </a:cubicBezTo>
                <a:cubicBezTo>
                  <a:pt x="7615" y="3914"/>
                  <a:pt x="7661" y="4047"/>
                  <a:pt x="7665" y="4192"/>
                </a:cubicBezTo>
                <a:cubicBezTo>
                  <a:pt x="7668" y="4292"/>
                  <a:pt x="7679" y="4398"/>
                  <a:pt x="7640" y="4490"/>
                </a:cubicBezTo>
                <a:cubicBezTo>
                  <a:pt x="7593" y="4600"/>
                  <a:pt x="7501" y="4551"/>
                  <a:pt x="7417" y="4514"/>
                </a:cubicBezTo>
                <a:cubicBezTo>
                  <a:pt x="7314" y="4468"/>
                  <a:pt x="7203" y="4412"/>
                  <a:pt x="7144" y="4316"/>
                </a:cubicBezTo>
                <a:cubicBezTo>
                  <a:pt x="7136" y="4299"/>
                  <a:pt x="7127" y="4283"/>
                  <a:pt x="7119" y="4266"/>
                </a:cubicBezTo>
              </a:path>
              <a:path w="4267" h="1737">
                <a:moveTo>
                  <a:pt x="8136" y="2853"/>
                </a:moveTo>
                <a:cubicBezTo>
                  <a:pt x="8126" y="2944"/>
                  <a:pt x="8099" y="3040"/>
                  <a:pt x="8062" y="3125"/>
                </a:cubicBezTo>
                <a:cubicBezTo>
                  <a:pt x="8023" y="3215"/>
                  <a:pt x="7953" y="3346"/>
                  <a:pt x="7962" y="3448"/>
                </a:cubicBezTo>
                <a:cubicBezTo>
                  <a:pt x="7969" y="3525"/>
                  <a:pt x="8035" y="3617"/>
                  <a:pt x="8086" y="3671"/>
                </a:cubicBezTo>
                <a:cubicBezTo>
                  <a:pt x="8161" y="3751"/>
                  <a:pt x="8188" y="3765"/>
                  <a:pt x="8285" y="3746"/>
                </a:cubicBezTo>
              </a:path>
              <a:path w="4267" h="1737">
                <a:moveTo>
                  <a:pt x="8334" y="3249"/>
                </a:moveTo>
                <a:cubicBezTo>
                  <a:pt x="8448" y="3363"/>
                  <a:pt x="8562" y="3468"/>
                  <a:pt x="8682" y="3572"/>
                </a:cubicBezTo>
                <a:cubicBezTo>
                  <a:pt x="8744" y="3625"/>
                  <a:pt x="8773" y="3680"/>
                  <a:pt x="8855" y="3696"/>
                </a:cubicBezTo>
              </a:path>
              <a:path w="4267" h="1737">
                <a:moveTo>
                  <a:pt x="8632" y="3299"/>
                </a:moveTo>
                <a:cubicBezTo>
                  <a:pt x="8529" y="3445"/>
                  <a:pt x="8434" y="3597"/>
                  <a:pt x="8359" y="3746"/>
                </a:cubicBezTo>
                <a:cubicBezTo>
                  <a:pt x="8344" y="3775"/>
                  <a:pt x="8333" y="3873"/>
                  <a:pt x="8359" y="3770"/>
                </a:cubicBezTo>
              </a:path>
              <a:path w="4267" h="1737">
                <a:moveTo>
                  <a:pt x="8582" y="2828"/>
                </a:moveTo>
                <a:cubicBezTo>
                  <a:pt x="8726" y="2891"/>
                  <a:pt x="8848" y="2955"/>
                  <a:pt x="8954" y="3076"/>
                </a:cubicBezTo>
                <a:cubicBezTo>
                  <a:pt x="9089" y="3230"/>
                  <a:pt x="9098" y="3378"/>
                  <a:pt x="9103" y="3572"/>
                </a:cubicBezTo>
                <a:cubicBezTo>
                  <a:pt x="9106" y="3695"/>
                  <a:pt x="9076" y="3769"/>
                  <a:pt x="8979" y="3845"/>
                </a:cubicBezTo>
                <a:cubicBezTo>
                  <a:pt x="8962" y="3858"/>
                  <a:pt x="8804" y="3971"/>
                  <a:pt x="8781" y="3969"/>
                </a:cubicBezTo>
                <a:cubicBezTo>
                  <a:pt x="8773" y="3961"/>
                  <a:pt x="8764" y="3952"/>
                  <a:pt x="8756" y="3944"/>
                </a:cubicBezTo>
              </a:path>
              <a:path w="4267" h="1737">
                <a:moveTo>
                  <a:pt x="9277" y="3373"/>
                </a:moveTo>
                <a:cubicBezTo>
                  <a:pt x="9442" y="3332"/>
                  <a:pt x="9476" y="3308"/>
                  <a:pt x="9575" y="3349"/>
                </a:cubicBezTo>
              </a:path>
              <a:path w="4267" h="1737">
                <a:moveTo>
                  <a:pt x="9227" y="3572"/>
                </a:moveTo>
                <a:cubicBezTo>
                  <a:pt x="9290" y="3604"/>
                  <a:pt x="9397" y="3612"/>
                  <a:pt x="9475" y="3597"/>
                </a:cubicBezTo>
                <a:cubicBezTo>
                  <a:pt x="9544" y="3584"/>
                  <a:pt x="9609" y="3569"/>
                  <a:pt x="9674" y="3547"/>
                </a:cubicBezTo>
              </a:path>
              <a:path w="4267" h="1737">
                <a:moveTo>
                  <a:pt x="10046" y="2877"/>
                </a:moveTo>
                <a:cubicBezTo>
                  <a:pt x="10030" y="3044"/>
                  <a:pt x="10002" y="3208"/>
                  <a:pt x="9996" y="3373"/>
                </a:cubicBezTo>
                <a:cubicBezTo>
                  <a:pt x="9992" y="3479"/>
                  <a:pt x="10032" y="3570"/>
                  <a:pt x="10046" y="3671"/>
                </a:cubicBezTo>
                <a:cubicBezTo>
                  <a:pt x="10052" y="3710"/>
                  <a:pt x="10046" y="3755"/>
                  <a:pt x="10046" y="3795"/>
                </a:cubicBezTo>
              </a:path>
              <a:path w="4267" h="1737">
                <a:moveTo>
                  <a:pt x="10468" y="3423"/>
                </a:moveTo>
                <a:cubicBezTo>
                  <a:pt x="10567" y="3423"/>
                  <a:pt x="10666" y="3423"/>
                  <a:pt x="10765" y="3423"/>
                </a:cubicBezTo>
              </a:path>
              <a:path w="4267" h="1737">
                <a:moveTo>
                  <a:pt x="10914" y="3249"/>
                </a:moveTo>
                <a:cubicBezTo>
                  <a:pt x="10962" y="3387"/>
                  <a:pt x="11011" y="3491"/>
                  <a:pt x="11112" y="3597"/>
                </a:cubicBezTo>
                <a:cubicBezTo>
                  <a:pt x="11177" y="3665"/>
                  <a:pt x="11253" y="3705"/>
                  <a:pt x="11336" y="3746"/>
                </a:cubicBezTo>
                <a:cubicBezTo>
                  <a:pt x="11352" y="3754"/>
                  <a:pt x="11369" y="3762"/>
                  <a:pt x="11385" y="3770"/>
                </a:cubicBezTo>
              </a:path>
              <a:path w="4267" h="1737">
                <a:moveTo>
                  <a:pt x="11237" y="3423"/>
                </a:moveTo>
                <a:cubicBezTo>
                  <a:pt x="11154" y="3527"/>
                  <a:pt x="11067" y="3635"/>
                  <a:pt x="10964" y="3721"/>
                </a:cubicBezTo>
                <a:cubicBezTo>
                  <a:pt x="10844" y="3810"/>
                  <a:pt x="10789" y="3847"/>
                  <a:pt x="10691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500040" y="1963800"/>
            <a:ext cx="2017800" cy="393480"/>
          </a:xfrm>
          <a:custGeom>
            <a:avLst/>
            <a:gdLst/>
            <a:ahLst/>
            <a:rect l="l" t="t" r="r" b="b"/>
            <a:pathLst>
              <a:path w="5607" h="1092">
                <a:moveTo>
                  <a:pt x="1811" y="6028"/>
                </a:moveTo>
                <a:cubicBezTo>
                  <a:pt x="1811" y="6077"/>
                  <a:pt x="1811" y="6094"/>
                  <a:pt x="1811" y="6127"/>
                </a:cubicBezTo>
                <a:cubicBezTo>
                  <a:pt x="1791" y="6073"/>
                  <a:pt x="1783" y="5994"/>
                  <a:pt x="1736" y="5953"/>
                </a:cubicBezTo>
                <a:cubicBezTo>
                  <a:pt x="1687" y="5910"/>
                  <a:pt x="1607" y="5918"/>
                  <a:pt x="1563" y="5953"/>
                </a:cubicBezTo>
                <a:cubicBezTo>
                  <a:pt x="1515" y="5992"/>
                  <a:pt x="1438" y="6040"/>
                  <a:pt x="1414" y="6102"/>
                </a:cubicBezTo>
                <a:cubicBezTo>
                  <a:pt x="1395" y="6153"/>
                  <a:pt x="1373" y="6267"/>
                  <a:pt x="1389" y="6325"/>
                </a:cubicBezTo>
                <a:cubicBezTo>
                  <a:pt x="1406" y="6386"/>
                  <a:pt x="1471" y="6461"/>
                  <a:pt x="1538" y="6449"/>
                </a:cubicBezTo>
                <a:cubicBezTo>
                  <a:pt x="1622" y="6434"/>
                  <a:pt x="1683" y="6412"/>
                  <a:pt x="1736" y="6350"/>
                </a:cubicBezTo>
                <a:cubicBezTo>
                  <a:pt x="1783" y="6295"/>
                  <a:pt x="1932" y="6176"/>
                  <a:pt x="1860" y="6176"/>
                </a:cubicBezTo>
                <a:cubicBezTo>
                  <a:pt x="1789" y="6176"/>
                  <a:pt x="1917" y="6342"/>
                  <a:pt x="1935" y="6350"/>
                </a:cubicBezTo>
                <a:cubicBezTo>
                  <a:pt x="1951" y="6350"/>
                  <a:pt x="1968" y="6350"/>
                  <a:pt x="1984" y="6350"/>
                </a:cubicBezTo>
              </a:path>
              <a:path w="5607" h="1092">
                <a:moveTo>
                  <a:pt x="1984" y="5457"/>
                </a:moveTo>
                <a:cubicBezTo>
                  <a:pt x="2067" y="5517"/>
                  <a:pt x="2135" y="5582"/>
                  <a:pt x="2208" y="5655"/>
                </a:cubicBezTo>
                <a:cubicBezTo>
                  <a:pt x="2298" y="5745"/>
                  <a:pt x="2384" y="5884"/>
                  <a:pt x="2431" y="6003"/>
                </a:cubicBezTo>
                <a:cubicBezTo>
                  <a:pt x="2467" y="6095"/>
                  <a:pt x="2475" y="6251"/>
                  <a:pt x="2456" y="6350"/>
                </a:cubicBezTo>
                <a:cubicBezTo>
                  <a:pt x="2443" y="6420"/>
                  <a:pt x="2379" y="6472"/>
                  <a:pt x="2332" y="6524"/>
                </a:cubicBezTo>
                <a:cubicBezTo>
                  <a:pt x="2274" y="6588"/>
                  <a:pt x="2365" y="6508"/>
                  <a:pt x="2381" y="6499"/>
                </a:cubicBezTo>
              </a:path>
              <a:path w="5607" h="1092">
                <a:moveTo>
                  <a:pt x="3001" y="5879"/>
                </a:moveTo>
                <a:cubicBezTo>
                  <a:pt x="3040" y="5965"/>
                  <a:pt x="3075" y="6026"/>
                  <a:pt x="3125" y="6102"/>
                </a:cubicBezTo>
                <a:cubicBezTo>
                  <a:pt x="3180" y="6186"/>
                  <a:pt x="3227" y="6253"/>
                  <a:pt x="3299" y="6325"/>
                </a:cubicBezTo>
                <a:cubicBezTo>
                  <a:pt x="3337" y="6363"/>
                  <a:pt x="3420" y="6435"/>
                  <a:pt x="3473" y="6449"/>
                </a:cubicBezTo>
                <a:cubicBezTo>
                  <a:pt x="3514" y="6449"/>
                  <a:pt x="3530" y="6457"/>
                  <a:pt x="3522" y="6424"/>
                </a:cubicBezTo>
              </a:path>
              <a:path w="5607" h="1092">
                <a:moveTo>
                  <a:pt x="3299" y="5904"/>
                </a:moveTo>
                <a:cubicBezTo>
                  <a:pt x="3274" y="5991"/>
                  <a:pt x="3248" y="6073"/>
                  <a:pt x="3200" y="6152"/>
                </a:cubicBezTo>
                <a:cubicBezTo>
                  <a:pt x="3152" y="6231"/>
                  <a:pt x="3129" y="6325"/>
                  <a:pt x="3076" y="6400"/>
                </a:cubicBezTo>
                <a:cubicBezTo>
                  <a:pt x="3052" y="6434"/>
                  <a:pt x="3006" y="6542"/>
                  <a:pt x="3026" y="6474"/>
                </a:cubicBezTo>
                <a:cubicBezTo>
                  <a:pt x="3026" y="6466"/>
                  <a:pt x="3026" y="6457"/>
                  <a:pt x="3026" y="6449"/>
                </a:cubicBezTo>
              </a:path>
              <a:path w="5607" h="1092">
                <a:moveTo>
                  <a:pt x="3497" y="5581"/>
                </a:moveTo>
                <a:cubicBezTo>
                  <a:pt x="3628" y="5535"/>
                  <a:pt x="3613" y="5515"/>
                  <a:pt x="3721" y="5556"/>
                </a:cubicBezTo>
                <a:cubicBezTo>
                  <a:pt x="3710" y="5630"/>
                  <a:pt x="3689" y="5665"/>
                  <a:pt x="3621" y="5705"/>
                </a:cubicBezTo>
                <a:cubicBezTo>
                  <a:pt x="3565" y="5738"/>
                  <a:pt x="3543" y="5783"/>
                  <a:pt x="3497" y="5829"/>
                </a:cubicBezTo>
                <a:cubicBezTo>
                  <a:pt x="3570" y="5856"/>
                  <a:pt x="3666" y="5872"/>
                  <a:pt x="3746" y="5854"/>
                </a:cubicBezTo>
                <a:cubicBezTo>
                  <a:pt x="3808" y="5822"/>
                  <a:pt x="3839" y="5814"/>
                  <a:pt x="3894" y="5829"/>
                </a:cubicBezTo>
              </a:path>
              <a:path w="5607" h="1092">
                <a:moveTo>
                  <a:pt x="4266" y="5804"/>
                </a:moveTo>
                <a:cubicBezTo>
                  <a:pt x="4266" y="5910"/>
                  <a:pt x="4285" y="6002"/>
                  <a:pt x="4291" y="6102"/>
                </a:cubicBezTo>
                <a:cubicBezTo>
                  <a:pt x="4294" y="6157"/>
                  <a:pt x="4309" y="6197"/>
                  <a:pt x="4316" y="6251"/>
                </a:cubicBezTo>
              </a:path>
              <a:path w="5607" h="1092">
                <a:moveTo>
                  <a:pt x="3994" y="6052"/>
                </a:moveTo>
                <a:cubicBezTo>
                  <a:pt x="4081" y="6052"/>
                  <a:pt x="4156" y="6031"/>
                  <a:pt x="4242" y="6028"/>
                </a:cubicBezTo>
                <a:cubicBezTo>
                  <a:pt x="4390" y="6023"/>
                  <a:pt x="4540" y="6028"/>
                  <a:pt x="4688" y="6028"/>
                </a:cubicBezTo>
              </a:path>
              <a:path w="5607" h="1092">
                <a:moveTo>
                  <a:pt x="5110" y="5655"/>
                </a:moveTo>
                <a:cubicBezTo>
                  <a:pt x="5110" y="5826"/>
                  <a:pt x="5116" y="5986"/>
                  <a:pt x="5135" y="6152"/>
                </a:cubicBezTo>
                <a:cubicBezTo>
                  <a:pt x="5145" y="6238"/>
                  <a:pt x="5130" y="6343"/>
                  <a:pt x="5159" y="6424"/>
                </a:cubicBezTo>
                <a:cubicBezTo>
                  <a:pt x="5178" y="6477"/>
                  <a:pt x="5206" y="6463"/>
                  <a:pt x="5234" y="6449"/>
                </a:cubicBezTo>
              </a:path>
              <a:path w="5607" h="1092">
                <a:moveTo>
                  <a:pt x="5432" y="6127"/>
                </a:moveTo>
                <a:cubicBezTo>
                  <a:pt x="5581" y="6111"/>
                  <a:pt x="5708" y="6102"/>
                  <a:pt x="5854" y="6102"/>
                </a:cubicBezTo>
                <a:cubicBezTo>
                  <a:pt x="5879" y="6102"/>
                  <a:pt x="5903" y="6102"/>
                  <a:pt x="5928" y="6102"/>
                </a:cubicBezTo>
              </a:path>
              <a:path w="5607" h="1092">
                <a:moveTo>
                  <a:pt x="6325" y="5879"/>
                </a:moveTo>
                <a:cubicBezTo>
                  <a:pt x="6380" y="5956"/>
                  <a:pt x="6413" y="6034"/>
                  <a:pt x="6474" y="6102"/>
                </a:cubicBezTo>
                <a:cubicBezTo>
                  <a:pt x="6577" y="6218"/>
                  <a:pt x="6661" y="6338"/>
                  <a:pt x="6772" y="6449"/>
                </a:cubicBezTo>
                <a:cubicBezTo>
                  <a:pt x="6812" y="6490"/>
                  <a:pt x="6881" y="6563"/>
                  <a:pt x="6945" y="6548"/>
                </a:cubicBezTo>
                <a:cubicBezTo>
                  <a:pt x="6962" y="6540"/>
                  <a:pt x="6978" y="6532"/>
                  <a:pt x="6995" y="6524"/>
                </a:cubicBezTo>
              </a:path>
              <a:path w="5607" h="1092">
                <a:moveTo>
                  <a:pt x="6672" y="6003"/>
                </a:moveTo>
                <a:cubicBezTo>
                  <a:pt x="6596" y="6072"/>
                  <a:pt x="6522" y="6128"/>
                  <a:pt x="6449" y="6201"/>
                </a:cubicBezTo>
                <a:cubicBezTo>
                  <a:pt x="6366" y="6284"/>
                  <a:pt x="6284" y="6367"/>
                  <a:pt x="6201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554040" y="2562120"/>
            <a:ext cx="322200" cy="519120"/>
          </a:xfrm>
          <a:custGeom>
            <a:avLst/>
            <a:gdLst/>
            <a:ahLst/>
            <a:rect l="l" t="t" r="r" b="b"/>
            <a:pathLst>
              <a:path w="894" h="1440">
                <a:moveTo>
                  <a:pt x="1563" y="7441"/>
                </a:moveTo>
                <a:cubicBezTo>
                  <a:pt x="1542" y="7544"/>
                  <a:pt x="1521" y="7657"/>
                  <a:pt x="1538" y="7764"/>
                </a:cubicBezTo>
                <a:cubicBezTo>
                  <a:pt x="1557" y="7883"/>
                  <a:pt x="1563" y="7990"/>
                  <a:pt x="1563" y="8111"/>
                </a:cubicBezTo>
                <a:cubicBezTo>
                  <a:pt x="1563" y="8177"/>
                  <a:pt x="1563" y="8244"/>
                  <a:pt x="1563" y="8310"/>
                </a:cubicBezTo>
                <a:cubicBezTo>
                  <a:pt x="1563" y="8235"/>
                  <a:pt x="1576" y="8171"/>
                  <a:pt x="1588" y="8111"/>
                </a:cubicBezTo>
                <a:cubicBezTo>
                  <a:pt x="1604" y="8032"/>
                  <a:pt x="1598" y="7990"/>
                  <a:pt x="1637" y="7913"/>
                </a:cubicBezTo>
                <a:cubicBezTo>
                  <a:pt x="1685" y="7816"/>
                  <a:pt x="1718" y="7828"/>
                  <a:pt x="1811" y="7838"/>
                </a:cubicBezTo>
                <a:cubicBezTo>
                  <a:pt x="1890" y="7846"/>
                  <a:pt x="1971" y="7933"/>
                  <a:pt x="2034" y="7987"/>
                </a:cubicBezTo>
                <a:cubicBezTo>
                  <a:pt x="2106" y="8048"/>
                  <a:pt x="2144" y="8123"/>
                  <a:pt x="2108" y="8210"/>
                </a:cubicBezTo>
                <a:cubicBezTo>
                  <a:pt x="2067" y="8309"/>
                  <a:pt x="1966" y="8381"/>
                  <a:pt x="1860" y="8409"/>
                </a:cubicBezTo>
                <a:cubicBezTo>
                  <a:pt x="1763" y="8434"/>
                  <a:pt x="1696" y="8400"/>
                  <a:pt x="1637" y="8359"/>
                </a:cubicBezTo>
                <a:cubicBezTo>
                  <a:pt x="1594" y="8337"/>
                  <a:pt x="1583" y="8333"/>
                  <a:pt x="1563" y="8310"/>
                </a:cubicBezTo>
              </a:path>
              <a:path w="894" h="1440">
                <a:moveTo>
                  <a:pt x="1662" y="7119"/>
                </a:moveTo>
                <a:cubicBezTo>
                  <a:pt x="1821" y="7130"/>
                  <a:pt x="1879" y="7172"/>
                  <a:pt x="2009" y="7268"/>
                </a:cubicBezTo>
                <a:cubicBezTo>
                  <a:pt x="2143" y="7367"/>
                  <a:pt x="2251" y="7469"/>
                  <a:pt x="2332" y="7615"/>
                </a:cubicBezTo>
                <a:cubicBezTo>
                  <a:pt x="2407" y="7750"/>
                  <a:pt x="2439" y="7887"/>
                  <a:pt x="2406" y="8037"/>
                </a:cubicBezTo>
                <a:cubicBezTo>
                  <a:pt x="2379" y="8161"/>
                  <a:pt x="2269" y="8323"/>
                  <a:pt x="2183" y="8409"/>
                </a:cubicBezTo>
                <a:cubicBezTo>
                  <a:pt x="2135" y="8457"/>
                  <a:pt x="2083" y="8503"/>
                  <a:pt x="2034" y="85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1152360" y="2705040"/>
            <a:ext cx="812880" cy="430200"/>
          </a:xfrm>
          <a:custGeom>
            <a:avLst/>
            <a:gdLst/>
            <a:ahLst/>
            <a:rect l="l" t="t" r="r" b="b"/>
            <a:pathLst>
              <a:path w="2258" h="1191">
                <a:moveTo>
                  <a:pt x="3200" y="7962"/>
                </a:moveTo>
                <a:cubicBezTo>
                  <a:pt x="3250" y="8043"/>
                  <a:pt x="3316" y="8110"/>
                  <a:pt x="3373" y="8186"/>
                </a:cubicBezTo>
                <a:cubicBezTo>
                  <a:pt x="3449" y="8287"/>
                  <a:pt x="3531" y="8349"/>
                  <a:pt x="3621" y="8434"/>
                </a:cubicBezTo>
                <a:cubicBezTo>
                  <a:pt x="3686" y="8496"/>
                  <a:pt x="3714" y="8559"/>
                  <a:pt x="3795" y="8582"/>
                </a:cubicBezTo>
                <a:cubicBezTo>
                  <a:pt x="3803" y="8582"/>
                  <a:pt x="3812" y="8582"/>
                  <a:pt x="3820" y="8582"/>
                </a:cubicBezTo>
              </a:path>
              <a:path w="2258" h="1191">
                <a:moveTo>
                  <a:pt x="3671" y="7863"/>
                </a:moveTo>
                <a:cubicBezTo>
                  <a:pt x="3643" y="7938"/>
                  <a:pt x="3645" y="8007"/>
                  <a:pt x="3621" y="8086"/>
                </a:cubicBezTo>
                <a:cubicBezTo>
                  <a:pt x="3589" y="8194"/>
                  <a:pt x="3557" y="8302"/>
                  <a:pt x="3522" y="8409"/>
                </a:cubicBezTo>
                <a:cubicBezTo>
                  <a:pt x="3490" y="8509"/>
                  <a:pt x="3453" y="8571"/>
                  <a:pt x="3398" y="8657"/>
                </a:cubicBezTo>
                <a:cubicBezTo>
                  <a:pt x="3390" y="8673"/>
                  <a:pt x="3381" y="8690"/>
                  <a:pt x="3373" y="8706"/>
                </a:cubicBezTo>
              </a:path>
              <a:path w="2258" h="1191">
                <a:moveTo>
                  <a:pt x="3770" y="7541"/>
                </a:moveTo>
                <a:cubicBezTo>
                  <a:pt x="3904" y="7512"/>
                  <a:pt x="3897" y="7495"/>
                  <a:pt x="3969" y="7590"/>
                </a:cubicBezTo>
                <a:cubicBezTo>
                  <a:pt x="3995" y="7624"/>
                  <a:pt x="3977" y="7673"/>
                  <a:pt x="3944" y="7714"/>
                </a:cubicBezTo>
                <a:cubicBezTo>
                  <a:pt x="3910" y="7757"/>
                  <a:pt x="3841" y="7813"/>
                  <a:pt x="3944" y="7838"/>
                </a:cubicBezTo>
                <a:cubicBezTo>
                  <a:pt x="4015" y="7855"/>
                  <a:pt x="4120" y="7860"/>
                  <a:pt x="4192" y="7863"/>
                </a:cubicBezTo>
                <a:cubicBezTo>
                  <a:pt x="4217" y="7863"/>
                  <a:pt x="4241" y="7863"/>
                  <a:pt x="4266" y="7863"/>
                </a:cubicBezTo>
              </a:path>
              <a:path w="2258" h="1191">
                <a:moveTo>
                  <a:pt x="4242" y="8186"/>
                </a:moveTo>
                <a:cubicBezTo>
                  <a:pt x="4330" y="8209"/>
                  <a:pt x="4398" y="8210"/>
                  <a:pt x="4490" y="8210"/>
                </a:cubicBezTo>
                <a:cubicBezTo>
                  <a:pt x="4586" y="8210"/>
                  <a:pt x="4668" y="8231"/>
                  <a:pt x="4762" y="8235"/>
                </a:cubicBezTo>
                <a:cubicBezTo>
                  <a:pt x="4829" y="8238"/>
                  <a:pt x="4883" y="8242"/>
                  <a:pt x="4936" y="8210"/>
                </a:cubicBezTo>
              </a:path>
              <a:path w="2258" h="1191">
                <a:moveTo>
                  <a:pt x="5358" y="7640"/>
                </a:moveTo>
                <a:cubicBezTo>
                  <a:pt x="5358" y="7817"/>
                  <a:pt x="5362" y="7992"/>
                  <a:pt x="5383" y="8161"/>
                </a:cubicBezTo>
                <a:cubicBezTo>
                  <a:pt x="5399" y="8291"/>
                  <a:pt x="5393" y="8429"/>
                  <a:pt x="5407" y="8558"/>
                </a:cubicBezTo>
                <a:cubicBezTo>
                  <a:pt x="5407" y="8624"/>
                  <a:pt x="5399" y="8649"/>
                  <a:pt x="5457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2205000" y="2867040"/>
            <a:ext cx="546120" cy="3301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6251" y="7962"/>
                </a:moveTo>
                <a:cubicBezTo>
                  <a:pt x="6260" y="8032"/>
                  <a:pt x="6252" y="8231"/>
                  <a:pt x="6276" y="8310"/>
                </a:cubicBezTo>
                <a:cubicBezTo>
                  <a:pt x="6290" y="8355"/>
                  <a:pt x="6318" y="8430"/>
                  <a:pt x="6325" y="8483"/>
                </a:cubicBezTo>
                <a:cubicBezTo>
                  <a:pt x="6325" y="8508"/>
                  <a:pt x="6325" y="8533"/>
                  <a:pt x="6325" y="8558"/>
                </a:cubicBezTo>
              </a:path>
              <a:path w="1514" h="919">
                <a:moveTo>
                  <a:pt x="6127" y="8334"/>
                </a:moveTo>
                <a:cubicBezTo>
                  <a:pt x="6254" y="8307"/>
                  <a:pt x="6348" y="8329"/>
                  <a:pt x="6474" y="8334"/>
                </a:cubicBezTo>
                <a:cubicBezTo>
                  <a:pt x="6499" y="8334"/>
                  <a:pt x="6523" y="8334"/>
                  <a:pt x="6548" y="8334"/>
                </a:cubicBezTo>
              </a:path>
              <a:path w="1514" h="919">
                <a:moveTo>
                  <a:pt x="6970" y="8037"/>
                </a:moveTo>
                <a:cubicBezTo>
                  <a:pt x="7006" y="8134"/>
                  <a:pt x="7051" y="8206"/>
                  <a:pt x="7119" y="8285"/>
                </a:cubicBezTo>
                <a:cubicBezTo>
                  <a:pt x="7198" y="8376"/>
                  <a:pt x="7270" y="8484"/>
                  <a:pt x="7367" y="8558"/>
                </a:cubicBezTo>
                <a:cubicBezTo>
                  <a:pt x="7439" y="8613"/>
                  <a:pt x="7536" y="8689"/>
                  <a:pt x="7615" y="8706"/>
                </a:cubicBezTo>
                <a:cubicBezTo>
                  <a:pt x="7623" y="8706"/>
                  <a:pt x="7632" y="8706"/>
                  <a:pt x="7640" y="8706"/>
                </a:cubicBezTo>
              </a:path>
              <a:path w="1514" h="919">
                <a:moveTo>
                  <a:pt x="7491" y="7962"/>
                </a:moveTo>
                <a:cubicBezTo>
                  <a:pt x="7365" y="8089"/>
                  <a:pt x="7283" y="8183"/>
                  <a:pt x="7193" y="8334"/>
                </a:cubicBezTo>
                <a:cubicBezTo>
                  <a:pt x="7120" y="8456"/>
                  <a:pt x="7070" y="8586"/>
                  <a:pt x="6995" y="8706"/>
                </a:cubicBezTo>
                <a:cubicBezTo>
                  <a:pt x="6941" y="8787"/>
                  <a:pt x="6922" y="8818"/>
                  <a:pt x="6896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10"/>
          <p:cNvSpPr/>
          <p:nvPr/>
        </p:nvSpPr>
        <p:spPr>
          <a:xfrm>
            <a:off x="544680" y="3463920"/>
            <a:ext cx="304560" cy="393840"/>
          </a:xfrm>
          <a:custGeom>
            <a:avLst/>
            <a:gdLst/>
            <a:ahLst/>
            <a:rect l="l" t="t" r="r" b="b"/>
            <a:pathLst>
              <a:path w="844" h="1093">
                <a:moveTo>
                  <a:pt x="1935" y="10046"/>
                </a:moveTo>
                <a:cubicBezTo>
                  <a:pt x="1935" y="9994"/>
                  <a:pt x="1941" y="9928"/>
                  <a:pt x="1885" y="9897"/>
                </a:cubicBezTo>
                <a:cubicBezTo>
                  <a:pt x="1839" y="9897"/>
                  <a:pt x="1812" y="9885"/>
                  <a:pt x="1786" y="9847"/>
                </a:cubicBezTo>
                <a:cubicBezTo>
                  <a:pt x="1676" y="9920"/>
                  <a:pt x="1605" y="9911"/>
                  <a:pt x="1538" y="10071"/>
                </a:cubicBezTo>
                <a:cubicBezTo>
                  <a:pt x="1505" y="10150"/>
                  <a:pt x="1504" y="10272"/>
                  <a:pt x="1563" y="10344"/>
                </a:cubicBezTo>
                <a:cubicBezTo>
                  <a:pt x="1596" y="10384"/>
                  <a:pt x="1713" y="10466"/>
                  <a:pt x="1761" y="10492"/>
                </a:cubicBezTo>
                <a:cubicBezTo>
                  <a:pt x="1802" y="10492"/>
                  <a:pt x="1827" y="10492"/>
                  <a:pt x="1860" y="10492"/>
                </a:cubicBezTo>
              </a:path>
              <a:path w="844" h="1093">
                <a:moveTo>
                  <a:pt x="2059" y="9624"/>
                </a:moveTo>
                <a:cubicBezTo>
                  <a:pt x="2184" y="9775"/>
                  <a:pt x="2258" y="9856"/>
                  <a:pt x="2307" y="10046"/>
                </a:cubicBezTo>
                <a:cubicBezTo>
                  <a:pt x="2341" y="10179"/>
                  <a:pt x="2371" y="10286"/>
                  <a:pt x="2332" y="10418"/>
                </a:cubicBezTo>
                <a:cubicBezTo>
                  <a:pt x="2310" y="10491"/>
                  <a:pt x="2241" y="10592"/>
                  <a:pt x="2183" y="10641"/>
                </a:cubicBezTo>
                <a:cubicBezTo>
                  <a:pt x="2147" y="10672"/>
                  <a:pt x="2116" y="10723"/>
                  <a:pt x="2084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11"/>
          <p:cNvSpPr/>
          <p:nvPr/>
        </p:nvSpPr>
        <p:spPr>
          <a:xfrm>
            <a:off x="1071720" y="3456000"/>
            <a:ext cx="2116080" cy="482760"/>
          </a:xfrm>
          <a:custGeom>
            <a:avLst/>
            <a:gdLst/>
            <a:ahLst/>
            <a:rect l="l" t="t" r="r" b="b"/>
            <a:pathLst>
              <a:path w="5879" h="1341">
                <a:moveTo>
                  <a:pt x="2977" y="9823"/>
                </a:moveTo>
                <a:cubicBezTo>
                  <a:pt x="3013" y="9851"/>
                  <a:pt x="3053" y="9942"/>
                  <a:pt x="3076" y="9996"/>
                </a:cubicBezTo>
                <a:cubicBezTo>
                  <a:pt x="3137" y="10138"/>
                  <a:pt x="3180" y="10224"/>
                  <a:pt x="3274" y="10344"/>
                </a:cubicBezTo>
                <a:cubicBezTo>
                  <a:pt x="3345" y="10435"/>
                  <a:pt x="3436" y="10498"/>
                  <a:pt x="3497" y="10592"/>
                </a:cubicBezTo>
                <a:cubicBezTo>
                  <a:pt x="3505" y="10608"/>
                  <a:pt x="3514" y="10625"/>
                  <a:pt x="3522" y="10641"/>
                </a:cubicBezTo>
              </a:path>
              <a:path w="5879" h="1341">
                <a:moveTo>
                  <a:pt x="3373" y="9897"/>
                </a:moveTo>
                <a:cubicBezTo>
                  <a:pt x="3292" y="10019"/>
                  <a:pt x="3233" y="10152"/>
                  <a:pt x="3150" y="10269"/>
                </a:cubicBezTo>
                <a:cubicBezTo>
                  <a:pt x="3107" y="10329"/>
                  <a:pt x="3070" y="10417"/>
                  <a:pt x="3051" y="10492"/>
                </a:cubicBezTo>
                <a:cubicBezTo>
                  <a:pt x="3051" y="10500"/>
                  <a:pt x="3051" y="10509"/>
                  <a:pt x="3051" y="10517"/>
                </a:cubicBezTo>
              </a:path>
              <a:path w="5879" h="1341">
                <a:moveTo>
                  <a:pt x="3398" y="9748"/>
                </a:moveTo>
                <a:cubicBezTo>
                  <a:pt x="3560" y="9692"/>
                  <a:pt x="3598" y="9645"/>
                  <a:pt x="3721" y="9748"/>
                </a:cubicBezTo>
                <a:cubicBezTo>
                  <a:pt x="3784" y="9801"/>
                  <a:pt x="3765" y="9839"/>
                  <a:pt x="3721" y="9897"/>
                </a:cubicBezTo>
                <a:cubicBezTo>
                  <a:pt x="3701" y="9924"/>
                  <a:pt x="3635" y="10003"/>
                  <a:pt x="3671" y="10046"/>
                </a:cubicBezTo>
                <a:cubicBezTo>
                  <a:pt x="3704" y="10086"/>
                  <a:pt x="3776" y="10071"/>
                  <a:pt x="3820" y="10071"/>
                </a:cubicBezTo>
              </a:path>
              <a:path w="5879" h="1341">
                <a:moveTo>
                  <a:pt x="4316" y="9674"/>
                </a:moveTo>
                <a:cubicBezTo>
                  <a:pt x="4220" y="9770"/>
                  <a:pt x="4141" y="9842"/>
                  <a:pt x="4093" y="9971"/>
                </a:cubicBezTo>
                <a:cubicBezTo>
                  <a:pt x="4061" y="10056"/>
                  <a:pt x="4011" y="10204"/>
                  <a:pt x="4018" y="10294"/>
                </a:cubicBezTo>
                <a:cubicBezTo>
                  <a:pt x="4025" y="10384"/>
                  <a:pt x="4088" y="10522"/>
                  <a:pt x="4142" y="10592"/>
                </a:cubicBezTo>
                <a:cubicBezTo>
                  <a:pt x="4190" y="10653"/>
                  <a:pt x="4225" y="10674"/>
                  <a:pt x="4291" y="10691"/>
                </a:cubicBezTo>
              </a:path>
              <a:path w="5879" h="1341">
                <a:moveTo>
                  <a:pt x="4539" y="9897"/>
                </a:moveTo>
                <a:cubicBezTo>
                  <a:pt x="4539" y="10099"/>
                  <a:pt x="4541" y="10292"/>
                  <a:pt x="4564" y="10492"/>
                </a:cubicBezTo>
                <a:cubicBezTo>
                  <a:pt x="4568" y="10528"/>
                  <a:pt x="4582" y="10557"/>
                  <a:pt x="4589" y="10592"/>
                </a:cubicBezTo>
              </a:path>
              <a:path w="5879" h="1341">
                <a:moveTo>
                  <a:pt x="4762" y="10269"/>
                </a:moveTo>
                <a:cubicBezTo>
                  <a:pt x="4855" y="10230"/>
                  <a:pt x="4933" y="10199"/>
                  <a:pt x="5035" y="10195"/>
                </a:cubicBezTo>
                <a:cubicBezTo>
                  <a:pt x="5060" y="10195"/>
                  <a:pt x="5085" y="10195"/>
                  <a:pt x="5110" y="10195"/>
                </a:cubicBezTo>
              </a:path>
              <a:path w="5879" h="1341">
                <a:moveTo>
                  <a:pt x="5234" y="10046"/>
                </a:moveTo>
                <a:cubicBezTo>
                  <a:pt x="5276" y="10146"/>
                  <a:pt x="5323" y="10220"/>
                  <a:pt x="5383" y="10294"/>
                </a:cubicBezTo>
                <a:cubicBezTo>
                  <a:pt x="5451" y="10378"/>
                  <a:pt x="5500" y="10495"/>
                  <a:pt x="5581" y="10567"/>
                </a:cubicBezTo>
                <a:cubicBezTo>
                  <a:pt x="5635" y="10594"/>
                  <a:pt x="5655" y="10605"/>
                  <a:pt x="5680" y="10641"/>
                </a:cubicBezTo>
              </a:path>
              <a:path w="5879" h="1341">
                <a:moveTo>
                  <a:pt x="5407" y="10145"/>
                </a:moveTo>
                <a:cubicBezTo>
                  <a:pt x="5332" y="10241"/>
                  <a:pt x="5258" y="10335"/>
                  <a:pt x="5209" y="10443"/>
                </a:cubicBezTo>
                <a:cubicBezTo>
                  <a:pt x="5173" y="10533"/>
                  <a:pt x="5156" y="10538"/>
                  <a:pt x="5159" y="10592"/>
                </a:cubicBezTo>
              </a:path>
              <a:path w="5879" h="1341">
                <a:moveTo>
                  <a:pt x="5482" y="9599"/>
                </a:moveTo>
                <a:cubicBezTo>
                  <a:pt x="5655" y="9797"/>
                  <a:pt x="5697" y="9893"/>
                  <a:pt x="5804" y="10120"/>
                </a:cubicBezTo>
                <a:cubicBezTo>
                  <a:pt x="5851" y="10220"/>
                  <a:pt x="5895" y="10375"/>
                  <a:pt x="5854" y="10492"/>
                </a:cubicBezTo>
                <a:cubicBezTo>
                  <a:pt x="5839" y="10536"/>
                  <a:pt x="5755" y="10790"/>
                  <a:pt x="5705" y="10790"/>
                </a:cubicBezTo>
                <a:cubicBezTo>
                  <a:pt x="5680" y="10765"/>
                  <a:pt x="5672" y="10757"/>
                  <a:pt x="5705" y="10740"/>
                </a:cubicBezTo>
              </a:path>
              <a:path w="5879" h="1341">
                <a:moveTo>
                  <a:pt x="6102" y="10344"/>
                </a:moveTo>
                <a:cubicBezTo>
                  <a:pt x="6176" y="10344"/>
                  <a:pt x="6251" y="10344"/>
                  <a:pt x="6325" y="10344"/>
                </a:cubicBezTo>
              </a:path>
              <a:path w="5879" h="1341">
                <a:moveTo>
                  <a:pt x="6176" y="10517"/>
                </a:moveTo>
                <a:cubicBezTo>
                  <a:pt x="6287" y="10565"/>
                  <a:pt x="6330" y="10567"/>
                  <a:pt x="6449" y="10567"/>
                </a:cubicBezTo>
              </a:path>
              <a:path w="5879" h="1341">
                <a:moveTo>
                  <a:pt x="6697" y="10195"/>
                </a:moveTo>
                <a:cubicBezTo>
                  <a:pt x="6744" y="10254"/>
                  <a:pt x="6779" y="10316"/>
                  <a:pt x="6821" y="10368"/>
                </a:cubicBezTo>
                <a:cubicBezTo>
                  <a:pt x="6898" y="10463"/>
                  <a:pt x="6986" y="10548"/>
                  <a:pt x="7069" y="10641"/>
                </a:cubicBezTo>
                <a:cubicBezTo>
                  <a:pt x="7145" y="10727"/>
                  <a:pt x="7209" y="10791"/>
                  <a:pt x="7317" y="10815"/>
                </a:cubicBezTo>
              </a:path>
              <a:path w="5879" h="1341">
                <a:moveTo>
                  <a:pt x="7069" y="10145"/>
                </a:moveTo>
                <a:cubicBezTo>
                  <a:pt x="7032" y="10264"/>
                  <a:pt x="6975" y="10317"/>
                  <a:pt x="6945" y="10443"/>
                </a:cubicBezTo>
                <a:cubicBezTo>
                  <a:pt x="6918" y="10557"/>
                  <a:pt x="6867" y="10676"/>
                  <a:pt x="6846" y="10790"/>
                </a:cubicBezTo>
                <a:cubicBezTo>
                  <a:pt x="6836" y="10842"/>
                  <a:pt x="6828" y="10886"/>
                  <a:pt x="6821" y="10939"/>
                </a:cubicBezTo>
              </a:path>
              <a:path w="5879" h="1341">
                <a:moveTo>
                  <a:pt x="7094" y="9748"/>
                </a:moveTo>
                <a:cubicBezTo>
                  <a:pt x="7204" y="9748"/>
                  <a:pt x="7363" y="9702"/>
                  <a:pt x="7417" y="9823"/>
                </a:cubicBezTo>
                <a:cubicBezTo>
                  <a:pt x="7459" y="9916"/>
                  <a:pt x="7412" y="9922"/>
                  <a:pt x="7367" y="9996"/>
                </a:cubicBezTo>
                <a:cubicBezTo>
                  <a:pt x="7342" y="10037"/>
                  <a:pt x="7274" y="10061"/>
                  <a:pt x="7293" y="10120"/>
                </a:cubicBezTo>
                <a:cubicBezTo>
                  <a:pt x="7321" y="10206"/>
                  <a:pt x="7381" y="10177"/>
                  <a:pt x="7441" y="10220"/>
                </a:cubicBezTo>
                <a:cubicBezTo>
                  <a:pt x="7492" y="10270"/>
                  <a:pt x="7510" y="10286"/>
                  <a:pt x="7565" y="10269"/>
                </a:cubicBezTo>
              </a:path>
              <a:path w="5879" h="1341">
                <a:moveTo>
                  <a:pt x="7615" y="10492"/>
                </a:moveTo>
                <a:cubicBezTo>
                  <a:pt x="7758" y="10492"/>
                  <a:pt x="7924" y="10526"/>
                  <a:pt x="8037" y="10443"/>
                </a:cubicBezTo>
              </a:path>
              <a:path w="5879" h="1341">
                <a:moveTo>
                  <a:pt x="8111" y="10195"/>
                </a:moveTo>
                <a:cubicBezTo>
                  <a:pt x="8158" y="10373"/>
                  <a:pt x="8256" y="10476"/>
                  <a:pt x="8359" y="10641"/>
                </a:cubicBezTo>
                <a:cubicBezTo>
                  <a:pt x="8421" y="10741"/>
                  <a:pt x="8474" y="10806"/>
                  <a:pt x="8558" y="10889"/>
                </a:cubicBezTo>
              </a:path>
              <a:path w="5879" h="1341">
                <a:moveTo>
                  <a:pt x="8409" y="10195"/>
                </a:moveTo>
                <a:cubicBezTo>
                  <a:pt x="8342" y="10286"/>
                  <a:pt x="8224" y="10408"/>
                  <a:pt x="8186" y="10517"/>
                </a:cubicBezTo>
                <a:cubicBezTo>
                  <a:pt x="8153" y="10612"/>
                  <a:pt x="8101" y="10763"/>
                  <a:pt x="8086" y="10864"/>
                </a:cubicBezTo>
                <a:cubicBezTo>
                  <a:pt x="8086" y="10922"/>
                  <a:pt x="8069" y="10947"/>
                  <a:pt x="8111" y="10939"/>
                </a:cubicBezTo>
              </a:path>
              <a:path w="5879" h="1341">
                <a:moveTo>
                  <a:pt x="8483" y="9748"/>
                </a:moveTo>
                <a:cubicBezTo>
                  <a:pt x="8620" y="9724"/>
                  <a:pt x="8587" y="9709"/>
                  <a:pt x="8706" y="9748"/>
                </a:cubicBezTo>
                <a:cubicBezTo>
                  <a:pt x="8787" y="9775"/>
                  <a:pt x="8829" y="9817"/>
                  <a:pt x="8731" y="9897"/>
                </a:cubicBezTo>
                <a:cubicBezTo>
                  <a:pt x="8703" y="9919"/>
                  <a:pt x="8634" y="9955"/>
                  <a:pt x="8607" y="9971"/>
                </a:cubicBezTo>
                <a:cubicBezTo>
                  <a:pt x="8599" y="9971"/>
                  <a:pt x="8590" y="9971"/>
                  <a:pt x="8582" y="9971"/>
                </a:cubicBezTo>
                <a:cubicBezTo>
                  <a:pt x="8643" y="10005"/>
                  <a:pt x="8771" y="10029"/>
                  <a:pt x="8806" y="10071"/>
                </a:cubicBezTo>
                <a:cubicBezTo>
                  <a:pt x="8855" y="10129"/>
                  <a:pt x="8873" y="10193"/>
                  <a:pt x="8781" y="10220"/>
                </a:cubicBezTo>
                <a:cubicBezTo>
                  <a:pt x="8729" y="10235"/>
                  <a:pt x="8642" y="10195"/>
                  <a:pt x="8582" y="10195"/>
                </a:cubicBezTo>
                <a:cubicBezTo>
                  <a:pt x="8566" y="10195"/>
                  <a:pt x="8549" y="10195"/>
                  <a:pt x="8533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12"/>
          <p:cNvSpPr/>
          <p:nvPr/>
        </p:nvSpPr>
        <p:spPr>
          <a:xfrm>
            <a:off x="561960" y="4010040"/>
            <a:ext cx="957240" cy="793800"/>
          </a:xfrm>
          <a:custGeom>
            <a:avLst/>
            <a:gdLst/>
            <a:ahLst/>
            <a:rect l="l" t="t" r="r" b="b"/>
            <a:pathLst>
              <a:path w="2655" h="2209">
                <a:moveTo>
                  <a:pt x="1910" y="11509"/>
                </a:moveTo>
                <a:cubicBezTo>
                  <a:pt x="1945" y="11603"/>
                  <a:pt x="1935" y="11723"/>
                  <a:pt x="1935" y="11832"/>
                </a:cubicBezTo>
                <a:cubicBezTo>
                  <a:pt x="1935" y="11936"/>
                  <a:pt x="1915" y="12027"/>
                  <a:pt x="1910" y="12129"/>
                </a:cubicBezTo>
                <a:cubicBezTo>
                  <a:pt x="1907" y="12196"/>
                  <a:pt x="1903" y="12250"/>
                  <a:pt x="1935" y="12303"/>
                </a:cubicBezTo>
                <a:cubicBezTo>
                  <a:pt x="1935" y="12221"/>
                  <a:pt x="1943" y="12155"/>
                  <a:pt x="1910" y="12080"/>
                </a:cubicBezTo>
                <a:cubicBezTo>
                  <a:pt x="1896" y="12048"/>
                  <a:pt x="1844" y="11943"/>
                  <a:pt x="1811" y="11931"/>
                </a:cubicBezTo>
                <a:cubicBezTo>
                  <a:pt x="1752" y="11910"/>
                  <a:pt x="1654" y="11934"/>
                  <a:pt x="1612" y="11981"/>
                </a:cubicBezTo>
                <a:cubicBezTo>
                  <a:pt x="1536" y="12066"/>
                  <a:pt x="1559" y="12154"/>
                  <a:pt x="1588" y="12254"/>
                </a:cubicBezTo>
                <a:cubicBezTo>
                  <a:pt x="1617" y="12355"/>
                  <a:pt x="1687" y="12412"/>
                  <a:pt x="1761" y="12477"/>
                </a:cubicBezTo>
                <a:cubicBezTo>
                  <a:pt x="1843" y="12550"/>
                  <a:pt x="1867" y="12523"/>
                  <a:pt x="1960" y="12477"/>
                </a:cubicBezTo>
              </a:path>
              <a:path w="2655" h="2209">
                <a:moveTo>
                  <a:pt x="1786" y="11162"/>
                </a:moveTo>
                <a:cubicBezTo>
                  <a:pt x="1843" y="11134"/>
                  <a:pt x="1918" y="11251"/>
                  <a:pt x="1960" y="11311"/>
                </a:cubicBezTo>
                <a:cubicBezTo>
                  <a:pt x="2084" y="11490"/>
                  <a:pt x="2162" y="11670"/>
                  <a:pt x="2208" y="11881"/>
                </a:cubicBezTo>
                <a:cubicBezTo>
                  <a:pt x="2250" y="12071"/>
                  <a:pt x="2256" y="12213"/>
                  <a:pt x="2208" y="12402"/>
                </a:cubicBezTo>
                <a:cubicBezTo>
                  <a:pt x="2176" y="12529"/>
                  <a:pt x="2129" y="12596"/>
                  <a:pt x="2059" y="12700"/>
                </a:cubicBezTo>
                <a:cubicBezTo>
                  <a:pt x="2019" y="12760"/>
                  <a:pt x="1992" y="12748"/>
                  <a:pt x="1984" y="12750"/>
                </a:cubicBezTo>
              </a:path>
              <a:path w="2655" h="2209">
                <a:moveTo>
                  <a:pt x="2828" y="11385"/>
                </a:moveTo>
                <a:cubicBezTo>
                  <a:pt x="2838" y="11474"/>
                  <a:pt x="2875" y="11561"/>
                  <a:pt x="2927" y="11633"/>
                </a:cubicBezTo>
                <a:cubicBezTo>
                  <a:pt x="3005" y="11742"/>
                  <a:pt x="3075" y="11817"/>
                  <a:pt x="3175" y="11906"/>
                </a:cubicBezTo>
                <a:cubicBezTo>
                  <a:pt x="3243" y="11967"/>
                  <a:pt x="3293" y="12011"/>
                  <a:pt x="3373" y="12055"/>
                </a:cubicBezTo>
              </a:path>
              <a:path w="2655" h="2209">
                <a:moveTo>
                  <a:pt x="3225" y="11385"/>
                </a:moveTo>
                <a:cubicBezTo>
                  <a:pt x="3189" y="11545"/>
                  <a:pt x="3130" y="11683"/>
                  <a:pt x="3076" y="11832"/>
                </a:cubicBezTo>
                <a:cubicBezTo>
                  <a:pt x="3047" y="11912"/>
                  <a:pt x="2995" y="12022"/>
                  <a:pt x="2977" y="12105"/>
                </a:cubicBezTo>
                <a:cubicBezTo>
                  <a:pt x="2977" y="12146"/>
                  <a:pt x="2969" y="12162"/>
                  <a:pt x="3001" y="12154"/>
                </a:cubicBezTo>
              </a:path>
              <a:path w="2655" h="2209">
                <a:moveTo>
                  <a:pt x="3249" y="11187"/>
                </a:moveTo>
                <a:cubicBezTo>
                  <a:pt x="3327" y="11176"/>
                  <a:pt x="3467" y="11148"/>
                  <a:pt x="3497" y="11261"/>
                </a:cubicBezTo>
                <a:cubicBezTo>
                  <a:pt x="3523" y="11357"/>
                  <a:pt x="3462" y="11349"/>
                  <a:pt x="3423" y="11410"/>
                </a:cubicBezTo>
                <a:cubicBezTo>
                  <a:pt x="3357" y="11513"/>
                  <a:pt x="3426" y="11509"/>
                  <a:pt x="3497" y="11559"/>
                </a:cubicBezTo>
                <a:cubicBezTo>
                  <a:pt x="3546" y="11593"/>
                  <a:pt x="3609" y="11601"/>
                  <a:pt x="3671" y="11609"/>
                </a:cubicBezTo>
              </a:path>
              <a:path w="2655" h="2209">
                <a:moveTo>
                  <a:pt x="2679" y="12204"/>
                </a:moveTo>
                <a:cubicBezTo>
                  <a:pt x="2769" y="12215"/>
                  <a:pt x="2858" y="12217"/>
                  <a:pt x="2952" y="12229"/>
                </a:cubicBezTo>
                <a:cubicBezTo>
                  <a:pt x="3126" y="12251"/>
                  <a:pt x="3299" y="12236"/>
                  <a:pt x="3473" y="12254"/>
                </a:cubicBezTo>
                <a:cubicBezTo>
                  <a:pt x="3632" y="12271"/>
                  <a:pt x="3783" y="12278"/>
                  <a:pt x="3944" y="12278"/>
                </a:cubicBezTo>
                <a:cubicBezTo>
                  <a:pt x="4000" y="12278"/>
                  <a:pt x="4144" y="12302"/>
                  <a:pt x="4192" y="12254"/>
                </a:cubicBezTo>
                <a:cubicBezTo>
                  <a:pt x="4214" y="12210"/>
                  <a:pt x="4227" y="12198"/>
                  <a:pt x="4192" y="12179"/>
                </a:cubicBezTo>
              </a:path>
              <a:path w="2655" h="2209">
                <a:moveTo>
                  <a:pt x="2927" y="12328"/>
                </a:moveTo>
                <a:cubicBezTo>
                  <a:pt x="2949" y="12364"/>
                  <a:pt x="2988" y="12430"/>
                  <a:pt x="2977" y="12477"/>
                </a:cubicBezTo>
                <a:cubicBezTo>
                  <a:pt x="2958" y="12556"/>
                  <a:pt x="2936" y="12642"/>
                  <a:pt x="2927" y="12725"/>
                </a:cubicBezTo>
                <a:cubicBezTo>
                  <a:pt x="2915" y="12834"/>
                  <a:pt x="2891" y="12939"/>
                  <a:pt x="2877" y="13047"/>
                </a:cubicBezTo>
                <a:cubicBezTo>
                  <a:pt x="2870" y="13103"/>
                  <a:pt x="2857" y="13226"/>
                  <a:pt x="2902" y="13271"/>
                </a:cubicBezTo>
                <a:cubicBezTo>
                  <a:pt x="2910" y="13271"/>
                  <a:pt x="2919" y="13271"/>
                  <a:pt x="2927" y="13271"/>
                </a:cubicBezTo>
              </a:path>
              <a:path w="2655" h="2209">
                <a:moveTo>
                  <a:pt x="3175" y="12824"/>
                </a:moveTo>
                <a:cubicBezTo>
                  <a:pt x="3269" y="12832"/>
                  <a:pt x="3352" y="12849"/>
                  <a:pt x="3448" y="12849"/>
                </a:cubicBezTo>
                <a:cubicBezTo>
                  <a:pt x="3507" y="12849"/>
                  <a:pt x="3533" y="12846"/>
                  <a:pt x="3572" y="12824"/>
                </a:cubicBezTo>
              </a:path>
              <a:path w="2655" h="2209">
                <a:moveTo>
                  <a:pt x="3746" y="12576"/>
                </a:moveTo>
                <a:cubicBezTo>
                  <a:pt x="3746" y="12725"/>
                  <a:pt x="3758" y="12791"/>
                  <a:pt x="3820" y="12923"/>
                </a:cubicBezTo>
                <a:cubicBezTo>
                  <a:pt x="3886" y="13063"/>
                  <a:pt x="3997" y="13230"/>
                  <a:pt x="4118" y="13320"/>
                </a:cubicBezTo>
                <a:cubicBezTo>
                  <a:pt x="4143" y="13328"/>
                  <a:pt x="4167" y="13337"/>
                  <a:pt x="4192" y="13345"/>
                </a:cubicBezTo>
              </a:path>
              <a:path w="2655" h="2209">
                <a:moveTo>
                  <a:pt x="4142" y="12650"/>
                </a:moveTo>
                <a:cubicBezTo>
                  <a:pt x="4030" y="12739"/>
                  <a:pt x="3984" y="12817"/>
                  <a:pt x="3894" y="12923"/>
                </a:cubicBezTo>
                <a:cubicBezTo>
                  <a:pt x="3814" y="13017"/>
                  <a:pt x="3726" y="13102"/>
                  <a:pt x="3646" y="13196"/>
                </a:cubicBezTo>
                <a:cubicBezTo>
                  <a:pt x="3613" y="13237"/>
                  <a:pt x="3580" y="13279"/>
                  <a:pt x="3547" y="133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13"/>
          <p:cNvSpPr/>
          <p:nvPr/>
        </p:nvSpPr>
        <p:spPr>
          <a:xfrm>
            <a:off x="428760" y="4929120"/>
            <a:ext cx="1635120" cy="795240"/>
          </a:xfrm>
          <a:custGeom>
            <a:avLst/>
            <a:gdLst/>
            <a:ahLst/>
            <a:rect l="l" t="t" r="r" b="b"/>
            <a:pathLst>
              <a:path w="4540" h="2209">
                <a:moveTo>
                  <a:pt x="1191" y="14213"/>
                </a:moveTo>
                <a:cubicBezTo>
                  <a:pt x="1237" y="14241"/>
                  <a:pt x="1303" y="14275"/>
                  <a:pt x="1364" y="14263"/>
                </a:cubicBezTo>
                <a:cubicBezTo>
                  <a:pt x="1426" y="14250"/>
                  <a:pt x="1468" y="14233"/>
                  <a:pt x="1513" y="14188"/>
                </a:cubicBezTo>
                <a:cubicBezTo>
                  <a:pt x="1538" y="14163"/>
                  <a:pt x="1546" y="14155"/>
                  <a:pt x="1563" y="14139"/>
                </a:cubicBezTo>
                <a:cubicBezTo>
                  <a:pt x="1538" y="14095"/>
                  <a:pt x="1506" y="14016"/>
                  <a:pt x="1439" y="14039"/>
                </a:cubicBezTo>
                <a:cubicBezTo>
                  <a:pt x="1383" y="14058"/>
                  <a:pt x="1331" y="14082"/>
                  <a:pt x="1290" y="14139"/>
                </a:cubicBezTo>
                <a:cubicBezTo>
                  <a:pt x="1246" y="14201"/>
                  <a:pt x="1242" y="14314"/>
                  <a:pt x="1240" y="14387"/>
                </a:cubicBezTo>
                <a:cubicBezTo>
                  <a:pt x="1238" y="14465"/>
                  <a:pt x="1250" y="14600"/>
                  <a:pt x="1315" y="14660"/>
                </a:cubicBezTo>
                <a:cubicBezTo>
                  <a:pt x="1377" y="14691"/>
                  <a:pt x="1408" y="14699"/>
                  <a:pt x="1463" y="14684"/>
                </a:cubicBezTo>
              </a:path>
              <a:path w="4540" h="2209">
                <a:moveTo>
                  <a:pt x="1637" y="13692"/>
                </a:moveTo>
                <a:cubicBezTo>
                  <a:pt x="1669" y="13787"/>
                  <a:pt x="1716" y="13894"/>
                  <a:pt x="1761" y="13990"/>
                </a:cubicBezTo>
                <a:cubicBezTo>
                  <a:pt x="1832" y="14141"/>
                  <a:pt x="1871" y="14318"/>
                  <a:pt x="1885" y="14486"/>
                </a:cubicBezTo>
                <a:cubicBezTo>
                  <a:pt x="1896" y="14622"/>
                  <a:pt x="1886" y="14755"/>
                  <a:pt x="1836" y="14883"/>
                </a:cubicBezTo>
                <a:cubicBezTo>
                  <a:pt x="1809" y="14953"/>
                  <a:pt x="1766" y="15035"/>
                  <a:pt x="1687" y="15056"/>
                </a:cubicBezTo>
                <a:cubicBezTo>
                  <a:pt x="1637" y="15056"/>
                  <a:pt x="1621" y="15056"/>
                  <a:pt x="1637" y="15007"/>
                </a:cubicBezTo>
              </a:path>
              <a:path w="4540" h="2209">
                <a:moveTo>
                  <a:pt x="2580" y="14238"/>
                </a:moveTo>
                <a:cubicBezTo>
                  <a:pt x="2580" y="14342"/>
                  <a:pt x="2564" y="14434"/>
                  <a:pt x="2555" y="14536"/>
                </a:cubicBezTo>
                <a:cubicBezTo>
                  <a:pt x="2543" y="14675"/>
                  <a:pt x="2534" y="14818"/>
                  <a:pt x="2530" y="14957"/>
                </a:cubicBezTo>
                <a:cubicBezTo>
                  <a:pt x="2527" y="15056"/>
                  <a:pt x="2530" y="15156"/>
                  <a:pt x="2530" y="15255"/>
                </a:cubicBezTo>
              </a:path>
              <a:path w="4540" h="2209">
                <a:moveTo>
                  <a:pt x="2853" y="14114"/>
                </a:moveTo>
                <a:cubicBezTo>
                  <a:pt x="2907" y="14184"/>
                  <a:pt x="2902" y="14224"/>
                  <a:pt x="2902" y="14312"/>
                </a:cubicBezTo>
                <a:cubicBezTo>
                  <a:pt x="2902" y="14501"/>
                  <a:pt x="2902" y="14696"/>
                  <a:pt x="2877" y="14883"/>
                </a:cubicBezTo>
                <a:cubicBezTo>
                  <a:pt x="2863" y="14985"/>
                  <a:pt x="2853" y="15077"/>
                  <a:pt x="2853" y="15180"/>
                </a:cubicBezTo>
              </a:path>
              <a:path w="4540" h="2209">
                <a:moveTo>
                  <a:pt x="2456" y="13915"/>
                </a:moveTo>
                <a:cubicBezTo>
                  <a:pt x="2437" y="13821"/>
                  <a:pt x="2407" y="13801"/>
                  <a:pt x="2456" y="13767"/>
                </a:cubicBezTo>
                <a:cubicBezTo>
                  <a:pt x="2520" y="13775"/>
                  <a:pt x="2625" y="13802"/>
                  <a:pt x="2679" y="13841"/>
                </a:cubicBezTo>
                <a:cubicBezTo>
                  <a:pt x="2865" y="13975"/>
                  <a:pt x="3018" y="14114"/>
                  <a:pt x="3125" y="14312"/>
                </a:cubicBezTo>
                <a:cubicBezTo>
                  <a:pt x="3187" y="14426"/>
                  <a:pt x="3243" y="14505"/>
                  <a:pt x="3249" y="14635"/>
                </a:cubicBezTo>
                <a:cubicBezTo>
                  <a:pt x="3251" y="14684"/>
                  <a:pt x="3222" y="14734"/>
                  <a:pt x="3175" y="14759"/>
                </a:cubicBezTo>
                <a:cubicBezTo>
                  <a:pt x="3133" y="14781"/>
                  <a:pt x="3032" y="14727"/>
                  <a:pt x="3001" y="14709"/>
                </a:cubicBezTo>
                <a:cubicBezTo>
                  <a:pt x="2993" y="14701"/>
                  <a:pt x="2985" y="14692"/>
                  <a:pt x="2977" y="14684"/>
                </a:cubicBezTo>
                <a:cubicBezTo>
                  <a:pt x="3006" y="14743"/>
                  <a:pt x="3036" y="14807"/>
                  <a:pt x="3076" y="14858"/>
                </a:cubicBezTo>
                <a:cubicBezTo>
                  <a:pt x="3143" y="14944"/>
                  <a:pt x="3204" y="15019"/>
                  <a:pt x="3274" y="15106"/>
                </a:cubicBezTo>
                <a:cubicBezTo>
                  <a:pt x="3340" y="15188"/>
                  <a:pt x="3456" y="15374"/>
                  <a:pt x="3547" y="15453"/>
                </a:cubicBezTo>
                <a:cubicBezTo>
                  <a:pt x="3588" y="15488"/>
                  <a:pt x="3619" y="15565"/>
                  <a:pt x="3671" y="15553"/>
                </a:cubicBezTo>
                <a:cubicBezTo>
                  <a:pt x="3671" y="15495"/>
                  <a:pt x="3671" y="15470"/>
                  <a:pt x="3671" y="15429"/>
                </a:cubicBezTo>
              </a:path>
              <a:path w="4540" h="2209">
                <a:moveTo>
                  <a:pt x="3795" y="13692"/>
                </a:moveTo>
                <a:cubicBezTo>
                  <a:pt x="3838" y="13763"/>
                  <a:pt x="3798" y="13829"/>
                  <a:pt x="3795" y="13915"/>
                </a:cubicBezTo>
                <a:cubicBezTo>
                  <a:pt x="3791" y="14033"/>
                  <a:pt x="3770" y="14142"/>
                  <a:pt x="3770" y="14263"/>
                </a:cubicBezTo>
                <a:cubicBezTo>
                  <a:pt x="3770" y="14448"/>
                  <a:pt x="3785" y="14626"/>
                  <a:pt x="3795" y="14808"/>
                </a:cubicBezTo>
                <a:cubicBezTo>
                  <a:pt x="3806" y="15008"/>
                  <a:pt x="3833" y="15205"/>
                  <a:pt x="3845" y="15404"/>
                </a:cubicBezTo>
                <a:cubicBezTo>
                  <a:pt x="3847" y="15430"/>
                  <a:pt x="3864" y="15903"/>
                  <a:pt x="3870" y="15900"/>
                </a:cubicBezTo>
                <a:cubicBezTo>
                  <a:pt x="3909" y="15878"/>
                  <a:pt x="3902" y="15828"/>
                  <a:pt x="3919" y="15801"/>
                </a:cubicBezTo>
              </a:path>
              <a:path w="4540" h="2209">
                <a:moveTo>
                  <a:pt x="4142" y="14560"/>
                </a:moveTo>
                <a:cubicBezTo>
                  <a:pt x="4187" y="14650"/>
                  <a:pt x="4222" y="14742"/>
                  <a:pt x="4266" y="14833"/>
                </a:cubicBezTo>
                <a:cubicBezTo>
                  <a:pt x="4333" y="14970"/>
                  <a:pt x="4380" y="15114"/>
                  <a:pt x="4440" y="15255"/>
                </a:cubicBezTo>
                <a:cubicBezTo>
                  <a:pt x="4498" y="15392"/>
                  <a:pt x="4495" y="15423"/>
                  <a:pt x="4564" y="15478"/>
                </a:cubicBezTo>
              </a:path>
              <a:path w="4540" h="2209">
                <a:moveTo>
                  <a:pt x="4738" y="14709"/>
                </a:moveTo>
                <a:cubicBezTo>
                  <a:pt x="4660" y="14678"/>
                  <a:pt x="4655" y="14733"/>
                  <a:pt x="4589" y="14784"/>
                </a:cubicBezTo>
                <a:cubicBezTo>
                  <a:pt x="4491" y="14859"/>
                  <a:pt x="4435" y="14953"/>
                  <a:pt x="4341" y="15032"/>
                </a:cubicBezTo>
                <a:cubicBezTo>
                  <a:pt x="4250" y="15109"/>
                  <a:pt x="4194" y="15187"/>
                  <a:pt x="4118" y="15280"/>
                </a:cubicBezTo>
                <a:cubicBezTo>
                  <a:pt x="4088" y="15309"/>
                  <a:pt x="4076" y="15323"/>
                  <a:pt x="4068" y="15354"/>
                </a:cubicBezTo>
              </a:path>
              <a:path w="4540" h="2209">
                <a:moveTo>
                  <a:pt x="4762" y="14982"/>
                </a:moveTo>
                <a:cubicBezTo>
                  <a:pt x="4895" y="14996"/>
                  <a:pt x="5006" y="15007"/>
                  <a:pt x="5135" y="15007"/>
                </a:cubicBezTo>
              </a:path>
              <a:path w="4540" h="2209">
                <a:moveTo>
                  <a:pt x="4837" y="15255"/>
                </a:moveTo>
                <a:cubicBezTo>
                  <a:pt x="4888" y="15299"/>
                  <a:pt x="4958" y="15371"/>
                  <a:pt x="5035" y="15354"/>
                </a:cubicBezTo>
                <a:cubicBezTo>
                  <a:pt x="5083" y="15343"/>
                  <a:pt x="5140" y="15302"/>
                  <a:pt x="5184" y="15280"/>
                </a:cubicBezTo>
              </a:path>
              <a:path w="4540" h="2209">
                <a:moveTo>
                  <a:pt x="5259" y="14684"/>
                </a:moveTo>
                <a:cubicBezTo>
                  <a:pt x="5183" y="14760"/>
                  <a:pt x="5182" y="14817"/>
                  <a:pt x="5135" y="14908"/>
                </a:cubicBezTo>
                <a:cubicBezTo>
                  <a:pt x="5076" y="15021"/>
                  <a:pt x="5022" y="15131"/>
                  <a:pt x="4986" y="15255"/>
                </a:cubicBezTo>
                <a:cubicBezTo>
                  <a:pt x="4956" y="15358"/>
                  <a:pt x="4908" y="15474"/>
                  <a:pt x="4887" y="15577"/>
                </a:cubicBezTo>
                <a:cubicBezTo>
                  <a:pt x="4887" y="15622"/>
                  <a:pt x="4890" y="15635"/>
                  <a:pt x="4862" y="15652"/>
                </a:cubicBezTo>
              </a:path>
              <a:path w="4540" h="2209">
                <a:moveTo>
                  <a:pt x="5730" y="14635"/>
                </a:moveTo>
                <a:cubicBezTo>
                  <a:pt x="5702" y="14784"/>
                  <a:pt x="5704" y="14931"/>
                  <a:pt x="5680" y="15081"/>
                </a:cubicBezTo>
                <a:cubicBezTo>
                  <a:pt x="5655" y="15238"/>
                  <a:pt x="5629" y="15378"/>
                  <a:pt x="5581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2" name="Ink 2"/>
          <p:cNvSpPr/>
          <p:nvPr/>
        </p:nvSpPr>
        <p:spPr>
          <a:xfrm>
            <a:off x="1116000" y="1017720"/>
            <a:ext cx="1733400" cy="608040"/>
          </a:xfrm>
          <a:custGeom>
            <a:avLst/>
            <a:gdLst/>
            <a:ahLst/>
            <a:rect l="l" t="t" r="r" b="b"/>
            <a:pathLst>
              <a:path w="4813" h="1687">
                <a:moveTo>
                  <a:pt x="3994" y="3249"/>
                </a:moveTo>
                <a:cubicBezTo>
                  <a:pt x="3984" y="3129"/>
                  <a:pt x="3955" y="3074"/>
                  <a:pt x="3894" y="2977"/>
                </a:cubicBezTo>
                <a:cubicBezTo>
                  <a:pt x="3857" y="2917"/>
                  <a:pt x="3819" y="2851"/>
                  <a:pt x="3746" y="2828"/>
                </a:cubicBezTo>
                <a:cubicBezTo>
                  <a:pt x="3694" y="2812"/>
                  <a:pt x="3607" y="2836"/>
                  <a:pt x="3572" y="2877"/>
                </a:cubicBezTo>
                <a:cubicBezTo>
                  <a:pt x="3519" y="2938"/>
                  <a:pt x="3481" y="3098"/>
                  <a:pt x="3473" y="3175"/>
                </a:cubicBezTo>
                <a:cubicBezTo>
                  <a:pt x="3444" y="3468"/>
                  <a:pt x="3467" y="3775"/>
                  <a:pt x="3448" y="4068"/>
                </a:cubicBezTo>
                <a:cubicBezTo>
                  <a:pt x="3446" y="4094"/>
                  <a:pt x="3465" y="4519"/>
                  <a:pt x="3423" y="4514"/>
                </a:cubicBezTo>
                <a:cubicBezTo>
                  <a:pt x="3398" y="4498"/>
                  <a:pt x="3374" y="4481"/>
                  <a:pt x="3349" y="4465"/>
                </a:cubicBezTo>
              </a:path>
              <a:path w="4813" h="1687">
                <a:moveTo>
                  <a:pt x="3101" y="4242"/>
                </a:moveTo>
                <a:cubicBezTo>
                  <a:pt x="3156" y="4197"/>
                  <a:pt x="3227" y="4175"/>
                  <a:pt x="3299" y="4167"/>
                </a:cubicBezTo>
                <a:cubicBezTo>
                  <a:pt x="3375" y="4158"/>
                  <a:pt x="3445" y="4148"/>
                  <a:pt x="3522" y="4142"/>
                </a:cubicBezTo>
              </a:path>
              <a:path w="4813" h="1687">
                <a:moveTo>
                  <a:pt x="4118" y="3746"/>
                </a:moveTo>
                <a:cubicBezTo>
                  <a:pt x="4047" y="3873"/>
                  <a:pt x="4007" y="3978"/>
                  <a:pt x="3969" y="4118"/>
                </a:cubicBezTo>
                <a:cubicBezTo>
                  <a:pt x="3934" y="4247"/>
                  <a:pt x="3934" y="4302"/>
                  <a:pt x="3994" y="4390"/>
                </a:cubicBezTo>
                <a:cubicBezTo>
                  <a:pt x="4050" y="4473"/>
                  <a:pt x="4074" y="4475"/>
                  <a:pt x="4167" y="4440"/>
                </a:cubicBezTo>
              </a:path>
              <a:path w="4813" h="1687">
                <a:moveTo>
                  <a:pt x="4341" y="4142"/>
                </a:moveTo>
                <a:cubicBezTo>
                  <a:pt x="4404" y="4253"/>
                  <a:pt x="4428" y="4285"/>
                  <a:pt x="4539" y="4341"/>
                </a:cubicBezTo>
                <a:cubicBezTo>
                  <a:pt x="4609" y="4376"/>
                  <a:pt x="4619" y="4367"/>
                  <a:pt x="4688" y="4341"/>
                </a:cubicBezTo>
              </a:path>
              <a:path w="4813" h="1687">
                <a:moveTo>
                  <a:pt x="4614" y="4093"/>
                </a:moveTo>
                <a:cubicBezTo>
                  <a:pt x="4532" y="4198"/>
                  <a:pt x="4436" y="4302"/>
                  <a:pt x="4366" y="4415"/>
                </a:cubicBezTo>
                <a:cubicBezTo>
                  <a:pt x="4344" y="4459"/>
                  <a:pt x="4341" y="4471"/>
                  <a:pt x="4316" y="4490"/>
                </a:cubicBezTo>
              </a:path>
              <a:path w="4813" h="1687">
                <a:moveTo>
                  <a:pt x="4539" y="3522"/>
                </a:moveTo>
                <a:cubicBezTo>
                  <a:pt x="4688" y="3602"/>
                  <a:pt x="4747" y="3654"/>
                  <a:pt x="4837" y="3795"/>
                </a:cubicBezTo>
                <a:cubicBezTo>
                  <a:pt x="4912" y="3912"/>
                  <a:pt x="4932" y="4029"/>
                  <a:pt x="4936" y="4167"/>
                </a:cubicBezTo>
                <a:cubicBezTo>
                  <a:pt x="4938" y="4224"/>
                  <a:pt x="4932" y="4370"/>
                  <a:pt x="4887" y="4415"/>
                </a:cubicBezTo>
                <a:cubicBezTo>
                  <a:pt x="4852" y="4450"/>
                  <a:pt x="4780" y="4508"/>
                  <a:pt x="4738" y="4465"/>
                </a:cubicBezTo>
                <a:cubicBezTo>
                  <a:pt x="4738" y="4457"/>
                  <a:pt x="4738" y="4448"/>
                  <a:pt x="4738" y="4440"/>
                </a:cubicBezTo>
              </a:path>
              <a:path w="4813" h="1687">
                <a:moveTo>
                  <a:pt x="5159" y="4068"/>
                </a:moveTo>
                <a:cubicBezTo>
                  <a:pt x="5267" y="4050"/>
                  <a:pt x="5274" y="4042"/>
                  <a:pt x="5333" y="4043"/>
                </a:cubicBezTo>
              </a:path>
              <a:path w="4813" h="1687">
                <a:moveTo>
                  <a:pt x="5159" y="4242"/>
                </a:moveTo>
                <a:cubicBezTo>
                  <a:pt x="5102" y="4359"/>
                  <a:pt x="5293" y="4232"/>
                  <a:pt x="5333" y="4217"/>
                </a:cubicBezTo>
              </a:path>
              <a:path w="4813" h="1687">
                <a:moveTo>
                  <a:pt x="5755" y="3671"/>
                </a:moveTo>
                <a:cubicBezTo>
                  <a:pt x="5809" y="3780"/>
                  <a:pt x="5842" y="3892"/>
                  <a:pt x="5904" y="3994"/>
                </a:cubicBezTo>
                <a:cubicBezTo>
                  <a:pt x="5950" y="4070"/>
                  <a:pt x="6005" y="4187"/>
                  <a:pt x="6077" y="4242"/>
                </a:cubicBezTo>
                <a:cubicBezTo>
                  <a:pt x="6153" y="4300"/>
                  <a:pt x="6193" y="4308"/>
                  <a:pt x="6276" y="4291"/>
                </a:cubicBezTo>
              </a:path>
              <a:path w="4813" h="1687">
                <a:moveTo>
                  <a:pt x="6028" y="3721"/>
                </a:moveTo>
                <a:cubicBezTo>
                  <a:pt x="5909" y="3905"/>
                  <a:pt x="5855" y="4060"/>
                  <a:pt x="5755" y="4242"/>
                </a:cubicBezTo>
                <a:cubicBezTo>
                  <a:pt x="5752" y="4248"/>
                  <a:pt x="5608" y="4440"/>
                  <a:pt x="5680" y="4440"/>
                </a:cubicBezTo>
                <a:cubicBezTo>
                  <a:pt x="5688" y="4432"/>
                  <a:pt x="5697" y="4423"/>
                  <a:pt x="5705" y="4415"/>
                </a:cubicBezTo>
              </a:path>
              <a:path w="4813" h="1687">
                <a:moveTo>
                  <a:pt x="6226" y="3274"/>
                </a:moveTo>
                <a:cubicBezTo>
                  <a:pt x="6308" y="3280"/>
                  <a:pt x="6400" y="3269"/>
                  <a:pt x="6424" y="3373"/>
                </a:cubicBezTo>
                <a:cubicBezTo>
                  <a:pt x="6446" y="3470"/>
                  <a:pt x="6370" y="3530"/>
                  <a:pt x="6325" y="3597"/>
                </a:cubicBezTo>
                <a:cubicBezTo>
                  <a:pt x="6265" y="3686"/>
                  <a:pt x="6311" y="3717"/>
                  <a:pt x="6400" y="3721"/>
                </a:cubicBezTo>
                <a:cubicBezTo>
                  <a:pt x="6503" y="3726"/>
                  <a:pt x="6561" y="3670"/>
                  <a:pt x="6648" y="3621"/>
                </a:cubicBezTo>
              </a:path>
              <a:path w="4813" h="1687">
                <a:moveTo>
                  <a:pt x="6821" y="3522"/>
                </a:moveTo>
                <a:cubicBezTo>
                  <a:pt x="6769" y="3687"/>
                  <a:pt x="6719" y="3842"/>
                  <a:pt x="6747" y="4018"/>
                </a:cubicBezTo>
                <a:cubicBezTo>
                  <a:pt x="6755" y="4071"/>
                  <a:pt x="6809" y="4095"/>
                  <a:pt x="6821" y="4142"/>
                </a:cubicBezTo>
              </a:path>
              <a:path w="4813" h="1687">
                <a:moveTo>
                  <a:pt x="6598" y="3994"/>
                </a:moveTo>
                <a:cubicBezTo>
                  <a:pt x="6720" y="3971"/>
                  <a:pt x="6848" y="3933"/>
                  <a:pt x="6970" y="3919"/>
                </a:cubicBezTo>
                <a:cubicBezTo>
                  <a:pt x="6995" y="3919"/>
                  <a:pt x="7020" y="3919"/>
                  <a:pt x="7045" y="3919"/>
                </a:cubicBezTo>
              </a:path>
              <a:path w="4813" h="1687">
                <a:moveTo>
                  <a:pt x="7541" y="3497"/>
                </a:moveTo>
                <a:cubicBezTo>
                  <a:pt x="7664" y="3497"/>
                  <a:pt x="7798" y="3514"/>
                  <a:pt x="7913" y="3473"/>
                </a:cubicBezTo>
              </a:path>
              <a:path w="4813" h="1687">
                <a:moveTo>
                  <a:pt x="7491" y="3572"/>
                </a:moveTo>
                <a:cubicBezTo>
                  <a:pt x="7443" y="3712"/>
                  <a:pt x="7367" y="3785"/>
                  <a:pt x="7466" y="3894"/>
                </a:cubicBezTo>
                <a:cubicBezTo>
                  <a:pt x="7527" y="3961"/>
                  <a:pt x="7590" y="3919"/>
                  <a:pt x="7640" y="3870"/>
                </a:cubicBezTo>
                <a:cubicBezTo>
                  <a:pt x="7702" y="3809"/>
                  <a:pt x="7755" y="3860"/>
                  <a:pt x="7789" y="3919"/>
                </a:cubicBezTo>
                <a:cubicBezTo>
                  <a:pt x="7834" y="3997"/>
                  <a:pt x="7849" y="4035"/>
                  <a:pt x="7813" y="4118"/>
                </a:cubicBezTo>
                <a:cubicBezTo>
                  <a:pt x="7789" y="4173"/>
                  <a:pt x="7743" y="4218"/>
                  <a:pt x="7689" y="4242"/>
                </a:cubicBezTo>
                <a:cubicBezTo>
                  <a:pt x="7604" y="4280"/>
                  <a:pt x="7508" y="4266"/>
                  <a:pt x="7417" y="4266"/>
                </a:cubicBezTo>
                <a:cubicBezTo>
                  <a:pt x="7400" y="4266"/>
                  <a:pt x="7384" y="4266"/>
                  <a:pt x="7367" y="42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3251160" y="1044720"/>
            <a:ext cx="2017800" cy="706320"/>
          </a:xfrm>
          <a:custGeom>
            <a:avLst/>
            <a:gdLst/>
            <a:ahLst/>
            <a:rect l="l" t="t" r="r" b="b"/>
            <a:pathLst>
              <a:path w="5607" h="1961">
                <a:moveTo>
                  <a:pt x="9550" y="3870"/>
                </a:moveTo>
                <a:cubicBezTo>
                  <a:pt x="9592" y="3922"/>
                  <a:pt x="9574" y="3932"/>
                  <a:pt x="9624" y="3919"/>
                </a:cubicBezTo>
                <a:cubicBezTo>
                  <a:pt x="9613" y="3844"/>
                  <a:pt x="9601" y="3807"/>
                  <a:pt x="9550" y="3746"/>
                </a:cubicBezTo>
                <a:cubicBezTo>
                  <a:pt x="9497" y="3683"/>
                  <a:pt x="9457" y="3651"/>
                  <a:pt x="9376" y="3646"/>
                </a:cubicBezTo>
                <a:cubicBezTo>
                  <a:pt x="9285" y="3641"/>
                  <a:pt x="9244" y="3743"/>
                  <a:pt x="9178" y="3795"/>
                </a:cubicBezTo>
                <a:cubicBezTo>
                  <a:pt x="9118" y="3842"/>
                  <a:pt x="9024" y="3953"/>
                  <a:pt x="9029" y="4043"/>
                </a:cubicBezTo>
                <a:cubicBezTo>
                  <a:pt x="9033" y="4122"/>
                  <a:pt x="9121" y="4131"/>
                  <a:pt x="9178" y="4118"/>
                </a:cubicBezTo>
                <a:cubicBezTo>
                  <a:pt x="9291" y="4093"/>
                  <a:pt x="9302" y="3981"/>
                  <a:pt x="9376" y="3944"/>
                </a:cubicBezTo>
                <a:cubicBezTo>
                  <a:pt x="9393" y="3944"/>
                  <a:pt x="9409" y="3944"/>
                  <a:pt x="9426" y="3944"/>
                </a:cubicBezTo>
                <a:cubicBezTo>
                  <a:pt x="9436" y="4026"/>
                  <a:pt x="9438" y="4109"/>
                  <a:pt x="9451" y="4192"/>
                </a:cubicBezTo>
                <a:cubicBezTo>
                  <a:pt x="9470" y="4319"/>
                  <a:pt x="9475" y="4434"/>
                  <a:pt x="9475" y="4564"/>
                </a:cubicBezTo>
                <a:cubicBezTo>
                  <a:pt x="9475" y="4669"/>
                  <a:pt x="9489" y="4739"/>
                  <a:pt x="9401" y="4812"/>
                </a:cubicBezTo>
                <a:cubicBezTo>
                  <a:pt x="9312" y="4886"/>
                  <a:pt x="9232" y="4868"/>
                  <a:pt x="9128" y="4837"/>
                </a:cubicBezTo>
                <a:cubicBezTo>
                  <a:pt x="9103" y="4829"/>
                  <a:pt x="9079" y="4820"/>
                  <a:pt x="9054" y="4812"/>
                </a:cubicBezTo>
              </a:path>
              <a:path w="5607" h="1961">
                <a:moveTo>
                  <a:pt x="10046" y="3373"/>
                </a:moveTo>
                <a:cubicBezTo>
                  <a:pt x="10009" y="3484"/>
                  <a:pt x="9960" y="3604"/>
                  <a:pt x="9947" y="3721"/>
                </a:cubicBezTo>
                <a:cubicBezTo>
                  <a:pt x="9937" y="3812"/>
                  <a:pt x="9930" y="3992"/>
                  <a:pt x="9996" y="4068"/>
                </a:cubicBezTo>
                <a:cubicBezTo>
                  <a:pt x="10062" y="4144"/>
                  <a:pt x="10178" y="4163"/>
                  <a:pt x="10269" y="4167"/>
                </a:cubicBezTo>
                <a:cubicBezTo>
                  <a:pt x="10321" y="4167"/>
                  <a:pt x="10339" y="4166"/>
                  <a:pt x="10368" y="4142"/>
                </a:cubicBezTo>
              </a:path>
              <a:path w="5607" h="1961">
                <a:moveTo>
                  <a:pt x="10418" y="3696"/>
                </a:moveTo>
                <a:cubicBezTo>
                  <a:pt x="10492" y="3802"/>
                  <a:pt x="10551" y="3931"/>
                  <a:pt x="10666" y="3994"/>
                </a:cubicBezTo>
                <a:cubicBezTo>
                  <a:pt x="10713" y="4020"/>
                  <a:pt x="10739" y="4018"/>
                  <a:pt x="10790" y="4018"/>
                </a:cubicBezTo>
              </a:path>
              <a:path w="5607" h="1961">
                <a:moveTo>
                  <a:pt x="10567" y="3696"/>
                </a:moveTo>
                <a:cubicBezTo>
                  <a:pt x="10466" y="3826"/>
                  <a:pt x="10386" y="3958"/>
                  <a:pt x="10294" y="4093"/>
                </a:cubicBezTo>
                <a:cubicBezTo>
                  <a:pt x="10254" y="4152"/>
                  <a:pt x="10155" y="4296"/>
                  <a:pt x="10220" y="4266"/>
                </a:cubicBezTo>
                <a:cubicBezTo>
                  <a:pt x="10220" y="4258"/>
                  <a:pt x="10220" y="4250"/>
                  <a:pt x="10220" y="4242"/>
                </a:cubicBezTo>
              </a:path>
              <a:path w="5607" h="1961">
                <a:moveTo>
                  <a:pt x="10641" y="3299"/>
                </a:moveTo>
                <a:cubicBezTo>
                  <a:pt x="10784" y="3394"/>
                  <a:pt x="10899" y="3478"/>
                  <a:pt x="10964" y="3646"/>
                </a:cubicBezTo>
                <a:cubicBezTo>
                  <a:pt x="11008" y="3760"/>
                  <a:pt x="11029" y="3878"/>
                  <a:pt x="10988" y="3994"/>
                </a:cubicBezTo>
                <a:cubicBezTo>
                  <a:pt x="10966" y="4055"/>
                  <a:pt x="10934" y="4098"/>
                  <a:pt x="10889" y="4142"/>
                </a:cubicBezTo>
                <a:cubicBezTo>
                  <a:pt x="10864" y="4167"/>
                  <a:pt x="10856" y="4175"/>
                  <a:pt x="10840" y="4142"/>
                </a:cubicBezTo>
              </a:path>
              <a:path w="5607" h="1961">
                <a:moveTo>
                  <a:pt x="11237" y="3820"/>
                </a:moveTo>
                <a:cubicBezTo>
                  <a:pt x="11369" y="3801"/>
                  <a:pt x="11385" y="3793"/>
                  <a:pt x="11460" y="3795"/>
                </a:cubicBezTo>
              </a:path>
              <a:path w="5607" h="1961">
                <a:moveTo>
                  <a:pt x="11237" y="3969"/>
                </a:moveTo>
                <a:cubicBezTo>
                  <a:pt x="11349" y="4000"/>
                  <a:pt x="11376" y="3984"/>
                  <a:pt x="11485" y="3944"/>
                </a:cubicBezTo>
              </a:path>
              <a:path w="5607" h="1961">
                <a:moveTo>
                  <a:pt x="11609" y="3398"/>
                </a:moveTo>
                <a:cubicBezTo>
                  <a:pt x="11701" y="3375"/>
                  <a:pt x="11816" y="3344"/>
                  <a:pt x="11906" y="3398"/>
                </a:cubicBezTo>
                <a:cubicBezTo>
                  <a:pt x="11985" y="3445"/>
                  <a:pt x="12049" y="3541"/>
                  <a:pt x="12080" y="3621"/>
                </a:cubicBezTo>
                <a:cubicBezTo>
                  <a:pt x="12115" y="3711"/>
                  <a:pt x="12121" y="3848"/>
                  <a:pt x="12105" y="3944"/>
                </a:cubicBezTo>
                <a:cubicBezTo>
                  <a:pt x="12088" y="4045"/>
                  <a:pt x="12067" y="4143"/>
                  <a:pt x="12055" y="4242"/>
                </a:cubicBezTo>
                <a:cubicBezTo>
                  <a:pt x="12055" y="4258"/>
                  <a:pt x="12055" y="4275"/>
                  <a:pt x="12055" y="4291"/>
                </a:cubicBezTo>
                <a:cubicBezTo>
                  <a:pt x="12055" y="4000"/>
                  <a:pt x="12062" y="3708"/>
                  <a:pt x="12030" y="3423"/>
                </a:cubicBezTo>
                <a:cubicBezTo>
                  <a:pt x="12020" y="3338"/>
                  <a:pt x="12024" y="3258"/>
                  <a:pt x="12005" y="3175"/>
                </a:cubicBezTo>
                <a:cubicBezTo>
                  <a:pt x="11988" y="3099"/>
                  <a:pt x="11954" y="3035"/>
                  <a:pt x="12030" y="2977"/>
                </a:cubicBezTo>
                <a:cubicBezTo>
                  <a:pt x="12118" y="2910"/>
                  <a:pt x="12373" y="2942"/>
                  <a:pt x="12477" y="2927"/>
                </a:cubicBezTo>
                <a:cubicBezTo>
                  <a:pt x="12676" y="2898"/>
                  <a:pt x="12870" y="2902"/>
                  <a:pt x="13072" y="2902"/>
                </a:cubicBezTo>
                <a:cubicBezTo>
                  <a:pt x="13347" y="2902"/>
                  <a:pt x="13618" y="2912"/>
                  <a:pt x="13891" y="2927"/>
                </a:cubicBezTo>
                <a:cubicBezTo>
                  <a:pt x="14074" y="2937"/>
                  <a:pt x="14254" y="2963"/>
                  <a:pt x="14436" y="2977"/>
                </a:cubicBezTo>
                <a:cubicBezTo>
                  <a:pt x="14509" y="2983"/>
                  <a:pt x="14602" y="2982"/>
                  <a:pt x="14635" y="2977"/>
                </a:cubicBezTo>
              </a:path>
              <a:path w="5607" h="1961">
                <a:moveTo>
                  <a:pt x="12725" y="3274"/>
                </a:moveTo>
                <a:cubicBezTo>
                  <a:pt x="12690" y="3369"/>
                  <a:pt x="12674" y="3450"/>
                  <a:pt x="12650" y="3547"/>
                </a:cubicBezTo>
                <a:cubicBezTo>
                  <a:pt x="12619" y="3671"/>
                  <a:pt x="12626" y="3791"/>
                  <a:pt x="12626" y="3919"/>
                </a:cubicBezTo>
                <a:cubicBezTo>
                  <a:pt x="12626" y="4002"/>
                  <a:pt x="12646" y="4064"/>
                  <a:pt x="12650" y="4142"/>
                </a:cubicBezTo>
                <a:cubicBezTo>
                  <a:pt x="12650" y="4159"/>
                  <a:pt x="12650" y="4175"/>
                  <a:pt x="12650" y="4192"/>
                </a:cubicBezTo>
              </a:path>
              <a:path w="5607" h="1961">
                <a:moveTo>
                  <a:pt x="12998" y="3820"/>
                </a:moveTo>
                <a:cubicBezTo>
                  <a:pt x="13145" y="3805"/>
                  <a:pt x="13274" y="3795"/>
                  <a:pt x="13419" y="3795"/>
                </a:cubicBezTo>
              </a:path>
              <a:path w="5607" h="1961">
                <a:moveTo>
                  <a:pt x="13519" y="3671"/>
                </a:moveTo>
                <a:cubicBezTo>
                  <a:pt x="13617" y="3798"/>
                  <a:pt x="13702" y="3886"/>
                  <a:pt x="13816" y="3994"/>
                </a:cubicBezTo>
                <a:cubicBezTo>
                  <a:pt x="13887" y="4062"/>
                  <a:pt x="13943" y="4106"/>
                  <a:pt x="14039" y="4118"/>
                </a:cubicBezTo>
              </a:path>
              <a:path w="5607" h="1961">
                <a:moveTo>
                  <a:pt x="13816" y="3621"/>
                </a:moveTo>
                <a:cubicBezTo>
                  <a:pt x="13710" y="3758"/>
                  <a:pt x="13621" y="3855"/>
                  <a:pt x="13494" y="3969"/>
                </a:cubicBezTo>
                <a:cubicBezTo>
                  <a:pt x="13390" y="4062"/>
                  <a:pt x="13295" y="4168"/>
                  <a:pt x="13196" y="42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411120" y="2170080"/>
            <a:ext cx="2768760" cy="438120"/>
          </a:xfrm>
          <a:custGeom>
            <a:avLst/>
            <a:gdLst/>
            <a:ahLst/>
            <a:rect l="l" t="t" r="r" b="b"/>
            <a:pathLst>
              <a:path w="7690" h="1216">
                <a:moveTo>
                  <a:pt x="1414" y="6772"/>
                </a:moveTo>
                <a:cubicBezTo>
                  <a:pt x="1414" y="6723"/>
                  <a:pt x="1421" y="6586"/>
                  <a:pt x="1389" y="6548"/>
                </a:cubicBezTo>
                <a:cubicBezTo>
                  <a:pt x="1372" y="6540"/>
                  <a:pt x="1356" y="6532"/>
                  <a:pt x="1339" y="6524"/>
                </a:cubicBezTo>
                <a:cubicBezTo>
                  <a:pt x="1280" y="6557"/>
                  <a:pt x="1223" y="6611"/>
                  <a:pt x="1191" y="6672"/>
                </a:cubicBezTo>
                <a:cubicBezTo>
                  <a:pt x="1152" y="6748"/>
                  <a:pt x="1141" y="6813"/>
                  <a:pt x="1141" y="6896"/>
                </a:cubicBezTo>
                <a:cubicBezTo>
                  <a:pt x="1141" y="6931"/>
                  <a:pt x="1168" y="7010"/>
                  <a:pt x="1215" y="7020"/>
                </a:cubicBezTo>
                <a:cubicBezTo>
                  <a:pt x="1292" y="7036"/>
                  <a:pt x="1358" y="7020"/>
                  <a:pt x="1414" y="6970"/>
                </a:cubicBezTo>
                <a:cubicBezTo>
                  <a:pt x="1451" y="6937"/>
                  <a:pt x="1466" y="6890"/>
                  <a:pt x="1488" y="6846"/>
                </a:cubicBezTo>
                <a:cubicBezTo>
                  <a:pt x="1499" y="6943"/>
                  <a:pt x="1512" y="7038"/>
                  <a:pt x="1637" y="7020"/>
                </a:cubicBezTo>
                <a:cubicBezTo>
                  <a:pt x="1654" y="7012"/>
                  <a:pt x="1670" y="7003"/>
                  <a:pt x="1687" y="6995"/>
                </a:cubicBezTo>
              </a:path>
              <a:path w="7690" h="1216">
                <a:moveTo>
                  <a:pt x="1588" y="6176"/>
                </a:moveTo>
                <a:cubicBezTo>
                  <a:pt x="1662" y="6264"/>
                  <a:pt x="1752" y="6350"/>
                  <a:pt x="1811" y="6449"/>
                </a:cubicBezTo>
                <a:cubicBezTo>
                  <a:pt x="1895" y="6590"/>
                  <a:pt x="1910" y="6686"/>
                  <a:pt x="1910" y="6846"/>
                </a:cubicBezTo>
                <a:cubicBezTo>
                  <a:pt x="1910" y="6994"/>
                  <a:pt x="1865" y="7030"/>
                  <a:pt x="1786" y="7144"/>
                </a:cubicBezTo>
                <a:cubicBezTo>
                  <a:pt x="1752" y="7193"/>
                  <a:pt x="1745" y="7228"/>
                  <a:pt x="1687" y="7243"/>
                </a:cubicBezTo>
              </a:path>
              <a:path w="7690" h="1216">
                <a:moveTo>
                  <a:pt x="2456" y="6449"/>
                </a:moveTo>
                <a:cubicBezTo>
                  <a:pt x="2466" y="6529"/>
                  <a:pt x="2503" y="6594"/>
                  <a:pt x="2530" y="6672"/>
                </a:cubicBezTo>
                <a:cubicBezTo>
                  <a:pt x="2573" y="6795"/>
                  <a:pt x="2602" y="6867"/>
                  <a:pt x="2679" y="6970"/>
                </a:cubicBezTo>
                <a:cubicBezTo>
                  <a:pt x="2748" y="7061"/>
                  <a:pt x="2798" y="7115"/>
                  <a:pt x="2902" y="7169"/>
                </a:cubicBezTo>
                <a:cubicBezTo>
                  <a:pt x="2987" y="7213"/>
                  <a:pt x="2981" y="7210"/>
                  <a:pt x="3076" y="7193"/>
                </a:cubicBezTo>
              </a:path>
              <a:path w="7690" h="1216">
                <a:moveTo>
                  <a:pt x="2753" y="6598"/>
                </a:moveTo>
                <a:cubicBezTo>
                  <a:pt x="2689" y="6759"/>
                  <a:pt x="2648" y="6949"/>
                  <a:pt x="2555" y="7094"/>
                </a:cubicBezTo>
                <a:cubicBezTo>
                  <a:pt x="2538" y="7121"/>
                  <a:pt x="2503" y="7146"/>
                  <a:pt x="2480" y="7169"/>
                </a:cubicBezTo>
              </a:path>
              <a:path w="7690" h="1216">
                <a:moveTo>
                  <a:pt x="2828" y="6251"/>
                </a:moveTo>
                <a:cubicBezTo>
                  <a:pt x="2872" y="6217"/>
                  <a:pt x="3000" y="6117"/>
                  <a:pt x="3076" y="6176"/>
                </a:cubicBezTo>
                <a:cubicBezTo>
                  <a:pt x="3151" y="6234"/>
                  <a:pt x="3162" y="6287"/>
                  <a:pt x="3125" y="6375"/>
                </a:cubicBezTo>
                <a:cubicBezTo>
                  <a:pt x="3117" y="6394"/>
                  <a:pt x="3025" y="6488"/>
                  <a:pt x="3026" y="6499"/>
                </a:cubicBezTo>
                <a:cubicBezTo>
                  <a:pt x="3033" y="6592"/>
                  <a:pt x="3130" y="6536"/>
                  <a:pt x="3175" y="6524"/>
                </a:cubicBezTo>
              </a:path>
              <a:path w="7690" h="1216">
                <a:moveTo>
                  <a:pt x="3671" y="6400"/>
                </a:moveTo>
                <a:cubicBezTo>
                  <a:pt x="3651" y="6539"/>
                  <a:pt x="3666" y="6598"/>
                  <a:pt x="3671" y="6722"/>
                </a:cubicBezTo>
                <a:cubicBezTo>
                  <a:pt x="3674" y="6795"/>
                  <a:pt x="3696" y="6824"/>
                  <a:pt x="3696" y="6896"/>
                </a:cubicBezTo>
              </a:path>
              <a:path w="7690" h="1216">
                <a:moveTo>
                  <a:pt x="3473" y="6697"/>
                </a:moveTo>
                <a:cubicBezTo>
                  <a:pt x="3605" y="6697"/>
                  <a:pt x="3738" y="6697"/>
                  <a:pt x="3870" y="6697"/>
                </a:cubicBezTo>
              </a:path>
              <a:path w="7690" h="1216">
                <a:moveTo>
                  <a:pt x="4242" y="6375"/>
                </a:moveTo>
                <a:cubicBezTo>
                  <a:pt x="4382" y="6375"/>
                  <a:pt x="4523" y="6375"/>
                  <a:pt x="4663" y="6375"/>
                </a:cubicBezTo>
              </a:path>
              <a:path w="7690" h="1216">
                <a:moveTo>
                  <a:pt x="4242" y="6449"/>
                </a:moveTo>
                <a:cubicBezTo>
                  <a:pt x="4174" y="6507"/>
                  <a:pt x="4077" y="6562"/>
                  <a:pt x="4118" y="6672"/>
                </a:cubicBezTo>
                <a:cubicBezTo>
                  <a:pt x="4144" y="6741"/>
                  <a:pt x="4200" y="6720"/>
                  <a:pt x="4242" y="6697"/>
                </a:cubicBezTo>
                <a:cubicBezTo>
                  <a:pt x="4319" y="6655"/>
                  <a:pt x="4370" y="6639"/>
                  <a:pt x="4440" y="6648"/>
                </a:cubicBezTo>
                <a:cubicBezTo>
                  <a:pt x="4489" y="6654"/>
                  <a:pt x="4582" y="6718"/>
                  <a:pt x="4614" y="6772"/>
                </a:cubicBezTo>
                <a:cubicBezTo>
                  <a:pt x="4646" y="6827"/>
                  <a:pt x="4702" y="6956"/>
                  <a:pt x="4688" y="7020"/>
                </a:cubicBezTo>
                <a:cubicBezTo>
                  <a:pt x="4673" y="7090"/>
                  <a:pt x="4610" y="7156"/>
                  <a:pt x="4539" y="7169"/>
                </a:cubicBezTo>
                <a:cubicBezTo>
                  <a:pt x="4452" y="7184"/>
                  <a:pt x="4371" y="7157"/>
                  <a:pt x="4291" y="7144"/>
                </a:cubicBezTo>
                <a:cubicBezTo>
                  <a:pt x="4204" y="7130"/>
                  <a:pt x="4227" y="7142"/>
                  <a:pt x="4217" y="7045"/>
                </a:cubicBezTo>
              </a:path>
              <a:path w="7690" h="1216">
                <a:moveTo>
                  <a:pt x="5110" y="6499"/>
                </a:moveTo>
                <a:cubicBezTo>
                  <a:pt x="5129" y="6589"/>
                  <a:pt x="5135" y="6656"/>
                  <a:pt x="5135" y="6747"/>
                </a:cubicBezTo>
                <a:cubicBezTo>
                  <a:pt x="5135" y="6797"/>
                  <a:pt x="5135" y="6846"/>
                  <a:pt x="5135" y="6896"/>
                </a:cubicBezTo>
              </a:path>
              <a:path w="7690" h="1216">
                <a:moveTo>
                  <a:pt x="5035" y="6697"/>
                </a:moveTo>
                <a:cubicBezTo>
                  <a:pt x="5149" y="6697"/>
                  <a:pt x="5248" y="6684"/>
                  <a:pt x="5358" y="6672"/>
                </a:cubicBezTo>
                <a:cubicBezTo>
                  <a:pt x="5383" y="6672"/>
                  <a:pt x="5407" y="6672"/>
                  <a:pt x="5432" y="6672"/>
                </a:cubicBezTo>
              </a:path>
              <a:path w="7690" h="1216">
                <a:moveTo>
                  <a:pt x="5755" y="6772"/>
                </a:moveTo>
                <a:cubicBezTo>
                  <a:pt x="5759" y="6860"/>
                  <a:pt x="5756" y="6983"/>
                  <a:pt x="5779" y="7069"/>
                </a:cubicBezTo>
                <a:cubicBezTo>
                  <a:pt x="5804" y="7119"/>
                  <a:pt x="5812" y="7136"/>
                  <a:pt x="5829" y="7169"/>
                </a:cubicBezTo>
                <a:cubicBezTo>
                  <a:pt x="5825" y="7082"/>
                  <a:pt x="5813" y="7004"/>
                  <a:pt x="5804" y="6921"/>
                </a:cubicBezTo>
                <a:cubicBezTo>
                  <a:pt x="5789" y="6774"/>
                  <a:pt x="5755" y="6651"/>
                  <a:pt x="5755" y="6499"/>
                </a:cubicBezTo>
                <a:cubicBezTo>
                  <a:pt x="5755" y="6411"/>
                  <a:pt x="5745" y="6325"/>
                  <a:pt x="5779" y="6251"/>
                </a:cubicBezTo>
                <a:cubicBezTo>
                  <a:pt x="5818" y="6167"/>
                  <a:pt x="5834" y="6182"/>
                  <a:pt x="5904" y="6152"/>
                </a:cubicBezTo>
                <a:cubicBezTo>
                  <a:pt x="6010" y="6107"/>
                  <a:pt x="6137" y="6085"/>
                  <a:pt x="6251" y="6077"/>
                </a:cubicBezTo>
                <a:cubicBezTo>
                  <a:pt x="6434" y="6064"/>
                  <a:pt x="6611" y="6052"/>
                  <a:pt x="6796" y="6052"/>
                </a:cubicBezTo>
                <a:cubicBezTo>
                  <a:pt x="7038" y="6052"/>
                  <a:pt x="7275" y="6032"/>
                  <a:pt x="7516" y="6028"/>
                </a:cubicBezTo>
                <a:cubicBezTo>
                  <a:pt x="7742" y="6025"/>
                  <a:pt x="7961" y="6048"/>
                  <a:pt x="8186" y="6052"/>
                </a:cubicBezTo>
                <a:cubicBezTo>
                  <a:pt x="8346" y="6055"/>
                  <a:pt x="8497" y="6077"/>
                  <a:pt x="8657" y="6077"/>
                </a:cubicBezTo>
                <a:cubicBezTo>
                  <a:pt x="8733" y="6077"/>
                  <a:pt x="8763" y="6066"/>
                  <a:pt x="8830" y="6052"/>
                </a:cubicBezTo>
              </a:path>
              <a:path w="7690" h="1216">
                <a:moveTo>
                  <a:pt x="6226" y="6375"/>
                </a:moveTo>
                <a:cubicBezTo>
                  <a:pt x="6258" y="6458"/>
                  <a:pt x="6251" y="6532"/>
                  <a:pt x="6251" y="6623"/>
                </a:cubicBezTo>
                <a:cubicBezTo>
                  <a:pt x="6251" y="6760"/>
                  <a:pt x="6258" y="6887"/>
                  <a:pt x="6276" y="7020"/>
                </a:cubicBezTo>
                <a:cubicBezTo>
                  <a:pt x="6286" y="7090"/>
                  <a:pt x="6281" y="7189"/>
                  <a:pt x="6325" y="7218"/>
                </a:cubicBezTo>
              </a:path>
              <a:path w="7690" h="1216">
                <a:moveTo>
                  <a:pt x="6648" y="6821"/>
                </a:moveTo>
                <a:cubicBezTo>
                  <a:pt x="6791" y="6805"/>
                  <a:pt x="6929" y="6783"/>
                  <a:pt x="7069" y="6772"/>
                </a:cubicBezTo>
              </a:path>
              <a:path w="7690" h="1216">
                <a:moveTo>
                  <a:pt x="7268" y="6573"/>
                </a:moveTo>
                <a:cubicBezTo>
                  <a:pt x="7349" y="6712"/>
                  <a:pt x="7422" y="6841"/>
                  <a:pt x="7541" y="6945"/>
                </a:cubicBezTo>
                <a:cubicBezTo>
                  <a:pt x="7624" y="7018"/>
                  <a:pt x="7725" y="7064"/>
                  <a:pt x="7813" y="7119"/>
                </a:cubicBezTo>
                <a:cubicBezTo>
                  <a:pt x="7841" y="7147"/>
                  <a:pt x="7855" y="7156"/>
                  <a:pt x="7888" y="7144"/>
                </a:cubicBezTo>
              </a:path>
              <a:path w="7690" h="1216">
                <a:moveTo>
                  <a:pt x="7565" y="6598"/>
                </a:moveTo>
                <a:cubicBezTo>
                  <a:pt x="7464" y="6748"/>
                  <a:pt x="7353" y="6889"/>
                  <a:pt x="7268" y="7045"/>
                </a:cubicBezTo>
                <a:cubicBezTo>
                  <a:pt x="7221" y="7137"/>
                  <a:pt x="7209" y="7164"/>
                  <a:pt x="7169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295200" y="2847960"/>
            <a:ext cx="2535480" cy="590400"/>
          </a:xfrm>
          <a:custGeom>
            <a:avLst/>
            <a:gdLst/>
            <a:ahLst/>
            <a:rect l="l" t="t" r="r" b="b"/>
            <a:pathLst>
              <a:path w="7045" h="1638">
                <a:moveTo>
                  <a:pt x="819" y="7913"/>
                </a:moveTo>
                <a:cubicBezTo>
                  <a:pt x="830" y="8007"/>
                  <a:pt x="843" y="8086"/>
                  <a:pt x="843" y="8186"/>
                </a:cubicBezTo>
                <a:cubicBezTo>
                  <a:pt x="843" y="8363"/>
                  <a:pt x="848" y="8537"/>
                  <a:pt x="868" y="8706"/>
                </a:cubicBezTo>
                <a:cubicBezTo>
                  <a:pt x="877" y="8778"/>
                  <a:pt x="862" y="8819"/>
                  <a:pt x="893" y="8880"/>
                </a:cubicBezTo>
                <a:cubicBezTo>
                  <a:pt x="951" y="8808"/>
                  <a:pt x="942" y="8788"/>
                  <a:pt x="967" y="8706"/>
                </a:cubicBezTo>
                <a:cubicBezTo>
                  <a:pt x="995" y="8613"/>
                  <a:pt x="1059" y="8573"/>
                  <a:pt x="1141" y="8558"/>
                </a:cubicBezTo>
                <a:cubicBezTo>
                  <a:pt x="1229" y="8542"/>
                  <a:pt x="1267" y="8647"/>
                  <a:pt x="1290" y="8706"/>
                </a:cubicBezTo>
                <a:cubicBezTo>
                  <a:pt x="1314" y="8768"/>
                  <a:pt x="1344" y="8873"/>
                  <a:pt x="1290" y="8930"/>
                </a:cubicBezTo>
                <a:cubicBezTo>
                  <a:pt x="1220" y="9004"/>
                  <a:pt x="1173" y="9004"/>
                  <a:pt x="1067" y="9004"/>
                </a:cubicBezTo>
                <a:cubicBezTo>
                  <a:pt x="984" y="9004"/>
                  <a:pt x="955" y="8945"/>
                  <a:pt x="918" y="8880"/>
                </a:cubicBezTo>
              </a:path>
              <a:path w="7045" h="1638">
                <a:moveTo>
                  <a:pt x="967" y="7938"/>
                </a:moveTo>
                <a:cubicBezTo>
                  <a:pt x="1103" y="8005"/>
                  <a:pt x="1234" y="8074"/>
                  <a:pt x="1339" y="8186"/>
                </a:cubicBezTo>
                <a:cubicBezTo>
                  <a:pt x="1452" y="8306"/>
                  <a:pt x="1573" y="8467"/>
                  <a:pt x="1612" y="8632"/>
                </a:cubicBezTo>
                <a:cubicBezTo>
                  <a:pt x="1634" y="8725"/>
                  <a:pt x="1618" y="8866"/>
                  <a:pt x="1588" y="8954"/>
                </a:cubicBezTo>
                <a:cubicBezTo>
                  <a:pt x="1564" y="9024"/>
                  <a:pt x="1546" y="9069"/>
                  <a:pt x="1488" y="9103"/>
                </a:cubicBezTo>
                <a:cubicBezTo>
                  <a:pt x="1480" y="9103"/>
                  <a:pt x="1471" y="9103"/>
                  <a:pt x="1463" y="9103"/>
                </a:cubicBezTo>
              </a:path>
              <a:path w="7045" h="1638">
                <a:moveTo>
                  <a:pt x="2158" y="8483"/>
                </a:moveTo>
                <a:cubicBezTo>
                  <a:pt x="2255" y="8588"/>
                  <a:pt x="2297" y="8655"/>
                  <a:pt x="2356" y="8781"/>
                </a:cubicBezTo>
                <a:cubicBezTo>
                  <a:pt x="2397" y="8869"/>
                  <a:pt x="2467" y="9026"/>
                  <a:pt x="2555" y="9079"/>
                </a:cubicBezTo>
                <a:cubicBezTo>
                  <a:pt x="2620" y="9118"/>
                  <a:pt x="2678" y="9153"/>
                  <a:pt x="2753" y="9153"/>
                </a:cubicBezTo>
              </a:path>
              <a:path w="7045" h="1638">
                <a:moveTo>
                  <a:pt x="2555" y="8434"/>
                </a:moveTo>
                <a:cubicBezTo>
                  <a:pt x="2482" y="8564"/>
                  <a:pt x="2449" y="8665"/>
                  <a:pt x="2406" y="8806"/>
                </a:cubicBezTo>
                <a:cubicBezTo>
                  <a:pt x="2378" y="8899"/>
                  <a:pt x="2341" y="8989"/>
                  <a:pt x="2307" y="9079"/>
                </a:cubicBezTo>
                <a:cubicBezTo>
                  <a:pt x="2275" y="9164"/>
                  <a:pt x="2271" y="9184"/>
                  <a:pt x="2257" y="9103"/>
                </a:cubicBezTo>
              </a:path>
              <a:path w="7045" h="1638">
                <a:moveTo>
                  <a:pt x="2580" y="8136"/>
                </a:moveTo>
                <a:cubicBezTo>
                  <a:pt x="2694" y="8164"/>
                  <a:pt x="2795" y="8154"/>
                  <a:pt x="2803" y="8285"/>
                </a:cubicBezTo>
                <a:cubicBezTo>
                  <a:pt x="2807" y="8357"/>
                  <a:pt x="2783" y="8410"/>
                  <a:pt x="2778" y="8483"/>
                </a:cubicBezTo>
                <a:cubicBezTo>
                  <a:pt x="2771" y="8594"/>
                  <a:pt x="2859" y="8544"/>
                  <a:pt x="2927" y="8558"/>
                </a:cubicBezTo>
                <a:cubicBezTo>
                  <a:pt x="2952" y="8566"/>
                  <a:pt x="2976" y="8574"/>
                  <a:pt x="3001" y="8582"/>
                </a:cubicBezTo>
              </a:path>
              <a:path w="7045" h="1638">
                <a:moveTo>
                  <a:pt x="3200" y="8855"/>
                </a:moveTo>
                <a:cubicBezTo>
                  <a:pt x="3340" y="8855"/>
                  <a:pt x="3481" y="8855"/>
                  <a:pt x="3621" y="8855"/>
                </a:cubicBezTo>
              </a:path>
              <a:path w="7045" h="1638">
                <a:moveTo>
                  <a:pt x="3373" y="8483"/>
                </a:moveTo>
                <a:cubicBezTo>
                  <a:pt x="3333" y="8625"/>
                  <a:pt x="3288" y="8799"/>
                  <a:pt x="3324" y="8954"/>
                </a:cubicBezTo>
                <a:cubicBezTo>
                  <a:pt x="3352" y="9011"/>
                  <a:pt x="3363" y="9035"/>
                  <a:pt x="3373" y="9079"/>
                </a:cubicBezTo>
              </a:path>
              <a:path w="7045" h="1638">
                <a:moveTo>
                  <a:pt x="3944" y="8508"/>
                </a:moveTo>
                <a:cubicBezTo>
                  <a:pt x="4068" y="8508"/>
                  <a:pt x="4192" y="8508"/>
                  <a:pt x="4316" y="8508"/>
                </a:cubicBezTo>
              </a:path>
              <a:path w="7045" h="1638">
                <a:moveTo>
                  <a:pt x="3944" y="8508"/>
                </a:moveTo>
                <a:cubicBezTo>
                  <a:pt x="3910" y="8548"/>
                  <a:pt x="3776" y="8656"/>
                  <a:pt x="3795" y="8731"/>
                </a:cubicBezTo>
                <a:cubicBezTo>
                  <a:pt x="3815" y="8811"/>
                  <a:pt x="3904" y="8781"/>
                  <a:pt x="3969" y="8781"/>
                </a:cubicBezTo>
                <a:cubicBezTo>
                  <a:pt x="4053" y="8781"/>
                  <a:pt x="4169" y="8753"/>
                  <a:pt x="4242" y="8806"/>
                </a:cubicBezTo>
                <a:cubicBezTo>
                  <a:pt x="4316" y="8859"/>
                  <a:pt x="4375" y="8907"/>
                  <a:pt x="4390" y="9004"/>
                </a:cubicBezTo>
                <a:cubicBezTo>
                  <a:pt x="4400" y="9073"/>
                  <a:pt x="4400" y="9177"/>
                  <a:pt x="4341" y="9227"/>
                </a:cubicBezTo>
                <a:cubicBezTo>
                  <a:pt x="4275" y="9283"/>
                  <a:pt x="4205" y="9314"/>
                  <a:pt x="4118" y="9327"/>
                </a:cubicBezTo>
                <a:cubicBezTo>
                  <a:pt x="4092" y="9331"/>
                  <a:pt x="3964" y="9316"/>
                  <a:pt x="3944" y="9302"/>
                </a:cubicBezTo>
                <a:cubicBezTo>
                  <a:pt x="3927" y="9285"/>
                  <a:pt x="3911" y="9269"/>
                  <a:pt x="3894" y="9252"/>
                </a:cubicBezTo>
              </a:path>
              <a:path w="7045" h="1638">
                <a:moveTo>
                  <a:pt x="4738" y="9004"/>
                </a:moveTo>
                <a:cubicBezTo>
                  <a:pt x="4887" y="9004"/>
                  <a:pt x="5035" y="9004"/>
                  <a:pt x="5184" y="9004"/>
                </a:cubicBezTo>
              </a:path>
              <a:path w="7045" h="1638">
                <a:moveTo>
                  <a:pt x="5383" y="8706"/>
                </a:moveTo>
                <a:cubicBezTo>
                  <a:pt x="5360" y="8798"/>
                  <a:pt x="5340" y="8907"/>
                  <a:pt x="5358" y="9004"/>
                </a:cubicBezTo>
                <a:cubicBezTo>
                  <a:pt x="5376" y="9101"/>
                  <a:pt x="5386" y="9206"/>
                  <a:pt x="5407" y="9302"/>
                </a:cubicBezTo>
                <a:cubicBezTo>
                  <a:pt x="5413" y="9331"/>
                  <a:pt x="5448" y="9372"/>
                  <a:pt x="5457" y="9401"/>
                </a:cubicBezTo>
                <a:cubicBezTo>
                  <a:pt x="5450" y="9298"/>
                  <a:pt x="5451" y="9180"/>
                  <a:pt x="5432" y="9079"/>
                </a:cubicBezTo>
                <a:cubicBezTo>
                  <a:pt x="5409" y="8954"/>
                  <a:pt x="5407" y="8835"/>
                  <a:pt x="5407" y="8706"/>
                </a:cubicBezTo>
                <a:cubicBezTo>
                  <a:pt x="5407" y="8610"/>
                  <a:pt x="5446" y="8523"/>
                  <a:pt x="5457" y="8434"/>
                </a:cubicBezTo>
                <a:cubicBezTo>
                  <a:pt x="5465" y="8364"/>
                  <a:pt x="5465" y="8326"/>
                  <a:pt x="5531" y="8285"/>
                </a:cubicBezTo>
                <a:cubicBezTo>
                  <a:pt x="5612" y="8234"/>
                  <a:pt x="5737" y="8217"/>
                  <a:pt x="5829" y="8210"/>
                </a:cubicBezTo>
                <a:cubicBezTo>
                  <a:pt x="6125" y="8188"/>
                  <a:pt x="6428" y="8222"/>
                  <a:pt x="6722" y="8235"/>
                </a:cubicBezTo>
                <a:cubicBezTo>
                  <a:pt x="6948" y="8245"/>
                  <a:pt x="7169" y="8222"/>
                  <a:pt x="7392" y="8210"/>
                </a:cubicBezTo>
                <a:cubicBezTo>
                  <a:pt x="7512" y="8203"/>
                  <a:pt x="7676" y="8216"/>
                  <a:pt x="7789" y="8161"/>
                </a:cubicBezTo>
                <a:cubicBezTo>
                  <a:pt x="7902" y="8106"/>
                  <a:pt x="7842" y="8134"/>
                  <a:pt x="7789" y="8037"/>
                </a:cubicBezTo>
              </a:path>
              <a:path w="7045" h="1638">
                <a:moveTo>
                  <a:pt x="5928" y="8706"/>
                </a:moveTo>
                <a:cubicBezTo>
                  <a:pt x="5904" y="8837"/>
                  <a:pt x="5879" y="8947"/>
                  <a:pt x="5879" y="9079"/>
                </a:cubicBezTo>
                <a:cubicBezTo>
                  <a:pt x="5879" y="9170"/>
                  <a:pt x="5869" y="9298"/>
                  <a:pt x="5928" y="9376"/>
                </a:cubicBezTo>
                <a:cubicBezTo>
                  <a:pt x="5936" y="9376"/>
                  <a:pt x="5945" y="9376"/>
                  <a:pt x="5953" y="9376"/>
                </a:cubicBezTo>
              </a:path>
              <a:path w="7045" h="1638">
                <a:moveTo>
                  <a:pt x="6350" y="9079"/>
                </a:moveTo>
                <a:cubicBezTo>
                  <a:pt x="6540" y="9079"/>
                  <a:pt x="6565" y="9079"/>
                  <a:pt x="6672" y="9079"/>
                </a:cubicBezTo>
              </a:path>
              <a:path w="7045" h="1638">
                <a:moveTo>
                  <a:pt x="6846" y="8855"/>
                </a:moveTo>
                <a:cubicBezTo>
                  <a:pt x="6937" y="8954"/>
                  <a:pt x="7015" y="9066"/>
                  <a:pt x="7119" y="9153"/>
                </a:cubicBezTo>
                <a:cubicBezTo>
                  <a:pt x="7228" y="9245"/>
                  <a:pt x="7313" y="9344"/>
                  <a:pt x="7441" y="9376"/>
                </a:cubicBezTo>
              </a:path>
              <a:path w="7045" h="1638">
                <a:moveTo>
                  <a:pt x="7243" y="8657"/>
                </a:moveTo>
                <a:cubicBezTo>
                  <a:pt x="7084" y="8834"/>
                  <a:pt x="6945" y="9046"/>
                  <a:pt x="6821" y="9252"/>
                </a:cubicBezTo>
                <a:cubicBezTo>
                  <a:pt x="6747" y="9401"/>
                  <a:pt x="6722" y="9451"/>
                  <a:pt x="6672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347760" y="3598920"/>
            <a:ext cx="2144520" cy="554040"/>
          </a:xfrm>
          <a:custGeom>
            <a:avLst/>
            <a:gdLst/>
            <a:ahLst/>
            <a:rect l="l" t="t" r="r" b="b"/>
            <a:pathLst>
              <a:path w="5955" h="1539">
                <a:moveTo>
                  <a:pt x="1315" y="10269"/>
                </a:moveTo>
                <a:cubicBezTo>
                  <a:pt x="1323" y="10348"/>
                  <a:pt x="1339" y="10356"/>
                  <a:pt x="1339" y="10443"/>
                </a:cubicBezTo>
                <a:cubicBezTo>
                  <a:pt x="1291" y="10370"/>
                  <a:pt x="1308" y="10344"/>
                  <a:pt x="1215" y="10344"/>
                </a:cubicBezTo>
                <a:cubicBezTo>
                  <a:pt x="1077" y="10344"/>
                  <a:pt x="1087" y="10399"/>
                  <a:pt x="1017" y="10492"/>
                </a:cubicBezTo>
                <a:cubicBezTo>
                  <a:pt x="966" y="10560"/>
                  <a:pt x="950" y="10628"/>
                  <a:pt x="967" y="10716"/>
                </a:cubicBezTo>
                <a:cubicBezTo>
                  <a:pt x="981" y="10791"/>
                  <a:pt x="1030" y="10892"/>
                  <a:pt x="1091" y="10939"/>
                </a:cubicBezTo>
                <a:cubicBezTo>
                  <a:pt x="1138" y="10975"/>
                  <a:pt x="1186" y="10981"/>
                  <a:pt x="1240" y="10988"/>
                </a:cubicBezTo>
              </a:path>
              <a:path w="5955" h="1539">
                <a:moveTo>
                  <a:pt x="1116" y="9996"/>
                </a:moveTo>
                <a:cubicBezTo>
                  <a:pt x="1238" y="10118"/>
                  <a:pt x="1390" y="10228"/>
                  <a:pt x="1488" y="10368"/>
                </a:cubicBezTo>
                <a:cubicBezTo>
                  <a:pt x="1578" y="10496"/>
                  <a:pt x="1697" y="10634"/>
                  <a:pt x="1736" y="10790"/>
                </a:cubicBezTo>
                <a:cubicBezTo>
                  <a:pt x="1759" y="10881"/>
                  <a:pt x="1726" y="10960"/>
                  <a:pt x="1687" y="11038"/>
                </a:cubicBezTo>
                <a:cubicBezTo>
                  <a:pt x="1654" y="11104"/>
                  <a:pt x="1607" y="11131"/>
                  <a:pt x="1538" y="11137"/>
                </a:cubicBezTo>
                <a:cubicBezTo>
                  <a:pt x="1530" y="11137"/>
                  <a:pt x="1521" y="11137"/>
                  <a:pt x="1513" y="11137"/>
                </a:cubicBezTo>
              </a:path>
              <a:path w="5955" h="1539">
                <a:moveTo>
                  <a:pt x="2307" y="10592"/>
                </a:moveTo>
                <a:cubicBezTo>
                  <a:pt x="2342" y="10671"/>
                  <a:pt x="2365" y="10764"/>
                  <a:pt x="2406" y="10840"/>
                </a:cubicBezTo>
                <a:cubicBezTo>
                  <a:pt x="2463" y="10946"/>
                  <a:pt x="2550" y="11048"/>
                  <a:pt x="2629" y="11137"/>
                </a:cubicBezTo>
                <a:cubicBezTo>
                  <a:pt x="2699" y="11216"/>
                  <a:pt x="2761" y="11265"/>
                  <a:pt x="2853" y="11311"/>
                </a:cubicBezTo>
              </a:path>
              <a:path w="5955" h="1539">
                <a:moveTo>
                  <a:pt x="2580" y="10641"/>
                </a:moveTo>
                <a:cubicBezTo>
                  <a:pt x="2552" y="10764"/>
                  <a:pt x="2518" y="10888"/>
                  <a:pt x="2505" y="11013"/>
                </a:cubicBezTo>
                <a:cubicBezTo>
                  <a:pt x="2496" y="11098"/>
                  <a:pt x="2480" y="11175"/>
                  <a:pt x="2480" y="11261"/>
                </a:cubicBezTo>
                <a:cubicBezTo>
                  <a:pt x="2480" y="11278"/>
                  <a:pt x="2480" y="11294"/>
                  <a:pt x="2480" y="11311"/>
                </a:cubicBezTo>
              </a:path>
              <a:path w="5955" h="1539">
                <a:moveTo>
                  <a:pt x="2679" y="10344"/>
                </a:moveTo>
                <a:cubicBezTo>
                  <a:pt x="2866" y="10306"/>
                  <a:pt x="2902" y="10296"/>
                  <a:pt x="2977" y="10492"/>
                </a:cubicBezTo>
                <a:cubicBezTo>
                  <a:pt x="2995" y="10540"/>
                  <a:pt x="2906" y="10631"/>
                  <a:pt x="2902" y="10641"/>
                </a:cubicBezTo>
                <a:cubicBezTo>
                  <a:pt x="2838" y="10803"/>
                  <a:pt x="2939" y="10774"/>
                  <a:pt x="3051" y="10740"/>
                </a:cubicBezTo>
              </a:path>
              <a:path w="5955" h="1539">
                <a:moveTo>
                  <a:pt x="3349" y="10691"/>
                </a:moveTo>
                <a:cubicBezTo>
                  <a:pt x="3359" y="10806"/>
                  <a:pt x="3348" y="11020"/>
                  <a:pt x="3398" y="11137"/>
                </a:cubicBezTo>
                <a:cubicBezTo>
                  <a:pt x="3422" y="11185"/>
                  <a:pt x="3430" y="11200"/>
                  <a:pt x="3423" y="11237"/>
                </a:cubicBezTo>
              </a:path>
              <a:path w="5955" h="1539">
                <a:moveTo>
                  <a:pt x="3200" y="10964"/>
                </a:moveTo>
                <a:cubicBezTo>
                  <a:pt x="3265" y="10925"/>
                  <a:pt x="3343" y="10939"/>
                  <a:pt x="3423" y="10939"/>
                </a:cubicBezTo>
                <a:cubicBezTo>
                  <a:pt x="3448" y="10939"/>
                  <a:pt x="3472" y="10939"/>
                  <a:pt x="3497" y="10939"/>
                </a:cubicBezTo>
              </a:path>
              <a:path w="5955" h="1539">
                <a:moveTo>
                  <a:pt x="3820" y="10592"/>
                </a:moveTo>
                <a:cubicBezTo>
                  <a:pt x="3941" y="10592"/>
                  <a:pt x="4033" y="10600"/>
                  <a:pt x="4142" y="10567"/>
                </a:cubicBezTo>
              </a:path>
              <a:path w="5955" h="1539">
                <a:moveTo>
                  <a:pt x="3845" y="10567"/>
                </a:moveTo>
                <a:cubicBezTo>
                  <a:pt x="3767" y="10660"/>
                  <a:pt x="3697" y="10721"/>
                  <a:pt x="3820" y="10815"/>
                </a:cubicBezTo>
                <a:cubicBezTo>
                  <a:pt x="3880" y="10861"/>
                  <a:pt x="3953" y="10867"/>
                  <a:pt x="4018" y="10889"/>
                </a:cubicBezTo>
                <a:cubicBezTo>
                  <a:pt x="4084" y="10911"/>
                  <a:pt x="4174" y="10957"/>
                  <a:pt x="4217" y="11013"/>
                </a:cubicBezTo>
                <a:cubicBezTo>
                  <a:pt x="4286" y="11103"/>
                  <a:pt x="4271" y="11208"/>
                  <a:pt x="4242" y="11311"/>
                </a:cubicBezTo>
                <a:cubicBezTo>
                  <a:pt x="4221" y="11386"/>
                  <a:pt x="4135" y="11407"/>
                  <a:pt x="4068" y="11410"/>
                </a:cubicBezTo>
                <a:cubicBezTo>
                  <a:pt x="3967" y="11414"/>
                  <a:pt x="3910" y="11378"/>
                  <a:pt x="3820" y="11336"/>
                </a:cubicBezTo>
              </a:path>
              <a:path w="5955" h="1539">
                <a:moveTo>
                  <a:pt x="2282" y="10195"/>
                </a:moveTo>
                <a:cubicBezTo>
                  <a:pt x="2217" y="10364"/>
                  <a:pt x="2158" y="10506"/>
                  <a:pt x="2183" y="10691"/>
                </a:cubicBezTo>
                <a:cubicBezTo>
                  <a:pt x="2203" y="10841"/>
                  <a:pt x="2274" y="10943"/>
                  <a:pt x="2356" y="11063"/>
                </a:cubicBezTo>
                <a:cubicBezTo>
                  <a:pt x="2449" y="11186"/>
                  <a:pt x="2498" y="11236"/>
                  <a:pt x="2604" y="11286"/>
                </a:cubicBezTo>
              </a:path>
              <a:path w="5955" h="1539">
                <a:moveTo>
                  <a:pt x="4142" y="10368"/>
                </a:moveTo>
                <a:cubicBezTo>
                  <a:pt x="4251" y="10541"/>
                  <a:pt x="4337" y="10688"/>
                  <a:pt x="4390" y="10889"/>
                </a:cubicBezTo>
                <a:cubicBezTo>
                  <a:pt x="4431" y="11043"/>
                  <a:pt x="4428" y="11208"/>
                  <a:pt x="4390" y="11361"/>
                </a:cubicBezTo>
                <a:cubicBezTo>
                  <a:pt x="4367" y="11456"/>
                  <a:pt x="4338" y="11519"/>
                  <a:pt x="4242" y="11534"/>
                </a:cubicBezTo>
                <a:cubicBezTo>
                  <a:pt x="4234" y="11534"/>
                  <a:pt x="4225" y="11534"/>
                  <a:pt x="4217" y="11534"/>
                </a:cubicBezTo>
              </a:path>
              <a:path w="5955" h="1539">
                <a:moveTo>
                  <a:pt x="4812" y="10765"/>
                </a:moveTo>
                <a:cubicBezTo>
                  <a:pt x="4830" y="10905"/>
                  <a:pt x="4857" y="11047"/>
                  <a:pt x="4862" y="11187"/>
                </a:cubicBezTo>
                <a:cubicBezTo>
                  <a:pt x="4865" y="11268"/>
                  <a:pt x="4876" y="11344"/>
                  <a:pt x="4911" y="11410"/>
                </a:cubicBezTo>
                <a:cubicBezTo>
                  <a:pt x="4919" y="11418"/>
                  <a:pt x="4928" y="11427"/>
                  <a:pt x="4936" y="11435"/>
                </a:cubicBezTo>
                <a:cubicBezTo>
                  <a:pt x="4925" y="11333"/>
                  <a:pt x="4911" y="11243"/>
                  <a:pt x="4911" y="11137"/>
                </a:cubicBezTo>
                <a:cubicBezTo>
                  <a:pt x="4911" y="11017"/>
                  <a:pt x="4899" y="10906"/>
                  <a:pt x="4887" y="10790"/>
                </a:cubicBezTo>
                <a:cubicBezTo>
                  <a:pt x="4880" y="10726"/>
                  <a:pt x="4875" y="10570"/>
                  <a:pt x="4911" y="10517"/>
                </a:cubicBezTo>
                <a:cubicBezTo>
                  <a:pt x="4964" y="10438"/>
                  <a:pt x="5022" y="10421"/>
                  <a:pt x="5110" y="10418"/>
                </a:cubicBezTo>
                <a:cubicBezTo>
                  <a:pt x="5312" y="10410"/>
                  <a:pt x="5506" y="10432"/>
                  <a:pt x="5705" y="10443"/>
                </a:cubicBezTo>
                <a:cubicBezTo>
                  <a:pt x="5940" y="10456"/>
                  <a:pt x="6157" y="10506"/>
                  <a:pt x="6400" y="10517"/>
                </a:cubicBezTo>
                <a:cubicBezTo>
                  <a:pt x="6484" y="10521"/>
                  <a:pt x="6832" y="10579"/>
                  <a:pt x="6896" y="10492"/>
                </a:cubicBezTo>
                <a:cubicBezTo>
                  <a:pt x="6937" y="10492"/>
                  <a:pt x="6946" y="10476"/>
                  <a:pt x="6921" y="10418"/>
                </a:cubicBezTo>
              </a:path>
              <a:path w="5955" h="1539">
                <a:moveTo>
                  <a:pt x="5333" y="10765"/>
                </a:moveTo>
                <a:cubicBezTo>
                  <a:pt x="5361" y="10849"/>
                  <a:pt x="5358" y="10923"/>
                  <a:pt x="5358" y="11013"/>
                </a:cubicBezTo>
                <a:cubicBezTo>
                  <a:pt x="5358" y="11119"/>
                  <a:pt x="5369" y="11209"/>
                  <a:pt x="5383" y="11311"/>
                </a:cubicBezTo>
                <a:cubicBezTo>
                  <a:pt x="5383" y="11369"/>
                  <a:pt x="5383" y="11394"/>
                  <a:pt x="5383" y="11435"/>
                </a:cubicBezTo>
              </a:path>
              <a:path w="5955" h="1539">
                <a:moveTo>
                  <a:pt x="5556" y="11063"/>
                </a:moveTo>
                <a:cubicBezTo>
                  <a:pt x="5652" y="11068"/>
                  <a:pt x="5805" y="11112"/>
                  <a:pt x="5904" y="11088"/>
                </a:cubicBezTo>
                <a:cubicBezTo>
                  <a:pt x="5947" y="11066"/>
                  <a:pt x="5959" y="11062"/>
                  <a:pt x="5978" y="11038"/>
                </a:cubicBezTo>
              </a:path>
              <a:path w="5955" h="1539">
                <a:moveTo>
                  <a:pt x="6052" y="10889"/>
                </a:moveTo>
                <a:cubicBezTo>
                  <a:pt x="6061" y="11015"/>
                  <a:pt x="6081" y="11061"/>
                  <a:pt x="6152" y="11162"/>
                </a:cubicBezTo>
                <a:cubicBezTo>
                  <a:pt x="6237" y="11284"/>
                  <a:pt x="6287" y="11363"/>
                  <a:pt x="6400" y="11460"/>
                </a:cubicBezTo>
                <a:cubicBezTo>
                  <a:pt x="6446" y="11506"/>
                  <a:pt x="6458" y="11520"/>
                  <a:pt x="6499" y="11534"/>
                </a:cubicBezTo>
              </a:path>
              <a:path w="5955" h="1539">
                <a:moveTo>
                  <a:pt x="6400" y="10964"/>
                </a:moveTo>
                <a:cubicBezTo>
                  <a:pt x="6306" y="11026"/>
                  <a:pt x="6192" y="11091"/>
                  <a:pt x="6127" y="11187"/>
                </a:cubicBezTo>
                <a:cubicBezTo>
                  <a:pt x="6062" y="11283"/>
                  <a:pt x="6002" y="11368"/>
                  <a:pt x="5928" y="114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2820960" y="3652920"/>
            <a:ext cx="3054240" cy="606240"/>
          </a:xfrm>
          <a:custGeom>
            <a:avLst/>
            <a:gdLst/>
            <a:ahLst/>
            <a:rect l="l" t="t" r="r" b="b"/>
            <a:pathLst>
              <a:path w="8484" h="1688">
                <a:moveTo>
                  <a:pt x="8086" y="10964"/>
                </a:moveTo>
                <a:cubicBezTo>
                  <a:pt x="7975" y="10982"/>
                  <a:pt x="7921" y="11008"/>
                  <a:pt x="7863" y="11112"/>
                </a:cubicBezTo>
                <a:cubicBezTo>
                  <a:pt x="7829" y="11174"/>
                  <a:pt x="7859" y="11268"/>
                  <a:pt x="7938" y="11286"/>
                </a:cubicBezTo>
                <a:cubicBezTo>
                  <a:pt x="7983" y="11296"/>
                  <a:pt x="8070" y="11268"/>
                  <a:pt x="8086" y="11212"/>
                </a:cubicBezTo>
                <a:cubicBezTo>
                  <a:pt x="8110" y="11125"/>
                  <a:pt x="8111" y="11031"/>
                  <a:pt x="8111" y="10939"/>
                </a:cubicBezTo>
                <a:cubicBezTo>
                  <a:pt x="8111" y="10842"/>
                  <a:pt x="8099" y="10700"/>
                  <a:pt x="8136" y="10641"/>
                </a:cubicBezTo>
                <a:cubicBezTo>
                  <a:pt x="8144" y="10625"/>
                  <a:pt x="8153" y="10608"/>
                  <a:pt x="8161" y="10592"/>
                </a:cubicBezTo>
                <a:cubicBezTo>
                  <a:pt x="8196" y="10662"/>
                  <a:pt x="8251" y="10725"/>
                  <a:pt x="8285" y="10790"/>
                </a:cubicBezTo>
                <a:cubicBezTo>
                  <a:pt x="8343" y="10900"/>
                  <a:pt x="8325" y="11045"/>
                  <a:pt x="8384" y="11162"/>
                </a:cubicBezTo>
                <a:cubicBezTo>
                  <a:pt x="8421" y="11236"/>
                  <a:pt x="8456" y="11344"/>
                  <a:pt x="8508" y="11410"/>
                </a:cubicBezTo>
                <a:cubicBezTo>
                  <a:pt x="8525" y="11427"/>
                  <a:pt x="8541" y="11443"/>
                  <a:pt x="8558" y="11460"/>
                </a:cubicBezTo>
              </a:path>
              <a:path w="8484" h="1688">
                <a:moveTo>
                  <a:pt x="9004" y="10592"/>
                </a:moveTo>
                <a:cubicBezTo>
                  <a:pt x="9042" y="10771"/>
                  <a:pt x="9080" y="10851"/>
                  <a:pt x="9203" y="10988"/>
                </a:cubicBezTo>
                <a:cubicBezTo>
                  <a:pt x="9310" y="11107"/>
                  <a:pt x="9394" y="11242"/>
                  <a:pt x="9525" y="11336"/>
                </a:cubicBezTo>
                <a:cubicBezTo>
                  <a:pt x="9575" y="11361"/>
                  <a:pt x="9591" y="11369"/>
                  <a:pt x="9624" y="11385"/>
                </a:cubicBezTo>
              </a:path>
              <a:path w="8484" h="1688">
                <a:moveTo>
                  <a:pt x="9327" y="10740"/>
                </a:moveTo>
                <a:cubicBezTo>
                  <a:pt x="9224" y="10910"/>
                  <a:pt x="9139" y="11051"/>
                  <a:pt x="9079" y="11237"/>
                </a:cubicBezTo>
                <a:cubicBezTo>
                  <a:pt x="9056" y="11310"/>
                  <a:pt x="9054" y="11360"/>
                  <a:pt x="9054" y="11435"/>
                </a:cubicBezTo>
              </a:path>
              <a:path w="8484" h="1688">
                <a:moveTo>
                  <a:pt x="9475" y="10145"/>
                </a:moveTo>
                <a:cubicBezTo>
                  <a:pt x="9610" y="10238"/>
                  <a:pt x="9742" y="10260"/>
                  <a:pt x="9699" y="10418"/>
                </a:cubicBezTo>
                <a:cubicBezTo>
                  <a:pt x="9684" y="10473"/>
                  <a:pt x="9561" y="10525"/>
                  <a:pt x="9599" y="10592"/>
                </a:cubicBezTo>
                <a:cubicBezTo>
                  <a:pt x="9650" y="10682"/>
                  <a:pt x="9698" y="10711"/>
                  <a:pt x="9798" y="10716"/>
                </a:cubicBezTo>
                <a:cubicBezTo>
                  <a:pt x="9814" y="10716"/>
                  <a:pt x="9831" y="10716"/>
                  <a:pt x="9847" y="10716"/>
                </a:cubicBezTo>
              </a:path>
              <a:path w="8484" h="1688">
                <a:moveTo>
                  <a:pt x="10021" y="10840"/>
                </a:moveTo>
                <a:cubicBezTo>
                  <a:pt x="10027" y="11053"/>
                  <a:pt x="10020" y="11236"/>
                  <a:pt x="10096" y="11435"/>
                </a:cubicBezTo>
                <a:cubicBezTo>
                  <a:pt x="10104" y="11452"/>
                  <a:pt x="10112" y="11468"/>
                  <a:pt x="10120" y="11485"/>
                </a:cubicBezTo>
                <a:cubicBezTo>
                  <a:pt x="10120" y="11355"/>
                  <a:pt x="10114" y="11239"/>
                  <a:pt x="10096" y="11112"/>
                </a:cubicBezTo>
                <a:cubicBezTo>
                  <a:pt x="10074" y="10959"/>
                  <a:pt x="10058" y="10792"/>
                  <a:pt x="10046" y="10641"/>
                </a:cubicBezTo>
                <a:cubicBezTo>
                  <a:pt x="10040" y="10567"/>
                  <a:pt x="10035" y="10429"/>
                  <a:pt x="10096" y="10368"/>
                </a:cubicBezTo>
                <a:cubicBezTo>
                  <a:pt x="10138" y="10326"/>
                  <a:pt x="10312" y="10277"/>
                  <a:pt x="10368" y="10269"/>
                </a:cubicBezTo>
                <a:cubicBezTo>
                  <a:pt x="10678" y="10225"/>
                  <a:pt x="11135" y="10223"/>
                  <a:pt x="11435" y="10294"/>
                </a:cubicBezTo>
                <a:cubicBezTo>
                  <a:pt x="11625" y="10339"/>
                  <a:pt x="11785" y="10344"/>
                  <a:pt x="11981" y="10344"/>
                </a:cubicBezTo>
                <a:cubicBezTo>
                  <a:pt x="12102" y="10344"/>
                  <a:pt x="12161" y="10355"/>
                  <a:pt x="12254" y="10294"/>
                </a:cubicBezTo>
                <a:cubicBezTo>
                  <a:pt x="12262" y="10286"/>
                  <a:pt x="12270" y="10277"/>
                  <a:pt x="12278" y="10269"/>
                </a:cubicBezTo>
              </a:path>
              <a:path w="8484" h="1688">
                <a:moveTo>
                  <a:pt x="10740" y="10691"/>
                </a:moveTo>
                <a:cubicBezTo>
                  <a:pt x="10746" y="10872"/>
                  <a:pt x="10765" y="11033"/>
                  <a:pt x="10765" y="11212"/>
                </a:cubicBezTo>
                <a:cubicBezTo>
                  <a:pt x="10765" y="11294"/>
                  <a:pt x="10774" y="11414"/>
                  <a:pt x="10815" y="11485"/>
                </a:cubicBezTo>
                <a:cubicBezTo>
                  <a:pt x="10843" y="11512"/>
                  <a:pt x="10857" y="11520"/>
                  <a:pt x="10889" y="11509"/>
                </a:cubicBezTo>
              </a:path>
              <a:path w="8484" h="1688">
                <a:moveTo>
                  <a:pt x="11112" y="11112"/>
                </a:moveTo>
                <a:cubicBezTo>
                  <a:pt x="11227" y="11087"/>
                  <a:pt x="11350" y="11088"/>
                  <a:pt x="11460" y="11063"/>
                </a:cubicBezTo>
                <a:cubicBezTo>
                  <a:pt x="11476" y="11055"/>
                  <a:pt x="11493" y="11046"/>
                  <a:pt x="11509" y="11038"/>
                </a:cubicBezTo>
              </a:path>
              <a:path w="8484" h="1688">
                <a:moveTo>
                  <a:pt x="11609" y="10790"/>
                </a:moveTo>
                <a:cubicBezTo>
                  <a:pt x="11651" y="10884"/>
                  <a:pt x="11718" y="11004"/>
                  <a:pt x="11782" y="11088"/>
                </a:cubicBezTo>
                <a:cubicBezTo>
                  <a:pt x="11860" y="11189"/>
                  <a:pt x="11949" y="11315"/>
                  <a:pt x="12055" y="11385"/>
                </a:cubicBezTo>
                <a:cubicBezTo>
                  <a:pt x="12072" y="11393"/>
                  <a:pt x="12088" y="11402"/>
                  <a:pt x="12105" y="11410"/>
                </a:cubicBezTo>
              </a:path>
              <a:path w="8484" h="1688">
                <a:moveTo>
                  <a:pt x="12030" y="10716"/>
                </a:moveTo>
                <a:cubicBezTo>
                  <a:pt x="11892" y="10756"/>
                  <a:pt x="11833" y="10783"/>
                  <a:pt x="11757" y="10914"/>
                </a:cubicBezTo>
                <a:cubicBezTo>
                  <a:pt x="11681" y="11045"/>
                  <a:pt x="11594" y="11170"/>
                  <a:pt x="11534" y="11311"/>
                </a:cubicBezTo>
                <a:cubicBezTo>
                  <a:pt x="11508" y="11373"/>
                  <a:pt x="11493" y="11422"/>
                  <a:pt x="11485" y="11485"/>
                </a:cubicBezTo>
              </a:path>
              <a:path w="8484" h="1688">
                <a:moveTo>
                  <a:pt x="12477" y="11038"/>
                </a:moveTo>
                <a:cubicBezTo>
                  <a:pt x="12638" y="11044"/>
                  <a:pt x="12788" y="11063"/>
                  <a:pt x="12948" y="11063"/>
                </a:cubicBezTo>
              </a:path>
              <a:path w="8484" h="1688">
                <a:moveTo>
                  <a:pt x="13295" y="10517"/>
                </a:moveTo>
                <a:cubicBezTo>
                  <a:pt x="13400" y="10496"/>
                  <a:pt x="13487" y="10492"/>
                  <a:pt x="13593" y="10492"/>
                </a:cubicBezTo>
                <a:cubicBezTo>
                  <a:pt x="13673" y="10492"/>
                  <a:pt x="13717" y="10459"/>
                  <a:pt x="13791" y="10443"/>
                </a:cubicBezTo>
              </a:path>
              <a:path w="8484" h="1688">
                <a:moveTo>
                  <a:pt x="13444" y="10368"/>
                </a:moveTo>
                <a:cubicBezTo>
                  <a:pt x="13315" y="10461"/>
                  <a:pt x="13136" y="10523"/>
                  <a:pt x="13171" y="10716"/>
                </a:cubicBezTo>
                <a:cubicBezTo>
                  <a:pt x="13192" y="10831"/>
                  <a:pt x="13243" y="10810"/>
                  <a:pt x="13320" y="10840"/>
                </a:cubicBezTo>
                <a:cubicBezTo>
                  <a:pt x="13390" y="10867"/>
                  <a:pt x="13416" y="10843"/>
                  <a:pt x="13494" y="10840"/>
                </a:cubicBezTo>
                <a:cubicBezTo>
                  <a:pt x="13541" y="10838"/>
                  <a:pt x="13681" y="10833"/>
                  <a:pt x="13717" y="10864"/>
                </a:cubicBezTo>
                <a:cubicBezTo>
                  <a:pt x="13781" y="10918"/>
                  <a:pt x="13829" y="11027"/>
                  <a:pt x="13816" y="11112"/>
                </a:cubicBezTo>
                <a:cubicBezTo>
                  <a:pt x="13801" y="11214"/>
                  <a:pt x="13755" y="11329"/>
                  <a:pt x="13692" y="11410"/>
                </a:cubicBezTo>
                <a:cubicBezTo>
                  <a:pt x="13655" y="11457"/>
                  <a:pt x="13555" y="11516"/>
                  <a:pt x="13494" y="11509"/>
                </a:cubicBezTo>
                <a:cubicBezTo>
                  <a:pt x="13433" y="11502"/>
                  <a:pt x="13341" y="11414"/>
                  <a:pt x="13320" y="11361"/>
                </a:cubicBezTo>
                <a:cubicBezTo>
                  <a:pt x="13320" y="11344"/>
                  <a:pt x="13320" y="11328"/>
                  <a:pt x="13320" y="11311"/>
                </a:cubicBezTo>
              </a:path>
              <a:path w="8484" h="1688">
                <a:moveTo>
                  <a:pt x="14015" y="10790"/>
                </a:moveTo>
                <a:cubicBezTo>
                  <a:pt x="14078" y="10968"/>
                  <a:pt x="14100" y="11108"/>
                  <a:pt x="14139" y="11286"/>
                </a:cubicBezTo>
                <a:cubicBezTo>
                  <a:pt x="14161" y="11388"/>
                  <a:pt x="14169" y="11486"/>
                  <a:pt x="14188" y="11584"/>
                </a:cubicBezTo>
                <a:cubicBezTo>
                  <a:pt x="14178" y="11468"/>
                  <a:pt x="14147" y="11354"/>
                  <a:pt x="14139" y="11237"/>
                </a:cubicBezTo>
                <a:cubicBezTo>
                  <a:pt x="14128" y="11074"/>
                  <a:pt x="14082" y="10927"/>
                  <a:pt x="14064" y="10765"/>
                </a:cubicBezTo>
                <a:cubicBezTo>
                  <a:pt x="14054" y="10678"/>
                  <a:pt x="14057" y="10564"/>
                  <a:pt x="14114" y="10492"/>
                </a:cubicBezTo>
                <a:cubicBezTo>
                  <a:pt x="14159" y="10436"/>
                  <a:pt x="14263" y="10421"/>
                  <a:pt x="14337" y="10418"/>
                </a:cubicBezTo>
                <a:cubicBezTo>
                  <a:pt x="14897" y="10397"/>
                  <a:pt x="15484" y="10474"/>
                  <a:pt x="16024" y="10368"/>
                </a:cubicBezTo>
                <a:cubicBezTo>
                  <a:pt x="16105" y="10352"/>
                  <a:pt x="16189" y="10348"/>
                  <a:pt x="16272" y="10344"/>
                </a:cubicBezTo>
                <a:cubicBezTo>
                  <a:pt x="16313" y="10344"/>
                  <a:pt x="16337" y="10344"/>
                  <a:pt x="16297" y="10344"/>
                </a:cubicBezTo>
              </a:path>
              <a:path w="8484" h="1688">
                <a:moveTo>
                  <a:pt x="14709" y="10815"/>
                </a:moveTo>
                <a:cubicBezTo>
                  <a:pt x="14709" y="10938"/>
                  <a:pt x="14671" y="11067"/>
                  <a:pt x="14684" y="11187"/>
                </a:cubicBezTo>
                <a:cubicBezTo>
                  <a:pt x="14697" y="11299"/>
                  <a:pt x="14710" y="11425"/>
                  <a:pt x="14734" y="11534"/>
                </a:cubicBezTo>
                <a:cubicBezTo>
                  <a:pt x="14752" y="11614"/>
                  <a:pt x="14759" y="11650"/>
                  <a:pt x="14759" y="11733"/>
                </a:cubicBezTo>
              </a:path>
              <a:path w="8484" h="1688">
                <a:moveTo>
                  <a:pt x="14957" y="11162"/>
                </a:moveTo>
                <a:cubicBezTo>
                  <a:pt x="15062" y="11139"/>
                  <a:pt x="15180" y="11126"/>
                  <a:pt x="15280" y="11088"/>
                </a:cubicBezTo>
                <a:cubicBezTo>
                  <a:pt x="15296" y="11080"/>
                  <a:pt x="15313" y="11071"/>
                  <a:pt x="15329" y="11063"/>
                </a:cubicBezTo>
              </a:path>
              <a:path w="8484" h="1688">
                <a:moveTo>
                  <a:pt x="15404" y="10840"/>
                </a:moveTo>
                <a:cubicBezTo>
                  <a:pt x="15484" y="10986"/>
                  <a:pt x="15591" y="11095"/>
                  <a:pt x="15677" y="11237"/>
                </a:cubicBezTo>
                <a:cubicBezTo>
                  <a:pt x="15744" y="11347"/>
                  <a:pt x="15818" y="11455"/>
                  <a:pt x="15925" y="11534"/>
                </a:cubicBezTo>
                <a:cubicBezTo>
                  <a:pt x="15965" y="11554"/>
                  <a:pt x="15971" y="11563"/>
                  <a:pt x="15999" y="11559"/>
                </a:cubicBezTo>
              </a:path>
              <a:path w="8484" h="1688">
                <a:moveTo>
                  <a:pt x="15999" y="10889"/>
                </a:moveTo>
                <a:cubicBezTo>
                  <a:pt x="15884" y="10868"/>
                  <a:pt x="15825" y="10904"/>
                  <a:pt x="15751" y="11013"/>
                </a:cubicBezTo>
                <a:cubicBezTo>
                  <a:pt x="15659" y="11149"/>
                  <a:pt x="15605" y="11317"/>
                  <a:pt x="15528" y="11460"/>
                </a:cubicBezTo>
                <a:cubicBezTo>
                  <a:pt x="15459" y="11589"/>
                  <a:pt x="15385" y="11711"/>
                  <a:pt x="15304" y="11832"/>
                </a:cubicBezTo>
              </a:path>
              <a:path w="8484" h="1688">
                <a:moveTo>
                  <a:pt x="12626" y="10765"/>
                </a:moveTo>
                <a:cubicBezTo>
                  <a:pt x="12654" y="10814"/>
                  <a:pt x="12666" y="10903"/>
                  <a:pt x="12675" y="10964"/>
                </a:cubicBezTo>
                <a:cubicBezTo>
                  <a:pt x="12684" y="11025"/>
                  <a:pt x="12705" y="11161"/>
                  <a:pt x="12700" y="11212"/>
                </a:cubicBezTo>
                <a:cubicBezTo>
                  <a:pt x="12695" y="11261"/>
                  <a:pt x="12675" y="11305"/>
                  <a:pt x="12675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357120" y="4205160"/>
            <a:ext cx="1258920" cy="635040"/>
          </a:xfrm>
          <a:custGeom>
            <a:avLst/>
            <a:gdLst/>
            <a:ahLst/>
            <a:rect l="l" t="t" r="r" b="b"/>
            <a:pathLst>
              <a:path w="3499" h="1762">
                <a:moveTo>
                  <a:pt x="1439" y="11881"/>
                </a:moveTo>
                <a:cubicBezTo>
                  <a:pt x="1439" y="11992"/>
                  <a:pt x="1460" y="12094"/>
                  <a:pt x="1463" y="12204"/>
                </a:cubicBezTo>
                <a:cubicBezTo>
                  <a:pt x="1467" y="12337"/>
                  <a:pt x="1439" y="12466"/>
                  <a:pt x="1439" y="12601"/>
                </a:cubicBezTo>
                <a:cubicBezTo>
                  <a:pt x="1439" y="12775"/>
                  <a:pt x="1439" y="12948"/>
                  <a:pt x="1439" y="13122"/>
                </a:cubicBezTo>
                <a:cubicBezTo>
                  <a:pt x="1404" y="13064"/>
                  <a:pt x="1406" y="12988"/>
                  <a:pt x="1364" y="12923"/>
                </a:cubicBezTo>
                <a:cubicBezTo>
                  <a:pt x="1317" y="12850"/>
                  <a:pt x="1304" y="12856"/>
                  <a:pt x="1240" y="12824"/>
                </a:cubicBezTo>
                <a:cubicBezTo>
                  <a:pt x="1168" y="12788"/>
                  <a:pt x="1163" y="12810"/>
                  <a:pt x="1091" y="12849"/>
                </a:cubicBezTo>
                <a:cubicBezTo>
                  <a:pt x="998" y="12899"/>
                  <a:pt x="992" y="12945"/>
                  <a:pt x="992" y="13047"/>
                </a:cubicBezTo>
                <a:cubicBezTo>
                  <a:pt x="992" y="13155"/>
                  <a:pt x="1071" y="13204"/>
                  <a:pt x="1166" y="13246"/>
                </a:cubicBezTo>
                <a:cubicBezTo>
                  <a:pt x="1286" y="13299"/>
                  <a:pt x="1343" y="13286"/>
                  <a:pt x="1463" y="13246"/>
                </a:cubicBezTo>
              </a:path>
              <a:path w="3499" h="1762">
                <a:moveTo>
                  <a:pt x="1265" y="11708"/>
                </a:moveTo>
                <a:cubicBezTo>
                  <a:pt x="1336" y="11721"/>
                  <a:pt x="1395" y="11733"/>
                  <a:pt x="1463" y="11832"/>
                </a:cubicBezTo>
                <a:cubicBezTo>
                  <a:pt x="1549" y="11959"/>
                  <a:pt x="1650" y="12115"/>
                  <a:pt x="1712" y="12254"/>
                </a:cubicBezTo>
                <a:cubicBezTo>
                  <a:pt x="1800" y="12451"/>
                  <a:pt x="1882" y="12685"/>
                  <a:pt x="1910" y="12898"/>
                </a:cubicBezTo>
                <a:cubicBezTo>
                  <a:pt x="1925" y="13009"/>
                  <a:pt x="1918" y="13143"/>
                  <a:pt x="1885" y="13246"/>
                </a:cubicBezTo>
                <a:cubicBezTo>
                  <a:pt x="1855" y="13338"/>
                  <a:pt x="1815" y="13373"/>
                  <a:pt x="1736" y="13419"/>
                </a:cubicBezTo>
                <a:cubicBezTo>
                  <a:pt x="1669" y="13458"/>
                  <a:pt x="1664" y="13426"/>
                  <a:pt x="1637" y="13419"/>
                </a:cubicBezTo>
              </a:path>
              <a:path w="3499" h="1762">
                <a:moveTo>
                  <a:pt x="2530" y="12154"/>
                </a:moveTo>
                <a:cubicBezTo>
                  <a:pt x="2572" y="12239"/>
                  <a:pt x="2603" y="12322"/>
                  <a:pt x="2654" y="12402"/>
                </a:cubicBezTo>
                <a:cubicBezTo>
                  <a:pt x="2727" y="12517"/>
                  <a:pt x="2812" y="12623"/>
                  <a:pt x="2902" y="12725"/>
                </a:cubicBezTo>
                <a:cubicBezTo>
                  <a:pt x="2964" y="12795"/>
                  <a:pt x="3017" y="12853"/>
                  <a:pt x="3101" y="12874"/>
                </a:cubicBezTo>
              </a:path>
              <a:path w="3499" h="1762">
                <a:moveTo>
                  <a:pt x="2902" y="12129"/>
                </a:moveTo>
                <a:cubicBezTo>
                  <a:pt x="2886" y="12129"/>
                  <a:pt x="2869" y="12129"/>
                  <a:pt x="2853" y="12129"/>
                </a:cubicBezTo>
                <a:cubicBezTo>
                  <a:pt x="2841" y="12225"/>
                  <a:pt x="2793" y="12266"/>
                  <a:pt x="2753" y="12353"/>
                </a:cubicBezTo>
                <a:cubicBezTo>
                  <a:pt x="2703" y="12463"/>
                  <a:pt x="2689" y="12590"/>
                  <a:pt x="2654" y="12700"/>
                </a:cubicBezTo>
                <a:cubicBezTo>
                  <a:pt x="2638" y="12751"/>
                  <a:pt x="2629" y="12770"/>
                  <a:pt x="2629" y="12824"/>
                </a:cubicBezTo>
              </a:path>
              <a:path w="3499" h="1762">
                <a:moveTo>
                  <a:pt x="3026" y="11881"/>
                </a:moveTo>
                <a:cubicBezTo>
                  <a:pt x="3071" y="11887"/>
                  <a:pt x="3158" y="11897"/>
                  <a:pt x="3175" y="11956"/>
                </a:cubicBezTo>
                <a:cubicBezTo>
                  <a:pt x="3193" y="12019"/>
                  <a:pt x="3140" y="12066"/>
                  <a:pt x="3101" y="12105"/>
                </a:cubicBezTo>
                <a:cubicBezTo>
                  <a:pt x="3049" y="12157"/>
                  <a:pt x="3083" y="12187"/>
                  <a:pt x="3125" y="12229"/>
                </a:cubicBezTo>
                <a:cubicBezTo>
                  <a:pt x="3168" y="12272"/>
                  <a:pt x="3240" y="12254"/>
                  <a:pt x="3299" y="12254"/>
                </a:cubicBezTo>
              </a:path>
              <a:path w="3499" h="1762">
                <a:moveTo>
                  <a:pt x="3423" y="12204"/>
                </a:moveTo>
                <a:cubicBezTo>
                  <a:pt x="3423" y="12343"/>
                  <a:pt x="3427" y="12470"/>
                  <a:pt x="3448" y="12601"/>
                </a:cubicBezTo>
                <a:cubicBezTo>
                  <a:pt x="3448" y="12617"/>
                  <a:pt x="3448" y="12634"/>
                  <a:pt x="3448" y="12650"/>
                </a:cubicBezTo>
              </a:path>
              <a:path w="3499" h="1762">
                <a:moveTo>
                  <a:pt x="3324" y="12526"/>
                </a:moveTo>
                <a:cubicBezTo>
                  <a:pt x="3415" y="12526"/>
                  <a:pt x="3506" y="12526"/>
                  <a:pt x="3597" y="12526"/>
                </a:cubicBezTo>
              </a:path>
              <a:path w="3499" h="1762">
                <a:moveTo>
                  <a:pt x="3820" y="12154"/>
                </a:moveTo>
                <a:cubicBezTo>
                  <a:pt x="3896" y="12161"/>
                  <a:pt x="3972" y="12180"/>
                  <a:pt x="4043" y="12204"/>
                </a:cubicBezTo>
                <a:cubicBezTo>
                  <a:pt x="4084" y="12224"/>
                  <a:pt x="4090" y="12233"/>
                  <a:pt x="4118" y="12229"/>
                </a:cubicBezTo>
              </a:path>
              <a:path w="3499" h="1762">
                <a:moveTo>
                  <a:pt x="3746" y="12129"/>
                </a:moveTo>
                <a:cubicBezTo>
                  <a:pt x="3696" y="12239"/>
                  <a:pt x="3704" y="12270"/>
                  <a:pt x="3795" y="12378"/>
                </a:cubicBezTo>
                <a:cubicBezTo>
                  <a:pt x="3838" y="12429"/>
                  <a:pt x="3910" y="12431"/>
                  <a:pt x="3969" y="12452"/>
                </a:cubicBezTo>
                <a:cubicBezTo>
                  <a:pt x="4081" y="12492"/>
                  <a:pt x="4082" y="12566"/>
                  <a:pt x="4118" y="12675"/>
                </a:cubicBezTo>
                <a:cubicBezTo>
                  <a:pt x="4145" y="12759"/>
                  <a:pt x="4192" y="12815"/>
                  <a:pt x="4142" y="12898"/>
                </a:cubicBezTo>
                <a:cubicBezTo>
                  <a:pt x="4106" y="12957"/>
                  <a:pt x="4036" y="12986"/>
                  <a:pt x="3969" y="12973"/>
                </a:cubicBezTo>
                <a:cubicBezTo>
                  <a:pt x="3952" y="12965"/>
                  <a:pt x="3936" y="12956"/>
                  <a:pt x="3919" y="12948"/>
                </a:cubicBezTo>
              </a:path>
              <a:path w="3499" h="1762">
                <a:moveTo>
                  <a:pt x="2406" y="12973"/>
                </a:moveTo>
                <a:cubicBezTo>
                  <a:pt x="2571" y="13017"/>
                  <a:pt x="2732" y="13041"/>
                  <a:pt x="2902" y="13072"/>
                </a:cubicBezTo>
                <a:cubicBezTo>
                  <a:pt x="3092" y="13106"/>
                  <a:pt x="3281" y="13135"/>
                  <a:pt x="3473" y="13146"/>
                </a:cubicBezTo>
                <a:cubicBezTo>
                  <a:pt x="3656" y="13157"/>
                  <a:pt x="3837" y="13183"/>
                  <a:pt x="4018" y="13196"/>
                </a:cubicBezTo>
                <a:cubicBezTo>
                  <a:pt x="4134" y="13205"/>
                  <a:pt x="4362" y="13235"/>
                  <a:pt x="4465" y="13171"/>
                </a:cubicBezTo>
                <a:cubicBezTo>
                  <a:pt x="4487" y="13149"/>
                  <a:pt x="4496" y="13144"/>
                  <a:pt x="4490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2813040" y="4973760"/>
            <a:ext cx="527040" cy="304560"/>
          </a:xfrm>
          <a:custGeom>
            <a:avLst/>
            <a:gdLst/>
            <a:ahLst/>
            <a:rect l="l" t="t" r="r" b="b"/>
            <a:pathLst>
              <a:path w="1465" h="845">
                <a:moveTo>
                  <a:pt x="7813" y="13841"/>
                </a:moveTo>
                <a:cubicBezTo>
                  <a:pt x="7813" y="13975"/>
                  <a:pt x="7800" y="14110"/>
                  <a:pt x="7838" y="14238"/>
                </a:cubicBezTo>
                <a:cubicBezTo>
                  <a:pt x="7862" y="14319"/>
                  <a:pt x="7884" y="14402"/>
                  <a:pt x="7888" y="14486"/>
                </a:cubicBezTo>
                <a:cubicBezTo>
                  <a:pt x="7888" y="14536"/>
                  <a:pt x="7888" y="14552"/>
                  <a:pt x="7888" y="14585"/>
                </a:cubicBezTo>
              </a:path>
              <a:path w="1465" h="845">
                <a:moveTo>
                  <a:pt x="8161" y="13816"/>
                </a:moveTo>
                <a:cubicBezTo>
                  <a:pt x="8255" y="13951"/>
                  <a:pt x="8353" y="14087"/>
                  <a:pt x="8458" y="14213"/>
                </a:cubicBezTo>
                <a:cubicBezTo>
                  <a:pt x="8507" y="14272"/>
                  <a:pt x="8574" y="14320"/>
                  <a:pt x="8632" y="14362"/>
                </a:cubicBezTo>
                <a:cubicBezTo>
                  <a:pt x="8589" y="14405"/>
                  <a:pt x="8520" y="14421"/>
                  <a:pt x="8483" y="14461"/>
                </a:cubicBezTo>
                <a:cubicBezTo>
                  <a:pt x="8458" y="14488"/>
                  <a:pt x="8417" y="14552"/>
                  <a:pt x="8409" y="14585"/>
                </a:cubicBezTo>
              </a:path>
              <a:path w="1465" h="845">
                <a:moveTo>
                  <a:pt x="8880" y="13965"/>
                </a:moveTo>
                <a:cubicBezTo>
                  <a:pt x="8924" y="14097"/>
                  <a:pt x="8991" y="14211"/>
                  <a:pt x="9054" y="14337"/>
                </a:cubicBezTo>
                <a:cubicBezTo>
                  <a:pt x="9113" y="14456"/>
                  <a:pt x="9184" y="14542"/>
                  <a:pt x="9277" y="14635"/>
                </a:cubicBezTo>
              </a:path>
              <a:path w="1465" h="845">
                <a:moveTo>
                  <a:pt x="9277" y="13965"/>
                </a:moveTo>
                <a:cubicBezTo>
                  <a:pt x="9198" y="14044"/>
                  <a:pt x="9112" y="14116"/>
                  <a:pt x="9054" y="14213"/>
                </a:cubicBezTo>
                <a:cubicBezTo>
                  <a:pt x="8982" y="14334"/>
                  <a:pt x="8920" y="14476"/>
                  <a:pt x="8830" y="14585"/>
                </a:cubicBezTo>
                <a:cubicBezTo>
                  <a:pt x="8805" y="14610"/>
                  <a:pt x="8781" y="14635"/>
                  <a:pt x="8756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2455920" y="4419720"/>
            <a:ext cx="1108080" cy="358560"/>
          </a:xfrm>
          <a:custGeom>
            <a:avLst/>
            <a:gdLst/>
            <a:ahLst/>
            <a:rect l="l" t="t" r="r" b="b"/>
            <a:pathLst>
              <a:path w="3077" h="994">
                <a:moveTo>
                  <a:pt x="6821" y="12353"/>
                </a:moveTo>
                <a:cubicBezTo>
                  <a:pt x="6821" y="12538"/>
                  <a:pt x="6826" y="12718"/>
                  <a:pt x="6846" y="12898"/>
                </a:cubicBezTo>
                <a:cubicBezTo>
                  <a:pt x="6854" y="12974"/>
                  <a:pt x="6850" y="13073"/>
                  <a:pt x="6871" y="13146"/>
                </a:cubicBezTo>
                <a:cubicBezTo>
                  <a:pt x="6886" y="13200"/>
                  <a:pt x="6902" y="13240"/>
                  <a:pt x="6921" y="13221"/>
                </a:cubicBezTo>
              </a:path>
              <a:path w="3077" h="994">
                <a:moveTo>
                  <a:pt x="7144" y="12675"/>
                </a:moveTo>
                <a:cubicBezTo>
                  <a:pt x="7204" y="12639"/>
                  <a:pt x="7267" y="12650"/>
                  <a:pt x="7342" y="12650"/>
                </a:cubicBezTo>
                <a:cubicBezTo>
                  <a:pt x="7450" y="12650"/>
                  <a:pt x="7557" y="12650"/>
                  <a:pt x="7665" y="12650"/>
                </a:cubicBezTo>
              </a:path>
              <a:path w="3077" h="994">
                <a:moveTo>
                  <a:pt x="7789" y="12477"/>
                </a:moveTo>
                <a:cubicBezTo>
                  <a:pt x="7851" y="12640"/>
                  <a:pt x="7940" y="12778"/>
                  <a:pt x="8037" y="12923"/>
                </a:cubicBezTo>
                <a:cubicBezTo>
                  <a:pt x="8106" y="13026"/>
                  <a:pt x="8175" y="13131"/>
                  <a:pt x="8260" y="13221"/>
                </a:cubicBezTo>
                <a:cubicBezTo>
                  <a:pt x="8277" y="13238"/>
                  <a:pt x="8293" y="13254"/>
                  <a:pt x="8310" y="13271"/>
                </a:cubicBezTo>
              </a:path>
              <a:path w="3077" h="994">
                <a:moveTo>
                  <a:pt x="8161" y="12526"/>
                </a:moveTo>
                <a:cubicBezTo>
                  <a:pt x="8016" y="12646"/>
                  <a:pt x="7974" y="12727"/>
                  <a:pt x="7863" y="12874"/>
                </a:cubicBezTo>
                <a:cubicBezTo>
                  <a:pt x="7807" y="12949"/>
                  <a:pt x="7796" y="12987"/>
                  <a:pt x="7764" y="13072"/>
                </a:cubicBezTo>
              </a:path>
              <a:path w="3077" h="994">
                <a:moveTo>
                  <a:pt x="8483" y="12278"/>
                </a:moveTo>
                <a:cubicBezTo>
                  <a:pt x="8556" y="12324"/>
                  <a:pt x="8638" y="12372"/>
                  <a:pt x="8706" y="12427"/>
                </a:cubicBezTo>
                <a:cubicBezTo>
                  <a:pt x="8772" y="12480"/>
                  <a:pt x="8831" y="12534"/>
                  <a:pt x="8905" y="12576"/>
                </a:cubicBezTo>
                <a:cubicBezTo>
                  <a:pt x="8961" y="12607"/>
                  <a:pt x="9004" y="12621"/>
                  <a:pt x="9054" y="12650"/>
                </a:cubicBezTo>
                <a:cubicBezTo>
                  <a:pt x="8980" y="12692"/>
                  <a:pt x="8929" y="12753"/>
                  <a:pt x="8855" y="12799"/>
                </a:cubicBezTo>
                <a:cubicBezTo>
                  <a:pt x="8798" y="12834"/>
                  <a:pt x="8761" y="12881"/>
                  <a:pt x="8706" y="12923"/>
                </a:cubicBezTo>
                <a:cubicBezTo>
                  <a:pt x="8663" y="12955"/>
                  <a:pt x="8582" y="13076"/>
                  <a:pt x="8582" y="13022"/>
                </a:cubicBezTo>
                <a:cubicBezTo>
                  <a:pt x="8590" y="13014"/>
                  <a:pt x="8599" y="13006"/>
                  <a:pt x="8607" y="12998"/>
                </a:cubicBezTo>
              </a:path>
              <a:path w="3077" h="994">
                <a:moveTo>
                  <a:pt x="9376" y="12675"/>
                </a:moveTo>
                <a:cubicBezTo>
                  <a:pt x="9339" y="12728"/>
                  <a:pt x="9261" y="12801"/>
                  <a:pt x="9277" y="12874"/>
                </a:cubicBezTo>
                <a:cubicBezTo>
                  <a:pt x="9295" y="12954"/>
                  <a:pt x="9318" y="13010"/>
                  <a:pt x="9376" y="13072"/>
                </a:cubicBezTo>
                <a:cubicBezTo>
                  <a:pt x="9458" y="13159"/>
                  <a:pt x="9564" y="13212"/>
                  <a:pt x="9674" y="13221"/>
                </a:cubicBezTo>
                <a:cubicBezTo>
                  <a:pt x="9746" y="13227"/>
                  <a:pt x="9829" y="13179"/>
                  <a:pt x="9872" y="13122"/>
                </a:cubicBezTo>
                <a:cubicBezTo>
                  <a:pt x="9939" y="13034"/>
                  <a:pt x="9888" y="12863"/>
                  <a:pt x="9847" y="12774"/>
                </a:cubicBezTo>
                <a:cubicBezTo>
                  <a:pt x="9807" y="12688"/>
                  <a:pt x="9725" y="12561"/>
                  <a:pt x="9649" y="12502"/>
                </a:cubicBezTo>
                <a:cubicBezTo>
                  <a:pt x="9583" y="12451"/>
                  <a:pt x="9481" y="12434"/>
                  <a:pt x="9401" y="12452"/>
                </a:cubicBezTo>
                <a:cubicBezTo>
                  <a:pt x="9347" y="12479"/>
                  <a:pt x="9327" y="12490"/>
                  <a:pt x="9302" y="12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892080" y="4840200"/>
            <a:ext cx="770040" cy="446040"/>
          </a:xfrm>
          <a:custGeom>
            <a:avLst/>
            <a:gdLst/>
            <a:ahLst/>
            <a:rect l="l" t="t" r="r" b="b"/>
            <a:pathLst>
              <a:path w="2135" h="1241">
                <a:moveTo>
                  <a:pt x="2480" y="13444"/>
                </a:moveTo>
                <a:cubicBezTo>
                  <a:pt x="2559" y="13494"/>
                  <a:pt x="2603" y="13538"/>
                  <a:pt x="2654" y="13618"/>
                </a:cubicBezTo>
                <a:cubicBezTo>
                  <a:pt x="2714" y="13711"/>
                  <a:pt x="2746" y="13787"/>
                  <a:pt x="2778" y="13891"/>
                </a:cubicBezTo>
                <a:cubicBezTo>
                  <a:pt x="2811" y="13998"/>
                  <a:pt x="2803" y="14101"/>
                  <a:pt x="2803" y="14213"/>
                </a:cubicBezTo>
                <a:cubicBezTo>
                  <a:pt x="2803" y="14355"/>
                  <a:pt x="2814" y="14476"/>
                  <a:pt x="2828" y="14610"/>
                </a:cubicBezTo>
                <a:cubicBezTo>
                  <a:pt x="2848" y="14807"/>
                  <a:pt x="2828" y="14517"/>
                  <a:pt x="2828" y="14486"/>
                </a:cubicBezTo>
                <a:cubicBezTo>
                  <a:pt x="2828" y="14365"/>
                  <a:pt x="2850" y="14258"/>
                  <a:pt x="2853" y="14139"/>
                </a:cubicBezTo>
                <a:cubicBezTo>
                  <a:pt x="2857" y="13986"/>
                  <a:pt x="2842" y="13840"/>
                  <a:pt x="2828" y="13692"/>
                </a:cubicBezTo>
                <a:cubicBezTo>
                  <a:pt x="2823" y="13634"/>
                  <a:pt x="2809" y="13565"/>
                  <a:pt x="2803" y="13519"/>
                </a:cubicBezTo>
                <a:cubicBezTo>
                  <a:pt x="2803" y="13502"/>
                  <a:pt x="2803" y="13486"/>
                  <a:pt x="2803" y="13469"/>
                </a:cubicBezTo>
                <a:cubicBezTo>
                  <a:pt x="2866" y="13457"/>
                  <a:pt x="2901" y="13454"/>
                  <a:pt x="2977" y="13469"/>
                </a:cubicBezTo>
                <a:cubicBezTo>
                  <a:pt x="3104" y="13495"/>
                  <a:pt x="3223" y="13500"/>
                  <a:pt x="3349" y="13519"/>
                </a:cubicBezTo>
                <a:cubicBezTo>
                  <a:pt x="3500" y="13542"/>
                  <a:pt x="3646" y="13549"/>
                  <a:pt x="3795" y="13568"/>
                </a:cubicBezTo>
                <a:cubicBezTo>
                  <a:pt x="3937" y="13586"/>
                  <a:pt x="4072" y="13593"/>
                  <a:pt x="4217" y="13593"/>
                </a:cubicBezTo>
                <a:cubicBezTo>
                  <a:pt x="4327" y="13593"/>
                  <a:pt x="4464" y="13618"/>
                  <a:pt x="4564" y="13568"/>
                </a:cubicBezTo>
                <a:cubicBezTo>
                  <a:pt x="4609" y="13568"/>
                  <a:pt x="4629" y="13571"/>
                  <a:pt x="4589" y="13543"/>
                </a:cubicBezTo>
              </a:path>
              <a:path w="2135" h="1241">
                <a:moveTo>
                  <a:pt x="3349" y="13915"/>
                </a:moveTo>
                <a:cubicBezTo>
                  <a:pt x="3355" y="14036"/>
                  <a:pt x="3363" y="14147"/>
                  <a:pt x="3398" y="14263"/>
                </a:cubicBezTo>
                <a:cubicBezTo>
                  <a:pt x="3426" y="14357"/>
                  <a:pt x="3429" y="14461"/>
                  <a:pt x="3497" y="14536"/>
                </a:cubicBezTo>
                <a:cubicBezTo>
                  <a:pt x="3505" y="14544"/>
                  <a:pt x="3514" y="14552"/>
                  <a:pt x="3522" y="14560"/>
                </a:cubicBezTo>
              </a:path>
              <a:path w="2135" h="1241">
                <a:moveTo>
                  <a:pt x="3547" y="14188"/>
                </a:moveTo>
                <a:cubicBezTo>
                  <a:pt x="3656" y="14172"/>
                  <a:pt x="3756" y="14188"/>
                  <a:pt x="3870" y="14188"/>
                </a:cubicBezTo>
                <a:cubicBezTo>
                  <a:pt x="3886" y="14188"/>
                  <a:pt x="3903" y="14188"/>
                  <a:pt x="3919" y="14188"/>
                </a:cubicBezTo>
              </a:path>
              <a:path w="2135" h="1241">
                <a:moveTo>
                  <a:pt x="4167" y="13940"/>
                </a:moveTo>
                <a:cubicBezTo>
                  <a:pt x="4214" y="14122"/>
                  <a:pt x="4258" y="14226"/>
                  <a:pt x="4341" y="14387"/>
                </a:cubicBezTo>
                <a:cubicBezTo>
                  <a:pt x="4404" y="14510"/>
                  <a:pt x="4448" y="14580"/>
                  <a:pt x="4539" y="14684"/>
                </a:cubicBezTo>
              </a:path>
              <a:path w="2135" h="1241">
                <a:moveTo>
                  <a:pt x="4614" y="14114"/>
                </a:moveTo>
                <a:cubicBezTo>
                  <a:pt x="4525" y="14018"/>
                  <a:pt x="4493" y="13979"/>
                  <a:pt x="4366" y="14064"/>
                </a:cubicBezTo>
                <a:cubicBezTo>
                  <a:pt x="4267" y="14130"/>
                  <a:pt x="4133" y="14288"/>
                  <a:pt x="4068" y="14387"/>
                </a:cubicBezTo>
                <a:cubicBezTo>
                  <a:pt x="4016" y="14490"/>
                  <a:pt x="3997" y="14526"/>
                  <a:pt x="3944" y="145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2"/>
          <p:cNvSpPr/>
          <p:nvPr/>
        </p:nvSpPr>
        <p:spPr>
          <a:xfrm>
            <a:off x="509760" y="5375160"/>
            <a:ext cx="1812600" cy="1009800"/>
          </a:xfrm>
          <a:custGeom>
            <a:avLst/>
            <a:gdLst/>
            <a:ahLst/>
            <a:rect l="l" t="t" r="r" b="b"/>
            <a:pathLst>
              <a:path w="5036" h="2804">
                <a:moveTo>
                  <a:pt x="1439" y="15850"/>
                </a:moveTo>
                <a:cubicBezTo>
                  <a:pt x="1500" y="15873"/>
                  <a:pt x="1596" y="15899"/>
                  <a:pt x="1662" y="15875"/>
                </a:cubicBezTo>
                <a:cubicBezTo>
                  <a:pt x="1737" y="15848"/>
                  <a:pt x="1768" y="15820"/>
                  <a:pt x="1786" y="15726"/>
                </a:cubicBezTo>
                <a:cubicBezTo>
                  <a:pt x="1786" y="15710"/>
                  <a:pt x="1786" y="15693"/>
                  <a:pt x="1786" y="15677"/>
                </a:cubicBezTo>
                <a:cubicBezTo>
                  <a:pt x="1707" y="15598"/>
                  <a:pt x="1682" y="15630"/>
                  <a:pt x="1588" y="15677"/>
                </a:cubicBezTo>
                <a:cubicBezTo>
                  <a:pt x="1521" y="15710"/>
                  <a:pt x="1451" y="15797"/>
                  <a:pt x="1439" y="15875"/>
                </a:cubicBezTo>
                <a:cubicBezTo>
                  <a:pt x="1420" y="15995"/>
                  <a:pt x="1416" y="16082"/>
                  <a:pt x="1463" y="16197"/>
                </a:cubicBezTo>
                <a:cubicBezTo>
                  <a:pt x="1484" y="16249"/>
                  <a:pt x="1531" y="16361"/>
                  <a:pt x="1612" y="16321"/>
                </a:cubicBezTo>
                <a:cubicBezTo>
                  <a:pt x="1645" y="16296"/>
                  <a:pt x="1679" y="16272"/>
                  <a:pt x="1712" y="16247"/>
                </a:cubicBezTo>
              </a:path>
              <a:path w="5036" h="2804">
                <a:moveTo>
                  <a:pt x="1687" y="14957"/>
                </a:moveTo>
                <a:cubicBezTo>
                  <a:pt x="1735" y="15102"/>
                  <a:pt x="1797" y="15241"/>
                  <a:pt x="1860" y="15379"/>
                </a:cubicBezTo>
                <a:cubicBezTo>
                  <a:pt x="1977" y="15636"/>
                  <a:pt x="2054" y="15909"/>
                  <a:pt x="2034" y="16197"/>
                </a:cubicBezTo>
                <a:cubicBezTo>
                  <a:pt x="2025" y="16333"/>
                  <a:pt x="1993" y="16491"/>
                  <a:pt x="1910" y="16594"/>
                </a:cubicBezTo>
                <a:cubicBezTo>
                  <a:pt x="1877" y="16627"/>
                  <a:pt x="1861" y="16627"/>
                  <a:pt x="1836" y="16570"/>
                </a:cubicBezTo>
              </a:path>
              <a:path w="5036" h="2804">
                <a:moveTo>
                  <a:pt x="2604" y="15503"/>
                </a:moveTo>
                <a:cubicBezTo>
                  <a:pt x="2624" y="15753"/>
                  <a:pt x="2629" y="15996"/>
                  <a:pt x="2629" y="16247"/>
                </a:cubicBezTo>
                <a:cubicBezTo>
                  <a:pt x="2629" y="16418"/>
                  <a:pt x="2565" y="16625"/>
                  <a:pt x="2604" y="16793"/>
                </a:cubicBezTo>
                <a:cubicBezTo>
                  <a:pt x="2626" y="16815"/>
                  <a:pt x="2635" y="16820"/>
                  <a:pt x="2629" y="16842"/>
                </a:cubicBezTo>
              </a:path>
              <a:path w="5036" h="2804">
                <a:moveTo>
                  <a:pt x="2877" y="15404"/>
                </a:moveTo>
                <a:cubicBezTo>
                  <a:pt x="2905" y="15544"/>
                  <a:pt x="2924" y="15681"/>
                  <a:pt x="2927" y="15825"/>
                </a:cubicBezTo>
                <a:cubicBezTo>
                  <a:pt x="2933" y="16147"/>
                  <a:pt x="2927" y="16470"/>
                  <a:pt x="2927" y="16793"/>
                </a:cubicBezTo>
              </a:path>
              <a:path w="5036" h="2804">
                <a:moveTo>
                  <a:pt x="2580" y="15255"/>
                </a:moveTo>
                <a:cubicBezTo>
                  <a:pt x="2490" y="15058"/>
                  <a:pt x="2449" y="15050"/>
                  <a:pt x="2456" y="14932"/>
                </a:cubicBezTo>
                <a:cubicBezTo>
                  <a:pt x="2605" y="14957"/>
                  <a:pt x="2661" y="15032"/>
                  <a:pt x="2778" y="15131"/>
                </a:cubicBezTo>
                <a:cubicBezTo>
                  <a:pt x="2928" y="15258"/>
                  <a:pt x="3059" y="15424"/>
                  <a:pt x="3150" y="15602"/>
                </a:cubicBezTo>
                <a:cubicBezTo>
                  <a:pt x="3207" y="15713"/>
                  <a:pt x="3274" y="15847"/>
                  <a:pt x="3274" y="15974"/>
                </a:cubicBezTo>
                <a:cubicBezTo>
                  <a:pt x="3274" y="16083"/>
                  <a:pt x="3129" y="16046"/>
                  <a:pt x="3076" y="16024"/>
                </a:cubicBezTo>
                <a:cubicBezTo>
                  <a:pt x="3028" y="16000"/>
                  <a:pt x="3014" y="15992"/>
                  <a:pt x="2977" y="15999"/>
                </a:cubicBezTo>
                <a:cubicBezTo>
                  <a:pt x="3025" y="16150"/>
                  <a:pt x="3086" y="16273"/>
                  <a:pt x="3150" y="16421"/>
                </a:cubicBezTo>
                <a:cubicBezTo>
                  <a:pt x="3225" y="16593"/>
                  <a:pt x="3328" y="16733"/>
                  <a:pt x="3423" y="16892"/>
                </a:cubicBezTo>
                <a:cubicBezTo>
                  <a:pt x="3497" y="17016"/>
                  <a:pt x="3515" y="17080"/>
                  <a:pt x="3646" y="17140"/>
                </a:cubicBezTo>
              </a:path>
              <a:path w="5036" h="2804">
                <a:moveTo>
                  <a:pt x="3919" y="15255"/>
                </a:moveTo>
                <a:cubicBezTo>
                  <a:pt x="3967" y="15641"/>
                  <a:pt x="4047" y="16054"/>
                  <a:pt x="4068" y="16446"/>
                </a:cubicBezTo>
                <a:cubicBezTo>
                  <a:pt x="4082" y="16694"/>
                  <a:pt x="4093" y="16941"/>
                  <a:pt x="4093" y="17190"/>
                </a:cubicBezTo>
                <a:cubicBezTo>
                  <a:pt x="4093" y="17335"/>
                  <a:pt x="4074" y="17469"/>
                  <a:pt x="4068" y="17611"/>
                </a:cubicBezTo>
                <a:cubicBezTo>
                  <a:pt x="4065" y="17668"/>
                  <a:pt x="4081" y="17692"/>
                  <a:pt x="4093" y="17735"/>
                </a:cubicBezTo>
                <a:cubicBezTo>
                  <a:pt x="4153" y="17702"/>
                  <a:pt x="4223" y="17667"/>
                  <a:pt x="4266" y="17611"/>
                </a:cubicBezTo>
                <a:cubicBezTo>
                  <a:pt x="4274" y="17595"/>
                  <a:pt x="4283" y="17578"/>
                  <a:pt x="4291" y="17562"/>
                </a:cubicBezTo>
              </a:path>
              <a:path w="5036" h="2804">
                <a:moveTo>
                  <a:pt x="4663" y="15875"/>
                </a:moveTo>
                <a:cubicBezTo>
                  <a:pt x="4691" y="15978"/>
                  <a:pt x="4688" y="16065"/>
                  <a:pt x="4688" y="16173"/>
                </a:cubicBezTo>
                <a:cubicBezTo>
                  <a:pt x="4688" y="16358"/>
                  <a:pt x="4698" y="16537"/>
                  <a:pt x="4713" y="16718"/>
                </a:cubicBezTo>
                <a:cubicBezTo>
                  <a:pt x="4721" y="16820"/>
                  <a:pt x="4736" y="16891"/>
                  <a:pt x="4762" y="16991"/>
                </a:cubicBezTo>
              </a:path>
              <a:path w="5036" h="2804">
                <a:moveTo>
                  <a:pt x="5060" y="15900"/>
                </a:moveTo>
                <a:cubicBezTo>
                  <a:pt x="5155" y="15977"/>
                  <a:pt x="5221" y="16063"/>
                  <a:pt x="5283" y="16173"/>
                </a:cubicBezTo>
                <a:cubicBezTo>
                  <a:pt x="5346" y="16284"/>
                  <a:pt x="5412" y="16388"/>
                  <a:pt x="5482" y="16495"/>
                </a:cubicBezTo>
                <a:cubicBezTo>
                  <a:pt x="5524" y="16558"/>
                  <a:pt x="5553" y="16616"/>
                  <a:pt x="5606" y="16669"/>
                </a:cubicBezTo>
                <a:cubicBezTo>
                  <a:pt x="5552" y="16712"/>
                  <a:pt x="5489" y="16755"/>
                  <a:pt x="5432" y="16793"/>
                </a:cubicBezTo>
                <a:cubicBezTo>
                  <a:pt x="5364" y="16839"/>
                  <a:pt x="5334" y="16853"/>
                  <a:pt x="5283" y="16917"/>
                </a:cubicBezTo>
              </a:path>
              <a:path w="5036" h="2804">
                <a:moveTo>
                  <a:pt x="5804" y="16123"/>
                </a:moveTo>
                <a:cubicBezTo>
                  <a:pt x="5871" y="16248"/>
                  <a:pt x="5925" y="16362"/>
                  <a:pt x="5978" y="16495"/>
                </a:cubicBezTo>
                <a:cubicBezTo>
                  <a:pt x="6066" y="16717"/>
                  <a:pt x="6103" y="16844"/>
                  <a:pt x="6276" y="16991"/>
                </a:cubicBezTo>
              </a:path>
              <a:path w="5036" h="2804">
                <a:moveTo>
                  <a:pt x="6449" y="16073"/>
                </a:moveTo>
                <a:cubicBezTo>
                  <a:pt x="6300" y="16163"/>
                  <a:pt x="6221" y="16247"/>
                  <a:pt x="6127" y="16396"/>
                </a:cubicBezTo>
                <a:cubicBezTo>
                  <a:pt x="6020" y="16565"/>
                  <a:pt x="5926" y="16759"/>
                  <a:pt x="5804" y="16917"/>
                </a:cubicBezTo>
                <a:cubicBezTo>
                  <a:pt x="5779" y="16942"/>
                  <a:pt x="5755" y="16966"/>
                  <a:pt x="5730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4" name="Ink 2"/>
          <p:cNvSpPr/>
          <p:nvPr/>
        </p:nvSpPr>
        <p:spPr>
          <a:xfrm>
            <a:off x="1177920" y="892080"/>
            <a:ext cx="893880" cy="501840"/>
          </a:xfrm>
          <a:custGeom>
            <a:avLst/>
            <a:gdLst/>
            <a:ahLst/>
            <a:rect l="l" t="t" r="r" b="b"/>
            <a:pathLst>
              <a:path w="2482" h="1391">
                <a:moveTo>
                  <a:pt x="4068" y="2803"/>
                </a:moveTo>
                <a:cubicBezTo>
                  <a:pt x="4081" y="2723"/>
                  <a:pt x="4097" y="2618"/>
                  <a:pt x="4018" y="2555"/>
                </a:cubicBezTo>
                <a:cubicBezTo>
                  <a:pt x="3964" y="2512"/>
                  <a:pt x="3864" y="2467"/>
                  <a:pt x="3795" y="2480"/>
                </a:cubicBezTo>
                <a:cubicBezTo>
                  <a:pt x="3723" y="2494"/>
                  <a:pt x="3618" y="2544"/>
                  <a:pt x="3572" y="2604"/>
                </a:cubicBezTo>
                <a:cubicBezTo>
                  <a:pt x="3513" y="2681"/>
                  <a:pt x="3509" y="2811"/>
                  <a:pt x="3522" y="2902"/>
                </a:cubicBezTo>
                <a:cubicBezTo>
                  <a:pt x="3541" y="3035"/>
                  <a:pt x="3568" y="3163"/>
                  <a:pt x="3572" y="3299"/>
                </a:cubicBezTo>
                <a:cubicBezTo>
                  <a:pt x="3575" y="3411"/>
                  <a:pt x="3619" y="3682"/>
                  <a:pt x="3547" y="3770"/>
                </a:cubicBezTo>
                <a:cubicBezTo>
                  <a:pt x="3539" y="3778"/>
                  <a:pt x="3530" y="3787"/>
                  <a:pt x="3522" y="3795"/>
                </a:cubicBezTo>
              </a:path>
              <a:path w="2482" h="1391">
                <a:moveTo>
                  <a:pt x="3274" y="3621"/>
                </a:moveTo>
                <a:cubicBezTo>
                  <a:pt x="3353" y="3592"/>
                  <a:pt x="3418" y="3553"/>
                  <a:pt x="3497" y="3522"/>
                </a:cubicBezTo>
                <a:cubicBezTo>
                  <a:pt x="3592" y="3498"/>
                  <a:pt x="3622" y="3492"/>
                  <a:pt x="3671" y="3448"/>
                </a:cubicBezTo>
              </a:path>
              <a:path w="2482" h="1391">
                <a:moveTo>
                  <a:pt x="4242" y="2877"/>
                </a:moveTo>
                <a:cubicBezTo>
                  <a:pt x="4230" y="2976"/>
                  <a:pt x="4192" y="3075"/>
                  <a:pt x="4167" y="3175"/>
                </a:cubicBezTo>
                <a:cubicBezTo>
                  <a:pt x="4129" y="3324"/>
                  <a:pt x="4082" y="3444"/>
                  <a:pt x="4118" y="3597"/>
                </a:cubicBezTo>
                <a:cubicBezTo>
                  <a:pt x="4138" y="3683"/>
                  <a:pt x="4184" y="3716"/>
                  <a:pt x="4266" y="3721"/>
                </a:cubicBezTo>
                <a:cubicBezTo>
                  <a:pt x="4327" y="3724"/>
                  <a:pt x="4362" y="3698"/>
                  <a:pt x="4415" y="3671"/>
                </a:cubicBezTo>
              </a:path>
              <a:path w="2482" h="1391">
                <a:moveTo>
                  <a:pt x="4539" y="3324"/>
                </a:moveTo>
                <a:cubicBezTo>
                  <a:pt x="4572" y="3413"/>
                  <a:pt x="4598" y="3478"/>
                  <a:pt x="4663" y="3547"/>
                </a:cubicBezTo>
                <a:cubicBezTo>
                  <a:pt x="4713" y="3600"/>
                  <a:pt x="4811" y="3653"/>
                  <a:pt x="4887" y="3646"/>
                </a:cubicBezTo>
                <a:cubicBezTo>
                  <a:pt x="4936" y="3621"/>
                  <a:pt x="4953" y="3613"/>
                  <a:pt x="4986" y="3597"/>
                </a:cubicBezTo>
              </a:path>
              <a:path w="2482" h="1391">
                <a:moveTo>
                  <a:pt x="4936" y="3274"/>
                </a:moveTo>
                <a:cubicBezTo>
                  <a:pt x="4841" y="3379"/>
                  <a:pt x="4763" y="3479"/>
                  <a:pt x="4688" y="3597"/>
                </a:cubicBezTo>
                <a:cubicBezTo>
                  <a:pt x="4629" y="3689"/>
                  <a:pt x="4584" y="3786"/>
                  <a:pt x="4514" y="3870"/>
                </a:cubicBezTo>
              </a:path>
              <a:path w="2482" h="1391">
                <a:moveTo>
                  <a:pt x="4688" y="2853"/>
                </a:moveTo>
                <a:cubicBezTo>
                  <a:pt x="4826" y="2803"/>
                  <a:pt x="4863" y="2805"/>
                  <a:pt x="4961" y="2927"/>
                </a:cubicBezTo>
                <a:cubicBezTo>
                  <a:pt x="5060" y="3051"/>
                  <a:pt x="5120" y="3189"/>
                  <a:pt x="5135" y="3349"/>
                </a:cubicBezTo>
                <a:cubicBezTo>
                  <a:pt x="5146" y="3468"/>
                  <a:pt x="5119" y="3607"/>
                  <a:pt x="5085" y="3721"/>
                </a:cubicBezTo>
                <a:cubicBezTo>
                  <a:pt x="5071" y="3768"/>
                  <a:pt x="5039" y="3923"/>
                  <a:pt x="4961" y="3845"/>
                </a:cubicBezTo>
                <a:cubicBezTo>
                  <a:pt x="4961" y="3837"/>
                  <a:pt x="4961" y="3828"/>
                  <a:pt x="4961" y="3820"/>
                </a:cubicBezTo>
              </a:path>
              <a:path w="2482" h="1391">
                <a:moveTo>
                  <a:pt x="5507" y="3448"/>
                </a:moveTo>
                <a:cubicBezTo>
                  <a:pt x="5598" y="3448"/>
                  <a:pt x="5606" y="3448"/>
                  <a:pt x="5655" y="3448"/>
                </a:cubicBezTo>
              </a:path>
              <a:path w="2482" h="1391">
                <a:moveTo>
                  <a:pt x="5457" y="3721"/>
                </a:moveTo>
                <a:cubicBezTo>
                  <a:pt x="5623" y="3700"/>
                  <a:pt x="5658" y="3699"/>
                  <a:pt x="5755" y="36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3"/>
          <p:cNvSpPr/>
          <p:nvPr/>
        </p:nvSpPr>
        <p:spPr>
          <a:xfrm>
            <a:off x="2241720" y="892080"/>
            <a:ext cx="303120" cy="716040"/>
          </a:xfrm>
          <a:custGeom>
            <a:avLst/>
            <a:gdLst/>
            <a:ahLst/>
            <a:rect l="l" t="t" r="r" b="b"/>
            <a:pathLst>
              <a:path w="844" h="1986">
                <a:moveTo>
                  <a:pt x="6573" y="2480"/>
                </a:moveTo>
                <a:cubicBezTo>
                  <a:pt x="6597" y="2599"/>
                  <a:pt x="6598" y="2706"/>
                  <a:pt x="6598" y="2828"/>
                </a:cubicBezTo>
                <a:cubicBezTo>
                  <a:pt x="6598" y="2925"/>
                  <a:pt x="6614" y="3034"/>
                  <a:pt x="6648" y="3125"/>
                </a:cubicBezTo>
                <a:cubicBezTo>
                  <a:pt x="6668" y="3166"/>
                  <a:pt x="6676" y="3172"/>
                  <a:pt x="6672" y="3200"/>
                </a:cubicBezTo>
              </a:path>
              <a:path w="844" h="1986">
                <a:moveTo>
                  <a:pt x="6226" y="3448"/>
                </a:moveTo>
                <a:cubicBezTo>
                  <a:pt x="6403" y="3420"/>
                  <a:pt x="6566" y="3402"/>
                  <a:pt x="6747" y="3398"/>
                </a:cubicBezTo>
                <a:cubicBezTo>
                  <a:pt x="6821" y="3398"/>
                  <a:pt x="6846" y="3398"/>
                  <a:pt x="6896" y="3398"/>
                </a:cubicBezTo>
              </a:path>
              <a:path w="844" h="1986">
                <a:moveTo>
                  <a:pt x="6598" y="3845"/>
                </a:moveTo>
                <a:cubicBezTo>
                  <a:pt x="6712" y="3991"/>
                  <a:pt x="6795" y="4047"/>
                  <a:pt x="6921" y="4167"/>
                </a:cubicBezTo>
                <a:cubicBezTo>
                  <a:pt x="6966" y="4210"/>
                  <a:pt x="7012" y="4252"/>
                  <a:pt x="7069" y="4266"/>
                </a:cubicBezTo>
              </a:path>
              <a:path w="844" h="1986">
                <a:moveTo>
                  <a:pt x="6796" y="3919"/>
                </a:moveTo>
                <a:cubicBezTo>
                  <a:pt x="6711" y="4070"/>
                  <a:pt x="6632" y="4225"/>
                  <a:pt x="6548" y="4366"/>
                </a:cubicBezTo>
                <a:cubicBezTo>
                  <a:pt x="6525" y="4414"/>
                  <a:pt x="6517" y="4428"/>
                  <a:pt x="6524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4"/>
          <p:cNvSpPr/>
          <p:nvPr/>
        </p:nvSpPr>
        <p:spPr>
          <a:xfrm>
            <a:off x="2857680" y="955800"/>
            <a:ext cx="768240" cy="687240"/>
          </a:xfrm>
          <a:custGeom>
            <a:avLst/>
            <a:gdLst/>
            <a:ahLst/>
            <a:rect l="l" t="t" r="r" b="b"/>
            <a:pathLst>
              <a:path w="2134" h="1911">
                <a:moveTo>
                  <a:pt x="8434" y="3423"/>
                </a:moveTo>
                <a:cubicBezTo>
                  <a:pt x="8478" y="3450"/>
                  <a:pt x="8581" y="3466"/>
                  <a:pt x="8582" y="3373"/>
                </a:cubicBezTo>
                <a:cubicBezTo>
                  <a:pt x="8582" y="3327"/>
                  <a:pt x="8493" y="3245"/>
                  <a:pt x="8458" y="3225"/>
                </a:cubicBezTo>
                <a:cubicBezTo>
                  <a:pt x="8372" y="3174"/>
                  <a:pt x="8296" y="3199"/>
                  <a:pt x="8235" y="3274"/>
                </a:cubicBezTo>
                <a:cubicBezTo>
                  <a:pt x="8180" y="3342"/>
                  <a:pt x="8084" y="3436"/>
                  <a:pt x="8062" y="3522"/>
                </a:cubicBezTo>
                <a:cubicBezTo>
                  <a:pt x="8042" y="3598"/>
                  <a:pt x="8119" y="3653"/>
                  <a:pt x="8186" y="3646"/>
                </a:cubicBezTo>
                <a:cubicBezTo>
                  <a:pt x="8269" y="3637"/>
                  <a:pt x="8309" y="3604"/>
                  <a:pt x="8359" y="3547"/>
                </a:cubicBezTo>
                <a:cubicBezTo>
                  <a:pt x="8409" y="3491"/>
                  <a:pt x="8437" y="3431"/>
                  <a:pt x="8483" y="3373"/>
                </a:cubicBezTo>
                <a:cubicBezTo>
                  <a:pt x="8506" y="3476"/>
                  <a:pt x="8505" y="3603"/>
                  <a:pt x="8508" y="3721"/>
                </a:cubicBezTo>
                <a:cubicBezTo>
                  <a:pt x="8512" y="3866"/>
                  <a:pt x="8508" y="4025"/>
                  <a:pt x="8483" y="4167"/>
                </a:cubicBezTo>
                <a:cubicBezTo>
                  <a:pt x="8466" y="4265"/>
                  <a:pt x="8420" y="4387"/>
                  <a:pt x="8359" y="4465"/>
                </a:cubicBezTo>
                <a:cubicBezTo>
                  <a:pt x="8285" y="4561"/>
                  <a:pt x="8144" y="4574"/>
                  <a:pt x="8037" y="4539"/>
                </a:cubicBezTo>
                <a:cubicBezTo>
                  <a:pt x="8004" y="4523"/>
                  <a:pt x="7971" y="4506"/>
                  <a:pt x="7938" y="4490"/>
                </a:cubicBezTo>
              </a:path>
              <a:path w="2134" h="1911">
                <a:moveTo>
                  <a:pt x="9079" y="2778"/>
                </a:moveTo>
                <a:cubicBezTo>
                  <a:pt x="9122" y="2897"/>
                  <a:pt x="9076" y="3026"/>
                  <a:pt x="9054" y="3150"/>
                </a:cubicBezTo>
                <a:cubicBezTo>
                  <a:pt x="9038" y="3238"/>
                  <a:pt x="9027" y="3372"/>
                  <a:pt x="9103" y="3448"/>
                </a:cubicBezTo>
                <a:cubicBezTo>
                  <a:pt x="9176" y="3521"/>
                  <a:pt x="9279" y="3543"/>
                  <a:pt x="9376" y="3547"/>
                </a:cubicBezTo>
                <a:cubicBezTo>
                  <a:pt x="9393" y="3547"/>
                  <a:pt x="9409" y="3547"/>
                  <a:pt x="9426" y="3547"/>
                </a:cubicBezTo>
              </a:path>
              <a:path w="2134" h="1911">
                <a:moveTo>
                  <a:pt x="9525" y="3125"/>
                </a:moveTo>
                <a:cubicBezTo>
                  <a:pt x="9542" y="3197"/>
                  <a:pt x="9565" y="3364"/>
                  <a:pt x="9624" y="3423"/>
                </a:cubicBezTo>
                <a:cubicBezTo>
                  <a:pt x="9663" y="3462"/>
                  <a:pt x="9725" y="3448"/>
                  <a:pt x="9773" y="3448"/>
                </a:cubicBezTo>
              </a:path>
              <a:path w="2134" h="1911">
                <a:moveTo>
                  <a:pt x="9674" y="3125"/>
                </a:moveTo>
                <a:cubicBezTo>
                  <a:pt x="9586" y="3266"/>
                  <a:pt x="9486" y="3404"/>
                  <a:pt x="9401" y="3547"/>
                </a:cubicBezTo>
                <a:cubicBezTo>
                  <a:pt x="9371" y="3597"/>
                  <a:pt x="9346" y="3607"/>
                  <a:pt x="9376" y="3621"/>
                </a:cubicBezTo>
              </a:path>
              <a:path w="2134" h="1911">
                <a:moveTo>
                  <a:pt x="9649" y="2654"/>
                </a:moveTo>
                <a:cubicBezTo>
                  <a:pt x="9820" y="2796"/>
                  <a:pt x="9947" y="2930"/>
                  <a:pt x="10021" y="3150"/>
                </a:cubicBezTo>
                <a:cubicBezTo>
                  <a:pt x="10073" y="3305"/>
                  <a:pt x="10061" y="3418"/>
                  <a:pt x="10046" y="3572"/>
                </a:cubicBezTo>
                <a:cubicBezTo>
                  <a:pt x="10036" y="3675"/>
                  <a:pt x="10021" y="3696"/>
                  <a:pt x="9947" y="3770"/>
                </a:cubicBezTo>
                <a:cubicBezTo>
                  <a:pt x="9924" y="3793"/>
                  <a:pt x="9920" y="3801"/>
                  <a:pt x="9897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5"/>
          <p:cNvSpPr/>
          <p:nvPr/>
        </p:nvSpPr>
        <p:spPr>
          <a:xfrm>
            <a:off x="3786120" y="884160"/>
            <a:ext cx="588960" cy="669960"/>
          </a:xfrm>
          <a:custGeom>
            <a:avLst/>
            <a:gdLst/>
            <a:ahLst/>
            <a:rect l="l" t="t" r="r" b="b"/>
            <a:pathLst>
              <a:path w="1638" h="1861">
                <a:moveTo>
                  <a:pt x="10542" y="3225"/>
                </a:moveTo>
                <a:cubicBezTo>
                  <a:pt x="10641" y="3225"/>
                  <a:pt x="10658" y="3225"/>
                  <a:pt x="10716" y="3225"/>
                </a:cubicBezTo>
              </a:path>
              <a:path w="1638" h="1861">
                <a:moveTo>
                  <a:pt x="10517" y="3497"/>
                </a:moveTo>
                <a:cubicBezTo>
                  <a:pt x="10625" y="3524"/>
                  <a:pt x="10684" y="3526"/>
                  <a:pt x="10790" y="3497"/>
                </a:cubicBezTo>
              </a:path>
              <a:path w="1638" h="1861">
                <a:moveTo>
                  <a:pt x="11237" y="2456"/>
                </a:moveTo>
                <a:cubicBezTo>
                  <a:pt x="11266" y="2607"/>
                  <a:pt x="11295" y="2752"/>
                  <a:pt x="11336" y="2902"/>
                </a:cubicBezTo>
                <a:cubicBezTo>
                  <a:pt x="11362" y="2997"/>
                  <a:pt x="11380" y="3086"/>
                  <a:pt x="11410" y="3175"/>
                </a:cubicBezTo>
              </a:path>
              <a:path w="1638" h="1861">
                <a:moveTo>
                  <a:pt x="10988" y="3299"/>
                </a:moveTo>
                <a:cubicBezTo>
                  <a:pt x="11099" y="3321"/>
                  <a:pt x="11221" y="3341"/>
                  <a:pt x="11336" y="3324"/>
                </a:cubicBezTo>
                <a:cubicBezTo>
                  <a:pt x="11471" y="3305"/>
                  <a:pt x="11570" y="3292"/>
                  <a:pt x="11683" y="3225"/>
                </a:cubicBezTo>
                <a:cubicBezTo>
                  <a:pt x="11700" y="3217"/>
                  <a:pt x="11716" y="3208"/>
                  <a:pt x="11733" y="3200"/>
                </a:cubicBezTo>
              </a:path>
              <a:path w="1638" h="1861">
                <a:moveTo>
                  <a:pt x="11336" y="3671"/>
                </a:moveTo>
                <a:cubicBezTo>
                  <a:pt x="11436" y="3830"/>
                  <a:pt x="11515" y="3937"/>
                  <a:pt x="11633" y="4068"/>
                </a:cubicBezTo>
                <a:cubicBezTo>
                  <a:pt x="11687" y="4127"/>
                  <a:pt x="11709" y="4133"/>
                  <a:pt x="11782" y="4142"/>
                </a:cubicBezTo>
              </a:path>
              <a:path w="1638" h="1861">
                <a:moveTo>
                  <a:pt x="11534" y="3770"/>
                </a:moveTo>
                <a:cubicBezTo>
                  <a:pt x="11474" y="3903"/>
                  <a:pt x="11419" y="4035"/>
                  <a:pt x="11361" y="4167"/>
                </a:cubicBezTo>
                <a:cubicBezTo>
                  <a:pt x="11341" y="4213"/>
                  <a:pt x="11321" y="4268"/>
                  <a:pt x="11311" y="4316"/>
                </a:cubicBezTo>
              </a:path>
              <a:path w="1638" h="1861">
                <a:moveTo>
                  <a:pt x="11683" y="3671"/>
                </a:moveTo>
                <a:cubicBezTo>
                  <a:pt x="11760" y="3638"/>
                  <a:pt x="11842" y="3596"/>
                  <a:pt x="11931" y="3621"/>
                </a:cubicBezTo>
                <a:cubicBezTo>
                  <a:pt x="12012" y="3644"/>
                  <a:pt x="12039" y="3758"/>
                  <a:pt x="11981" y="3820"/>
                </a:cubicBezTo>
                <a:cubicBezTo>
                  <a:pt x="11932" y="3873"/>
                  <a:pt x="11853" y="3854"/>
                  <a:pt x="11906" y="3944"/>
                </a:cubicBezTo>
                <a:cubicBezTo>
                  <a:pt x="11944" y="4009"/>
                  <a:pt x="12043" y="4015"/>
                  <a:pt x="12105" y="4018"/>
                </a:cubicBezTo>
                <a:cubicBezTo>
                  <a:pt x="12121" y="4018"/>
                  <a:pt x="12138" y="4018"/>
                  <a:pt x="12154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6"/>
          <p:cNvSpPr/>
          <p:nvPr/>
        </p:nvSpPr>
        <p:spPr>
          <a:xfrm>
            <a:off x="633240" y="1866960"/>
            <a:ext cx="4502160" cy="1035000"/>
          </a:xfrm>
          <a:custGeom>
            <a:avLst/>
            <a:gdLst/>
            <a:ahLst/>
            <a:rect l="l" t="t" r="r" b="b"/>
            <a:pathLst>
              <a:path w="12503" h="2879">
                <a:moveTo>
                  <a:pt x="2158" y="6474"/>
                </a:moveTo>
                <a:cubicBezTo>
                  <a:pt x="2158" y="6538"/>
                  <a:pt x="2155" y="6564"/>
                  <a:pt x="2133" y="6623"/>
                </a:cubicBezTo>
                <a:cubicBezTo>
                  <a:pt x="2107" y="6570"/>
                  <a:pt x="2069" y="6499"/>
                  <a:pt x="2059" y="6449"/>
                </a:cubicBezTo>
                <a:cubicBezTo>
                  <a:pt x="2050" y="6403"/>
                  <a:pt x="2037" y="6324"/>
                  <a:pt x="1960" y="6350"/>
                </a:cubicBezTo>
                <a:cubicBezTo>
                  <a:pt x="1861" y="6383"/>
                  <a:pt x="1818" y="6539"/>
                  <a:pt x="1786" y="6623"/>
                </a:cubicBezTo>
                <a:cubicBezTo>
                  <a:pt x="1763" y="6682"/>
                  <a:pt x="1736" y="6806"/>
                  <a:pt x="1761" y="6871"/>
                </a:cubicBezTo>
                <a:cubicBezTo>
                  <a:pt x="1769" y="6879"/>
                  <a:pt x="1778" y="6888"/>
                  <a:pt x="1786" y="6896"/>
                </a:cubicBezTo>
                <a:cubicBezTo>
                  <a:pt x="1850" y="6889"/>
                  <a:pt x="1938" y="6875"/>
                  <a:pt x="1984" y="6821"/>
                </a:cubicBezTo>
                <a:cubicBezTo>
                  <a:pt x="2023" y="6776"/>
                  <a:pt x="2043" y="6717"/>
                  <a:pt x="2084" y="6672"/>
                </a:cubicBezTo>
                <a:cubicBezTo>
                  <a:pt x="2092" y="6664"/>
                  <a:pt x="2100" y="6656"/>
                  <a:pt x="2108" y="6648"/>
                </a:cubicBezTo>
                <a:cubicBezTo>
                  <a:pt x="2108" y="6697"/>
                  <a:pt x="2101" y="6833"/>
                  <a:pt x="2133" y="6871"/>
                </a:cubicBezTo>
                <a:cubicBezTo>
                  <a:pt x="2183" y="6930"/>
                  <a:pt x="2263" y="6921"/>
                  <a:pt x="2332" y="6921"/>
                </a:cubicBezTo>
              </a:path>
              <a:path w="12503" h="2879">
                <a:moveTo>
                  <a:pt x="2183" y="6077"/>
                </a:moveTo>
                <a:cubicBezTo>
                  <a:pt x="2233" y="6052"/>
                  <a:pt x="2302" y="6129"/>
                  <a:pt x="2356" y="6176"/>
                </a:cubicBezTo>
                <a:cubicBezTo>
                  <a:pt x="2447" y="6257"/>
                  <a:pt x="2553" y="6404"/>
                  <a:pt x="2580" y="6524"/>
                </a:cubicBezTo>
                <a:cubicBezTo>
                  <a:pt x="2608" y="6650"/>
                  <a:pt x="2532" y="6765"/>
                  <a:pt x="2480" y="6871"/>
                </a:cubicBezTo>
                <a:cubicBezTo>
                  <a:pt x="2449" y="6935"/>
                  <a:pt x="2400" y="6990"/>
                  <a:pt x="2356" y="7045"/>
                </a:cubicBezTo>
                <a:cubicBezTo>
                  <a:pt x="2412" y="6955"/>
                  <a:pt x="2490" y="6882"/>
                  <a:pt x="2555" y="6796"/>
                </a:cubicBezTo>
                <a:cubicBezTo>
                  <a:pt x="2580" y="6763"/>
                  <a:pt x="2604" y="6730"/>
                  <a:pt x="2629" y="6697"/>
                </a:cubicBezTo>
              </a:path>
              <a:path w="12503" h="2879">
                <a:moveTo>
                  <a:pt x="3969" y="5184"/>
                </a:moveTo>
                <a:cubicBezTo>
                  <a:pt x="3969" y="5276"/>
                  <a:pt x="3991" y="5343"/>
                  <a:pt x="3994" y="5432"/>
                </a:cubicBezTo>
                <a:cubicBezTo>
                  <a:pt x="4001" y="5617"/>
                  <a:pt x="3990" y="5800"/>
                  <a:pt x="4018" y="5978"/>
                </a:cubicBezTo>
                <a:cubicBezTo>
                  <a:pt x="4029" y="6045"/>
                  <a:pt x="3999" y="6099"/>
                  <a:pt x="3969" y="6152"/>
                </a:cubicBezTo>
              </a:path>
              <a:path w="12503" h="2879">
                <a:moveTo>
                  <a:pt x="3448" y="6424"/>
                </a:moveTo>
                <a:cubicBezTo>
                  <a:pt x="3552" y="6424"/>
                  <a:pt x="3642" y="6403"/>
                  <a:pt x="3746" y="6400"/>
                </a:cubicBezTo>
                <a:cubicBezTo>
                  <a:pt x="3906" y="6396"/>
                  <a:pt x="4058" y="6362"/>
                  <a:pt x="4217" y="6350"/>
                </a:cubicBezTo>
                <a:cubicBezTo>
                  <a:pt x="4338" y="6341"/>
                  <a:pt x="4452" y="6357"/>
                  <a:pt x="4564" y="6375"/>
                </a:cubicBezTo>
                <a:cubicBezTo>
                  <a:pt x="4605" y="6375"/>
                  <a:pt x="4613" y="6375"/>
                  <a:pt x="4638" y="6375"/>
                </a:cubicBezTo>
              </a:path>
              <a:path w="12503" h="2879">
                <a:moveTo>
                  <a:pt x="3820" y="6697"/>
                </a:moveTo>
                <a:cubicBezTo>
                  <a:pt x="3861" y="6796"/>
                  <a:pt x="3906" y="6895"/>
                  <a:pt x="3944" y="6995"/>
                </a:cubicBezTo>
                <a:cubicBezTo>
                  <a:pt x="3986" y="7107"/>
                  <a:pt x="4039" y="7210"/>
                  <a:pt x="4093" y="7317"/>
                </a:cubicBezTo>
                <a:cubicBezTo>
                  <a:pt x="4129" y="7389"/>
                  <a:pt x="4166" y="7483"/>
                  <a:pt x="4217" y="7541"/>
                </a:cubicBezTo>
                <a:cubicBezTo>
                  <a:pt x="4258" y="7582"/>
                  <a:pt x="4266" y="7590"/>
                  <a:pt x="4291" y="7615"/>
                </a:cubicBezTo>
              </a:path>
              <a:path w="12503" h="2879">
                <a:moveTo>
                  <a:pt x="4167" y="6921"/>
                </a:moveTo>
                <a:cubicBezTo>
                  <a:pt x="4086" y="7034"/>
                  <a:pt x="4002" y="7131"/>
                  <a:pt x="3919" y="7243"/>
                </a:cubicBezTo>
                <a:cubicBezTo>
                  <a:pt x="3870" y="7308"/>
                  <a:pt x="3810" y="7373"/>
                  <a:pt x="3770" y="7441"/>
                </a:cubicBezTo>
                <a:cubicBezTo>
                  <a:pt x="3749" y="7485"/>
                  <a:pt x="3736" y="7496"/>
                  <a:pt x="3770" y="7516"/>
                </a:cubicBezTo>
              </a:path>
              <a:path w="12503" h="2879">
                <a:moveTo>
                  <a:pt x="5110" y="6102"/>
                </a:moveTo>
                <a:cubicBezTo>
                  <a:pt x="5110" y="6216"/>
                  <a:pt x="5117" y="6319"/>
                  <a:pt x="5135" y="6424"/>
                </a:cubicBezTo>
                <a:cubicBezTo>
                  <a:pt x="5146" y="6492"/>
                  <a:pt x="5194" y="6519"/>
                  <a:pt x="5209" y="6573"/>
                </a:cubicBezTo>
                <a:cubicBezTo>
                  <a:pt x="5209" y="6590"/>
                  <a:pt x="5209" y="6606"/>
                  <a:pt x="5209" y="6623"/>
                </a:cubicBezTo>
              </a:path>
              <a:path w="12503" h="2879">
                <a:moveTo>
                  <a:pt x="4961" y="6424"/>
                </a:moveTo>
                <a:cubicBezTo>
                  <a:pt x="5038" y="6364"/>
                  <a:pt x="5139" y="6360"/>
                  <a:pt x="5234" y="6350"/>
                </a:cubicBezTo>
                <a:cubicBezTo>
                  <a:pt x="5310" y="6350"/>
                  <a:pt x="5336" y="6349"/>
                  <a:pt x="5383" y="6325"/>
                </a:cubicBezTo>
              </a:path>
              <a:path w="12503" h="2879">
                <a:moveTo>
                  <a:pt x="6201" y="5333"/>
                </a:moveTo>
                <a:cubicBezTo>
                  <a:pt x="6242" y="5475"/>
                  <a:pt x="6251" y="5561"/>
                  <a:pt x="6251" y="5705"/>
                </a:cubicBezTo>
                <a:cubicBezTo>
                  <a:pt x="6251" y="5816"/>
                  <a:pt x="6226" y="5915"/>
                  <a:pt x="6226" y="6028"/>
                </a:cubicBezTo>
                <a:cubicBezTo>
                  <a:pt x="6226" y="6096"/>
                  <a:pt x="6229" y="6115"/>
                  <a:pt x="6201" y="6152"/>
                </a:cubicBezTo>
              </a:path>
              <a:path w="12503" h="2879">
                <a:moveTo>
                  <a:pt x="5804" y="6524"/>
                </a:moveTo>
                <a:cubicBezTo>
                  <a:pt x="5989" y="6524"/>
                  <a:pt x="6166" y="6511"/>
                  <a:pt x="6350" y="6499"/>
                </a:cubicBezTo>
                <a:cubicBezTo>
                  <a:pt x="6519" y="6488"/>
                  <a:pt x="6681" y="6497"/>
                  <a:pt x="6846" y="6474"/>
                </a:cubicBezTo>
                <a:cubicBezTo>
                  <a:pt x="6933" y="6462"/>
                  <a:pt x="6939" y="6470"/>
                  <a:pt x="6846" y="6424"/>
                </a:cubicBezTo>
              </a:path>
              <a:path w="12503" h="2879">
                <a:moveTo>
                  <a:pt x="6003" y="6846"/>
                </a:moveTo>
                <a:cubicBezTo>
                  <a:pt x="6050" y="6975"/>
                  <a:pt x="6095" y="7095"/>
                  <a:pt x="6152" y="7218"/>
                </a:cubicBezTo>
                <a:cubicBezTo>
                  <a:pt x="6210" y="7341"/>
                  <a:pt x="6275" y="7452"/>
                  <a:pt x="6350" y="7565"/>
                </a:cubicBezTo>
                <a:cubicBezTo>
                  <a:pt x="6374" y="7601"/>
                  <a:pt x="6455" y="7748"/>
                  <a:pt x="6499" y="7764"/>
                </a:cubicBezTo>
                <a:cubicBezTo>
                  <a:pt x="6515" y="7764"/>
                  <a:pt x="6532" y="7764"/>
                  <a:pt x="6548" y="7764"/>
                </a:cubicBezTo>
              </a:path>
              <a:path w="12503" h="2879">
                <a:moveTo>
                  <a:pt x="6300" y="6970"/>
                </a:moveTo>
                <a:cubicBezTo>
                  <a:pt x="6267" y="7078"/>
                  <a:pt x="6193" y="7227"/>
                  <a:pt x="6176" y="7342"/>
                </a:cubicBezTo>
                <a:cubicBezTo>
                  <a:pt x="6162" y="7437"/>
                  <a:pt x="6140" y="7522"/>
                  <a:pt x="6102" y="7615"/>
                </a:cubicBezTo>
                <a:cubicBezTo>
                  <a:pt x="6094" y="7632"/>
                  <a:pt x="6085" y="7648"/>
                  <a:pt x="6077" y="7665"/>
                </a:cubicBezTo>
              </a:path>
              <a:path w="12503" h="2879">
                <a:moveTo>
                  <a:pt x="6722" y="6796"/>
                </a:moveTo>
                <a:cubicBezTo>
                  <a:pt x="6834" y="6831"/>
                  <a:pt x="6886" y="6841"/>
                  <a:pt x="6821" y="6970"/>
                </a:cubicBezTo>
                <a:cubicBezTo>
                  <a:pt x="6802" y="7008"/>
                  <a:pt x="6730" y="7037"/>
                  <a:pt x="6697" y="7069"/>
                </a:cubicBezTo>
                <a:cubicBezTo>
                  <a:pt x="6757" y="7129"/>
                  <a:pt x="6783" y="7119"/>
                  <a:pt x="6871" y="7119"/>
                </a:cubicBezTo>
                <a:cubicBezTo>
                  <a:pt x="6945" y="7119"/>
                  <a:pt x="6970" y="7119"/>
                  <a:pt x="7020" y="7119"/>
                </a:cubicBezTo>
              </a:path>
              <a:path w="12503" h="2879">
                <a:moveTo>
                  <a:pt x="7516" y="6449"/>
                </a:moveTo>
                <a:cubicBezTo>
                  <a:pt x="7618" y="6440"/>
                  <a:pt x="7709" y="6424"/>
                  <a:pt x="7813" y="6424"/>
                </a:cubicBezTo>
                <a:cubicBezTo>
                  <a:pt x="7898" y="6424"/>
                  <a:pt x="7955" y="6400"/>
                  <a:pt x="8037" y="6400"/>
                </a:cubicBezTo>
              </a:path>
              <a:path w="12503" h="2879">
                <a:moveTo>
                  <a:pt x="7590" y="6598"/>
                </a:moveTo>
                <a:cubicBezTo>
                  <a:pt x="7651" y="6659"/>
                  <a:pt x="7705" y="6647"/>
                  <a:pt x="7789" y="6672"/>
                </a:cubicBezTo>
                <a:cubicBezTo>
                  <a:pt x="7891" y="6702"/>
                  <a:pt x="7985" y="6721"/>
                  <a:pt x="8086" y="6747"/>
                </a:cubicBezTo>
              </a:path>
              <a:path w="12503" h="2879">
                <a:moveTo>
                  <a:pt x="3621" y="7045"/>
                </a:moveTo>
                <a:cubicBezTo>
                  <a:pt x="3621" y="7053"/>
                  <a:pt x="3621" y="7061"/>
                  <a:pt x="3621" y="7069"/>
                </a:cubicBezTo>
              </a:path>
              <a:path w="12503" h="2879">
                <a:moveTo>
                  <a:pt x="3150" y="6945"/>
                </a:moveTo>
                <a:cubicBezTo>
                  <a:pt x="3204" y="7026"/>
                  <a:pt x="3234" y="7126"/>
                  <a:pt x="3274" y="7218"/>
                </a:cubicBezTo>
                <a:cubicBezTo>
                  <a:pt x="3305" y="7288"/>
                  <a:pt x="3334" y="7353"/>
                  <a:pt x="3373" y="7417"/>
                </a:cubicBezTo>
                <a:cubicBezTo>
                  <a:pt x="3419" y="7494"/>
                  <a:pt x="3427" y="7484"/>
                  <a:pt x="3497" y="7466"/>
                </a:cubicBezTo>
              </a:path>
              <a:path w="12503" h="2879">
                <a:moveTo>
                  <a:pt x="3398" y="6921"/>
                </a:moveTo>
                <a:cubicBezTo>
                  <a:pt x="3330" y="7051"/>
                  <a:pt x="3269" y="7189"/>
                  <a:pt x="3200" y="7317"/>
                </a:cubicBezTo>
                <a:cubicBezTo>
                  <a:pt x="3163" y="7386"/>
                  <a:pt x="3135" y="7456"/>
                  <a:pt x="3101" y="7516"/>
                </a:cubicBezTo>
              </a:path>
              <a:path w="12503" h="2879">
                <a:moveTo>
                  <a:pt x="3398" y="5581"/>
                </a:moveTo>
                <a:cubicBezTo>
                  <a:pt x="3405" y="5639"/>
                  <a:pt x="3426" y="5735"/>
                  <a:pt x="3473" y="5779"/>
                </a:cubicBezTo>
                <a:cubicBezTo>
                  <a:pt x="3522" y="5825"/>
                  <a:pt x="3581" y="5874"/>
                  <a:pt x="3646" y="5879"/>
                </a:cubicBezTo>
                <a:cubicBezTo>
                  <a:pt x="3654" y="5879"/>
                  <a:pt x="3663" y="5879"/>
                  <a:pt x="3671" y="5879"/>
                </a:cubicBezTo>
              </a:path>
              <a:path w="12503" h="2879">
                <a:moveTo>
                  <a:pt x="3547" y="5556"/>
                </a:moveTo>
                <a:cubicBezTo>
                  <a:pt x="3448" y="5683"/>
                  <a:pt x="3398" y="5790"/>
                  <a:pt x="3324" y="5928"/>
                </a:cubicBezTo>
                <a:cubicBezTo>
                  <a:pt x="3307" y="5953"/>
                  <a:pt x="3291" y="5978"/>
                  <a:pt x="3274" y="6003"/>
                </a:cubicBezTo>
              </a:path>
              <a:path w="12503" h="2879">
                <a:moveTo>
                  <a:pt x="8954" y="5606"/>
                </a:moveTo>
                <a:cubicBezTo>
                  <a:pt x="8961" y="5683"/>
                  <a:pt x="8968" y="5782"/>
                  <a:pt x="9004" y="5854"/>
                </a:cubicBezTo>
                <a:cubicBezTo>
                  <a:pt x="9051" y="5947"/>
                  <a:pt x="9122" y="6037"/>
                  <a:pt x="9203" y="6102"/>
                </a:cubicBezTo>
                <a:cubicBezTo>
                  <a:pt x="9282" y="6165"/>
                  <a:pt x="9361" y="6229"/>
                  <a:pt x="9451" y="6276"/>
                </a:cubicBezTo>
                <a:cubicBezTo>
                  <a:pt x="9490" y="6296"/>
                  <a:pt x="9512" y="6316"/>
                  <a:pt x="9550" y="6325"/>
                </a:cubicBezTo>
              </a:path>
              <a:path w="12503" h="2879">
                <a:moveTo>
                  <a:pt x="9277" y="5655"/>
                </a:moveTo>
                <a:cubicBezTo>
                  <a:pt x="9175" y="5763"/>
                  <a:pt x="9101" y="5852"/>
                  <a:pt x="9029" y="5978"/>
                </a:cubicBezTo>
                <a:cubicBezTo>
                  <a:pt x="8989" y="6048"/>
                  <a:pt x="8943" y="6107"/>
                  <a:pt x="8905" y="6176"/>
                </a:cubicBezTo>
                <a:cubicBezTo>
                  <a:pt x="8885" y="6217"/>
                  <a:pt x="8876" y="6223"/>
                  <a:pt x="8880" y="6251"/>
                </a:cubicBezTo>
              </a:path>
              <a:path w="12503" h="2879">
                <a:moveTo>
                  <a:pt x="8558" y="6524"/>
                </a:moveTo>
                <a:cubicBezTo>
                  <a:pt x="8638" y="6515"/>
                  <a:pt x="8726" y="6512"/>
                  <a:pt x="8806" y="6499"/>
                </a:cubicBezTo>
                <a:cubicBezTo>
                  <a:pt x="8938" y="6478"/>
                  <a:pt x="9072" y="6469"/>
                  <a:pt x="9203" y="6449"/>
                </a:cubicBezTo>
                <a:cubicBezTo>
                  <a:pt x="9319" y="6431"/>
                  <a:pt x="9438" y="6392"/>
                  <a:pt x="9550" y="6375"/>
                </a:cubicBezTo>
                <a:cubicBezTo>
                  <a:pt x="9599" y="6375"/>
                  <a:pt x="9616" y="6375"/>
                  <a:pt x="9649" y="6375"/>
                </a:cubicBezTo>
              </a:path>
              <a:path w="12503" h="2879">
                <a:moveTo>
                  <a:pt x="8806" y="6970"/>
                </a:moveTo>
                <a:cubicBezTo>
                  <a:pt x="8836" y="7100"/>
                  <a:pt x="8878" y="7175"/>
                  <a:pt x="8930" y="7293"/>
                </a:cubicBezTo>
                <a:cubicBezTo>
                  <a:pt x="8973" y="7391"/>
                  <a:pt x="9017" y="7494"/>
                  <a:pt x="9103" y="7565"/>
                </a:cubicBezTo>
                <a:cubicBezTo>
                  <a:pt x="9167" y="7618"/>
                  <a:pt x="9216" y="7660"/>
                  <a:pt x="9277" y="7714"/>
                </a:cubicBezTo>
                <a:cubicBezTo>
                  <a:pt x="9302" y="7739"/>
                  <a:pt x="9310" y="7747"/>
                  <a:pt x="9327" y="7714"/>
                </a:cubicBezTo>
              </a:path>
              <a:path w="12503" h="2879">
                <a:moveTo>
                  <a:pt x="9128" y="7094"/>
                </a:moveTo>
                <a:cubicBezTo>
                  <a:pt x="9062" y="7208"/>
                  <a:pt x="9005" y="7335"/>
                  <a:pt x="8979" y="7466"/>
                </a:cubicBezTo>
                <a:cubicBezTo>
                  <a:pt x="8965" y="7538"/>
                  <a:pt x="8922" y="7603"/>
                  <a:pt x="8905" y="7665"/>
                </a:cubicBezTo>
                <a:cubicBezTo>
                  <a:pt x="8897" y="7694"/>
                  <a:pt x="8907" y="7768"/>
                  <a:pt x="8880" y="7714"/>
                </a:cubicBezTo>
              </a:path>
              <a:path w="12503" h="2879">
                <a:moveTo>
                  <a:pt x="9302" y="6970"/>
                </a:moveTo>
                <a:cubicBezTo>
                  <a:pt x="9413" y="6945"/>
                  <a:pt x="9511" y="6877"/>
                  <a:pt x="9550" y="7020"/>
                </a:cubicBezTo>
                <a:cubicBezTo>
                  <a:pt x="9569" y="7090"/>
                  <a:pt x="9493" y="7134"/>
                  <a:pt x="9451" y="7169"/>
                </a:cubicBezTo>
                <a:cubicBezTo>
                  <a:pt x="9422" y="7197"/>
                  <a:pt x="9414" y="7210"/>
                  <a:pt x="9426" y="7243"/>
                </a:cubicBezTo>
                <a:cubicBezTo>
                  <a:pt x="9489" y="7275"/>
                  <a:pt x="9596" y="7283"/>
                  <a:pt x="9674" y="7268"/>
                </a:cubicBezTo>
                <a:cubicBezTo>
                  <a:pt x="9699" y="7260"/>
                  <a:pt x="9723" y="7251"/>
                  <a:pt x="9748" y="7243"/>
                </a:cubicBezTo>
              </a:path>
              <a:path w="12503" h="2879">
                <a:moveTo>
                  <a:pt x="10046" y="6350"/>
                </a:moveTo>
                <a:cubicBezTo>
                  <a:pt x="10046" y="6438"/>
                  <a:pt x="10034" y="6525"/>
                  <a:pt x="10071" y="6598"/>
                </a:cubicBezTo>
                <a:cubicBezTo>
                  <a:pt x="10093" y="6641"/>
                  <a:pt x="10111" y="6676"/>
                  <a:pt x="10120" y="6722"/>
                </a:cubicBezTo>
              </a:path>
              <a:path w="12503" h="2879">
                <a:moveTo>
                  <a:pt x="9947" y="6573"/>
                </a:moveTo>
                <a:cubicBezTo>
                  <a:pt x="10076" y="6573"/>
                  <a:pt x="10195" y="6579"/>
                  <a:pt x="10319" y="6548"/>
                </a:cubicBezTo>
              </a:path>
              <a:path w="12503" h="2879">
                <a:moveTo>
                  <a:pt x="11063" y="5779"/>
                </a:moveTo>
                <a:cubicBezTo>
                  <a:pt x="11025" y="5865"/>
                  <a:pt x="10992" y="5935"/>
                  <a:pt x="10988" y="6028"/>
                </a:cubicBezTo>
                <a:cubicBezTo>
                  <a:pt x="10984" y="6131"/>
                  <a:pt x="11024" y="6225"/>
                  <a:pt x="11038" y="6325"/>
                </a:cubicBezTo>
                <a:cubicBezTo>
                  <a:pt x="11038" y="6342"/>
                  <a:pt x="11038" y="6358"/>
                  <a:pt x="11038" y="6375"/>
                </a:cubicBezTo>
              </a:path>
              <a:path w="12503" h="2879">
                <a:moveTo>
                  <a:pt x="10666" y="6648"/>
                </a:moveTo>
                <a:cubicBezTo>
                  <a:pt x="10827" y="6628"/>
                  <a:pt x="10975" y="6623"/>
                  <a:pt x="11137" y="6623"/>
                </a:cubicBezTo>
                <a:cubicBezTo>
                  <a:pt x="11237" y="6623"/>
                  <a:pt x="11314" y="6620"/>
                  <a:pt x="11410" y="6598"/>
                </a:cubicBezTo>
              </a:path>
              <a:path w="12503" h="2879">
                <a:moveTo>
                  <a:pt x="10864" y="6945"/>
                </a:moveTo>
                <a:cubicBezTo>
                  <a:pt x="10892" y="7113"/>
                  <a:pt x="10908" y="7208"/>
                  <a:pt x="11013" y="7342"/>
                </a:cubicBezTo>
                <a:cubicBezTo>
                  <a:pt x="11121" y="7480"/>
                  <a:pt x="11186" y="7517"/>
                  <a:pt x="11311" y="7615"/>
                </a:cubicBezTo>
                <a:cubicBezTo>
                  <a:pt x="11367" y="7659"/>
                  <a:pt x="11382" y="7658"/>
                  <a:pt x="11435" y="7689"/>
                </a:cubicBezTo>
              </a:path>
              <a:path w="12503" h="2879">
                <a:moveTo>
                  <a:pt x="11162" y="7094"/>
                </a:moveTo>
                <a:cubicBezTo>
                  <a:pt x="11075" y="7181"/>
                  <a:pt x="11014" y="7254"/>
                  <a:pt x="10964" y="7367"/>
                </a:cubicBezTo>
                <a:cubicBezTo>
                  <a:pt x="10930" y="7443"/>
                  <a:pt x="10897" y="7520"/>
                  <a:pt x="10864" y="7590"/>
                </a:cubicBezTo>
                <a:cubicBezTo>
                  <a:pt x="10852" y="7615"/>
                  <a:pt x="10815" y="7740"/>
                  <a:pt x="10815" y="7689"/>
                </a:cubicBezTo>
              </a:path>
              <a:path w="12503" h="2879">
                <a:moveTo>
                  <a:pt x="11385" y="6896"/>
                </a:moveTo>
                <a:cubicBezTo>
                  <a:pt x="11454" y="6923"/>
                  <a:pt x="11534" y="6935"/>
                  <a:pt x="11485" y="7020"/>
                </a:cubicBezTo>
                <a:cubicBezTo>
                  <a:pt x="11464" y="7056"/>
                  <a:pt x="11414" y="7089"/>
                  <a:pt x="11385" y="7119"/>
                </a:cubicBezTo>
                <a:cubicBezTo>
                  <a:pt x="11377" y="7127"/>
                  <a:pt x="11369" y="7136"/>
                  <a:pt x="11361" y="7144"/>
                </a:cubicBezTo>
                <a:cubicBezTo>
                  <a:pt x="11402" y="7185"/>
                  <a:pt x="11473" y="7224"/>
                  <a:pt x="11534" y="7218"/>
                </a:cubicBezTo>
                <a:cubicBezTo>
                  <a:pt x="11582" y="7194"/>
                  <a:pt x="11596" y="7186"/>
                  <a:pt x="11633" y="7193"/>
                </a:cubicBezTo>
              </a:path>
              <a:path w="12503" h="2879">
                <a:moveTo>
                  <a:pt x="11931" y="6648"/>
                </a:moveTo>
                <a:cubicBezTo>
                  <a:pt x="12021" y="6670"/>
                  <a:pt x="12045" y="6678"/>
                  <a:pt x="12105" y="6672"/>
                </a:cubicBezTo>
              </a:path>
              <a:path w="12503" h="2879">
                <a:moveTo>
                  <a:pt x="11906" y="6871"/>
                </a:moveTo>
                <a:cubicBezTo>
                  <a:pt x="11996" y="6894"/>
                  <a:pt x="12020" y="6902"/>
                  <a:pt x="12080" y="6896"/>
                </a:cubicBezTo>
              </a:path>
              <a:path w="12503" h="2879">
                <a:moveTo>
                  <a:pt x="12576" y="5928"/>
                </a:moveTo>
                <a:cubicBezTo>
                  <a:pt x="12664" y="6024"/>
                  <a:pt x="12766" y="6103"/>
                  <a:pt x="12849" y="6201"/>
                </a:cubicBezTo>
                <a:cubicBezTo>
                  <a:pt x="12933" y="6301"/>
                  <a:pt x="13038" y="6396"/>
                  <a:pt x="13146" y="6474"/>
                </a:cubicBezTo>
                <a:cubicBezTo>
                  <a:pt x="13196" y="6499"/>
                  <a:pt x="13213" y="6507"/>
                  <a:pt x="13246" y="6524"/>
                </a:cubicBezTo>
              </a:path>
              <a:path w="12503" h="2879">
                <a:moveTo>
                  <a:pt x="13146" y="5904"/>
                </a:moveTo>
                <a:cubicBezTo>
                  <a:pt x="13056" y="5977"/>
                  <a:pt x="12990" y="6055"/>
                  <a:pt x="12923" y="6152"/>
                </a:cubicBezTo>
                <a:cubicBezTo>
                  <a:pt x="12865" y="6236"/>
                  <a:pt x="12820" y="6327"/>
                  <a:pt x="12750" y="6400"/>
                </a:cubicBezTo>
                <a:cubicBezTo>
                  <a:pt x="12706" y="6446"/>
                  <a:pt x="12641" y="6488"/>
                  <a:pt x="12626" y="6548"/>
                </a:cubicBezTo>
              </a:path>
              <a:path w="12503" h="2879">
                <a:moveTo>
                  <a:pt x="13395" y="5904"/>
                </a:moveTo>
                <a:cubicBezTo>
                  <a:pt x="13416" y="6011"/>
                  <a:pt x="13453" y="6120"/>
                  <a:pt x="13469" y="6226"/>
                </a:cubicBezTo>
                <a:cubicBezTo>
                  <a:pt x="13483" y="6319"/>
                  <a:pt x="13522" y="6399"/>
                  <a:pt x="13568" y="6474"/>
                </a:cubicBezTo>
              </a:path>
              <a:path w="12503" h="2879">
                <a:moveTo>
                  <a:pt x="13370" y="6251"/>
                </a:moveTo>
                <a:cubicBezTo>
                  <a:pt x="13512" y="6258"/>
                  <a:pt x="13631" y="6285"/>
                  <a:pt x="13767" y="6251"/>
                </a:cubicBezTo>
              </a:path>
              <a:path w="12503" h="2879">
                <a:moveTo>
                  <a:pt x="14015" y="5779"/>
                </a:moveTo>
                <a:cubicBezTo>
                  <a:pt x="13995" y="5914"/>
                  <a:pt x="13990" y="6039"/>
                  <a:pt x="13990" y="6176"/>
                </a:cubicBezTo>
                <a:cubicBezTo>
                  <a:pt x="13990" y="6267"/>
                  <a:pt x="14034" y="6333"/>
                  <a:pt x="14039" y="6424"/>
                </a:cubicBezTo>
                <a:cubicBezTo>
                  <a:pt x="14039" y="6441"/>
                  <a:pt x="14039" y="6457"/>
                  <a:pt x="14039" y="6474"/>
                </a:cubicBezTo>
              </a:path>
              <a:path w="12503" h="2879">
                <a:moveTo>
                  <a:pt x="12774" y="6821"/>
                </a:moveTo>
                <a:cubicBezTo>
                  <a:pt x="12916" y="6821"/>
                  <a:pt x="13054" y="6799"/>
                  <a:pt x="13196" y="6796"/>
                </a:cubicBezTo>
                <a:cubicBezTo>
                  <a:pt x="13479" y="6790"/>
                  <a:pt x="13757" y="6805"/>
                  <a:pt x="14039" y="6821"/>
                </a:cubicBezTo>
                <a:cubicBezTo>
                  <a:pt x="14121" y="6826"/>
                  <a:pt x="14198" y="6809"/>
                  <a:pt x="14263" y="6772"/>
                </a:cubicBezTo>
              </a:path>
              <a:path w="12503" h="2879">
                <a:moveTo>
                  <a:pt x="13171" y="7268"/>
                </a:moveTo>
                <a:cubicBezTo>
                  <a:pt x="13220" y="7394"/>
                  <a:pt x="13251" y="7492"/>
                  <a:pt x="13345" y="7590"/>
                </a:cubicBezTo>
                <a:cubicBezTo>
                  <a:pt x="13429" y="7678"/>
                  <a:pt x="13505" y="7755"/>
                  <a:pt x="13593" y="7838"/>
                </a:cubicBezTo>
                <a:cubicBezTo>
                  <a:pt x="13641" y="7883"/>
                  <a:pt x="13656" y="7901"/>
                  <a:pt x="13717" y="7913"/>
                </a:cubicBezTo>
              </a:path>
              <a:path w="12503" h="2879">
                <a:moveTo>
                  <a:pt x="13469" y="7367"/>
                </a:moveTo>
                <a:cubicBezTo>
                  <a:pt x="13396" y="7460"/>
                  <a:pt x="13336" y="7529"/>
                  <a:pt x="13295" y="7640"/>
                </a:cubicBezTo>
                <a:cubicBezTo>
                  <a:pt x="13257" y="7742"/>
                  <a:pt x="13198" y="7858"/>
                  <a:pt x="13171" y="7962"/>
                </a:cubicBezTo>
                <a:cubicBezTo>
                  <a:pt x="13171" y="8012"/>
                  <a:pt x="13171" y="8029"/>
                  <a:pt x="13171" y="8062"/>
                </a:cubicBezTo>
              </a:path>
              <a:path w="12503" h="2879">
                <a:moveTo>
                  <a:pt x="13667" y="7193"/>
                </a:moveTo>
                <a:cubicBezTo>
                  <a:pt x="13715" y="7167"/>
                  <a:pt x="13840" y="7088"/>
                  <a:pt x="13816" y="7218"/>
                </a:cubicBezTo>
                <a:cubicBezTo>
                  <a:pt x="13794" y="7285"/>
                  <a:pt x="13793" y="7307"/>
                  <a:pt x="13742" y="7317"/>
                </a:cubicBezTo>
                <a:cubicBezTo>
                  <a:pt x="13862" y="7317"/>
                  <a:pt x="14064" y="7351"/>
                  <a:pt x="14163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7"/>
          <p:cNvSpPr/>
          <p:nvPr/>
        </p:nvSpPr>
        <p:spPr>
          <a:xfrm>
            <a:off x="571680" y="2973240"/>
            <a:ext cx="3179520" cy="920880"/>
          </a:xfrm>
          <a:custGeom>
            <a:avLst/>
            <a:gdLst/>
            <a:ahLst/>
            <a:rect l="l" t="t" r="r" b="b"/>
            <a:pathLst>
              <a:path w="8831" h="2556">
                <a:moveTo>
                  <a:pt x="1612" y="8558"/>
                </a:moveTo>
                <a:cubicBezTo>
                  <a:pt x="1612" y="8694"/>
                  <a:pt x="1598" y="8821"/>
                  <a:pt x="1588" y="8954"/>
                </a:cubicBezTo>
                <a:cubicBezTo>
                  <a:pt x="1580" y="9069"/>
                  <a:pt x="1588" y="9187"/>
                  <a:pt x="1588" y="9302"/>
                </a:cubicBezTo>
                <a:cubicBezTo>
                  <a:pt x="1614" y="9223"/>
                  <a:pt x="1629" y="9141"/>
                  <a:pt x="1687" y="9079"/>
                </a:cubicBezTo>
                <a:cubicBezTo>
                  <a:pt x="1727" y="9036"/>
                  <a:pt x="1820" y="8989"/>
                  <a:pt x="1885" y="9004"/>
                </a:cubicBezTo>
                <a:cubicBezTo>
                  <a:pt x="1943" y="9017"/>
                  <a:pt x="2011" y="9130"/>
                  <a:pt x="2034" y="9178"/>
                </a:cubicBezTo>
                <a:cubicBezTo>
                  <a:pt x="2074" y="9260"/>
                  <a:pt x="2068" y="9391"/>
                  <a:pt x="1984" y="9451"/>
                </a:cubicBezTo>
                <a:cubicBezTo>
                  <a:pt x="1907" y="9506"/>
                  <a:pt x="1705" y="9433"/>
                  <a:pt x="1662" y="9401"/>
                </a:cubicBezTo>
                <a:cubicBezTo>
                  <a:pt x="1645" y="9393"/>
                  <a:pt x="1629" y="9384"/>
                  <a:pt x="1612" y="9376"/>
                </a:cubicBezTo>
              </a:path>
              <a:path w="8831" h="2556">
                <a:moveTo>
                  <a:pt x="1786" y="8260"/>
                </a:moveTo>
                <a:cubicBezTo>
                  <a:pt x="2025" y="8340"/>
                  <a:pt x="2031" y="8372"/>
                  <a:pt x="2183" y="8558"/>
                </a:cubicBezTo>
                <a:cubicBezTo>
                  <a:pt x="2291" y="8690"/>
                  <a:pt x="2364" y="8774"/>
                  <a:pt x="2381" y="8954"/>
                </a:cubicBezTo>
                <a:cubicBezTo>
                  <a:pt x="2392" y="9067"/>
                  <a:pt x="2386" y="9198"/>
                  <a:pt x="2332" y="9302"/>
                </a:cubicBezTo>
                <a:cubicBezTo>
                  <a:pt x="2288" y="9387"/>
                  <a:pt x="2229" y="9421"/>
                  <a:pt x="2158" y="9475"/>
                </a:cubicBezTo>
                <a:cubicBezTo>
                  <a:pt x="2150" y="9483"/>
                  <a:pt x="2141" y="9492"/>
                  <a:pt x="2133" y="9500"/>
                </a:cubicBezTo>
              </a:path>
              <a:path w="8831" h="2556">
                <a:moveTo>
                  <a:pt x="3919" y="8334"/>
                </a:moveTo>
                <a:cubicBezTo>
                  <a:pt x="4000" y="8334"/>
                  <a:pt x="4005" y="8409"/>
                  <a:pt x="3994" y="8483"/>
                </a:cubicBezTo>
                <a:cubicBezTo>
                  <a:pt x="3982" y="8563"/>
                  <a:pt x="3947" y="8631"/>
                  <a:pt x="3944" y="8706"/>
                </a:cubicBezTo>
                <a:cubicBezTo>
                  <a:pt x="3937" y="8854"/>
                  <a:pt x="3944" y="9005"/>
                  <a:pt x="3944" y="9153"/>
                </a:cubicBezTo>
              </a:path>
              <a:path w="8831" h="2556">
                <a:moveTo>
                  <a:pt x="3473" y="9227"/>
                </a:moveTo>
                <a:cubicBezTo>
                  <a:pt x="3560" y="9227"/>
                  <a:pt x="3634" y="9250"/>
                  <a:pt x="3721" y="9252"/>
                </a:cubicBezTo>
                <a:cubicBezTo>
                  <a:pt x="3979" y="9259"/>
                  <a:pt x="4228" y="9237"/>
                  <a:pt x="4465" y="9302"/>
                </a:cubicBezTo>
                <a:cubicBezTo>
                  <a:pt x="4558" y="9328"/>
                  <a:pt x="4528" y="9291"/>
                  <a:pt x="4514" y="9227"/>
                </a:cubicBezTo>
              </a:path>
              <a:path w="8831" h="2556">
                <a:moveTo>
                  <a:pt x="3770" y="9674"/>
                </a:moveTo>
                <a:cubicBezTo>
                  <a:pt x="3858" y="9793"/>
                  <a:pt x="3913" y="9930"/>
                  <a:pt x="3994" y="10046"/>
                </a:cubicBezTo>
                <a:cubicBezTo>
                  <a:pt x="4061" y="10143"/>
                  <a:pt x="4194" y="10357"/>
                  <a:pt x="4291" y="10418"/>
                </a:cubicBezTo>
                <a:cubicBezTo>
                  <a:pt x="4341" y="10450"/>
                  <a:pt x="4383" y="10443"/>
                  <a:pt x="4440" y="10492"/>
                </a:cubicBezTo>
              </a:path>
              <a:path w="8831" h="2556">
                <a:moveTo>
                  <a:pt x="4167" y="9748"/>
                </a:moveTo>
                <a:cubicBezTo>
                  <a:pt x="4021" y="9901"/>
                  <a:pt x="3934" y="10022"/>
                  <a:pt x="3820" y="10195"/>
                </a:cubicBezTo>
                <a:cubicBezTo>
                  <a:pt x="3770" y="10271"/>
                  <a:pt x="3728" y="10289"/>
                  <a:pt x="3696" y="10368"/>
                </a:cubicBezTo>
                <a:cubicBezTo>
                  <a:pt x="3652" y="10477"/>
                  <a:pt x="3716" y="10404"/>
                  <a:pt x="3746" y="10368"/>
                </a:cubicBezTo>
              </a:path>
              <a:path w="8831" h="2556">
                <a:moveTo>
                  <a:pt x="5011" y="9451"/>
                </a:moveTo>
                <a:cubicBezTo>
                  <a:pt x="5147" y="9469"/>
                  <a:pt x="5271" y="9475"/>
                  <a:pt x="5407" y="9475"/>
                </a:cubicBezTo>
                <a:cubicBezTo>
                  <a:pt x="5432" y="9475"/>
                  <a:pt x="5457" y="9475"/>
                  <a:pt x="5482" y="9475"/>
                </a:cubicBezTo>
              </a:path>
              <a:path w="8831" h="2556">
                <a:moveTo>
                  <a:pt x="6127" y="8657"/>
                </a:moveTo>
                <a:cubicBezTo>
                  <a:pt x="6096" y="8748"/>
                  <a:pt x="6102" y="8832"/>
                  <a:pt x="6102" y="8930"/>
                </a:cubicBezTo>
                <a:cubicBezTo>
                  <a:pt x="6102" y="9033"/>
                  <a:pt x="6113" y="9127"/>
                  <a:pt x="6127" y="9227"/>
                </a:cubicBezTo>
                <a:cubicBezTo>
                  <a:pt x="6135" y="9277"/>
                  <a:pt x="6144" y="9326"/>
                  <a:pt x="6152" y="9376"/>
                </a:cubicBezTo>
              </a:path>
              <a:path w="8831" h="2556">
                <a:moveTo>
                  <a:pt x="5879" y="9550"/>
                </a:moveTo>
                <a:cubicBezTo>
                  <a:pt x="6081" y="9561"/>
                  <a:pt x="6250" y="9599"/>
                  <a:pt x="6449" y="9599"/>
                </a:cubicBezTo>
                <a:cubicBezTo>
                  <a:pt x="6474" y="9599"/>
                  <a:pt x="6499" y="9599"/>
                  <a:pt x="6524" y="9599"/>
                </a:cubicBezTo>
              </a:path>
              <a:path w="8831" h="2556">
                <a:moveTo>
                  <a:pt x="6102" y="9922"/>
                </a:moveTo>
                <a:cubicBezTo>
                  <a:pt x="6162" y="10125"/>
                  <a:pt x="6211" y="10203"/>
                  <a:pt x="6325" y="10368"/>
                </a:cubicBezTo>
                <a:cubicBezTo>
                  <a:pt x="6396" y="10472"/>
                  <a:pt x="6481" y="10547"/>
                  <a:pt x="6548" y="10641"/>
                </a:cubicBezTo>
              </a:path>
              <a:path w="8831" h="2556">
                <a:moveTo>
                  <a:pt x="6424" y="10071"/>
                </a:moveTo>
                <a:cubicBezTo>
                  <a:pt x="6333" y="10176"/>
                  <a:pt x="6232" y="10254"/>
                  <a:pt x="6152" y="10368"/>
                </a:cubicBezTo>
                <a:cubicBezTo>
                  <a:pt x="6088" y="10458"/>
                  <a:pt x="6096" y="10559"/>
                  <a:pt x="6052" y="10641"/>
                </a:cubicBezTo>
                <a:cubicBezTo>
                  <a:pt x="6010" y="10641"/>
                  <a:pt x="6007" y="10658"/>
                  <a:pt x="6052" y="10716"/>
                </a:cubicBezTo>
              </a:path>
              <a:path w="8831" h="2556">
                <a:moveTo>
                  <a:pt x="6697" y="9823"/>
                </a:moveTo>
                <a:cubicBezTo>
                  <a:pt x="6822" y="9903"/>
                  <a:pt x="6849" y="9894"/>
                  <a:pt x="6747" y="9996"/>
                </a:cubicBezTo>
                <a:cubicBezTo>
                  <a:pt x="6681" y="10063"/>
                  <a:pt x="6587" y="10067"/>
                  <a:pt x="6672" y="10195"/>
                </a:cubicBezTo>
                <a:cubicBezTo>
                  <a:pt x="6698" y="10235"/>
                  <a:pt x="6811" y="10284"/>
                  <a:pt x="6871" y="10294"/>
                </a:cubicBezTo>
                <a:cubicBezTo>
                  <a:pt x="6916" y="10294"/>
                  <a:pt x="6929" y="10298"/>
                  <a:pt x="6945" y="10269"/>
                </a:cubicBezTo>
              </a:path>
              <a:path w="8831" h="2556">
                <a:moveTo>
                  <a:pt x="3373" y="9748"/>
                </a:moveTo>
                <a:cubicBezTo>
                  <a:pt x="3417" y="9878"/>
                  <a:pt x="3449" y="10004"/>
                  <a:pt x="3522" y="10120"/>
                </a:cubicBezTo>
                <a:cubicBezTo>
                  <a:pt x="3582" y="10215"/>
                  <a:pt x="3638" y="10225"/>
                  <a:pt x="3721" y="10269"/>
                </a:cubicBezTo>
                <a:cubicBezTo>
                  <a:pt x="3729" y="10277"/>
                  <a:pt x="3738" y="10286"/>
                  <a:pt x="3746" y="10294"/>
                </a:cubicBezTo>
              </a:path>
              <a:path w="8831" h="2556">
                <a:moveTo>
                  <a:pt x="3572" y="9823"/>
                </a:moveTo>
                <a:cubicBezTo>
                  <a:pt x="3485" y="9953"/>
                  <a:pt x="3385" y="10106"/>
                  <a:pt x="3299" y="10220"/>
                </a:cubicBezTo>
                <a:cubicBezTo>
                  <a:pt x="3277" y="10263"/>
                  <a:pt x="3273" y="10275"/>
                  <a:pt x="3249" y="10294"/>
                </a:cubicBezTo>
              </a:path>
              <a:path w="8831" h="2556">
                <a:moveTo>
                  <a:pt x="3770" y="9922"/>
                </a:moveTo>
                <a:lnTo>
                  <a:pt x="3770" y="9922"/>
                </a:lnTo>
              </a:path>
              <a:path w="8831" h="2556">
                <a:moveTo>
                  <a:pt x="3324" y="8632"/>
                </a:moveTo>
                <a:cubicBezTo>
                  <a:pt x="3316" y="8632"/>
                  <a:pt x="3307" y="8632"/>
                  <a:pt x="3299" y="8632"/>
                </a:cubicBezTo>
              </a:path>
              <a:path w="8831" h="2556">
                <a:moveTo>
                  <a:pt x="2927" y="8483"/>
                </a:moveTo>
                <a:cubicBezTo>
                  <a:pt x="2974" y="8625"/>
                  <a:pt x="3010" y="8736"/>
                  <a:pt x="3101" y="8855"/>
                </a:cubicBezTo>
                <a:cubicBezTo>
                  <a:pt x="3142" y="8909"/>
                  <a:pt x="3201" y="8956"/>
                  <a:pt x="3249" y="9004"/>
                </a:cubicBezTo>
              </a:path>
              <a:path w="8831" h="2556">
                <a:moveTo>
                  <a:pt x="3200" y="8508"/>
                </a:moveTo>
                <a:cubicBezTo>
                  <a:pt x="3118" y="8609"/>
                  <a:pt x="3061" y="8676"/>
                  <a:pt x="3001" y="8781"/>
                </a:cubicBezTo>
                <a:cubicBezTo>
                  <a:pt x="2954" y="8863"/>
                  <a:pt x="2901" y="8908"/>
                  <a:pt x="2877" y="9004"/>
                </a:cubicBezTo>
                <a:cubicBezTo>
                  <a:pt x="2877" y="9012"/>
                  <a:pt x="2877" y="9021"/>
                  <a:pt x="2877" y="9029"/>
                </a:cubicBezTo>
              </a:path>
              <a:path w="8831" h="2556">
                <a:moveTo>
                  <a:pt x="7516" y="9227"/>
                </a:moveTo>
                <a:cubicBezTo>
                  <a:pt x="7606" y="9227"/>
                  <a:pt x="7679" y="9248"/>
                  <a:pt x="7764" y="9252"/>
                </a:cubicBezTo>
                <a:cubicBezTo>
                  <a:pt x="7789" y="9252"/>
                  <a:pt x="7813" y="9252"/>
                  <a:pt x="7838" y="9252"/>
                </a:cubicBezTo>
              </a:path>
              <a:path w="8831" h="2556">
                <a:moveTo>
                  <a:pt x="7541" y="9525"/>
                </a:moveTo>
                <a:cubicBezTo>
                  <a:pt x="7618" y="9554"/>
                  <a:pt x="7679" y="9550"/>
                  <a:pt x="7764" y="9550"/>
                </a:cubicBezTo>
                <a:cubicBezTo>
                  <a:pt x="7789" y="9550"/>
                  <a:pt x="7813" y="9550"/>
                  <a:pt x="7838" y="9550"/>
                </a:cubicBezTo>
              </a:path>
              <a:path w="8831" h="2556">
                <a:moveTo>
                  <a:pt x="8508" y="8657"/>
                </a:moveTo>
                <a:cubicBezTo>
                  <a:pt x="8546" y="8760"/>
                  <a:pt x="8596" y="8838"/>
                  <a:pt x="8657" y="8930"/>
                </a:cubicBezTo>
                <a:cubicBezTo>
                  <a:pt x="8723" y="9029"/>
                  <a:pt x="8828" y="9163"/>
                  <a:pt x="8930" y="9227"/>
                </a:cubicBezTo>
                <a:cubicBezTo>
                  <a:pt x="9002" y="9251"/>
                  <a:pt x="9025" y="9258"/>
                  <a:pt x="9054" y="9302"/>
                </a:cubicBezTo>
              </a:path>
              <a:path w="8831" h="2556">
                <a:moveTo>
                  <a:pt x="8905" y="8731"/>
                </a:moveTo>
                <a:cubicBezTo>
                  <a:pt x="8802" y="8870"/>
                  <a:pt x="8701" y="8998"/>
                  <a:pt x="8632" y="9153"/>
                </a:cubicBezTo>
                <a:cubicBezTo>
                  <a:pt x="8598" y="9229"/>
                  <a:pt x="8560" y="9262"/>
                  <a:pt x="8508" y="9327"/>
                </a:cubicBezTo>
              </a:path>
              <a:path w="8831" h="2556">
                <a:moveTo>
                  <a:pt x="9054" y="9079"/>
                </a:moveTo>
                <a:cubicBezTo>
                  <a:pt x="9203" y="9079"/>
                  <a:pt x="9334" y="9107"/>
                  <a:pt x="9451" y="9029"/>
                </a:cubicBezTo>
              </a:path>
              <a:path w="8831" h="2556">
                <a:moveTo>
                  <a:pt x="9748" y="8558"/>
                </a:moveTo>
                <a:cubicBezTo>
                  <a:pt x="9722" y="8660"/>
                  <a:pt x="9723" y="8749"/>
                  <a:pt x="9723" y="8855"/>
                </a:cubicBezTo>
                <a:cubicBezTo>
                  <a:pt x="9723" y="8957"/>
                  <a:pt x="9748" y="9049"/>
                  <a:pt x="9748" y="9153"/>
                </a:cubicBezTo>
                <a:cubicBezTo>
                  <a:pt x="9748" y="9178"/>
                  <a:pt x="9748" y="9202"/>
                  <a:pt x="9748" y="9227"/>
                </a:cubicBezTo>
              </a:path>
              <a:path w="8831" h="2556">
                <a:moveTo>
                  <a:pt x="8458" y="9451"/>
                </a:moveTo>
                <a:cubicBezTo>
                  <a:pt x="8946" y="9451"/>
                  <a:pt x="9513" y="9521"/>
                  <a:pt x="9971" y="9401"/>
                </a:cubicBezTo>
                <a:cubicBezTo>
                  <a:pt x="10023" y="9401"/>
                  <a:pt x="10041" y="9400"/>
                  <a:pt x="10071" y="9376"/>
                </a:cubicBezTo>
              </a:path>
              <a:path w="8831" h="2556">
                <a:moveTo>
                  <a:pt x="9103" y="9996"/>
                </a:moveTo>
                <a:cubicBezTo>
                  <a:pt x="9171" y="10224"/>
                  <a:pt x="9207" y="10249"/>
                  <a:pt x="9351" y="10418"/>
                </a:cubicBezTo>
                <a:cubicBezTo>
                  <a:pt x="9445" y="10529"/>
                  <a:pt x="9556" y="10630"/>
                  <a:pt x="9674" y="10716"/>
                </a:cubicBezTo>
                <a:cubicBezTo>
                  <a:pt x="9690" y="10724"/>
                  <a:pt x="9707" y="10732"/>
                  <a:pt x="9723" y="10740"/>
                </a:cubicBezTo>
              </a:path>
              <a:path w="8831" h="2556">
                <a:moveTo>
                  <a:pt x="9525" y="9897"/>
                </a:moveTo>
                <a:cubicBezTo>
                  <a:pt x="9431" y="10014"/>
                  <a:pt x="9419" y="10040"/>
                  <a:pt x="9376" y="10195"/>
                </a:cubicBezTo>
                <a:cubicBezTo>
                  <a:pt x="9348" y="10298"/>
                  <a:pt x="9287" y="10389"/>
                  <a:pt x="9252" y="10492"/>
                </a:cubicBezTo>
                <a:cubicBezTo>
                  <a:pt x="9222" y="10580"/>
                  <a:pt x="9204" y="10686"/>
                  <a:pt x="9153" y="10765"/>
                </a:cubicBezTo>
                <a:cubicBezTo>
                  <a:pt x="9128" y="10790"/>
                  <a:pt x="9120" y="10798"/>
                  <a:pt x="9103" y="10815"/>
                </a:cubicBezTo>
              </a:path>
              <a:path w="8831" h="2556">
                <a:moveTo>
                  <a:pt x="9699" y="9823"/>
                </a:moveTo>
                <a:cubicBezTo>
                  <a:pt x="9780" y="9823"/>
                  <a:pt x="9991" y="9790"/>
                  <a:pt x="10021" y="9897"/>
                </a:cubicBezTo>
                <a:cubicBezTo>
                  <a:pt x="10042" y="9973"/>
                  <a:pt x="9988" y="10013"/>
                  <a:pt x="9947" y="10046"/>
                </a:cubicBezTo>
                <a:cubicBezTo>
                  <a:pt x="9893" y="10088"/>
                  <a:pt x="10050" y="10046"/>
                  <a:pt x="10120" y="10046"/>
                </a:cubicBezTo>
                <a:cubicBezTo>
                  <a:pt x="10219" y="10046"/>
                  <a:pt x="10319" y="10046"/>
                  <a:pt x="10418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8"/>
          <p:cNvSpPr/>
          <p:nvPr/>
        </p:nvSpPr>
        <p:spPr>
          <a:xfrm>
            <a:off x="660240" y="3983040"/>
            <a:ext cx="285840" cy="482760"/>
          </a:xfrm>
          <a:custGeom>
            <a:avLst/>
            <a:gdLst/>
            <a:ahLst/>
            <a:rect l="l" t="t" r="r" b="b"/>
            <a:pathLst>
              <a:path w="794" h="1340">
                <a:moveTo>
                  <a:pt x="2381" y="11609"/>
                </a:moveTo>
                <a:cubicBezTo>
                  <a:pt x="2373" y="11642"/>
                  <a:pt x="2364" y="11675"/>
                  <a:pt x="2356" y="11708"/>
                </a:cubicBezTo>
                <a:cubicBezTo>
                  <a:pt x="2321" y="11658"/>
                  <a:pt x="2290" y="11539"/>
                  <a:pt x="2232" y="11509"/>
                </a:cubicBezTo>
                <a:cubicBezTo>
                  <a:pt x="2166" y="11475"/>
                  <a:pt x="2064" y="11474"/>
                  <a:pt x="2009" y="11534"/>
                </a:cubicBezTo>
                <a:cubicBezTo>
                  <a:pt x="1920" y="11630"/>
                  <a:pt x="1886" y="11716"/>
                  <a:pt x="1860" y="11832"/>
                </a:cubicBezTo>
                <a:cubicBezTo>
                  <a:pt x="1837" y="11933"/>
                  <a:pt x="1855" y="12012"/>
                  <a:pt x="1910" y="12105"/>
                </a:cubicBezTo>
                <a:cubicBezTo>
                  <a:pt x="1946" y="12167"/>
                  <a:pt x="2052" y="12260"/>
                  <a:pt x="2133" y="12254"/>
                </a:cubicBezTo>
                <a:cubicBezTo>
                  <a:pt x="2163" y="12224"/>
                  <a:pt x="2177" y="12213"/>
                  <a:pt x="2208" y="12204"/>
                </a:cubicBezTo>
              </a:path>
              <a:path w="794" h="1340">
                <a:moveTo>
                  <a:pt x="2158" y="11063"/>
                </a:moveTo>
                <a:cubicBezTo>
                  <a:pt x="2346" y="11216"/>
                  <a:pt x="2451" y="11316"/>
                  <a:pt x="2555" y="11534"/>
                </a:cubicBezTo>
                <a:cubicBezTo>
                  <a:pt x="2641" y="11714"/>
                  <a:pt x="2652" y="11919"/>
                  <a:pt x="2580" y="12105"/>
                </a:cubicBezTo>
                <a:cubicBezTo>
                  <a:pt x="2545" y="12195"/>
                  <a:pt x="2497" y="12327"/>
                  <a:pt x="2406" y="12378"/>
                </a:cubicBezTo>
                <a:cubicBezTo>
                  <a:pt x="2333" y="12402"/>
                  <a:pt x="2309" y="12410"/>
                  <a:pt x="2257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9"/>
          <p:cNvSpPr/>
          <p:nvPr/>
        </p:nvSpPr>
        <p:spPr>
          <a:xfrm>
            <a:off x="1241280" y="4027320"/>
            <a:ext cx="1643040" cy="758880"/>
          </a:xfrm>
          <a:custGeom>
            <a:avLst/>
            <a:gdLst/>
            <a:ahLst/>
            <a:rect l="l" t="t" r="r" b="b"/>
            <a:pathLst>
              <a:path w="4565" h="2109">
                <a:moveTo>
                  <a:pt x="3770" y="11187"/>
                </a:moveTo>
                <a:cubicBezTo>
                  <a:pt x="3770" y="11358"/>
                  <a:pt x="3772" y="11517"/>
                  <a:pt x="3795" y="11683"/>
                </a:cubicBezTo>
                <a:cubicBezTo>
                  <a:pt x="3795" y="11728"/>
                  <a:pt x="3791" y="11741"/>
                  <a:pt x="3820" y="11757"/>
                </a:cubicBezTo>
              </a:path>
              <a:path w="4565" h="2109">
                <a:moveTo>
                  <a:pt x="3448" y="11881"/>
                </a:moveTo>
                <a:cubicBezTo>
                  <a:pt x="3582" y="11881"/>
                  <a:pt x="3711" y="11902"/>
                  <a:pt x="3845" y="11906"/>
                </a:cubicBezTo>
                <a:cubicBezTo>
                  <a:pt x="3968" y="11909"/>
                  <a:pt x="4103" y="11924"/>
                  <a:pt x="4217" y="11881"/>
                </a:cubicBezTo>
              </a:path>
              <a:path w="4565" h="2109">
                <a:moveTo>
                  <a:pt x="3795" y="12303"/>
                </a:moveTo>
                <a:cubicBezTo>
                  <a:pt x="3888" y="12529"/>
                  <a:pt x="3929" y="12634"/>
                  <a:pt x="4093" y="12799"/>
                </a:cubicBezTo>
                <a:cubicBezTo>
                  <a:pt x="4180" y="12887"/>
                  <a:pt x="4180" y="12903"/>
                  <a:pt x="4291" y="12923"/>
                </a:cubicBezTo>
              </a:path>
              <a:path w="4565" h="2109">
                <a:moveTo>
                  <a:pt x="4118" y="12204"/>
                </a:moveTo>
                <a:cubicBezTo>
                  <a:pt x="4046" y="12302"/>
                  <a:pt x="3962" y="12412"/>
                  <a:pt x="3919" y="12526"/>
                </a:cubicBezTo>
                <a:cubicBezTo>
                  <a:pt x="3882" y="12624"/>
                  <a:pt x="3854" y="12732"/>
                  <a:pt x="3820" y="12824"/>
                </a:cubicBezTo>
                <a:cubicBezTo>
                  <a:pt x="3800" y="12878"/>
                  <a:pt x="3757" y="12920"/>
                  <a:pt x="3820" y="12898"/>
                </a:cubicBezTo>
              </a:path>
              <a:path w="4565" h="2109">
                <a:moveTo>
                  <a:pt x="4589" y="11956"/>
                </a:moveTo>
                <a:cubicBezTo>
                  <a:pt x="4614" y="11931"/>
                  <a:pt x="4638" y="11906"/>
                  <a:pt x="4663" y="11881"/>
                </a:cubicBezTo>
              </a:path>
              <a:path w="4565" h="2109">
                <a:moveTo>
                  <a:pt x="5234" y="11261"/>
                </a:moveTo>
                <a:cubicBezTo>
                  <a:pt x="5234" y="11343"/>
                  <a:pt x="5212" y="11404"/>
                  <a:pt x="5209" y="11485"/>
                </a:cubicBezTo>
                <a:cubicBezTo>
                  <a:pt x="5203" y="11641"/>
                  <a:pt x="5209" y="11799"/>
                  <a:pt x="5209" y="11956"/>
                </a:cubicBezTo>
              </a:path>
              <a:path w="4565" h="2109">
                <a:moveTo>
                  <a:pt x="5060" y="12005"/>
                </a:moveTo>
                <a:cubicBezTo>
                  <a:pt x="5234" y="12005"/>
                  <a:pt x="5407" y="12005"/>
                  <a:pt x="5581" y="12005"/>
                </a:cubicBezTo>
              </a:path>
              <a:path w="4565" h="2109">
                <a:moveTo>
                  <a:pt x="5234" y="12378"/>
                </a:moveTo>
                <a:cubicBezTo>
                  <a:pt x="5354" y="12593"/>
                  <a:pt x="5441" y="12774"/>
                  <a:pt x="5606" y="12948"/>
                </a:cubicBezTo>
                <a:cubicBezTo>
                  <a:pt x="5652" y="12995"/>
                  <a:pt x="5664" y="13009"/>
                  <a:pt x="5705" y="13022"/>
                </a:cubicBezTo>
              </a:path>
              <a:path w="4565" h="2109">
                <a:moveTo>
                  <a:pt x="5531" y="12402"/>
                </a:moveTo>
                <a:cubicBezTo>
                  <a:pt x="5460" y="12519"/>
                  <a:pt x="5395" y="12618"/>
                  <a:pt x="5358" y="12750"/>
                </a:cubicBezTo>
                <a:cubicBezTo>
                  <a:pt x="5332" y="12842"/>
                  <a:pt x="5290" y="12927"/>
                  <a:pt x="5283" y="13022"/>
                </a:cubicBezTo>
                <a:cubicBezTo>
                  <a:pt x="5283" y="13030"/>
                  <a:pt x="5283" y="13039"/>
                  <a:pt x="5283" y="13047"/>
                </a:cubicBezTo>
              </a:path>
              <a:path w="4565" h="2109">
                <a:moveTo>
                  <a:pt x="5730" y="12204"/>
                </a:moveTo>
                <a:cubicBezTo>
                  <a:pt x="5811" y="12204"/>
                  <a:pt x="5927" y="12176"/>
                  <a:pt x="5879" y="12278"/>
                </a:cubicBezTo>
                <a:cubicBezTo>
                  <a:pt x="5872" y="12293"/>
                  <a:pt x="5779" y="12393"/>
                  <a:pt x="5779" y="12402"/>
                </a:cubicBezTo>
                <a:cubicBezTo>
                  <a:pt x="5785" y="12517"/>
                  <a:pt x="5903" y="12520"/>
                  <a:pt x="5978" y="12502"/>
                </a:cubicBezTo>
              </a:path>
              <a:path w="4565" h="2109">
                <a:moveTo>
                  <a:pt x="6276" y="12005"/>
                </a:moveTo>
                <a:cubicBezTo>
                  <a:pt x="6387" y="12014"/>
                  <a:pt x="6363" y="11992"/>
                  <a:pt x="6424" y="12055"/>
                </a:cubicBezTo>
              </a:path>
              <a:path w="4565" h="2109">
                <a:moveTo>
                  <a:pt x="6226" y="12204"/>
                </a:moveTo>
                <a:cubicBezTo>
                  <a:pt x="6376" y="12269"/>
                  <a:pt x="6403" y="12255"/>
                  <a:pt x="6573" y="12229"/>
                </a:cubicBezTo>
              </a:path>
              <a:path w="4565" h="2109">
                <a:moveTo>
                  <a:pt x="7119" y="11460"/>
                </a:moveTo>
                <a:cubicBezTo>
                  <a:pt x="7148" y="11536"/>
                  <a:pt x="7158" y="11626"/>
                  <a:pt x="7169" y="11708"/>
                </a:cubicBezTo>
                <a:cubicBezTo>
                  <a:pt x="7182" y="11803"/>
                  <a:pt x="7170" y="11886"/>
                  <a:pt x="7193" y="11981"/>
                </a:cubicBezTo>
              </a:path>
              <a:path w="4565" h="2109">
                <a:moveTo>
                  <a:pt x="6970" y="12030"/>
                </a:moveTo>
                <a:cubicBezTo>
                  <a:pt x="7153" y="12036"/>
                  <a:pt x="7312" y="12065"/>
                  <a:pt x="7491" y="12080"/>
                </a:cubicBezTo>
                <a:cubicBezTo>
                  <a:pt x="7605" y="12089"/>
                  <a:pt x="7708" y="12072"/>
                  <a:pt x="7813" y="12055"/>
                </a:cubicBezTo>
                <a:cubicBezTo>
                  <a:pt x="7855" y="12055"/>
                  <a:pt x="7863" y="12055"/>
                  <a:pt x="7888" y="12055"/>
                </a:cubicBezTo>
              </a:path>
              <a:path w="4565" h="2109">
                <a:moveTo>
                  <a:pt x="7144" y="12353"/>
                </a:moveTo>
                <a:cubicBezTo>
                  <a:pt x="7175" y="12502"/>
                  <a:pt x="7203" y="12636"/>
                  <a:pt x="7268" y="12774"/>
                </a:cubicBezTo>
                <a:cubicBezTo>
                  <a:pt x="7340" y="12929"/>
                  <a:pt x="7397" y="13047"/>
                  <a:pt x="7516" y="13171"/>
                </a:cubicBezTo>
                <a:cubicBezTo>
                  <a:pt x="7582" y="13238"/>
                  <a:pt x="7598" y="13254"/>
                  <a:pt x="7640" y="13295"/>
                </a:cubicBezTo>
              </a:path>
              <a:path w="4565" h="2109">
                <a:moveTo>
                  <a:pt x="7590" y="12477"/>
                </a:moveTo>
                <a:cubicBezTo>
                  <a:pt x="7429" y="12595"/>
                  <a:pt x="7395" y="12650"/>
                  <a:pt x="7293" y="12824"/>
                </a:cubicBezTo>
                <a:cubicBezTo>
                  <a:pt x="7230" y="12931"/>
                  <a:pt x="7223" y="13008"/>
                  <a:pt x="7193" y="13122"/>
                </a:cubicBezTo>
                <a:cubicBezTo>
                  <a:pt x="7182" y="13164"/>
                  <a:pt x="7135" y="13235"/>
                  <a:pt x="7119" y="13246"/>
                </a:cubicBezTo>
              </a:path>
              <a:path w="4565" h="2109">
                <a:moveTo>
                  <a:pt x="7838" y="12378"/>
                </a:moveTo>
                <a:cubicBezTo>
                  <a:pt x="7886" y="12390"/>
                  <a:pt x="8047" y="12399"/>
                  <a:pt x="8012" y="12502"/>
                </a:cubicBezTo>
                <a:cubicBezTo>
                  <a:pt x="8002" y="12533"/>
                  <a:pt x="7939" y="12536"/>
                  <a:pt x="7913" y="12551"/>
                </a:cubicBezTo>
                <a:cubicBezTo>
                  <a:pt x="7944" y="12582"/>
                  <a:pt x="8001" y="12635"/>
                  <a:pt x="8012" y="12675"/>
                </a:cubicBezTo>
                <a:cubicBezTo>
                  <a:pt x="8012" y="12725"/>
                  <a:pt x="8012" y="12741"/>
                  <a:pt x="8012" y="12774"/>
                </a:cubicBezTo>
                <a:cubicBezTo>
                  <a:pt x="7916" y="12774"/>
                  <a:pt x="7853" y="12763"/>
                  <a:pt x="7764" y="12725"/>
                </a:cubicBezTo>
                <a:cubicBezTo>
                  <a:pt x="7747" y="12717"/>
                  <a:pt x="7731" y="12708"/>
                  <a:pt x="7714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10"/>
          <p:cNvSpPr/>
          <p:nvPr/>
        </p:nvSpPr>
        <p:spPr>
          <a:xfrm>
            <a:off x="723960" y="4633920"/>
            <a:ext cx="3143160" cy="1162080"/>
          </a:xfrm>
          <a:custGeom>
            <a:avLst/>
            <a:gdLst/>
            <a:ahLst/>
            <a:rect l="l" t="t" r="r" b="b"/>
            <a:pathLst>
              <a:path w="8732" h="3225">
                <a:moveTo>
                  <a:pt x="2282" y="13246"/>
                </a:moveTo>
                <a:cubicBezTo>
                  <a:pt x="2358" y="13216"/>
                  <a:pt x="2377" y="13263"/>
                  <a:pt x="2381" y="13345"/>
                </a:cubicBezTo>
                <a:cubicBezTo>
                  <a:pt x="2387" y="13485"/>
                  <a:pt x="2392" y="13631"/>
                  <a:pt x="2356" y="13767"/>
                </a:cubicBezTo>
                <a:cubicBezTo>
                  <a:pt x="2331" y="13864"/>
                  <a:pt x="2333" y="13969"/>
                  <a:pt x="2307" y="14064"/>
                </a:cubicBezTo>
                <a:cubicBezTo>
                  <a:pt x="2291" y="14123"/>
                  <a:pt x="2282" y="14149"/>
                  <a:pt x="2282" y="14213"/>
                </a:cubicBezTo>
                <a:cubicBezTo>
                  <a:pt x="2274" y="14153"/>
                  <a:pt x="2273" y="14074"/>
                  <a:pt x="2257" y="14015"/>
                </a:cubicBezTo>
                <a:cubicBezTo>
                  <a:pt x="2236" y="13939"/>
                  <a:pt x="2217" y="13858"/>
                  <a:pt x="2133" y="13816"/>
                </a:cubicBezTo>
                <a:cubicBezTo>
                  <a:pt x="2037" y="13768"/>
                  <a:pt x="2012" y="13846"/>
                  <a:pt x="2009" y="13915"/>
                </a:cubicBezTo>
                <a:cubicBezTo>
                  <a:pt x="2005" y="14003"/>
                  <a:pt x="2042" y="14106"/>
                  <a:pt x="2108" y="14163"/>
                </a:cubicBezTo>
                <a:cubicBezTo>
                  <a:pt x="2182" y="14227"/>
                  <a:pt x="2218" y="14230"/>
                  <a:pt x="2307" y="14238"/>
                </a:cubicBezTo>
              </a:path>
              <a:path w="8732" h="3225">
                <a:moveTo>
                  <a:pt x="2356" y="12874"/>
                </a:moveTo>
                <a:cubicBezTo>
                  <a:pt x="2446" y="13019"/>
                  <a:pt x="2522" y="13159"/>
                  <a:pt x="2580" y="13320"/>
                </a:cubicBezTo>
                <a:cubicBezTo>
                  <a:pt x="2648" y="13512"/>
                  <a:pt x="2714" y="13710"/>
                  <a:pt x="2729" y="13915"/>
                </a:cubicBezTo>
                <a:cubicBezTo>
                  <a:pt x="2739" y="14043"/>
                  <a:pt x="2725" y="14247"/>
                  <a:pt x="2654" y="14362"/>
                </a:cubicBezTo>
                <a:cubicBezTo>
                  <a:pt x="2619" y="14420"/>
                  <a:pt x="2541" y="14474"/>
                  <a:pt x="2480" y="14412"/>
                </a:cubicBezTo>
                <a:cubicBezTo>
                  <a:pt x="2431" y="14363"/>
                  <a:pt x="2462" y="14313"/>
                  <a:pt x="2480" y="14263"/>
                </a:cubicBezTo>
              </a:path>
              <a:path w="8732" h="3225">
                <a:moveTo>
                  <a:pt x="3398" y="13345"/>
                </a:moveTo>
                <a:cubicBezTo>
                  <a:pt x="3415" y="13503"/>
                  <a:pt x="3432" y="13660"/>
                  <a:pt x="3448" y="13816"/>
                </a:cubicBezTo>
                <a:cubicBezTo>
                  <a:pt x="3456" y="13893"/>
                  <a:pt x="3466" y="13962"/>
                  <a:pt x="3473" y="14039"/>
                </a:cubicBezTo>
              </a:path>
              <a:path w="8732" h="3225">
                <a:moveTo>
                  <a:pt x="3101" y="14139"/>
                </a:moveTo>
                <a:cubicBezTo>
                  <a:pt x="3253" y="14139"/>
                  <a:pt x="3397" y="14159"/>
                  <a:pt x="3547" y="14163"/>
                </a:cubicBezTo>
                <a:cubicBezTo>
                  <a:pt x="3653" y="14166"/>
                  <a:pt x="3743" y="14150"/>
                  <a:pt x="3845" y="14139"/>
                </a:cubicBezTo>
              </a:path>
              <a:path w="8732" h="3225">
                <a:moveTo>
                  <a:pt x="3398" y="14610"/>
                </a:moveTo>
                <a:cubicBezTo>
                  <a:pt x="3463" y="14781"/>
                  <a:pt x="3521" y="14975"/>
                  <a:pt x="3621" y="15131"/>
                </a:cubicBezTo>
                <a:cubicBezTo>
                  <a:pt x="3703" y="15239"/>
                  <a:pt x="3737" y="15279"/>
                  <a:pt x="3820" y="15329"/>
                </a:cubicBezTo>
              </a:path>
              <a:path w="8732" h="3225">
                <a:moveTo>
                  <a:pt x="3770" y="14536"/>
                </a:moveTo>
                <a:cubicBezTo>
                  <a:pt x="3685" y="14642"/>
                  <a:pt x="3589" y="14739"/>
                  <a:pt x="3522" y="14858"/>
                </a:cubicBezTo>
                <a:cubicBezTo>
                  <a:pt x="3472" y="14947"/>
                  <a:pt x="3395" y="15055"/>
                  <a:pt x="3373" y="15156"/>
                </a:cubicBezTo>
                <a:cubicBezTo>
                  <a:pt x="3373" y="15172"/>
                  <a:pt x="3373" y="15189"/>
                  <a:pt x="3373" y="15205"/>
                </a:cubicBezTo>
              </a:path>
              <a:path w="8732" h="3225">
                <a:moveTo>
                  <a:pt x="4316" y="13915"/>
                </a:moveTo>
                <a:cubicBezTo>
                  <a:pt x="4341" y="13891"/>
                  <a:pt x="4349" y="13883"/>
                  <a:pt x="4366" y="13915"/>
                </a:cubicBezTo>
              </a:path>
              <a:path w="8732" h="3225">
                <a:moveTo>
                  <a:pt x="4316" y="14560"/>
                </a:moveTo>
                <a:cubicBezTo>
                  <a:pt x="4333" y="14601"/>
                  <a:pt x="4349" y="14643"/>
                  <a:pt x="4366" y="14684"/>
                </a:cubicBezTo>
              </a:path>
              <a:path w="8732" h="3225">
                <a:moveTo>
                  <a:pt x="4167" y="14263"/>
                </a:moveTo>
                <a:cubicBezTo>
                  <a:pt x="4279" y="14300"/>
                  <a:pt x="4374" y="14324"/>
                  <a:pt x="4490" y="14337"/>
                </a:cubicBezTo>
              </a:path>
              <a:path w="8732" h="3225">
                <a:moveTo>
                  <a:pt x="5060" y="13568"/>
                </a:moveTo>
                <a:cubicBezTo>
                  <a:pt x="5067" y="13744"/>
                  <a:pt x="5054" y="13941"/>
                  <a:pt x="5085" y="14114"/>
                </a:cubicBezTo>
                <a:cubicBezTo>
                  <a:pt x="5110" y="14187"/>
                  <a:pt x="5118" y="14211"/>
                  <a:pt x="5110" y="14263"/>
                </a:cubicBezTo>
              </a:path>
              <a:path w="8732" h="3225">
                <a:moveTo>
                  <a:pt x="4887" y="14387"/>
                </a:moveTo>
                <a:cubicBezTo>
                  <a:pt x="5001" y="14407"/>
                  <a:pt x="5094" y="14412"/>
                  <a:pt x="5209" y="14412"/>
                </a:cubicBezTo>
                <a:cubicBezTo>
                  <a:pt x="5317" y="14412"/>
                  <a:pt x="5364" y="14384"/>
                  <a:pt x="5457" y="14337"/>
                </a:cubicBezTo>
              </a:path>
              <a:path w="8732" h="3225">
                <a:moveTo>
                  <a:pt x="4986" y="14684"/>
                </a:moveTo>
                <a:cubicBezTo>
                  <a:pt x="5068" y="14834"/>
                  <a:pt x="5152" y="15041"/>
                  <a:pt x="5259" y="15180"/>
                </a:cubicBezTo>
                <a:cubicBezTo>
                  <a:pt x="5329" y="15251"/>
                  <a:pt x="5351" y="15272"/>
                  <a:pt x="5383" y="15329"/>
                </a:cubicBezTo>
              </a:path>
              <a:path w="8732" h="3225">
                <a:moveTo>
                  <a:pt x="5308" y="14709"/>
                </a:moveTo>
                <a:cubicBezTo>
                  <a:pt x="5212" y="14812"/>
                  <a:pt x="5142" y="14904"/>
                  <a:pt x="5085" y="15032"/>
                </a:cubicBezTo>
                <a:cubicBezTo>
                  <a:pt x="5046" y="15120"/>
                  <a:pt x="5022" y="15221"/>
                  <a:pt x="4986" y="15304"/>
                </a:cubicBezTo>
                <a:cubicBezTo>
                  <a:pt x="4978" y="15312"/>
                  <a:pt x="4969" y="15321"/>
                  <a:pt x="4961" y="15329"/>
                </a:cubicBezTo>
              </a:path>
              <a:path w="8732" h="3225">
                <a:moveTo>
                  <a:pt x="5432" y="14635"/>
                </a:moveTo>
                <a:cubicBezTo>
                  <a:pt x="5457" y="14627"/>
                  <a:pt x="5704" y="14508"/>
                  <a:pt x="5655" y="14660"/>
                </a:cubicBezTo>
                <a:cubicBezTo>
                  <a:pt x="5634" y="14726"/>
                  <a:pt x="5550" y="14713"/>
                  <a:pt x="5556" y="14808"/>
                </a:cubicBezTo>
                <a:cubicBezTo>
                  <a:pt x="5560" y="14870"/>
                  <a:pt x="5609" y="14918"/>
                  <a:pt x="5655" y="14957"/>
                </a:cubicBezTo>
                <a:cubicBezTo>
                  <a:pt x="5685" y="14987"/>
                  <a:pt x="5699" y="14998"/>
                  <a:pt x="5730" y="15007"/>
                </a:cubicBezTo>
              </a:path>
              <a:path w="8732" h="3225">
                <a:moveTo>
                  <a:pt x="6077" y="14312"/>
                </a:moveTo>
                <a:cubicBezTo>
                  <a:pt x="6177" y="14323"/>
                  <a:pt x="6282" y="14352"/>
                  <a:pt x="6375" y="14387"/>
                </a:cubicBezTo>
              </a:path>
              <a:path w="8732" h="3225">
                <a:moveTo>
                  <a:pt x="6176" y="14610"/>
                </a:moveTo>
                <a:cubicBezTo>
                  <a:pt x="6234" y="14627"/>
                  <a:pt x="6292" y="14643"/>
                  <a:pt x="6350" y="14660"/>
                </a:cubicBezTo>
              </a:path>
              <a:path w="8732" h="3225">
                <a:moveTo>
                  <a:pt x="6921" y="13717"/>
                </a:moveTo>
                <a:cubicBezTo>
                  <a:pt x="6938" y="13855"/>
                  <a:pt x="6943" y="14005"/>
                  <a:pt x="6970" y="14139"/>
                </a:cubicBezTo>
                <a:cubicBezTo>
                  <a:pt x="6999" y="14281"/>
                  <a:pt x="7018" y="14419"/>
                  <a:pt x="7045" y="14560"/>
                </a:cubicBezTo>
              </a:path>
              <a:path w="8732" h="3225">
                <a:moveTo>
                  <a:pt x="6772" y="14734"/>
                </a:moveTo>
                <a:cubicBezTo>
                  <a:pt x="6874" y="14752"/>
                  <a:pt x="6993" y="14777"/>
                  <a:pt x="7094" y="14784"/>
                </a:cubicBezTo>
                <a:cubicBezTo>
                  <a:pt x="7184" y="14790"/>
                  <a:pt x="7335" y="14786"/>
                  <a:pt x="7417" y="14734"/>
                </a:cubicBezTo>
                <a:cubicBezTo>
                  <a:pt x="7425" y="14726"/>
                  <a:pt x="7433" y="14717"/>
                  <a:pt x="7441" y="14709"/>
                </a:cubicBezTo>
              </a:path>
              <a:path w="8732" h="3225">
                <a:moveTo>
                  <a:pt x="6921" y="15081"/>
                </a:moveTo>
                <a:cubicBezTo>
                  <a:pt x="6988" y="15222"/>
                  <a:pt x="7028" y="15364"/>
                  <a:pt x="7094" y="15503"/>
                </a:cubicBezTo>
                <a:cubicBezTo>
                  <a:pt x="7143" y="15607"/>
                  <a:pt x="7191" y="15668"/>
                  <a:pt x="7268" y="15751"/>
                </a:cubicBezTo>
              </a:path>
              <a:path w="8732" h="3225">
                <a:moveTo>
                  <a:pt x="7317" y="14883"/>
                </a:moveTo>
                <a:cubicBezTo>
                  <a:pt x="7260" y="14946"/>
                  <a:pt x="7161" y="15032"/>
                  <a:pt x="7119" y="15106"/>
                </a:cubicBezTo>
                <a:cubicBezTo>
                  <a:pt x="7061" y="15207"/>
                  <a:pt x="7018" y="15322"/>
                  <a:pt x="6970" y="15429"/>
                </a:cubicBezTo>
                <a:cubicBezTo>
                  <a:pt x="6932" y="15514"/>
                  <a:pt x="6907" y="15623"/>
                  <a:pt x="6871" y="15701"/>
                </a:cubicBezTo>
                <a:cubicBezTo>
                  <a:pt x="6846" y="15726"/>
                  <a:pt x="6838" y="15734"/>
                  <a:pt x="6871" y="15751"/>
                </a:cubicBezTo>
              </a:path>
              <a:path w="8732" h="3225">
                <a:moveTo>
                  <a:pt x="7739" y="14560"/>
                </a:moveTo>
                <a:cubicBezTo>
                  <a:pt x="7739" y="14631"/>
                  <a:pt x="7716" y="14732"/>
                  <a:pt x="7813" y="14684"/>
                </a:cubicBezTo>
                <a:cubicBezTo>
                  <a:pt x="7890" y="14646"/>
                  <a:pt x="7820" y="14551"/>
                  <a:pt x="7789" y="14511"/>
                </a:cubicBezTo>
                <a:cubicBezTo>
                  <a:pt x="7764" y="14536"/>
                  <a:pt x="7680" y="14652"/>
                  <a:pt x="7764" y="14684"/>
                </a:cubicBezTo>
                <a:cubicBezTo>
                  <a:pt x="7780" y="14684"/>
                  <a:pt x="7797" y="14684"/>
                  <a:pt x="7813" y="14684"/>
                </a:cubicBezTo>
                <a:cubicBezTo>
                  <a:pt x="7819" y="14642"/>
                  <a:pt x="7855" y="14579"/>
                  <a:pt x="7789" y="14560"/>
                </a:cubicBezTo>
                <a:cubicBezTo>
                  <a:pt x="7696" y="14533"/>
                  <a:pt x="7734" y="14695"/>
                  <a:pt x="7764" y="14635"/>
                </a:cubicBezTo>
                <a:cubicBezTo>
                  <a:pt x="7764" y="14592"/>
                  <a:pt x="7770" y="14567"/>
                  <a:pt x="7789" y="14536"/>
                </a:cubicBezTo>
              </a:path>
              <a:path w="8732" h="3225">
                <a:moveTo>
                  <a:pt x="8136" y="14039"/>
                </a:moveTo>
                <a:cubicBezTo>
                  <a:pt x="8245" y="14216"/>
                  <a:pt x="8308" y="14407"/>
                  <a:pt x="8409" y="14585"/>
                </a:cubicBezTo>
                <a:cubicBezTo>
                  <a:pt x="8458" y="14635"/>
                  <a:pt x="8474" y="14652"/>
                  <a:pt x="8508" y="14684"/>
                </a:cubicBezTo>
              </a:path>
              <a:path w="8732" h="3225">
                <a:moveTo>
                  <a:pt x="8508" y="13965"/>
                </a:moveTo>
                <a:cubicBezTo>
                  <a:pt x="8428" y="14024"/>
                  <a:pt x="8325" y="14091"/>
                  <a:pt x="8285" y="14188"/>
                </a:cubicBezTo>
                <a:cubicBezTo>
                  <a:pt x="8243" y="14290"/>
                  <a:pt x="8184" y="14429"/>
                  <a:pt x="8161" y="14536"/>
                </a:cubicBezTo>
                <a:cubicBezTo>
                  <a:pt x="8149" y="14593"/>
                  <a:pt x="8149" y="14612"/>
                  <a:pt x="8111" y="14660"/>
                </a:cubicBezTo>
              </a:path>
              <a:path w="8732" h="3225">
                <a:moveTo>
                  <a:pt x="8607" y="13667"/>
                </a:moveTo>
                <a:cubicBezTo>
                  <a:pt x="8697" y="13683"/>
                  <a:pt x="8868" y="13669"/>
                  <a:pt x="8830" y="13816"/>
                </a:cubicBezTo>
                <a:cubicBezTo>
                  <a:pt x="8822" y="13847"/>
                  <a:pt x="8753" y="13916"/>
                  <a:pt x="8731" y="13940"/>
                </a:cubicBezTo>
                <a:cubicBezTo>
                  <a:pt x="8680" y="13996"/>
                  <a:pt x="8667" y="14063"/>
                  <a:pt x="8682" y="14139"/>
                </a:cubicBezTo>
                <a:cubicBezTo>
                  <a:pt x="8697" y="14214"/>
                  <a:pt x="8729" y="14261"/>
                  <a:pt x="8781" y="14312"/>
                </a:cubicBezTo>
              </a:path>
              <a:path w="8732" h="3225">
                <a:moveTo>
                  <a:pt x="9004" y="14560"/>
                </a:moveTo>
                <a:cubicBezTo>
                  <a:pt x="8914" y="14590"/>
                  <a:pt x="8803" y="14622"/>
                  <a:pt x="8706" y="14635"/>
                </a:cubicBezTo>
                <a:cubicBezTo>
                  <a:pt x="8616" y="14647"/>
                  <a:pt x="8522" y="14662"/>
                  <a:pt x="8434" y="14684"/>
                </a:cubicBezTo>
                <a:cubicBezTo>
                  <a:pt x="8360" y="14702"/>
                  <a:pt x="8292" y="14706"/>
                  <a:pt x="8235" y="14759"/>
                </a:cubicBezTo>
                <a:cubicBezTo>
                  <a:pt x="8194" y="14800"/>
                  <a:pt x="8186" y="14808"/>
                  <a:pt x="8161" y="14833"/>
                </a:cubicBezTo>
              </a:path>
              <a:path w="8732" h="3225">
                <a:moveTo>
                  <a:pt x="8607" y="15180"/>
                </a:moveTo>
                <a:cubicBezTo>
                  <a:pt x="8640" y="15345"/>
                  <a:pt x="8669" y="15511"/>
                  <a:pt x="8682" y="15677"/>
                </a:cubicBezTo>
                <a:cubicBezTo>
                  <a:pt x="8692" y="15816"/>
                  <a:pt x="8682" y="15959"/>
                  <a:pt x="8682" y="16098"/>
                </a:cubicBezTo>
              </a:path>
              <a:path w="8732" h="3225">
                <a:moveTo>
                  <a:pt x="7392" y="14982"/>
                </a:moveTo>
                <a:cubicBezTo>
                  <a:pt x="7327" y="15047"/>
                  <a:pt x="7253" y="15093"/>
                  <a:pt x="7169" y="15131"/>
                </a:cubicBezTo>
                <a:cubicBezTo>
                  <a:pt x="7048" y="15185"/>
                  <a:pt x="6925" y="15242"/>
                  <a:pt x="6821" y="15329"/>
                </a:cubicBezTo>
                <a:cubicBezTo>
                  <a:pt x="6733" y="15403"/>
                  <a:pt x="6657" y="15483"/>
                  <a:pt x="6573" y="15553"/>
                </a:cubicBezTo>
                <a:cubicBezTo>
                  <a:pt x="6550" y="15575"/>
                  <a:pt x="6542" y="15580"/>
                  <a:pt x="6548" y="15602"/>
                </a:cubicBezTo>
              </a:path>
              <a:path w="8732" h="3225">
                <a:moveTo>
                  <a:pt x="8880" y="13692"/>
                </a:moveTo>
                <a:cubicBezTo>
                  <a:pt x="8967" y="13648"/>
                  <a:pt x="8820" y="13777"/>
                  <a:pt x="8806" y="13791"/>
                </a:cubicBezTo>
                <a:cubicBezTo>
                  <a:pt x="8707" y="13890"/>
                  <a:pt x="8577" y="13962"/>
                  <a:pt x="8483" y="14064"/>
                </a:cubicBezTo>
                <a:cubicBezTo>
                  <a:pt x="8403" y="14151"/>
                  <a:pt x="8300" y="14239"/>
                  <a:pt x="8235" y="14337"/>
                </a:cubicBezTo>
                <a:cubicBezTo>
                  <a:pt x="8205" y="14381"/>
                  <a:pt x="8185" y="14438"/>
                  <a:pt x="8161" y="14486"/>
                </a:cubicBezTo>
              </a:path>
              <a:path w="8732" h="3225">
                <a:moveTo>
                  <a:pt x="9327" y="14387"/>
                </a:moveTo>
                <a:cubicBezTo>
                  <a:pt x="9386" y="14401"/>
                  <a:pt x="9530" y="14462"/>
                  <a:pt x="9599" y="14436"/>
                </a:cubicBezTo>
                <a:cubicBezTo>
                  <a:pt x="9607" y="14428"/>
                  <a:pt x="9616" y="14420"/>
                  <a:pt x="9624" y="14412"/>
                </a:cubicBezTo>
              </a:path>
              <a:path w="8732" h="3225">
                <a:moveTo>
                  <a:pt x="9376" y="14536"/>
                </a:moveTo>
                <a:cubicBezTo>
                  <a:pt x="9467" y="14605"/>
                  <a:pt x="9513" y="14626"/>
                  <a:pt x="9624" y="14660"/>
                </a:cubicBezTo>
              </a:path>
              <a:path w="8732" h="3225">
                <a:moveTo>
                  <a:pt x="10145" y="13841"/>
                </a:moveTo>
                <a:cubicBezTo>
                  <a:pt x="10200" y="13896"/>
                  <a:pt x="10243" y="13957"/>
                  <a:pt x="10294" y="14015"/>
                </a:cubicBezTo>
                <a:cubicBezTo>
                  <a:pt x="10412" y="14149"/>
                  <a:pt x="10511" y="14296"/>
                  <a:pt x="10616" y="14436"/>
                </a:cubicBezTo>
                <a:cubicBezTo>
                  <a:pt x="10633" y="14461"/>
                  <a:pt x="10649" y="14486"/>
                  <a:pt x="10666" y="14511"/>
                </a:cubicBezTo>
              </a:path>
              <a:path w="8732" h="3225">
                <a:moveTo>
                  <a:pt x="10740" y="13767"/>
                </a:moveTo>
                <a:cubicBezTo>
                  <a:pt x="10687" y="13852"/>
                  <a:pt x="10617" y="13926"/>
                  <a:pt x="10567" y="14015"/>
                </a:cubicBezTo>
                <a:cubicBezTo>
                  <a:pt x="10489" y="14154"/>
                  <a:pt x="10417" y="14261"/>
                  <a:pt x="10319" y="14387"/>
                </a:cubicBezTo>
                <a:cubicBezTo>
                  <a:pt x="10248" y="14481"/>
                  <a:pt x="10228" y="14509"/>
                  <a:pt x="10170" y="145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k 11"/>
          <p:cNvSpPr/>
          <p:nvPr/>
        </p:nvSpPr>
        <p:spPr>
          <a:xfrm>
            <a:off x="750960" y="5491080"/>
            <a:ext cx="1670040" cy="876240"/>
          </a:xfrm>
          <a:custGeom>
            <a:avLst/>
            <a:gdLst/>
            <a:ahLst/>
            <a:rect l="l" t="t" r="r" b="b"/>
            <a:pathLst>
              <a:path w="4639" h="2432">
                <a:moveTo>
                  <a:pt x="2108" y="16049"/>
                </a:moveTo>
                <a:cubicBezTo>
                  <a:pt x="2157" y="16097"/>
                  <a:pt x="2186" y="16120"/>
                  <a:pt x="2257" y="16123"/>
                </a:cubicBezTo>
                <a:cubicBezTo>
                  <a:pt x="2358" y="16127"/>
                  <a:pt x="2411" y="16111"/>
                  <a:pt x="2456" y="16024"/>
                </a:cubicBezTo>
                <a:cubicBezTo>
                  <a:pt x="2484" y="15971"/>
                  <a:pt x="2498" y="15907"/>
                  <a:pt x="2431" y="15875"/>
                </a:cubicBezTo>
                <a:cubicBezTo>
                  <a:pt x="2366" y="15844"/>
                  <a:pt x="2270" y="15830"/>
                  <a:pt x="2208" y="15875"/>
                </a:cubicBezTo>
                <a:cubicBezTo>
                  <a:pt x="2147" y="15920"/>
                  <a:pt x="2095" y="16024"/>
                  <a:pt x="2084" y="16098"/>
                </a:cubicBezTo>
                <a:cubicBezTo>
                  <a:pt x="2069" y="16201"/>
                  <a:pt x="2095" y="16302"/>
                  <a:pt x="2133" y="16396"/>
                </a:cubicBezTo>
                <a:cubicBezTo>
                  <a:pt x="2164" y="16472"/>
                  <a:pt x="2219" y="16499"/>
                  <a:pt x="2282" y="16545"/>
                </a:cubicBezTo>
              </a:path>
              <a:path w="4639" h="2432">
                <a:moveTo>
                  <a:pt x="2356" y="15255"/>
                </a:moveTo>
                <a:cubicBezTo>
                  <a:pt x="2426" y="15380"/>
                  <a:pt x="2482" y="15489"/>
                  <a:pt x="2530" y="15627"/>
                </a:cubicBezTo>
                <a:cubicBezTo>
                  <a:pt x="2606" y="15845"/>
                  <a:pt x="2650" y="16041"/>
                  <a:pt x="2654" y="16272"/>
                </a:cubicBezTo>
                <a:cubicBezTo>
                  <a:pt x="2657" y="16454"/>
                  <a:pt x="2653" y="16617"/>
                  <a:pt x="2604" y="16793"/>
                </a:cubicBezTo>
                <a:cubicBezTo>
                  <a:pt x="2579" y="16882"/>
                  <a:pt x="2563" y="16905"/>
                  <a:pt x="2480" y="16917"/>
                </a:cubicBezTo>
              </a:path>
              <a:path w="4639" h="2432">
                <a:moveTo>
                  <a:pt x="3324" y="15974"/>
                </a:moveTo>
                <a:cubicBezTo>
                  <a:pt x="3324" y="16075"/>
                  <a:pt x="3335" y="16173"/>
                  <a:pt x="3349" y="16272"/>
                </a:cubicBezTo>
                <a:cubicBezTo>
                  <a:pt x="3372" y="16432"/>
                  <a:pt x="3393" y="16606"/>
                  <a:pt x="3373" y="16768"/>
                </a:cubicBezTo>
                <a:cubicBezTo>
                  <a:pt x="3363" y="16848"/>
                  <a:pt x="3349" y="16910"/>
                  <a:pt x="3349" y="16991"/>
                </a:cubicBezTo>
              </a:path>
              <a:path w="4639" h="2432">
                <a:moveTo>
                  <a:pt x="3621" y="15825"/>
                </a:moveTo>
                <a:cubicBezTo>
                  <a:pt x="3621" y="16075"/>
                  <a:pt x="3609" y="16322"/>
                  <a:pt x="3597" y="16570"/>
                </a:cubicBezTo>
                <a:cubicBezTo>
                  <a:pt x="3590" y="16707"/>
                  <a:pt x="3597" y="16810"/>
                  <a:pt x="3572" y="16942"/>
                </a:cubicBezTo>
              </a:path>
              <a:path w="4639" h="2432">
                <a:moveTo>
                  <a:pt x="3200" y="15677"/>
                </a:moveTo>
                <a:cubicBezTo>
                  <a:pt x="3184" y="15581"/>
                  <a:pt x="3259" y="15628"/>
                  <a:pt x="3349" y="15652"/>
                </a:cubicBezTo>
                <a:cubicBezTo>
                  <a:pt x="3562" y="15708"/>
                  <a:pt x="3744" y="15848"/>
                  <a:pt x="3845" y="16049"/>
                </a:cubicBezTo>
                <a:cubicBezTo>
                  <a:pt x="3870" y="16098"/>
                  <a:pt x="3926" y="16239"/>
                  <a:pt x="3894" y="16297"/>
                </a:cubicBezTo>
                <a:cubicBezTo>
                  <a:pt x="3863" y="16353"/>
                  <a:pt x="3824" y="16343"/>
                  <a:pt x="3770" y="16346"/>
                </a:cubicBezTo>
                <a:cubicBezTo>
                  <a:pt x="3721" y="16346"/>
                  <a:pt x="3704" y="16346"/>
                  <a:pt x="3671" y="16346"/>
                </a:cubicBezTo>
                <a:cubicBezTo>
                  <a:pt x="3681" y="16468"/>
                  <a:pt x="3716" y="16558"/>
                  <a:pt x="3770" y="16669"/>
                </a:cubicBezTo>
                <a:cubicBezTo>
                  <a:pt x="3846" y="16825"/>
                  <a:pt x="3917" y="16986"/>
                  <a:pt x="3994" y="17140"/>
                </a:cubicBezTo>
                <a:cubicBezTo>
                  <a:pt x="4085" y="17293"/>
                  <a:pt x="4134" y="17358"/>
                  <a:pt x="4242" y="17438"/>
                </a:cubicBezTo>
              </a:path>
              <a:path w="4639" h="2432">
                <a:moveTo>
                  <a:pt x="4589" y="15627"/>
                </a:moveTo>
                <a:cubicBezTo>
                  <a:pt x="4589" y="15737"/>
                  <a:pt x="4611" y="15838"/>
                  <a:pt x="4614" y="15949"/>
                </a:cubicBezTo>
                <a:cubicBezTo>
                  <a:pt x="4619" y="16157"/>
                  <a:pt x="4604" y="16386"/>
                  <a:pt x="4589" y="16594"/>
                </a:cubicBezTo>
                <a:cubicBezTo>
                  <a:pt x="4571" y="16847"/>
                  <a:pt x="4519" y="17090"/>
                  <a:pt x="4490" y="17338"/>
                </a:cubicBezTo>
                <a:cubicBezTo>
                  <a:pt x="4477" y="17453"/>
                  <a:pt x="4472" y="17571"/>
                  <a:pt x="4465" y="17686"/>
                </a:cubicBezTo>
              </a:path>
              <a:path w="4639" h="2432">
                <a:moveTo>
                  <a:pt x="5011" y="16297"/>
                </a:moveTo>
                <a:cubicBezTo>
                  <a:pt x="5081" y="16501"/>
                  <a:pt x="5159" y="16707"/>
                  <a:pt x="5209" y="16917"/>
                </a:cubicBezTo>
                <a:cubicBezTo>
                  <a:pt x="5233" y="17036"/>
                  <a:pt x="5239" y="17072"/>
                  <a:pt x="5283" y="17140"/>
                </a:cubicBezTo>
              </a:path>
              <a:path w="4639" h="2432">
                <a:moveTo>
                  <a:pt x="5457" y="16446"/>
                </a:moveTo>
                <a:cubicBezTo>
                  <a:pt x="5360" y="16517"/>
                  <a:pt x="5272" y="16588"/>
                  <a:pt x="5209" y="16694"/>
                </a:cubicBezTo>
                <a:cubicBezTo>
                  <a:pt x="5137" y="16814"/>
                  <a:pt x="5073" y="16940"/>
                  <a:pt x="5011" y="17066"/>
                </a:cubicBezTo>
              </a:path>
              <a:path w="4639" h="2432">
                <a:moveTo>
                  <a:pt x="5730" y="16619"/>
                </a:moveTo>
                <a:cubicBezTo>
                  <a:pt x="5847" y="16599"/>
                  <a:pt x="5868" y="16605"/>
                  <a:pt x="5928" y="16570"/>
                </a:cubicBezTo>
              </a:path>
              <a:path w="4639" h="2432">
                <a:moveTo>
                  <a:pt x="5655" y="16694"/>
                </a:moveTo>
                <a:cubicBezTo>
                  <a:pt x="5707" y="16797"/>
                  <a:pt x="5713" y="16860"/>
                  <a:pt x="5829" y="16867"/>
                </a:cubicBezTo>
                <a:cubicBezTo>
                  <a:pt x="5881" y="16867"/>
                  <a:pt x="5899" y="16866"/>
                  <a:pt x="5928" y="16842"/>
                </a:cubicBezTo>
              </a:path>
              <a:path w="4639" h="2432">
                <a:moveTo>
                  <a:pt x="6028" y="16098"/>
                </a:moveTo>
                <a:cubicBezTo>
                  <a:pt x="5990" y="16213"/>
                  <a:pt x="5954" y="16327"/>
                  <a:pt x="5928" y="16446"/>
                </a:cubicBezTo>
                <a:cubicBezTo>
                  <a:pt x="5893" y="16609"/>
                  <a:pt x="5845" y="16757"/>
                  <a:pt x="5804" y="16917"/>
                </a:cubicBezTo>
                <a:cubicBezTo>
                  <a:pt x="5781" y="17006"/>
                  <a:pt x="5762" y="17076"/>
                  <a:pt x="5755" y="17165"/>
                </a:cubicBezTo>
              </a:path>
              <a:path w="4639" h="2432">
                <a:moveTo>
                  <a:pt x="6400" y="16346"/>
                </a:moveTo>
                <a:cubicBezTo>
                  <a:pt x="6364" y="16454"/>
                  <a:pt x="6367" y="16536"/>
                  <a:pt x="6350" y="16644"/>
                </a:cubicBezTo>
                <a:cubicBezTo>
                  <a:pt x="6331" y="16767"/>
                  <a:pt x="6306" y="16870"/>
                  <a:pt x="6350" y="16991"/>
                </a:cubicBezTo>
                <a:cubicBezTo>
                  <a:pt x="6372" y="17035"/>
                  <a:pt x="6375" y="17047"/>
                  <a:pt x="6400" y="17066"/>
                </a:cubicBezTo>
                <a:cubicBezTo>
                  <a:pt x="6516" y="17043"/>
                  <a:pt x="6571" y="16950"/>
                  <a:pt x="6648" y="16842"/>
                </a:cubicBezTo>
                <a:cubicBezTo>
                  <a:pt x="6730" y="16727"/>
                  <a:pt x="6739" y="16630"/>
                  <a:pt x="6697" y="16495"/>
                </a:cubicBezTo>
                <a:cubicBezTo>
                  <a:pt x="6676" y="16427"/>
                  <a:pt x="6652" y="16340"/>
                  <a:pt x="6573" y="16321"/>
                </a:cubicBezTo>
                <a:cubicBezTo>
                  <a:pt x="6505" y="16305"/>
                  <a:pt x="6412" y="16322"/>
                  <a:pt x="6350" y="16346"/>
                </a:cubicBezTo>
                <a:cubicBezTo>
                  <a:pt x="6333" y="16354"/>
                  <a:pt x="6317" y="16363"/>
                  <a:pt x="6300" y="163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5" name="Ink 2"/>
          <p:cNvSpPr/>
          <p:nvPr/>
        </p:nvSpPr>
        <p:spPr>
          <a:xfrm>
            <a:off x="660240" y="1303200"/>
            <a:ext cx="277920" cy="571680"/>
          </a:xfrm>
          <a:custGeom>
            <a:avLst/>
            <a:gdLst/>
            <a:ahLst/>
            <a:rect l="l" t="t" r="r" b="b"/>
            <a:pathLst>
              <a:path w="769" h="1589">
                <a:moveTo>
                  <a:pt x="2232" y="4018"/>
                </a:moveTo>
                <a:cubicBezTo>
                  <a:pt x="2240" y="4035"/>
                  <a:pt x="2249" y="4051"/>
                  <a:pt x="2257" y="4068"/>
                </a:cubicBezTo>
                <a:cubicBezTo>
                  <a:pt x="2223" y="4034"/>
                  <a:pt x="2175" y="3987"/>
                  <a:pt x="2158" y="3944"/>
                </a:cubicBezTo>
                <a:cubicBezTo>
                  <a:pt x="2138" y="3894"/>
                  <a:pt x="2103" y="3855"/>
                  <a:pt x="2034" y="3870"/>
                </a:cubicBezTo>
                <a:cubicBezTo>
                  <a:pt x="1962" y="3885"/>
                  <a:pt x="1939" y="3985"/>
                  <a:pt x="1910" y="4043"/>
                </a:cubicBezTo>
                <a:cubicBezTo>
                  <a:pt x="1880" y="4103"/>
                  <a:pt x="1830" y="4203"/>
                  <a:pt x="1836" y="4266"/>
                </a:cubicBezTo>
                <a:cubicBezTo>
                  <a:pt x="1843" y="4336"/>
                  <a:pt x="1876" y="4432"/>
                  <a:pt x="1910" y="4490"/>
                </a:cubicBezTo>
                <a:cubicBezTo>
                  <a:pt x="1994" y="4481"/>
                  <a:pt x="2019" y="4457"/>
                  <a:pt x="2084" y="4415"/>
                </a:cubicBezTo>
                <a:cubicBezTo>
                  <a:pt x="2137" y="4381"/>
                  <a:pt x="2182" y="4326"/>
                  <a:pt x="2208" y="4266"/>
                </a:cubicBezTo>
                <a:cubicBezTo>
                  <a:pt x="2229" y="4201"/>
                  <a:pt x="2237" y="4185"/>
                  <a:pt x="2232" y="4142"/>
                </a:cubicBezTo>
                <a:cubicBezTo>
                  <a:pt x="2194" y="4207"/>
                  <a:pt x="2208" y="4286"/>
                  <a:pt x="2208" y="4366"/>
                </a:cubicBezTo>
                <a:cubicBezTo>
                  <a:pt x="2208" y="4478"/>
                  <a:pt x="2219" y="4583"/>
                  <a:pt x="2232" y="4688"/>
                </a:cubicBezTo>
                <a:cubicBezTo>
                  <a:pt x="2239" y="4742"/>
                  <a:pt x="2249" y="4867"/>
                  <a:pt x="2208" y="4911"/>
                </a:cubicBezTo>
                <a:cubicBezTo>
                  <a:pt x="2208" y="4903"/>
                  <a:pt x="2208" y="4895"/>
                  <a:pt x="2208" y="4887"/>
                </a:cubicBezTo>
              </a:path>
              <a:path w="769" h="1589">
                <a:moveTo>
                  <a:pt x="2133" y="3621"/>
                </a:moveTo>
                <a:cubicBezTo>
                  <a:pt x="2240" y="3670"/>
                  <a:pt x="2287" y="3721"/>
                  <a:pt x="2356" y="3820"/>
                </a:cubicBezTo>
                <a:cubicBezTo>
                  <a:pt x="2427" y="3923"/>
                  <a:pt x="2520" y="4048"/>
                  <a:pt x="2555" y="4167"/>
                </a:cubicBezTo>
                <a:cubicBezTo>
                  <a:pt x="2590" y="4287"/>
                  <a:pt x="2634" y="4464"/>
                  <a:pt x="2604" y="4589"/>
                </a:cubicBezTo>
                <a:cubicBezTo>
                  <a:pt x="2567" y="4741"/>
                  <a:pt x="2492" y="4929"/>
                  <a:pt x="2406" y="5060"/>
                </a:cubicBezTo>
                <a:cubicBezTo>
                  <a:pt x="2372" y="5112"/>
                  <a:pt x="2333" y="5157"/>
                  <a:pt x="2307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3"/>
          <p:cNvSpPr/>
          <p:nvPr/>
        </p:nvSpPr>
        <p:spPr>
          <a:xfrm>
            <a:off x="1214280" y="1204920"/>
            <a:ext cx="1598760" cy="457200"/>
          </a:xfrm>
          <a:custGeom>
            <a:avLst/>
            <a:gdLst/>
            <a:ahLst/>
            <a:rect l="l" t="t" r="r" b="b"/>
            <a:pathLst>
              <a:path w="4441" h="1266">
                <a:moveTo>
                  <a:pt x="3944" y="3522"/>
                </a:moveTo>
                <a:cubicBezTo>
                  <a:pt x="3952" y="3539"/>
                  <a:pt x="3961" y="3555"/>
                  <a:pt x="3969" y="3572"/>
                </a:cubicBezTo>
                <a:cubicBezTo>
                  <a:pt x="3940" y="3514"/>
                  <a:pt x="3916" y="3469"/>
                  <a:pt x="3870" y="3423"/>
                </a:cubicBezTo>
                <a:cubicBezTo>
                  <a:pt x="3818" y="3371"/>
                  <a:pt x="3789" y="3298"/>
                  <a:pt x="3696" y="3373"/>
                </a:cubicBezTo>
                <a:cubicBezTo>
                  <a:pt x="3655" y="3406"/>
                  <a:pt x="3606" y="3548"/>
                  <a:pt x="3597" y="3597"/>
                </a:cubicBezTo>
                <a:cubicBezTo>
                  <a:pt x="3582" y="3680"/>
                  <a:pt x="3561" y="3812"/>
                  <a:pt x="3572" y="3894"/>
                </a:cubicBezTo>
                <a:cubicBezTo>
                  <a:pt x="3587" y="4006"/>
                  <a:pt x="3579" y="4130"/>
                  <a:pt x="3597" y="4242"/>
                </a:cubicBezTo>
                <a:cubicBezTo>
                  <a:pt x="3614" y="4350"/>
                  <a:pt x="3602" y="4408"/>
                  <a:pt x="3597" y="4514"/>
                </a:cubicBezTo>
                <a:cubicBezTo>
                  <a:pt x="3594" y="4580"/>
                  <a:pt x="3627" y="4607"/>
                  <a:pt x="3572" y="4589"/>
                </a:cubicBezTo>
              </a:path>
              <a:path w="4441" h="1266">
                <a:moveTo>
                  <a:pt x="3373" y="4316"/>
                </a:moveTo>
                <a:cubicBezTo>
                  <a:pt x="3459" y="4308"/>
                  <a:pt x="3538" y="4276"/>
                  <a:pt x="3621" y="4266"/>
                </a:cubicBezTo>
                <a:cubicBezTo>
                  <a:pt x="3697" y="4266"/>
                  <a:pt x="3723" y="4266"/>
                  <a:pt x="3770" y="4242"/>
                </a:cubicBezTo>
              </a:path>
              <a:path w="4441" h="1266">
                <a:moveTo>
                  <a:pt x="4415" y="3746"/>
                </a:moveTo>
                <a:cubicBezTo>
                  <a:pt x="4370" y="3836"/>
                  <a:pt x="4306" y="3941"/>
                  <a:pt x="4291" y="4043"/>
                </a:cubicBezTo>
                <a:cubicBezTo>
                  <a:pt x="4277" y="4136"/>
                  <a:pt x="4266" y="4218"/>
                  <a:pt x="4266" y="4316"/>
                </a:cubicBezTo>
                <a:cubicBezTo>
                  <a:pt x="4266" y="4371"/>
                  <a:pt x="4298" y="4474"/>
                  <a:pt x="4341" y="4514"/>
                </a:cubicBezTo>
                <a:cubicBezTo>
                  <a:pt x="4411" y="4579"/>
                  <a:pt x="4486" y="4565"/>
                  <a:pt x="4564" y="4539"/>
                </a:cubicBezTo>
              </a:path>
              <a:path w="4441" h="1266">
                <a:moveTo>
                  <a:pt x="4638" y="4192"/>
                </a:moveTo>
                <a:cubicBezTo>
                  <a:pt x="4718" y="4317"/>
                  <a:pt x="4752" y="4360"/>
                  <a:pt x="4887" y="4440"/>
                </a:cubicBezTo>
                <a:cubicBezTo>
                  <a:pt x="4959" y="4483"/>
                  <a:pt x="5044" y="4473"/>
                  <a:pt x="5110" y="4440"/>
                </a:cubicBezTo>
              </a:path>
              <a:path w="4441" h="1266">
                <a:moveTo>
                  <a:pt x="4837" y="4142"/>
                </a:moveTo>
                <a:cubicBezTo>
                  <a:pt x="4753" y="4233"/>
                  <a:pt x="4695" y="4306"/>
                  <a:pt x="4638" y="4415"/>
                </a:cubicBezTo>
                <a:cubicBezTo>
                  <a:pt x="4608" y="4473"/>
                  <a:pt x="4572" y="4512"/>
                  <a:pt x="4539" y="4564"/>
                </a:cubicBezTo>
                <a:cubicBezTo>
                  <a:pt x="4519" y="4605"/>
                  <a:pt x="4510" y="4632"/>
                  <a:pt x="4514" y="4589"/>
                </a:cubicBezTo>
              </a:path>
              <a:path w="4441" h="1266">
                <a:moveTo>
                  <a:pt x="4812" y="3547"/>
                </a:moveTo>
                <a:cubicBezTo>
                  <a:pt x="4891" y="3625"/>
                  <a:pt x="4922" y="3667"/>
                  <a:pt x="4961" y="3770"/>
                </a:cubicBezTo>
                <a:cubicBezTo>
                  <a:pt x="5003" y="3881"/>
                  <a:pt x="4994" y="3985"/>
                  <a:pt x="4986" y="4093"/>
                </a:cubicBezTo>
                <a:cubicBezTo>
                  <a:pt x="4978" y="4199"/>
                  <a:pt x="4983" y="4267"/>
                  <a:pt x="4936" y="4366"/>
                </a:cubicBezTo>
                <a:cubicBezTo>
                  <a:pt x="4906" y="4428"/>
                  <a:pt x="4842" y="4523"/>
                  <a:pt x="4787" y="4564"/>
                </a:cubicBezTo>
                <a:cubicBezTo>
                  <a:pt x="4739" y="4588"/>
                  <a:pt x="4723" y="4598"/>
                  <a:pt x="4738" y="4539"/>
                </a:cubicBezTo>
              </a:path>
              <a:path w="4441" h="1266">
                <a:moveTo>
                  <a:pt x="5283" y="4192"/>
                </a:moveTo>
                <a:cubicBezTo>
                  <a:pt x="5407" y="4192"/>
                  <a:pt x="5531" y="4192"/>
                  <a:pt x="5655" y="4192"/>
                </a:cubicBezTo>
              </a:path>
              <a:path w="4441" h="1266">
                <a:moveTo>
                  <a:pt x="5333" y="4366"/>
                </a:moveTo>
                <a:cubicBezTo>
                  <a:pt x="5414" y="4366"/>
                  <a:pt x="5479" y="4345"/>
                  <a:pt x="5556" y="4341"/>
                </a:cubicBezTo>
                <a:cubicBezTo>
                  <a:pt x="5614" y="4338"/>
                  <a:pt x="5630" y="4354"/>
                  <a:pt x="5655" y="4316"/>
                </a:cubicBezTo>
              </a:path>
              <a:path w="4441" h="1266">
                <a:moveTo>
                  <a:pt x="6028" y="3944"/>
                </a:moveTo>
                <a:cubicBezTo>
                  <a:pt x="6072" y="4034"/>
                  <a:pt x="6117" y="4123"/>
                  <a:pt x="6152" y="4217"/>
                </a:cubicBezTo>
                <a:cubicBezTo>
                  <a:pt x="6184" y="4304"/>
                  <a:pt x="6236" y="4372"/>
                  <a:pt x="6300" y="4440"/>
                </a:cubicBezTo>
                <a:cubicBezTo>
                  <a:pt x="6369" y="4513"/>
                  <a:pt x="6427" y="4533"/>
                  <a:pt x="6524" y="4539"/>
                </a:cubicBezTo>
                <a:cubicBezTo>
                  <a:pt x="6532" y="4539"/>
                  <a:pt x="6540" y="4539"/>
                  <a:pt x="6548" y="4539"/>
                </a:cubicBezTo>
              </a:path>
              <a:path w="4441" h="1266">
                <a:moveTo>
                  <a:pt x="6375" y="3994"/>
                </a:moveTo>
                <a:cubicBezTo>
                  <a:pt x="6331" y="4086"/>
                  <a:pt x="6254" y="4314"/>
                  <a:pt x="6176" y="4415"/>
                </a:cubicBezTo>
                <a:cubicBezTo>
                  <a:pt x="6140" y="4462"/>
                  <a:pt x="6095" y="4542"/>
                  <a:pt x="6052" y="4564"/>
                </a:cubicBezTo>
              </a:path>
              <a:path w="4441" h="1266">
                <a:moveTo>
                  <a:pt x="6524" y="3572"/>
                </a:moveTo>
                <a:cubicBezTo>
                  <a:pt x="6596" y="3532"/>
                  <a:pt x="6641" y="3486"/>
                  <a:pt x="6697" y="3572"/>
                </a:cubicBezTo>
                <a:cubicBezTo>
                  <a:pt x="6751" y="3655"/>
                  <a:pt x="6679" y="3733"/>
                  <a:pt x="6623" y="3795"/>
                </a:cubicBezTo>
                <a:cubicBezTo>
                  <a:pt x="6615" y="3803"/>
                  <a:pt x="6606" y="3812"/>
                  <a:pt x="6598" y="3820"/>
                </a:cubicBezTo>
                <a:cubicBezTo>
                  <a:pt x="6645" y="3878"/>
                  <a:pt x="6644" y="3914"/>
                  <a:pt x="6722" y="3919"/>
                </a:cubicBezTo>
                <a:cubicBezTo>
                  <a:pt x="6774" y="3919"/>
                  <a:pt x="6792" y="3918"/>
                  <a:pt x="6821" y="3894"/>
                </a:cubicBezTo>
              </a:path>
              <a:path w="4441" h="1266">
                <a:moveTo>
                  <a:pt x="7144" y="3845"/>
                </a:moveTo>
                <a:cubicBezTo>
                  <a:pt x="7125" y="4003"/>
                  <a:pt x="7123" y="4095"/>
                  <a:pt x="7144" y="4242"/>
                </a:cubicBezTo>
                <a:cubicBezTo>
                  <a:pt x="7144" y="4293"/>
                  <a:pt x="7145" y="4312"/>
                  <a:pt x="7169" y="4341"/>
                </a:cubicBezTo>
              </a:path>
              <a:path w="4441" h="1266">
                <a:moveTo>
                  <a:pt x="6945" y="4068"/>
                </a:moveTo>
                <a:cubicBezTo>
                  <a:pt x="7077" y="4068"/>
                  <a:pt x="7210" y="4068"/>
                  <a:pt x="7342" y="4068"/>
                </a:cubicBezTo>
              </a:path>
              <a:path w="4441" h="1266">
                <a:moveTo>
                  <a:pt x="7739" y="3696"/>
                </a:moveTo>
                <a:cubicBezTo>
                  <a:pt x="7781" y="3809"/>
                  <a:pt x="7773" y="3876"/>
                  <a:pt x="7789" y="3994"/>
                </a:cubicBezTo>
                <a:cubicBezTo>
                  <a:pt x="7805" y="4112"/>
                  <a:pt x="7813" y="4220"/>
                  <a:pt x="7813" y="4341"/>
                </a:cubicBezTo>
                <a:cubicBezTo>
                  <a:pt x="7813" y="4399"/>
                  <a:pt x="7813" y="4456"/>
                  <a:pt x="7813" y="45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3554280" y="1116000"/>
            <a:ext cx="884520" cy="758880"/>
          </a:xfrm>
          <a:custGeom>
            <a:avLst/>
            <a:gdLst/>
            <a:ahLst/>
            <a:rect l="l" t="t" r="r" b="b"/>
            <a:pathLst>
              <a:path w="2457" h="2109">
                <a:moveTo>
                  <a:pt x="10269" y="3671"/>
                </a:moveTo>
                <a:cubicBezTo>
                  <a:pt x="10295" y="3767"/>
                  <a:pt x="10299" y="3849"/>
                  <a:pt x="10319" y="3944"/>
                </a:cubicBezTo>
                <a:cubicBezTo>
                  <a:pt x="10340" y="4047"/>
                  <a:pt x="10344" y="4135"/>
                  <a:pt x="10344" y="4242"/>
                </a:cubicBezTo>
                <a:cubicBezTo>
                  <a:pt x="10344" y="4283"/>
                  <a:pt x="10336" y="4299"/>
                  <a:pt x="10368" y="4291"/>
                </a:cubicBezTo>
              </a:path>
              <a:path w="2457" h="2109">
                <a:moveTo>
                  <a:pt x="10592" y="3746"/>
                </a:moveTo>
                <a:cubicBezTo>
                  <a:pt x="10615" y="3845"/>
                  <a:pt x="10641" y="3919"/>
                  <a:pt x="10641" y="4018"/>
                </a:cubicBezTo>
                <a:cubicBezTo>
                  <a:pt x="10641" y="4083"/>
                  <a:pt x="10635" y="4135"/>
                  <a:pt x="10616" y="4192"/>
                </a:cubicBezTo>
                <a:cubicBezTo>
                  <a:pt x="10608" y="4209"/>
                  <a:pt x="10600" y="4225"/>
                  <a:pt x="10592" y="4242"/>
                </a:cubicBezTo>
              </a:path>
              <a:path w="2457" h="2109">
                <a:moveTo>
                  <a:pt x="10418" y="3398"/>
                </a:moveTo>
                <a:cubicBezTo>
                  <a:pt x="10246" y="3470"/>
                  <a:pt x="10102" y="3534"/>
                  <a:pt x="9996" y="3696"/>
                </a:cubicBezTo>
                <a:cubicBezTo>
                  <a:pt x="9927" y="3801"/>
                  <a:pt x="9864" y="3940"/>
                  <a:pt x="9872" y="4068"/>
                </a:cubicBezTo>
                <a:cubicBezTo>
                  <a:pt x="9878" y="4164"/>
                  <a:pt x="9935" y="4291"/>
                  <a:pt x="9996" y="4366"/>
                </a:cubicBezTo>
                <a:cubicBezTo>
                  <a:pt x="10078" y="4467"/>
                  <a:pt x="10224" y="4498"/>
                  <a:pt x="10344" y="4514"/>
                </a:cubicBezTo>
                <a:cubicBezTo>
                  <a:pt x="10432" y="4525"/>
                  <a:pt x="10563" y="4481"/>
                  <a:pt x="10641" y="4440"/>
                </a:cubicBezTo>
                <a:cubicBezTo>
                  <a:pt x="10738" y="4390"/>
                  <a:pt x="10861" y="4314"/>
                  <a:pt x="10914" y="4217"/>
                </a:cubicBezTo>
                <a:cubicBezTo>
                  <a:pt x="10973" y="4108"/>
                  <a:pt x="10988" y="4014"/>
                  <a:pt x="10988" y="3894"/>
                </a:cubicBezTo>
                <a:cubicBezTo>
                  <a:pt x="10988" y="3813"/>
                  <a:pt x="10941" y="3692"/>
                  <a:pt x="10864" y="3646"/>
                </a:cubicBezTo>
                <a:cubicBezTo>
                  <a:pt x="10797" y="3606"/>
                  <a:pt x="10718" y="3560"/>
                  <a:pt x="10641" y="3547"/>
                </a:cubicBezTo>
                <a:cubicBezTo>
                  <a:pt x="10587" y="3538"/>
                  <a:pt x="10523" y="3547"/>
                  <a:pt x="10468" y="3547"/>
                </a:cubicBezTo>
              </a:path>
              <a:path w="2457" h="2109">
                <a:moveTo>
                  <a:pt x="11757" y="3249"/>
                </a:moveTo>
                <a:cubicBezTo>
                  <a:pt x="11717" y="3290"/>
                  <a:pt x="11692" y="3328"/>
                  <a:pt x="11658" y="3373"/>
                </a:cubicBezTo>
                <a:cubicBezTo>
                  <a:pt x="11650" y="3381"/>
                  <a:pt x="11641" y="3390"/>
                  <a:pt x="11633" y="3398"/>
                </a:cubicBezTo>
                <a:cubicBezTo>
                  <a:pt x="11587" y="3351"/>
                  <a:pt x="11571" y="3302"/>
                  <a:pt x="11534" y="3249"/>
                </a:cubicBezTo>
                <a:cubicBezTo>
                  <a:pt x="11491" y="3188"/>
                  <a:pt x="11445" y="3186"/>
                  <a:pt x="11385" y="3150"/>
                </a:cubicBezTo>
                <a:cubicBezTo>
                  <a:pt x="11335" y="3120"/>
                  <a:pt x="11322" y="3108"/>
                  <a:pt x="11261" y="3101"/>
                </a:cubicBezTo>
                <a:cubicBezTo>
                  <a:pt x="11254" y="3154"/>
                  <a:pt x="11219" y="3204"/>
                  <a:pt x="11212" y="3249"/>
                </a:cubicBezTo>
                <a:cubicBezTo>
                  <a:pt x="11198" y="3342"/>
                  <a:pt x="11166" y="3426"/>
                  <a:pt x="11162" y="3522"/>
                </a:cubicBezTo>
                <a:cubicBezTo>
                  <a:pt x="11159" y="3613"/>
                  <a:pt x="11176" y="3687"/>
                  <a:pt x="11187" y="3770"/>
                </a:cubicBezTo>
                <a:cubicBezTo>
                  <a:pt x="11204" y="3897"/>
                  <a:pt x="11201" y="4072"/>
                  <a:pt x="11162" y="4192"/>
                </a:cubicBezTo>
                <a:cubicBezTo>
                  <a:pt x="11147" y="4238"/>
                  <a:pt x="11140" y="4318"/>
                  <a:pt x="11088" y="4341"/>
                </a:cubicBezTo>
                <a:cubicBezTo>
                  <a:pt x="11080" y="4341"/>
                  <a:pt x="11071" y="4341"/>
                  <a:pt x="11063" y="4341"/>
                </a:cubicBezTo>
              </a:path>
              <a:path w="2457" h="2109">
                <a:moveTo>
                  <a:pt x="10765" y="3994"/>
                </a:moveTo>
                <a:cubicBezTo>
                  <a:pt x="10850" y="4006"/>
                  <a:pt x="10917" y="4018"/>
                  <a:pt x="11013" y="4018"/>
                </a:cubicBezTo>
                <a:cubicBezTo>
                  <a:pt x="11066" y="4018"/>
                  <a:pt x="11069" y="4032"/>
                  <a:pt x="11112" y="4043"/>
                </a:cubicBezTo>
              </a:path>
              <a:path w="2457" h="2109">
                <a:moveTo>
                  <a:pt x="11311" y="3994"/>
                </a:moveTo>
                <a:cubicBezTo>
                  <a:pt x="11368" y="3987"/>
                  <a:pt x="11450" y="3946"/>
                  <a:pt x="11509" y="3969"/>
                </a:cubicBezTo>
                <a:cubicBezTo>
                  <a:pt x="11537" y="3997"/>
                  <a:pt x="11551" y="4006"/>
                  <a:pt x="11584" y="3994"/>
                </a:cubicBezTo>
              </a:path>
              <a:path w="2457" h="2109">
                <a:moveTo>
                  <a:pt x="12080" y="3944"/>
                </a:moveTo>
                <a:cubicBezTo>
                  <a:pt x="12105" y="3969"/>
                  <a:pt x="12113" y="3977"/>
                  <a:pt x="12129" y="3994"/>
                </a:cubicBezTo>
                <a:cubicBezTo>
                  <a:pt x="12120" y="3932"/>
                  <a:pt x="12100" y="3895"/>
                  <a:pt x="12055" y="3845"/>
                </a:cubicBezTo>
                <a:cubicBezTo>
                  <a:pt x="12047" y="3837"/>
                  <a:pt x="12038" y="3828"/>
                  <a:pt x="12030" y="3820"/>
                </a:cubicBezTo>
                <a:cubicBezTo>
                  <a:pt x="11977" y="3874"/>
                  <a:pt x="11946" y="3944"/>
                  <a:pt x="11931" y="4018"/>
                </a:cubicBezTo>
                <a:cubicBezTo>
                  <a:pt x="11919" y="4075"/>
                  <a:pt x="11883" y="4182"/>
                  <a:pt x="11906" y="4242"/>
                </a:cubicBezTo>
                <a:cubicBezTo>
                  <a:pt x="11918" y="4274"/>
                  <a:pt x="11959" y="4313"/>
                  <a:pt x="11981" y="4341"/>
                </a:cubicBezTo>
                <a:cubicBezTo>
                  <a:pt x="12017" y="4320"/>
                  <a:pt x="12085" y="4284"/>
                  <a:pt x="12105" y="4242"/>
                </a:cubicBezTo>
                <a:cubicBezTo>
                  <a:pt x="12137" y="4174"/>
                  <a:pt x="12144" y="4101"/>
                  <a:pt x="12179" y="4043"/>
                </a:cubicBezTo>
                <a:cubicBezTo>
                  <a:pt x="12200" y="4119"/>
                  <a:pt x="12210" y="4193"/>
                  <a:pt x="12229" y="4266"/>
                </a:cubicBezTo>
                <a:cubicBezTo>
                  <a:pt x="12253" y="4357"/>
                  <a:pt x="12258" y="4449"/>
                  <a:pt x="12278" y="4539"/>
                </a:cubicBezTo>
                <a:cubicBezTo>
                  <a:pt x="12300" y="4639"/>
                  <a:pt x="12323" y="4734"/>
                  <a:pt x="12328" y="4837"/>
                </a:cubicBezTo>
                <a:cubicBezTo>
                  <a:pt x="12333" y="4943"/>
                  <a:pt x="12269" y="5032"/>
                  <a:pt x="12204" y="5110"/>
                </a:cubicBezTo>
                <a:cubicBezTo>
                  <a:pt x="12143" y="5182"/>
                  <a:pt x="12070" y="5223"/>
                  <a:pt x="11981" y="5184"/>
                </a:cubicBezTo>
                <a:cubicBezTo>
                  <a:pt x="11953" y="5156"/>
                  <a:pt x="11944" y="5143"/>
                  <a:pt x="11956" y="5110"/>
                </a:cubicBezTo>
              </a:path>
              <a:path w="2457" h="2109">
                <a:moveTo>
                  <a:pt x="10964" y="3795"/>
                </a:moveTo>
                <a:cubicBezTo>
                  <a:pt x="11012" y="3771"/>
                  <a:pt x="11102" y="3753"/>
                  <a:pt x="11162" y="3746"/>
                </a:cubicBezTo>
                <a:cubicBezTo>
                  <a:pt x="11264" y="3733"/>
                  <a:pt x="11279" y="3748"/>
                  <a:pt x="11261" y="3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4606920" y="1133640"/>
            <a:ext cx="385920" cy="411120"/>
          </a:xfrm>
          <a:custGeom>
            <a:avLst/>
            <a:gdLst/>
            <a:ahLst/>
            <a:rect l="l" t="t" r="r" b="b"/>
            <a:pathLst>
              <a:path w="1068" h="1142">
                <a:moveTo>
                  <a:pt x="12948" y="3324"/>
                </a:moveTo>
                <a:cubicBezTo>
                  <a:pt x="12904" y="3412"/>
                  <a:pt x="12882" y="3498"/>
                  <a:pt x="12874" y="3597"/>
                </a:cubicBezTo>
                <a:cubicBezTo>
                  <a:pt x="12864" y="3712"/>
                  <a:pt x="12849" y="3832"/>
                  <a:pt x="12824" y="3944"/>
                </a:cubicBezTo>
                <a:cubicBezTo>
                  <a:pt x="12807" y="4021"/>
                  <a:pt x="12781" y="4110"/>
                  <a:pt x="12799" y="4192"/>
                </a:cubicBezTo>
                <a:cubicBezTo>
                  <a:pt x="12817" y="4273"/>
                  <a:pt x="12828" y="4277"/>
                  <a:pt x="12898" y="4291"/>
                </a:cubicBezTo>
              </a:path>
              <a:path w="1068" h="1142">
                <a:moveTo>
                  <a:pt x="13221" y="3646"/>
                </a:moveTo>
                <a:cubicBezTo>
                  <a:pt x="13195" y="3741"/>
                  <a:pt x="13196" y="3819"/>
                  <a:pt x="13196" y="3919"/>
                </a:cubicBezTo>
                <a:cubicBezTo>
                  <a:pt x="13196" y="3993"/>
                  <a:pt x="13178" y="4084"/>
                  <a:pt x="13221" y="4142"/>
                </a:cubicBezTo>
                <a:cubicBezTo>
                  <a:pt x="13258" y="4192"/>
                  <a:pt x="13320" y="4132"/>
                  <a:pt x="13345" y="4093"/>
                </a:cubicBezTo>
                <a:cubicBezTo>
                  <a:pt x="13392" y="4020"/>
                  <a:pt x="13415" y="3955"/>
                  <a:pt x="13419" y="3870"/>
                </a:cubicBezTo>
                <a:cubicBezTo>
                  <a:pt x="13421" y="3818"/>
                  <a:pt x="13379" y="3713"/>
                  <a:pt x="13320" y="3696"/>
                </a:cubicBezTo>
                <a:cubicBezTo>
                  <a:pt x="13291" y="3688"/>
                  <a:pt x="13217" y="3698"/>
                  <a:pt x="13271" y="3671"/>
                </a:cubicBezTo>
              </a:path>
              <a:path w="1068" h="1142">
                <a:moveTo>
                  <a:pt x="13593" y="3150"/>
                </a:moveTo>
                <a:cubicBezTo>
                  <a:pt x="13693" y="3223"/>
                  <a:pt x="13748" y="3277"/>
                  <a:pt x="13791" y="3398"/>
                </a:cubicBezTo>
                <a:cubicBezTo>
                  <a:pt x="13842" y="3543"/>
                  <a:pt x="13875" y="3667"/>
                  <a:pt x="13841" y="3820"/>
                </a:cubicBezTo>
                <a:cubicBezTo>
                  <a:pt x="13826" y="3889"/>
                  <a:pt x="13770" y="4000"/>
                  <a:pt x="13717" y="4043"/>
                </a:cubicBezTo>
                <a:cubicBezTo>
                  <a:pt x="13700" y="4051"/>
                  <a:pt x="13684" y="4060"/>
                  <a:pt x="13667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5607000" y="965160"/>
            <a:ext cx="1465200" cy="642960"/>
          </a:xfrm>
          <a:custGeom>
            <a:avLst/>
            <a:gdLst/>
            <a:ahLst/>
            <a:rect l="l" t="t" r="r" b="b"/>
            <a:pathLst>
              <a:path w="4069" h="1787">
                <a:moveTo>
                  <a:pt x="15825" y="3572"/>
                </a:moveTo>
                <a:cubicBezTo>
                  <a:pt x="15833" y="3666"/>
                  <a:pt x="15850" y="3750"/>
                  <a:pt x="15850" y="3845"/>
                </a:cubicBezTo>
                <a:cubicBezTo>
                  <a:pt x="15850" y="3919"/>
                  <a:pt x="15804" y="3993"/>
                  <a:pt x="15825" y="4068"/>
                </a:cubicBezTo>
                <a:cubicBezTo>
                  <a:pt x="15838" y="4115"/>
                  <a:pt x="15850" y="4150"/>
                  <a:pt x="15875" y="4167"/>
                </a:cubicBezTo>
              </a:path>
              <a:path w="4069" h="1787">
                <a:moveTo>
                  <a:pt x="16272" y="3522"/>
                </a:moveTo>
                <a:cubicBezTo>
                  <a:pt x="16334" y="3505"/>
                  <a:pt x="16427" y="3465"/>
                  <a:pt x="16470" y="3547"/>
                </a:cubicBezTo>
                <a:cubicBezTo>
                  <a:pt x="16518" y="3638"/>
                  <a:pt x="16465" y="3673"/>
                  <a:pt x="16421" y="3746"/>
                </a:cubicBezTo>
                <a:cubicBezTo>
                  <a:pt x="16378" y="3817"/>
                  <a:pt x="16347" y="3832"/>
                  <a:pt x="16272" y="3870"/>
                </a:cubicBezTo>
                <a:cubicBezTo>
                  <a:pt x="16350" y="3878"/>
                  <a:pt x="16411" y="3890"/>
                  <a:pt x="16470" y="3944"/>
                </a:cubicBezTo>
                <a:cubicBezTo>
                  <a:pt x="16533" y="4002"/>
                  <a:pt x="16519" y="4037"/>
                  <a:pt x="16446" y="4093"/>
                </a:cubicBezTo>
                <a:cubicBezTo>
                  <a:pt x="16397" y="4131"/>
                  <a:pt x="16305" y="4157"/>
                  <a:pt x="16247" y="4167"/>
                </a:cubicBezTo>
                <a:cubicBezTo>
                  <a:pt x="16192" y="4176"/>
                  <a:pt x="16167" y="4186"/>
                  <a:pt x="16148" y="4167"/>
                </a:cubicBezTo>
              </a:path>
              <a:path w="4069" h="1787">
                <a:moveTo>
                  <a:pt x="16446" y="3274"/>
                </a:moveTo>
                <a:cubicBezTo>
                  <a:pt x="16226" y="3265"/>
                  <a:pt x="16163" y="3293"/>
                  <a:pt x="15974" y="3398"/>
                </a:cubicBezTo>
                <a:cubicBezTo>
                  <a:pt x="15846" y="3469"/>
                  <a:pt x="15761" y="3551"/>
                  <a:pt x="15677" y="3671"/>
                </a:cubicBezTo>
                <a:cubicBezTo>
                  <a:pt x="15611" y="3765"/>
                  <a:pt x="15581" y="3856"/>
                  <a:pt x="15577" y="3969"/>
                </a:cubicBezTo>
                <a:cubicBezTo>
                  <a:pt x="15573" y="4081"/>
                  <a:pt x="15626" y="4117"/>
                  <a:pt x="15701" y="4192"/>
                </a:cubicBezTo>
                <a:cubicBezTo>
                  <a:pt x="15775" y="4267"/>
                  <a:pt x="15839" y="4325"/>
                  <a:pt x="15949" y="4341"/>
                </a:cubicBezTo>
                <a:cubicBezTo>
                  <a:pt x="16044" y="4355"/>
                  <a:pt x="16186" y="4356"/>
                  <a:pt x="16272" y="4316"/>
                </a:cubicBezTo>
                <a:cubicBezTo>
                  <a:pt x="16379" y="4266"/>
                  <a:pt x="16449" y="4212"/>
                  <a:pt x="16520" y="4118"/>
                </a:cubicBezTo>
                <a:cubicBezTo>
                  <a:pt x="16581" y="4037"/>
                  <a:pt x="16629" y="3924"/>
                  <a:pt x="16619" y="3820"/>
                </a:cubicBezTo>
                <a:cubicBezTo>
                  <a:pt x="16606" y="3687"/>
                  <a:pt x="16565" y="3565"/>
                  <a:pt x="16446" y="3497"/>
                </a:cubicBezTo>
                <a:cubicBezTo>
                  <a:pt x="16291" y="3408"/>
                  <a:pt x="16186" y="3408"/>
                  <a:pt x="16024" y="3473"/>
                </a:cubicBezTo>
                <a:cubicBezTo>
                  <a:pt x="15921" y="3524"/>
                  <a:pt x="15884" y="3543"/>
                  <a:pt x="15825" y="3597"/>
                </a:cubicBezTo>
              </a:path>
              <a:path w="4069" h="1787">
                <a:moveTo>
                  <a:pt x="17636" y="3125"/>
                </a:moveTo>
                <a:cubicBezTo>
                  <a:pt x="17627" y="3063"/>
                  <a:pt x="17605" y="3005"/>
                  <a:pt x="17562" y="2952"/>
                </a:cubicBezTo>
                <a:cubicBezTo>
                  <a:pt x="17526" y="2907"/>
                  <a:pt x="17478" y="2869"/>
                  <a:pt x="17438" y="2828"/>
                </a:cubicBezTo>
                <a:cubicBezTo>
                  <a:pt x="17389" y="2889"/>
                  <a:pt x="17388" y="2923"/>
                  <a:pt x="17388" y="3001"/>
                </a:cubicBezTo>
                <a:cubicBezTo>
                  <a:pt x="17388" y="3081"/>
                  <a:pt x="17392" y="3174"/>
                  <a:pt x="17413" y="3249"/>
                </a:cubicBezTo>
                <a:cubicBezTo>
                  <a:pt x="17439" y="3345"/>
                  <a:pt x="17441" y="3448"/>
                  <a:pt x="17462" y="3547"/>
                </a:cubicBezTo>
                <a:cubicBezTo>
                  <a:pt x="17479" y="3626"/>
                  <a:pt x="17487" y="3749"/>
                  <a:pt x="17512" y="3820"/>
                </a:cubicBezTo>
                <a:cubicBezTo>
                  <a:pt x="17528" y="3865"/>
                  <a:pt x="17548" y="3883"/>
                  <a:pt x="17562" y="3870"/>
                </a:cubicBezTo>
              </a:path>
              <a:path w="4069" h="1787">
                <a:moveTo>
                  <a:pt x="17289" y="3646"/>
                </a:moveTo>
                <a:cubicBezTo>
                  <a:pt x="17359" y="3637"/>
                  <a:pt x="17414" y="3621"/>
                  <a:pt x="17487" y="3621"/>
                </a:cubicBezTo>
                <a:cubicBezTo>
                  <a:pt x="17556" y="3621"/>
                  <a:pt x="17616" y="3597"/>
                  <a:pt x="17686" y="3597"/>
                </a:cubicBezTo>
              </a:path>
              <a:path w="4069" h="1787">
                <a:moveTo>
                  <a:pt x="18083" y="3721"/>
                </a:moveTo>
                <a:cubicBezTo>
                  <a:pt x="18073" y="3654"/>
                  <a:pt x="18037" y="3590"/>
                  <a:pt x="18008" y="3522"/>
                </a:cubicBezTo>
                <a:cubicBezTo>
                  <a:pt x="17984" y="3475"/>
                  <a:pt x="17978" y="3458"/>
                  <a:pt x="17934" y="3473"/>
                </a:cubicBezTo>
                <a:cubicBezTo>
                  <a:pt x="17887" y="3519"/>
                  <a:pt x="17864" y="3562"/>
                  <a:pt x="17835" y="3621"/>
                </a:cubicBezTo>
                <a:cubicBezTo>
                  <a:pt x="17787" y="3719"/>
                  <a:pt x="17785" y="3813"/>
                  <a:pt x="17785" y="3919"/>
                </a:cubicBezTo>
                <a:cubicBezTo>
                  <a:pt x="17879" y="3943"/>
                  <a:pt x="17898" y="3919"/>
                  <a:pt x="17959" y="3845"/>
                </a:cubicBezTo>
                <a:cubicBezTo>
                  <a:pt x="18000" y="3795"/>
                  <a:pt x="18029" y="3732"/>
                  <a:pt x="18033" y="3671"/>
                </a:cubicBezTo>
                <a:cubicBezTo>
                  <a:pt x="18033" y="3654"/>
                  <a:pt x="18033" y="3638"/>
                  <a:pt x="18033" y="3621"/>
                </a:cubicBezTo>
                <a:cubicBezTo>
                  <a:pt x="18075" y="3685"/>
                  <a:pt x="18096" y="3767"/>
                  <a:pt x="18107" y="3845"/>
                </a:cubicBezTo>
                <a:cubicBezTo>
                  <a:pt x="18120" y="3941"/>
                  <a:pt x="18174" y="4039"/>
                  <a:pt x="18157" y="4142"/>
                </a:cubicBezTo>
                <a:cubicBezTo>
                  <a:pt x="18144" y="4221"/>
                  <a:pt x="18114" y="4282"/>
                  <a:pt x="18058" y="4341"/>
                </a:cubicBezTo>
                <a:cubicBezTo>
                  <a:pt x="18014" y="4388"/>
                  <a:pt x="17951" y="4453"/>
                  <a:pt x="17884" y="4465"/>
                </a:cubicBezTo>
                <a:cubicBezTo>
                  <a:pt x="17859" y="4465"/>
                  <a:pt x="17835" y="4465"/>
                  <a:pt x="17810" y="4465"/>
                </a:cubicBezTo>
              </a:path>
              <a:path w="4069" h="1787">
                <a:moveTo>
                  <a:pt x="17140" y="2679"/>
                </a:moveTo>
                <a:cubicBezTo>
                  <a:pt x="17075" y="2781"/>
                  <a:pt x="17063" y="2837"/>
                  <a:pt x="17041" y="2952"/>
                </a:cubicBezTo>
                <a:cubicBezTo>
                  <a:pt x="17012" y="3107"/>
                  <a:pt x="17029" y="3218"/>
                  <a:pt x="17041" y="3373"/>
                </a:cubicBezTo>
                <a:cubicBezTo>
                  <a:pt x="17051" y="3506"/>
                  <a:pt x="17056" y="3641"/>
                  <a:pt x="17090" y="3770"/>
                </a:cubicBezTo>
                <a:cubicBezTo>
                  <a:pt x="17105" y="3828"/>
                  <a:pt x="17179" y="3966"/>
                  <a:pt x="17239" y="3994"/>
                </a:cubicBezTo>
                <a:cubicBezTo>
                  <a:pt x="17282" y="4014"/>
                  <a:pt x="17391" y="3994"/>
                  <a:pt x="17438" y="3994"/>
                </a:cubicBezTo>
              </a:path>
              <a:path w="4069" h="1787">
                <a:moveTo>
                  <a:pt x="18058" y="2828"/>
                </a:moveTo>
                <a:cubicBezTo>
                  <a:pt x="18119" y="2897"/>
                  <a:pt x="18184" y="2970"/>
                  <a:pt x="18231" y="3051"/>
                </a:cubicBezTo>
                <a:cubicBezTo>
                  <a:pt x="18308" y="3184"/>
                  <a:pt x="18428" y="3370"/>
                  <a:pt x="18455" y="3522"/>
                </a:cubicBezTo>
                <a:cubicBezTo>
                  <a:pt x="18472" y="3619"/>
                  <a:pt x="18410" y="3730"/>
                  <a:pt x="18380" y="3820"/>
                </a:cubicBezTo>
                <a:cubicBezTo>
                  <a:pt x="18356" y="3892"/>
                  <a:pt x="18332" y="3962"/>
                  <a:pt x="18281" y="4018"/>
                </a:cubicBezTo>
                <a:cubicBezTo>
                  <a:pt x="18273" y="4026"/>
                  <a:pt x="18264" y="4035"/>
                  <a:pt x="18256" y="4043"/>
                </a:cubicBezTo>
              </a:path>
              <a:path w="4069" h="1787">
                <a:moveTo>
                  <a:pt x="18728" y="2803"/>
                </a:moveTo>
                <a:cubicBezTo>
                  <a:pt x="18716" y="2910"/>
                  <a:pt x="18684" y="3020"/>
                  <a:pt x="18653" y="3125"/>
                </a:cubicBezTo>
                <a:cubicBezTo>
                  <a:pt x="18617" y="3248"/>
                  <a:pt x="18590" y="3444"/>
                  <a:pt x="18604" y="3572"/>
                </a:cubicBezTo>
                <a:cubicBezTo>
                  <a:pt x="18614" y="3662"/>
                  <a:pt x="18626" y="3784"/>
                  <a:pt x="18653" y="3870"/>
                </a:cubicBezTo>
                <a:cubicBezTo>
                  <a:pt x="18679" y="3952"/>
                  <a:pt x="18712" y="3963"/>
                  <a:pt x="18777" y="3944"/>
                </a:cubicBezTo>
              </a:path>
              <a:path w="4069" h="1787">
                <a:moveTo>
                  <a:pt x="18926" y="3175"/>
                </a:moveTo>
                <a:cubicBezTo>
                  <a:pt x="18907" y="3243"/>
                  <a:pt x="18878" y="3350"/>
                  <a:pt x="18901" y="3423"/>
                </a:cubicBezTo>
                <a:cubicBezTo>
                  <a:pt x="18914" y="3465"/>
                  <a:pt x="18985" y="3506"/>
                  <a:pt x="19025" y="3497"/>
                </a:cubicBezTo>
                <a:cubicBezTo>
                  <a:pt x="19094" y="3481"/>
                  <a:pt x="19153" y="3457"/>
                  <a:pt x="19224" y="3448"/>
                </a:cubicBezTo>
              </a:path>
              <a:path w="4069" h="1787">
                <a:moveTo>
                  <a:pt x="19174" y="3051"/>
                </a:moveTo>
                <a:cubicBezTo>
                  <a:pt x="19174" y="3080"/>
                  <a:pt x="19150" y="3870"/>
                  <a:pt x="19199" y="3870"/>
                </a:cubicBezTo>
                <a:cubicBezTo>
                  <a:pt x="19199" y="3862"/>
                  <a:pt x="19199" y="3853"/>
                  <a:pt x="19199" y="3845"/>
                </a:cubicBezTo>
              </a:path>
              <a:path w="4069" h="1787">
                <a:moveTo>
                  <a:pt x="19248" y="2704"/>
                </a:moveTo>
                <a:cubicBezTo>
                  <a:pt x="19387" y="2754"/>
                  <a:pt x="19465" y="2853"/>
                  <a:pt x="19546" y="2977"/>
                </a:cubicBezTo>
                <a:cubicBezTo>
                  <a:pt x="19625" y="3097"/>
                  <a:pt x="19647" y="3213"/>
                  <a:pt x="19621" y="3349"/>
                </a:cubicBezTo>
                <a:cubicBezTo>
                  <a:pt x="19598" y="3469"/>
                  <a:pt x="19548" y="3613"/>
                  <a:pt x="19496" y="3721"/>
                </a:cubicBezTo>
                <a:cubicBezTo>
                  <a:pt x="19480" y="3746"/>
                  <a:pt x="19463" y="3770"/>
                  <a:pt x="19447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7286760" y="581040"/>
            <a:ext cx="1081080" cy="1276200"/>
          </a:xfrm>
          <a:custGeom>
            <a:avLst/>
            <a:gdLst/>
            <a:ahLst/>
            <a:rect l="l" t="t" r="r" b="b"/>
            <a:pathLst>
              <a:path w="3002" h="3548">
                <a:moveTo>
                  <a:pt x="20538" y="2902"/>
                </a:moveTo>
                <a:cubicBezTo>
                  <a:pt x="20538" y="3014"/>
                  <a:pt x="20551" y="3117"/>
                  <a:pt x="20563" y="3225"/>
                </a:cubicBezTo>
                <a:cubicBezTo>
                  <a:pt x="20576" y="3342"/>
                  <a:pt x="20557" y="3470"/>
                  <a:pt x="20538" y="3572"/>
                </a:cubicBezTo>
                <a:cubicBezTo>
                  <a:pt x="20538" y="3613"/>
                  <a:pt x="20538" y="3637"/>
                  <a:pt x="20538" y="3597"/>
                </a:cubicBezTo>
              </a:path>
              <a:path w="3002" h="3548">
                <a:moveTo>
                  <a:pt x="20687" y="2977"/>
                </a:moveTo>
                <a:cubicBezTo>
                  <a:pt x="20784" y="2940"/>
                  <a:pt x="20889" y="2958"/>
                  <a:pt x="20985" y="2927"/>
                </a:cubicBezTo>
                <a:cubicBezTo>
                  <a:pt x="21018" y="2916"/>
                  <a:pt x="21053" y="2896"/>
                  <a:pt x="21084" y="2877"/>
                </a:cubicBezTo>
              </a:path>
              <a:path w="3002" h="3548">
                <a:moveTo>
                  <a:pt x="20638" y="3051"/>
                </a:moveTo>
                <a:cubicBezTo>
                  <a:pt x="20581" y="3126"/>
                  <a:pt x="20535" y="3138"/>
                  <a:pt x="20588" y="3175"/>
                </a:cubicBezTo>
                <a:cubicBezTo>
                  <a:pt x="20654" y="3208"/>
                  <a:pt x="20715" y="3180"/>
                  <a:pt x="20786" y="3200"/>
                </a:cubicBezTo>
                <a:cubicBezTo>
                  <a:pt x="20846" y="3217"/>
                  <a:pt x="20892" y="3256"/>
                  <a:pt x="20935" y="3299"/>
                </a:cubicBezTo>
                <a:cubicBezTo>
                  <a:pt x="21009" y="3374"/>
                  <a:pt x="21022" y="3415"/>
                  <a:pt x="20960" y="3497"/>
                </a:cubicBezTo>
                <a:cubicBezTo>
                  <a:pt x="20930" y="3536"/>
                  <a:pt x="20850" y="3564"/>
                  <a:pt x="20811" y="3572"/>
                </a:cubicBezTo>
                <a:cubicBezTo>
                  <a:pt x="20785" y="3577"/>
                  <a:pt x="20683" y="3571"/>
                  <a:pt x="20687" y="3522"/>
                </a:cubicBezTo>
                <a:cubicBezTo>
                  <a:pt x="20695" y="3506"/>
                  <a:pt x="20704" y="3489"/>
                  <a:pt x="20712" y="3473"/>
                </a:cubicBezTo>
              </a:path>
              <a:path w="3002" h="3548">
                <a:moveTo>
                  <a:pt x="21134" y="2803"/>
                </a:moveTo>
                <a:cubicBezTo>
                  <a:pt x="20932" y="2702"/>
                  <a:pt x="20911" y="2742"/>
                  <a:pt x="20687" y="2803"/>
                </a:cubicBezTo>
                <a:cubicBezTo>
                  <a:pt x="20560" y="2838"/>
                  <a:pt x="20452" y="2898"/>
                  <a:pt x="20365" y="3001"/>
                </a:cubicBezTo>
                <a:cubicBezTo>
                  <a:pt x="20304" y="3073"/>
                  <a:pt x="20255" y="3206"/>
                  <a:pt x="20241" y="3299"/>
                </a:cubicBezTo>
                <a:cubicBezTo>
                  <a:pt x="20220" y="3447"/>
                  <a:pt x="20278" y="3548"/>
                  <a:pt x="20414" y="3621"/>
                </a:cubicBezTo>
                <a:cubicBezTo>
                  <a:pt x="20502" y="3668"/>
                  <a:pt x="20570" y="3669"/>
                  <a:pt x="20662" y="3646"/>
                </a:cubicBezTo>
                <a:cubicBezTo>
                  <a:pt x="20761" y="3621"/>
                  <a:pt x="20837" y="3591"/>
                  <a:pt x="20910" y="3522"/>
                </a:cubicBezTo>
                <a:cubicBezTo>
                  <a:pt x="20985" y="3451"/>
                  <a:pt x="21023" y="3395"/>
                  <a:pt x="21059" y="3299"/>
                </a:cubicBezTo>
                <a:cubicBezTo>
                  <a:pt x="21087" y="3225"/>
                  <a:pt x="21105" y="3105"/>
                  <a:pt x="21084" y="3026"/>
                </a:cubicBezTo>
                <a:cubicBezTo>
                  <a:pt x="21064" y="2952"/>
                  <a:pt x="20979" y="2913"/>
                  <a:pt x="20910" y="2902"/>
                </a:cubicBezTo>
                <a:cubicBezTo>
                  <a:pt x="20744" y="2876"/>
                  <a:pt x="20571" y="2939"/>
                  <a:pt x="20414" y="2977"/>
                </a:cubicBezTo>
              </a:path>
              <a:path w="3002" h="3548">
                <a:moveTo>
                  <a:pt x="22101" y="1836"/>
                </a:moveTo>
                <a:cubicBezTo>
                  <a:pt x="22131" y="1776"/>
                  <a:pt x="22087" y="1792"/>
                  <a:pt x="22051" y="1736"/>
                </a:cubicBezTo>
                <a:cubicBezTo>
                  <a:pt x="21997" y="1651"/>
                  <a:pt x="21985" y="1675"/>
                  <a:pt x="21903" y="1637"/>
                </a:cubicBezTo>
                <a:cubicBezTo>
                  <a:pt x="21871" y="1622"/>
                  <a:pt x="21791" y="1588"/>
                  <a:pt x="21779" y="1662"/>
                </a:cubicBezTo>
                <a:cubicBezTo>
                  <a:pt x="21765" y="1749"/>
                  <a:pt x="21777" y="1878"/>
                  <a:pt x="21803" y="1960"/>
                </a:cubicBezTo>
                <a:cubicBezTo>
                  <a:pt x="21829" y="2043"/>
                  <a:pt x="21865" y="2121"/>
                  <a:pt x="21878" y="2208"/>
                </a:cubicBezTo>
                <a:cubicBezTo>
                  <a:pt x="21887" y="2269"/>
                  <a:pt x="21965" y="2393"/>
                  <a:pt x="21927" y="2456"/>
                </a:cubicBezTo>
                <a:cubicBezTo>
                  <a:pt x="21919" y="2456"/>
                  <a:pt x="21911" y="2456"/>
                  <a:pt x="21903" y="2456"/>
                </a:cubicBezTo>
              </a:path>
              <a:path w="3002" h="3548">
                <a:moveTo>
                  <a:pt x="21605" y="2257"/>
                </a:moveTo>
                <a:cubicBezTo>
                  <a:pt x="21741" y="2257"/>
                  <a:pt x="21871" y="2265"/>
                  <a:pt x="22002" y="2232"/>
                </a:cubicBezTo>
                <a:cubicBezTo>
                  <a:pt x="22036" y="2223"/>
                  <a:pt x="22228" y="2166"/>
                  <a:pt x="22250" y="2232"/>
                </a:cubicBezTo>
                <a:cubicBezTo>
                  <a:pt x="22242" y="2232"/>
                  <a:pt x="22233" y="2232"/>
                  <a:pt x="22225" y="2232"/>
                </a:cubicBezTo>
              </a:path>
              <a:path w="3002" h="3548">
                <a:moveTo>
                  <a:pt x="21555" y="2679"/>
                </a:moveTo>
                <a:cubicBezTo>
                  <a:pt x="21647" y="2679"/>
                  <a:pt x="21719" y="2668"/>
                  <a:pt x="21803" y="2654"/>
                </a:cubicBezTo>
                <a:cubicBezTo>
                  <a:pt x="21894" y="2639"/>
                  <a:pt x="21984" y="2619"/>
                  <a:pt x="22076" y="2604"/>
                </a:cubicBezTo>
                <a:cubicBezTo>
                  <a:pt x="22134" y="2595"/>
                  <a:pt x="22155" y="2613"/>
                  <a:pt x="22175" y="2654"/>
                </a:cubicBezTo>
              </a:path>
              <a:path w="3002" h="3548">
                <a:moveTo>
                  <a:pt x="22002" y="2927"/>
                </a:moveTo>
                <a:cubicBezTo>
                  <a:pt x="22002" y="2944"/>
                  <a:pt x="22002" y="2960"/>
                  <a:pt x="22002" y="2977"/>
                </a:cubicBezTo>
                <a:cubicBezTo>
                  <a:pt x="21891" y="2866"/>
                  <a:pt x="21972" y="2853"/>
                  <a:pt x="21729" y="2902"/>
                </a:cubicBezTo>
                <a:cubicBezTo>
                  <a:pt x="21695" y="2909"/>
                  <a:pt x="21637" y="3045"/>
                  <a:pt x="21630" y="3076"/>
                </a:cubicBezTo>
                <a:cubicBezTo>
                  <a:pt x="21619" y="3125"/>
                  <a:pt x="21645" y="3233"/>
                  <a:pt x="21704" y="3249"/>
                </a:cubicBezTo>
                <a:cubicBezTo>
                  <a:pt x="21763" y="3265"/>
                  <a:pt x="21792" y="3211"/>
                  <a:pt x="21828" y="3175"/>
                </a:cubicBezTo>
                <a:cubicBezTo>
                  <a:pt x="21878" y="3125"/>
                  <a:pt x="21899" y="3098"/>
                  <a:pt x="21903" y="3026"/>
                </a:cubicBezTo>
                <a:cubicBezTo>
                  <a:pt x="21910" y="2896"/>
                  <a:pt x="21899" y="3101"/>
                  <a:pt x="21903" y="3125"/>
                </a:cubicBezTo>
                <a:cubicBezTo>
                  <a:pt x="21916" y="3203"/>
                  <a:pt x="21928" y="3301"/>
                  <a:pt x="21952" y="3373"/>
                </a:cubicBezTo>
                <a:cubicBezTo>
                  <a:pt x="21980" y="3455"/>
                  <a:pt x="21998" y="3531"/>
                  <a:pt x="22002" y="3621"/>
                </a:cubicBezTo>
                <a:cubicBezTo>
                  <a:pt x="22005" y="3693"/>
                  <a:pt x="21972" y="3787"/>
                  <a:pt x="21927" y="3845"/>
                </a:cubicBezTo>
                <a:cubicBezTo>
                  <a:pt x="21888" y="3895"/>
                  <a:pt x="21792" y="3955"/>
                  <a:pt x="21729" y="3969"/>
                </a:cubicBezTo>
                <a:cubicBezTo>
                  <a:pt x="21712" y="3969"/>
                  <a:pt x="21696" y="3969"/>
                  <a:pt x="21679" y="3969"/>
                </a:cubicBezTo>
              </a:path>
              <a:path w="3002" h="3548">
                <a:moveTo>
                  <a:pt x="21233" y="1836"/>
                </a:moveTo>
                <a:cubicBezTo>
                  <a:pt x="21185" y="1980"/>
                  <a:pt x="21125" y="2130"/>
                  <a:pt x="21109" y="2282"/>
                </a:cubicBezTo>
                <a:cubicBezTo>
                  <a:pt x="21095" y="2418"/>
                  <a:pt x="21123" y="2547"/>
                  <a:pt x="21134" y="2679"/>
                </a:cubicBezTo>
                <a:cubicBezTo>
                  <a:pt x="21144" y="2799"/>
                  <a:pt x="21153" y="2935"/>
                  <a:pt x="21183" y="3051"/>
                </a:cubicBezTo>
                <a:cubicBezTo>
                  <a:pt x="21225" y="3214"/>
                  <a:pt x="21273" y="3248"/>
                  <a:pt x="21382" y="3349"/>
                </a:cubicBezTo>
                <a:cubicBezTo>
                  <a:pt x="21424" y="3388"/>
                  <a:pt x="21473" y="3373"/>
                  <a:pt x="21530" y="3373"/>
                </a:cubicBezTo>
              </a:path>
              <a:path w="3002" h="3548">
                <a:moveTo>
                  <a:pt x="22101" y="1860"/>
                </a:moveTo>
                <a:cubicBezTo>
                  <a:pt x="22136" y="1963"/>
                  <a:pt x="22169" y="2063"/>
                  <a:pt x="22225" y="2158"/>
                </a:cubicBezTo>
                <a:cubicBezTo>
                  <a:pt x="22297" y="2280"/>
                  <a:pt x="22361" y="2392"/>
                  <a:pt x="22399" y="2530"/>
                </a:cubicBezTo>
                <a:cubicBezTo>
                  <a:pt x="22434" y="2658"/>
                  <a:pt x="22460" y="2749"/>
                  <a:pt x="22423" y="2877"/>
                </a:cubicBezTo>
                <a:cubicBezTo>
                  <a:pt x="22396" y="2970"/>
                  <a:pt x="22366" y="3063"/>
                  <a:pt x="22324" y="3150"/>
                </a:cubicBezTo>
                <a:cubicBezTo>
                  <a:pt x="22299" y="3202"/>
                  <a:pt x="22234" y="3257"/>
                  <a:pt x="22275" y="3175"/>
                </a:cubicBezTo>
              </a:path>
              <a:path w="3002" h="3548">
                <a:moveTo>
                  <a:pt x="22920" y="1960"/>
                </a:moveTo>
                <a:cubicBezTo>
                  <a:pt x="23001" y="1953"/>
                  <a:pt x="23067" y="1920"/>
                  <a:pt x="23143" y="1910"/>
                </a:cubicBezTo>
                <a:cubicBezTo>
                  <a:pt x="23201" y="1910"/>
                  <a:pt x="23209" y="1910"/>
                  <a:pt x="23242" y="1910"/>
                </a:cubicBezTo>
              </a:path>
              <a:path w="3002" h="3548">
                <a:moveTo>
                  <a:pt x="22845" y="2034"/>
                </a:moveTo>
                <a:cubicBezTo>
                  <a:pt x="22829" y="2063"/>
                  <a:pt x="22739" y="2201"/>
                  <a:pt x="22820" y="2232"/>
                </a:cubicBezTo>
                <a:cubicBezTo>
                  <a:pt x="22901" y="2263"/>
                  <a:pt x="22985" y="2221"/>
                  <a:pt x="23068" y="2282"/>
                </a:cubicBezTo>
                <a:cubicBezTo>
                  <a:pt x="23136" y="2332"/>
                  <a:pt x="23172" y="2383"/>
                  <a:pt x="23118" y="2456"/>
                </a:cubicBezTo>
                <a:cubicBezTo>
                  <a:pt x="23063" y="2530"/>
                  <a:pt x="22994" y="2537"/>
                  <a:pt x="22920" y="2580"/>
                </a:cubicBezTo>
                <a:cubicBezTo>
                  <a:pt x="22834" y="2630"/>
                  <a:pt x="22769" y="2687"/>
                  <a:pt x="22696" y="2753"/>
                </a:cubicBezTo>
              </a:path>
              <a:path w="3002" h="3548">
                <a:moveTo>
                  <a:pt x="21034" y="4564"/>
                </a:moveTo>
                <a:cubicBezTo>
                  <a:pt x="20995" y="4523"/>
                  <a:pt x="20951" y="4502"/>
                  <a:pt x="20910" y="4465"/>
                </a:cubicBezTo>
                <a:cubicBezTo>
                  <a:pt x="20884" y="4442"/>
                  <a:pt x="20861" y="4415"/>
                  <a:pt x="20836" y="4390"/>
                </a:cubicBezTo>
                <a:cubicBezTo>
                  <a:pt x="20778" y="4448"/>
                  <a:pt x="20786" y="4482"/>
                  <a:pt x="20786" y="4564"/>
                </a:cubicBezTo>
                <a:cubicBezTo>
                  <a:pt x="20786" y="4653"/>
                  <a:pt x="20787" y="4753"/>
                  <a:pt x="20811" y="4837"/>
                </a:cubicBezTo>
                <a:cubicBezTo>
                  <a:pt x="20832" y="4911"/>
                  <a:pt x="20841" y="4989"/>
                  <a:pt x="20861" y="5060"/>
                </a:cubicBezTo>
                <a:cubicBezTo>
                  <a:pt x="20885" y="5108"/>
                  <a:pt x="20893" y="5122"/>
                  <a:pt x="20886" y="5159"/>
                </a:cubicBezTo>
              </a:path>
              <a:path w="3002" h="3548">
                <a:moveTo>
                  <a:pt x="20712" y="4961"/>
                </a:moveTo>
                <a:cubicBezTo>
                  <a:pt x="20795" y="4933"/>
                  <a:pt x="20914" y="4922"/>
                  <a:pt x="20985" y="4887"/>
                </a:cubicBezTo>
                <a:cubicBezTo>
                  <a:pt x="21013" y="4859"/>
                  <a:pt x="21026" y="4850"/>
                  <a:pt x="21059" y="4862"/>
                </a:cubicBezTo>
              </a:path>
              <a:path w="3002" h="3548">
                <a:moveTo>
                  <a:pt x="21158" y="4589"/>
                </a:moveTo>
                <a:cubicBezTo>
                  <a:pt x="21140" y="4680"/>
                  <a:pt x="21113" y="4772"/>
                  <a:pt x="21109" y="4862"/>
                </a:cubicBezTo>
                <a:cubicBezTo>
                  <a:pt x="21105" y="4956"/>
                  <a:pt x="21114" y="5005"/>
                  <a:pt x="21158" y="5085"/>
                </a:cubicBezTo>
                <a:cubicBezTo>
                  <a:pt x="21201" y="5163"/>
                  <a:pt x="21205" y="5154"/>
                  <a:pt x="21282" y="5135"/>
                </a:cubicBezTo>
              </a:path>
              <a:path w="3002" h="3548">
                <a:moveTo>
                  <a:pt x="21406" y="4638"/>
                </a:moveTo>
                <a:cubicBezTo>
                  <a:pt x="21463" y="4618"/>
                  <a:pt x="21532" y="4613"/>
                  <a:pt x="21580" y="4589"/>
                </a:cubicBezTo>
                <a:cubicBezTo>
                  <a:pt x="21608" y="4561"/>
                  <a:pt x="21621" y="4552"/>
                  <a:pt x="21654" y="4564"/>
                </a:cubicBezTo>
              </a:path>
              <a:path w="3002" h="3548">
                <a:moveTo>
                  <a:pt x="21307" y="4762"/>
                </a:moveTo>
                <a:cubicBezTo>
                  <a:pt x="21307" y="4824"/>
                  <a:pt x="21298" y="4839"/>
                  <a:pt x="21332" y="4862"/>
                </a:cubicBezTo>
                <a:cubicBezTo>
                  <a:pt x="21434" y="4823"/>
                  <a:pt x="21433" y="4865"/>
                  <a:pt x="21530" y="4887"/>
                </a:cubicBezTo>
                <a:cubicBezTo>
                  <a:pt x="21594" y="4901"/>
                  <a:pt x="21639" y="4924"/>
                  <a:pt x="21605" y="5011"/>
                </a:cubicBezTo>
                <a:cubicBezTo>
                  <a:pt x="21593" y="5041"/>
                  <a:pt x="21506" y="5103"/>
                  <a:pt x="21481" y="5110"/>
                </a:cubicBezTo>
                <a:cubicBezTo>
                  <a:pt x="21417" y="5127"/>
                  <a:pt x="21357" y="5109"/>
                  <a:pt x="21332" y="5060"/>
                </a:cubicBezTo>
              </a:path>
              <a:path w="3002" h="3548">
                <a:moveTo>
                  <a:pt x="21679" y="4366"/>
                </a:moveTo>
                <a:cubicBezTo>
                  <a:pt x="21882" y="4421"/>
                  <a:pt x="21924" y="4408"/>
                  <a:pt x="22027" y="4564"/>
                </a:cubicBezTo>
                <a:cubicBezTo>
                  <a:pt x="22080" y="4645"/>
                  <a:pt x="22085" y="4697"/>
                  <a:pt x="22051" y="4787"/>
                </a:cubicBezTo>
                <a:cubicBezTo>
                  <a:pt x="22029" y="4845"/>
                  <a:pt x="21975" y="4924"/>
                  <a:pt x="21927" y="4961"/>
                </a:cubicBezTo>
                <a:cubicBezTo>
                  <a:pt x="21878" y="4986"/>
                  <a:pt x="21862" y="4994"/>
                  <a:pt x="21853" y="50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1295280" y="1866960"/>
            <a:ext cx="839880" cy="579240"/>
          </a:xfrm>
          <a:custGeom>
            <a:avLst/>
            <a:gdLst/>
            <a:ahLst/>
            <a:rect l="l" t="t" r="r" b="b"/>
            <a:pathLst>
              <a:path w="2332" h="1613">
                <a:moveTo>
                  <a:pt x="4093" y="5779"/>
                </a:moveTo>
                <a:cubicBezTo>
                  <a:pt x="4093" y="5796"/>
                  <a:pt x="4093" y="5812"/>
                  <a:pt x="4093" y="5829"/>
                </a:cubicBezTo>
                <a:cubicBezTo>
                  <a:pt x="4048" y="5773"/>
                  <a:pt x="4025" y="5748"/>
                  <a:pt x="3969" y="5705"/>
                </a:cubicBezTo>
                <a:cubicBezTo>
                  <a:pt x="3931" y="5676"/>
                  <a:pt x="3904" y="5607"/>
                  <a:pt x="3845" y="5631"/>
                </a:cubicBezTo>
                <a:cubicBezTo>
                  <a:pt x="3755" y="5668"/>
                  <a:pt x="3749" y="5708"/>
                  <a:pt x="3696" y="5779"/>
                </a:cubicBezTo>
                <a:cubicBezTo>
                  <a:pt x="3628" y="5869"/>
                  <a:pt x="3602" y="5936"/>
                  <a:pt x="3597" y="6052"/>
                </a:cubicBezTo>
                <a:cubicBezTo>
                  <a:pt x="3594" y="6120"/>
                  <a:pt x="3594" y="6181"/>
                  <a:pt x="3671" y="6201"/>
                </a:cubicBezTo>
                <a:cubicBezTo>
                  <a:pt x="3808" y="6237"/>
                  <a:pt x="3929" y="6140"/>
                  <a:pt x="4018" y="6052"/>
                </a:cubicBezTo>
                <a:cubicBezTo>
                  <a:pt x="4040" y="6030"/>
                  <a:pt x="4109" y="5958"/>
                  <a:pt x="4118" y="5928"/>
                </a:cubicBezTo>
                <a:cubicBezTo>
                  <a:pt x="4118" y="5912"/>
                  <a:pt x="4118" y="5895"/>
                  <a:pt x="4118" y="5879"/>
                </a:cubicBezTo>
                <a:cubicBezTo>
                  <a:pt x="4118" y="6015"/>
                  <a:pt x="4128" y="6144"/>
                  <a:pt x="4142" y="6276"/>
                </a:cubicBezTo>
                <a:cubicBezTo>
                  <a:pt x="4153" y="6374"/>
                  <a:pt x="4165" y="6536"/>
                  <a:pt x="4118" y="6623"/>
                </a:cubicBezTo>
                <a:cubicBezTo>
                  <a:pt x="4084" y="6685"/>
                  <a:pt x="4016" y="6776"/>
                  <a:pt x="3944" y="6796"/>
                </a:cubicBezTo>
                <a:cubicBezTo>
                  <a:pt x="3857" y="6820"/>
                  <a:pt x="3805" y="6774"/>
                  <a:pt x="3746" y="6722"/>
                </a:cubicBezTo>
              </a:path>
              <a:path w="2332" h="1613">
                <a:moveTo>
                  <a:pt x="4539" y="5432"/>
                </a:moveTo>
                <a:cubicBezTo>
                  <a:pt x="4539" y="5553"/>
                  <a:pt x="4522" y="5638"/>
                  <a:pt x="4490" y="5755"/>
                </a:cubicBezTo>
                <a:cubicBezTo>
                  <a:pt x="4460" y="5865"/>
                  <a:pt x="4420" y="5945"/>
                  <a:pt x="4465" y="6052"/>
                </a:cubicBezTo>
                <a:cubicBezTo>
                  <a:pt x="4496" y="6126"/>
                  <a:pt x="4529" y="6182"/>
                  <a:pt x="4614" y="6201"/>
                </a:cubicBezTo>
                <a:cubicBezTo>
                  <a:pt x="4689" y="6218"/>
                  <a:pt x="4748" y="6184"/>
                  <a:pt x="4812" y="6152"/>
                </a:cubicBezTo>
                <a:cubicBezTo>
                  <a:pt x="4829" y="6144"/>
                  <a:pt x="4845" y="6135"/>
                  <a:pt x="4862" y="6127"/>
                </a:cubicBezTo>
              </a:path>
              <a:path w="2332" h="1613">
                <a:moveTo>
                  <a:pt x="4911" y="5854"/>
                </a:moveTo>
                <a:cubicBezTo>
                  <a:pt x="4975" y="6007"/>
                  <a:pt x="4968" y="5996"/>
                  <a:pt x="5085" y="6077"/>
                </a:cubicBezTo>
                <a:cubicBezTo>
                  <a:pt x="5135" y="6111"/>
                  <a:pt x="5185" y="6117"/>
                  <a:pt x="5234" y="6077"/>
                </a:cubicBezTo>
                <a:cubicBezTo>
                  <a:pt x="5242" y="6069"/>
                  <a:pt x="5251" y="6060"/>
                  <a:pt x="5259" y="6052"/>
                </a:cubicBezTo>
              </a:path>
              <a:path w="2332" h="1613">
                <a:moveTo>
                  <a:pt x="4986" y="5655"/>
                </a:moveTo>
                <a:cubicBezTo>
                  <a:pt x="4908" y="5773"/>
                  <a:pt x="4827" y="5882"/>
                  <a:pt x="4762" y="6003"/>
                </a:cubicBezTo>
                <a:cubicBezTo>
                  <a:pt x="4727" y="6069"/>
                  <a:pt x="4684" y="6123"/>
                  <a:pt x="4713" y="6152"/>
                </a:cubicBezTo>
              </a:path>
              <a:path w="2332" h="1613">
                <a:moveTo>
                  <a:pt x="4911" y="5209"/>
                </a:moveTo>
                <a:cubicBezTo>
                  <a:pt x="4991" y="5193"/>
                  <a:pt x="5056" y="5206"/>
                  <a:pt x="5135" y="5259"/>
                </a:cubicBezTo>
                <a:cubicBezTo>
                  <a:pt x="5229" y="5321"/>
                  <a:pt x="5307" y="5450"/>
                  <a:pt x="5333" y="5556"/>
                </a:cubicBezTo>
                <a:cubicBezTo>
                  <a:pt x="5356" y="5650"/>
                  <a:pt x="5315" y="5767"/>
                  <a:pt x="5283" y="5854"/>
                </a:cubicBezTo>
                <a:cubicBezTo>
                  <a:pt x="5260" y="5915"/>
                  <a:pt x="5204" y="5932"/>
                  <a:pt x="5159" y="5978"/>
                </a:cubicBezTo>
                <a:cubicBezTo>
                  <a:pt x="5131" y="6007"/>
                  <a:pt x="5118" y="6015"/>
                  <a:pt x="5085" y="6003"/>
                </a:cubicBezTo>
              </a:path>
              <a:path w="2332" h="1613">
                <a:moveTo>
                  <a:pt x="5606" y="5730"/>
                </a:moveTo>
                <a:cubicBezTo>
                  <a:pt x="5713" y="5730"/>
                  <a:pt x="5821" y="5730"/>
                  <a:pt x="5928" y="5730"/>
                </a:cubicBezTo>
              </a:path>
              <a:path w="2332" h="1613">
                <a:moveTo>
                  <a:pt x="5631" y="5928"/>
                </a:moveTo>
                <a:cubicBezTo>
                  <a:pt x="5688" y="5922"/>
                  <a:pt x="5833" y="5930"/>
                  <a:pt x="5879" y="5904"/>
                </a:cubicBezTo>
                <a:cubicBezTo>
                  <a:pt x="5879" y="5879"/>
                  <a:pt x="5879" y="5871"/>
                  <a:pt x="5904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2313000" y="1857240"/>
            <a:ext cx="517680" cy="312840"/>
          </a:xfrm>
          <a:custGeom>
            <a:avLst/>
            <a:gdLst/>
            <a:ahLst/>
            <a:rect l="l" t="t" r="r" b="b"/>
            <a:pathLst>
              <a:path w="1440" h="870">
                <a:moveTo>
                  <a:pt x="6424" y="5407"/>
                </a:moveTo>
                <a:cubicBezTo>
                  <a:pt x="6471" y="5501"/>
                  <a:pt x="6517" y="5571"/>
                  <a:pt x="6573" y="5655"/>
                </a:cubicBezTo>
                <a:cubicBezTo>
                  <a:pt x="6624" y="5732"/>
                  <a:pt x="6672" y="5801"/>
                  <a:pt x="6747" y="5854"/>
                </a:cubicBezTo>
                <a:cubicBezTo>
                  <a:pt x="6812" y="5899"/>
                  <a:pt x="6909" y="5971"/>
                  <a:pt x="6995" y="5953"/>
                </a:cubicBezTo>
                <a:cubicBezTo>
                  <a:pt x="7012" y="5945"/>
                  <a:pt x="7028" y="5936"/>
                  <a:pt x="7045" y="5928"/>
                </a:cubicBezTo>
              </a:path>
              <a:path w="1440" h="870">
                <a:moveTo>
                  <a:pt x="6921" y="5457"/>
                </a:moveTo>
                <a:cubicBezTo>
                  <a:pt x="6814" y="5585"/>
                  <a:pt x="6736" y="5694"/>
                  <a:pt x="6648" y="5829"/>
                </a:cubicBezTo>
                <a:cubicBezTo>
                  <a:pt x="6607" y="5892"/>
                  <a:pt x="6576" y="5950"/>
                  <a:pt x="6524" y="6003"/>
                </a:cubicBezTo>
                <a:cubicBezTo>
                  <a:pt x="6501" y="6026"/>
                  <a:pt x="6490" y="6034"/>
                  <a:pt x="6524" y="6028"/>
                </a:cubicBezTo>
              </a:path>
              <a:path w="1440" h="870">
                <a:moveTo>
                  <a:pt x="6896" y="5705"/>
                </a:moveTo>
                <a:cubicBezTo>
                  <a:pt x="7048" y="5683"/>
                  <a:pt x="7194" y="5670"/>
                  <a:pt x="7342" y="5631"/>
                </a:cubicBezTo>
              </a:path>
              <a:path w="1440" h="870">
                <a:moveTo>
                  <a:pt x="7640" y="5432"/>
                </a:moveTo>
                <a:cubicBezTo>
                  <a:pt x="7592" y="5516"/>
                  <a:pt x="7569" y="5517"/>
                  <a:pt x="7640" y="5581"/>
                </a:cubicBezTo>
                <a:cubicBezTo>
                  <a:pt x="7684" y="5621"/>
                  <a:pt x="7729" y="5606"/>
                  <a:pt x="7789" y="5606"/>
                </a:cubicBezTo>
              </a:path>
              <a:path w="1440" h="870">
                <a:moveTo>
                  <a:pt x="7863" y="5159"/>
                </a:moveTo>
                <a:cubicBezTo>
                  <a:pt x="7819" y="5291"/>
                  <a:pt x="7782" y="5424"/>
                  <a:pt x="7739" y="5556"/>
                </a:cubicBezTo>
                <a:cubicBezTo>
                  <a:pt x="7704" y="5663"/>
                  <a:pt x="7716" y="5770"/>
                  <a:pt x="7689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3911760" y="1830240"/>
            <a:ext cx="1330200" cy="554040"/>
          </a:xfrm>
          <a:custGeom>
            <a:avLst/>
            <a:gdLst/>
            <a:ahLst/>
            <a:rect l="l" t="t" r="r" b="b"/>
            <a:pathLst>
              <a:path w="3697" h="1539">
                <a:moveTo>
                  <a:pt x="11261" y="5234"/>
                </a:moveTo>
                <a:cubicBezTo>
                  <a:pt x="11292" y="5285"/>
                  <a:pt x="11292" y="5282"/>
                  <a:pt x="11261" y="5333"/>
                </a:cubicBezTo>
                <a:cubicBezTo>
                  <a:pt x="11220" y="5290"/>
                  <a:pt x="11178" y="5219"/>
                  <a:pt x="11137" y="5184"/>
                </a:cubicBezTo>
                <a:cubicBezTo>
                  <a:pt x="11089" y="5160"/>
                  <a:pt x="11075" y="5151"/>
                  <a:pt x="11038" y="5159"/>
                </a:cubicBezTo>
                <a:cubicBezTo>
                  <a:pt x="11028" y="5231"/>
                  <a:pt x="11029" y="5245"/>
                  <a:pt x="11038" y="5308"/>
                </a:cubicBezTo>
                <a:cubicBezTo>
                  <a:pt x="11052" y="5401"/>
                  <a:pt x="11056" y="5489"/>
                  <a:pt x="11088" y="5581"/>
                </a:cubicBezTo>
                <a:cubicBezTo>
                  <a:pt x="11127" y="5692"/>
                  <a:pt x="11158" y="5789"/>
                  <a:pt x="11162" y="5904"/>
                </a:cubicBezTo>
                <a:cubicBezTo>
                  <a:pt x="11165" y="5977"/>
                  <a:pt x="11172" y="6044"/>
                  <a:pt x="11137" y="6102"/>
                </a:cubicBezTo>
              </a:path>
              <a:path w="3697" h="1539">
                <a:moveTo>
                  <a:pt x="10864" y="5804"/>
                </a:moveTo>
                <a:cubicBezTo>
                  <a:pt x="10949" y="5796"/>
                  <a:pt x="11032" y="5765"/>
                  <a:pt x="11112" y="5755"/>
                </a:cubicBezTo>
                <a:cubicBezTo>
                  <a:pt x="11194" y="5745"/>
                  <a:pt x="11255" y="5732"/>
                  <a:pt x="11336" y="5705"/>
                </a:cubicBezTo>
              </a:path>
              <a:path w="3697" h="1539">
                <a:moveTo>
                  <a:pt x="11609" y="5283"/>
                </a:moveTo>
                <a:cubicBezTo>
                  <a:pt x="11591" y="5405"/>
                  <a:pt x="11585" y="5537"/>
                  <a:pt x="11559" y="5655"/>
                </a:cubicBezTo>
                <a:cubicBezTo>
                  <a:pt x="11538" y="5750"/>
                  <a:pt x="11534" y="5830"/>
                  <a:pt x="11534" y="5928"/>
                </a:cubicBezTo>
                <a:cubicBezTo>
                  <a:pt x="11534" y="6030"/>
                  <a:pt x="11545" y="6017"/>
                  <a:pt x="11633" y="6028"/>
                </a:cubicBezTo>
              </a:path>
              <a:path w="3697" h="1539">
                <a:moveTo>
                  <a:pt x="11807" y="5581"/>
                </a:moveTo>
                <a:cubicBezTo>
                  <a:pt x="11807" y="5684"/>
                  <a:pt x="11784" y="5869"/>
                  <a:pt x="11832" y="5953"/>
                </a:cubicBezTo>
                <a:cubicBezTo>
                  <a:pt x="11840" y="5961"/>
                  <a:pt x="11849" y="5970"/>
                  <a:pt x="11857" y="5978"/>
                </a:cubicBezTo>
                <a:cubicBezTo>
                  <a:pt x="11938" y="5968"/>
                  <a:pt x="11963" y="5950"/>
                  <a:pt x="12005" y="5879"/>
                </a:cubicBezTo>
                <a:cubicBezTo>
                  <a:pt x="12046" y="5810"/>
                  <a:pt x="12035" y="5749"/>
                  <a:pt x="12005" y="5680"/>
                </a:cubicBezTo>
                <a:cubicBezTo>
                  <a:pt x="11967" y="5594"/>
                  <a:pt x="11920" y="5591"/>
                  <a:pt x="11832" y="5581"/>
                </a:cubicBezTo>
              </a:path>
              <a:path w="3697" h="1539">
                <a:moveTo>
                  <a:pt x="12080" y="5283"/>
                </a:moveTo>
                <a:cubicBezTo>
                  <a:pt x="12133" y="5368"/>
                  <a:pt x="12197" y="5428"/>
                  <a:pt x="12254" y="5507"/>
                </a:cubicBezTo>
                <a:cubicBezTo>
                  <a:pt x="12300" y="5571"/>
                  <a:pt x="12333" y="5664"/>
                  <a:pt x="12353" y="5730"/>
                </a:cubicBezTo>
                <a:cubicBezTo>
                  <a:pt x="12377" y="5809"/>
                  <a:pt x="12390" y="5902"/>
                  <a:pt x="12353" y="5978"/>
                </a:cubicBezTo>
                <a:cubicBezTo>
                  <a:pt x="12351" y="5983"/>
                  <a:pt x="12256" y="6159"/>
                  <a:pt x="12229" y="6152"/>
                </a:cubicBezTo>
                <a:cubicBezTo>
                  <a:pt x="12229" y="6144"/>
                  <a:pt x="12229" y="6135"/>
                  <a:pt x="12229" y="6127"/>
                </a:cubicBezTo>
              </a:path>
              <a:path w="3697" h="1539">
                <a:moveTo>
                  <a:pt x="12526" y="5730"/>
                </a:moveTo>
                <a:cubicBezTo>
                  <a:pt x="12634" y="5730"/>
                  <a:pt x="12724" y="5728"/>
                  <a:pt x="12824" y="5705"/>
                </a:cubicBezTo>
                <a:cubicBezTo>
                  <a:pt x="12832" y="5705"/>
                  <a:pt x="12841" y="5705"/>
                  <a:pt x="12849" y="5705"/>
                </a:cubicBezTo>
              </a:path>
              <a:path w="3697" h="1539">
                <a:moveTo>
                  <a:pt x="13469" y="5581"/>
                </a:moveTo>
                <a:cubicBezTo>
                  <a:pt x="13413" y="5553"/>
                  <a:pt x="13337" y="5493"/>
                  <a:pt x="13271" y="5507"/>
                </a:cubicBezTo>
                <a:cubicBezTo>
                  <a:pt x="13194" y="5524"/>
                  <a:pt x="13169" y="5670"/>
                  <a:pt x="13146" y="5730"/>
                </a:cubicBezTo>
                <a:cubicBezTo>
                  <a:pt x="13117" y="5807"/>
                  <a:pt x="13111" y="5861"/>
                  <a:pt x="13146" y="5928"/>
                </a:cubicBezTo>
                <a:cubicBezTo>
                  <a:pt x="13154" y="5945"/>
                  <a:pt x="13163" y="5961"/>
                  <a:pt x="13171" y="5978"/>
                </a:cubicBezTo>
                <a:cubicBezTo>
                  <a:pt x="13270" y="5929"/>
                  <a:pt x="13283" y="5911"/>
                  <a:pt x="13320" y="5804"/>
                </a:cubicBezTo>
                <a:cubicBezTo>
                  <a:pt x="13341" y="5743"/>
                  <a:pt x="13341" y="5703"/>
                  <a:pt x="13370" y="5655"/>
                </a:cubicBezTo>
                <a:cubicBezTo>
                  <a:pt x="13405" y="5714"/>
                  <a:pt x="13398" y="5787"/>
                  <a:pt x="13419" y="5854"/>
                </a:cubicBezTo>
                <a:cubicBezTo>
                  <a:pt x="13440" y="5921"/>
                  <a:pt x="13485" y="5982"/>
                  <a:pt x="13494" y="6052"/>
                </a:cubicBezTo>
                <a:cubicBezTo>
                  <a:pt x="13507" y="6148"/>
                  <a:pt x="13525" y="6207"/>
                  <a:pt x="13494" y="6300"/>
                </a:cubicBezTo>
                <a:cubicBezTo>
                  <a:pt x="13454" y="6419"/>
                  <a:pt x="13398" y="6505"/>
                  <a:pt x="13295" y="6573"/>
                </a:cubicBezTo>
                <a:cubicBezTo>
                  <a:pt x="13236" y="6613"/>
                  <a:pt x="13180" y="6645"/>
                  <a:pt x="13122" y="6598"/>
                </a:cubicBezTo>
                <a:cubicBezTo>
                  <a:pt x="13092" y="6568"/>
                  <a:pt x="13081" y="6554"/>
                  <a:pt x="13072" y="6524"/>
                </a:cubicBezTo>
              </a:path>
              <a:path w="3697" h="1539">
                <a:moveTo>
                  <a:pt x="13791" y="5184"/>
                </a:moveTo>
                <a:cubicBezTo>
                  <a:pt x="13791" y="5304"/>
                  <a:pt x="13798" y="5414"/>
                  <a:pt x="13767" y="5531"/>
                </a:cubicBezTo>
                <a:cubicBezTo>
                  <a:pt x="13736" y="5647"/>
                  <a:pt x="13697" y="5732"/>
                  <a:pt x="13692" y="5854"/>
                </a:cubicBezTo>
                <a:cubicBezTo>
                  <a:pt x="13690" y="5909"/>
                  <a:pt x="13713" y="6004"/>
                  <a:pt x="13791" y="5978"/>
                </a:cubicBezTo>
                <a:cubicBezTo>
                  <a:pt x="13799" y="5970"/>
                  <a:pt x="13808" y="5961"/>
                  <a:pt x="13816" y="5953"/>
                </a:cubicBezTo>
              </a:path>
              <a:path w="3697" h="1539">
                <a:moveTo>
                  <a:pt x="14039" y="5556"/>
                </a:moveTo>
                <a:cubicBezTo>
                  <a:pt x="14027" y="5696"/>
                  <a:pt x="13979" y="5800"/>
                  <a:pt x="14039" y="5904"/>
                </a:cubicBezTo>
                <a:cubicBezTo>
                  <a:pt x="14115" y="5893"/>
                  <a:pt x="14142" y="5847"/>
                  <a:pt x="14188" y="5779"/>
                </a:cubicBezTo>
                <a:cubicBezTo>
                  <a:pt x="14233" y="5712"/>
                  <a:pt x="14238" y="5659"/>
                  <a:pt x="14238" y="5581"/>
                </a:cubicBezTo>
                <a:cubicBezTo>
                  <a:pt x="14238" y="5499"/>
                  <a:pt x="14198" y="5501"/>
                  <a:pt x="14139" y="5457"/>
                </a:cubicBezTo>
                <a:cubicBezTo>
                  <a:pt x="14131" y="5449"/>
                  <a:pt x="14122" y="5440"/>
                  <a:pt x="14114" y="5432"/>
                </a:cubicBezTo>
              </a:path>
              <a:path w="3697" h="1539">
                <a:moveTo>
                  <a:pt x="14362" y="5085"/>
                </a:moveTo>
                <a:cubicBezTo>
                  <a:pt x="14408" y="5176"/>
                  <a:pt x="14446" y="5265"/>
                  <a:pt x="14486" y="5358"/>
                </a:cubicBezTo>
                <a:cubicBezTo>
                  <a:pt x="14527" y="5452"/>
                  <a:pt x="14515" y="5556"/>
                  <a:pt x="14536" y="5655"/>
                </a:cubicBezTo>
                <a:cubicBezTo>
                  <a:pt x="14556" y="5750"/>
                  <a:pt x="14547" y="5834"/>
                  <a:pt x="14511" y="5928"/>
                </a:cubicBezTo>
                <a:cubicBezTo>
                  <a:pt x="14477" y="6017"/>
                  <a:pt x="14412" y="6065"/>
                  <a:pt x="14362" y="6127"/>
                </a:cubicBezTo>
                <a:cubicBezTo>
                  <a:pt x="14327" y="6170"/>
                  <a:pt x="14307" y="6190"/>
                  <a:pt x="14263" y="6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6134040" y="1652760"/>
            <a:ext cx="1081080" cy="633240"/>
          </a:xfrm>
          <a:custGeom>
            <a:avLst/>
            <a:gdLst/>
            <a:ahLst/>
            <a:rect l="l" t="t" r="r" b="b"/>
            <a:pathLst>
              <a:path w="3002" h="1762">
                <a:moveTo>
                  <a:pt x="17338" y="5333"/>
                </a:moveTo>
                <a:cubicBezTo>
                  <a:pt x="17289" y="5282"/>
                  <a:pt x="17291" y="5263"/>
                  <a:pt x="17264" y="5209"/>
                </a:cubicBezTo>
                <a:cubicBezTo>
                  <a:pt x="17240" y="5161"/>
                  <a:pt x="17211" y="5103"/>
                  <a:pt x="17190" y="5060"/>
                </a:cubicBezTo>
                <a:cubicBezTo>
                  <a:pt x="17168" y="5015"/>
                  <a:pt x="17126" y="4972"/>
                  <a:pt x="17090" y="4936"/>
                </a:cubicBezTo>
                <a:cubicBezTo>
                  <a:pt x="17090" y="5087"/>
                  <a:pt x="17082" y="5235"/>
                  <a:pt x="17115" y="5383"/>
                </a:cubicBezTo>
                <a:cubicBezTo>
                  <a:pt x="17136" y="5475"/>
                  <a:pt x="17164" y="5565"/>
                  <a:pt x="17190" y="5655"/>
                </a:cubicBezTo>
                <a:cubicBezTo>
                  <a:pt x="17211" y="5729"/>
                  <a:pt x="17235" y="5804"/>
                  <a:pt x="17239" y="5879"/>
                </a:cubicBezTo>
                <a:cubicBezTo>
                  <a:pt x="17239" y="5895"/>
                  <a:pt x="17239" y="5912"/>
                  <a:pt x="17239" y="5928"/>
                </a:cubicBezTo>
              </a:path>
              <a:path w="3002" h="1762">
                <a:moveTo>
                  <a:pt x="17041" y="5655"/>
                </a:moveTo>
                <a:cubicBezTo>
                  <a:pt x="17132" y="5655"/>
                  <a:pt x="17229" y="5659"/>
                  <a:pt x="17314" y="5631"/>
                </a:cubicBezTo>
                <a:cubicBezTo>
                  <a:pt x="17330" y="5623"/>
                  <a:pt x="17347" y="5614"/>
                  <a:pt x="17363" y="5606"/>
                </a:cubicBezTo>
              </a:path>
              <a:path w="3002" h="1762">
                <a:moveTo>
                  <a:pt x="17611" y="5085"/>
                </a:moveTo>
                <a:cubicBezTo>
                  <a:pt x="17584" y="5189"/>
                  <a:pt x="17547" y="5301"/>
                  <a:pt x="17537" y="5407"/>
                </a:cubicBezTo>
                <a:cubicBezTo>
                  <a:pt x="17526" y="5528"/>
                  <a:pt x="17543" y="5642"/>
                  <a:pt x="17562" y="5755"/>
                </a:cubicBezTo>
                <a:cubicBezTo>
                  <a:pt x="17574" y="5829"/>
                  <a:pt x="17582" y="5847"/>
                  <a:pt x="17661" y="5854"/>
                </a:cubicBezTo>
                <a:cubicBezTo>
                  <a:pt x="17669" y="5854"/>
                  <a:pt x="17678" y="5854"/>
                  <a:pt x="17686" y="5854"/>
                </a:cubicBezTo>
              </a:path>
              <a:path w="3002" h="1762">
                <a:moveTo>
                  <a:pt x="17735" y="5283"/>
                </a:moveTo>
                <a:cubicBezTo>
                  <a:pt x="17735" y="5367"/>
                  <a:pt x="17723" y="5452"/>
                  <a:pt x="17760" y="5531"/>
                </a:cubicBezTo>
                <a:cubicBezTo>
                  <a:pt x="17796" y="5607"/>
                  <a:pt x="17873" y="5579"/>
                  <a:pt x="17934" y="5556"/>
                </a:cubicBezTo>
                <a:cubicBezTo>
                  <a:pt x="17974" y="5536"/>
                  <a:pt x="17990" y="5538"/>
                  <a:pt x="17983" y="5507"/>
                </a:cubicBezTo>
              </a:path>
              <a:path w="3002" h="1762">
                <a:moveTo>
                  <a:pt x="17909" y="5234"/>
                </a:moveTo>
                <a:cubicBezTo>
                  <a:pt x="17909" y="5336"/>
                  <a:pt x="17912" y="5434"/>
                  <a:pt x="17934" y="5531"/>
                </a:cubicBezTo>
                <a:cubicBezTo>
                  <a:pt x="17953" y="5613"/>
                  <a:pt x="17970" y="5699"/>
                  <a:pt x="17983" y="5779"/>
                </a:cubicBezTo>
                <a:cubicBezTo>
                  <a:pt x="17983" y="5829"/>
                  <a:pt x="17983" y="5846"/>
                  <a:pt x="17983" y="5779"/>
                </a:cubicBezTo>
              </a:path>
              <a:path w="3002" h="1762">
                <a:moveTo>
                  <a:pt x="17884" y="4936"/>
                </a:moveTo>
                <a:cubicBezTo>
                  <a:pt x="17991" y="4985"/>
                  <a:pt x="18038" y="5036"/>
                  <a:pt x="18107" y="5135"/>
                </a:cubicBezTo>
                <a:cubicBezTo>
                  <a:pt x="18202" y="5273"/>
                  <a:pt x="18226" y="5388"/>
                  <a:pt x="18231" y="5556"/>
                </a:cubicBezTo>
                <a:cubicBezTo>
                  <a:pt x="18234" y="5646"/>
                  <a:pt x="18197" y="5700"/>
                  <a:pt x="18157" y="5779"/>
                </a:cubicBezTo>
                <a:cubicBezTo>
                  <a:pt x="18132" y="5829"/>
                  <a:pt x="18124" y="5846"/>
                  <a:pt x="18107" y="5879"/>
                </a:cubicBezTo>
              </a:path>
              <a:path w="3002" h="1762">
                <a:moveTo>
                  <a:pt x="18554" y="5333"/>
                </a:moveTo>
                <a:cubicBezTo>
                  <a:pt x="18562" y="5341"/>
                  <a:pt x="18571" y="5350"/>
                  <a:pt x="18579" y="5358"/>
                </a:cubicBezTo>
              </a:path>
              <a:path w="3002" h="1762">
                <a:moveTo>
                  <a:pt x="19100" y="5184"/>
                </a:moveTo>
                <a:cubicBezTo>
                  <a:pt x="19046" y="5197"/>
                  <a:pt x="19040" y="5109"/>
                  <a:pt x="18951" y="5135"/>
                </a:cubicBezTo>
                <a:cubicBezTo>
                  <a:pt x="18898" y="5151"/>
                  <a:pt x="18890" y="5242"/>
                  <a:pt x="18876" y="5283"/>
                </a:cubicBezTo>
                <a:cubicBezTo>
                  <a:pt x="18847" y="5367"/>
                  <a:pt x="18832" y="5468"/>
                  <a:pt x="18827" y="5556"/>
                </a:cubicBezTo>
                <a:cubicBezTo>
                  <a:pt x="18823" y="5630"/>
                  <a:pt x="18826" y="5653"/>
                  <a:pt x="18876" y="5705"/>
                </a:cubicBezTo>
                <a:cubicBezTo>
                  <a:pt x="18925" y="5656"/>
                  <a:pt x="18967" y="5618"/>
                  <a:pt x="19000" y="5556"/>
                </a:cubicBezTo>
                <a:cubicBezTo>
                  <a:pt x="19037" y="5486"/>
                  <a:pt x="19027" y="5405"/>
                  <a:pt x="19050" y="5333"/>
                </a:cubicBezTo>
                <a:cubicBezTo>
                  <a:pt x="19083" y="5229"/>
                  <a:pt x="19075" y="5221"/>
                  <a:pt x="19075" y="5333"/>
                </a:cubicBezTo>
                <a:cubicBezTo>
                  <a:pt x="19075" y="5431"/>
                  <a:pt x="19089" y="5508"/>
                  <a:pt x="19100" y="5606"/>
                </a:cubicBezTo>
                <a:cubicBezTo>
                  <a:pt x="19110" y="5691"/>
                  <a:pt x="19124" y="5767"/>
                  <a:pt x="19124" y="5854"/>
                </a:cubicBezTo>
                <a:cubicBezTo>
                  <a:pt x="19124" y="5946"/>
                  <a:pt x="19129" y="6046"/>
                  <a:pt x="19075" y="6127"/>
                </a:cubicBezTo>
                <a:cubicBezTo>
                  <a:pt x="19032" y="6190"/>
                  <a:pt x="18945" y="6270"/>
                  <a:pt x="18876" y="6300"/>
                </a:cubicBezTo>
                <a:cubicBezTo>
                  <a:pt x="18808" y="6330"/>
                  <a:pt x="18739" y="6374"/>
                  <a:pt x="18678" y="6325"/>
                </a:cubicBezTo>
                <a:cubicBezTo>
                  <a:pt x="18648" y="6295"/>
                  <a:pt x="18637" y="6281"/>
                  <a:pt x="18628" y="6251"/>
                </a:cubicBezTo>
              </a:path>
              <a:path w="3002" h="1762">
                <a:moveTo>
                  <a:pt x="19372" y="4663"/>
                </a:moveTo>
                <a:cubicBezTo>
                  <a:pt x="19418" y="4800"/>
                  <a:pt x="19405" y="4885"/>
                  <a:pt x="19372" y="5035"/>
                </a:cubicBezTo>
                <a:cubicBezTo>
                  <a:pt x="19345" y="5159"/>
                  <a:pt x="19293" y="5282"/>
                  <a:pt x="19273" y="5407"/>
                </a:cubicBezTo>
                <a:cubicBezTo>
                  <a:pt x="19265" y="5454"/>
                  <a:pt x="19252" y="5606"/>
                  <a:pt x="19298" y="5631"/>
                </a:cubicBezTo>
                <a:cubicBezTo>
                  <a:pt x="19375" y="5673"/>
                  <a:pt x="19384" y="5642"/>
                  <a:pt x="19447" y="5606"/>
                </a:cubicBezTo>
              </a:path>
              <a:path w="3002" h="1762">
                <a:moveTo>
                  <a:pt x="19521" y="5159"/>
                </a:moveTo>
                <a:cubicBezTo>
                  <a:pt x="19526" y="5205"/>
                  <a:pt x="19534" y="5311"/>
                  <a:pt x="19596" y="5333"/>
                </a:cubicBezTo>
                <a:cubicBezTo>
                  <a:pt x="19648" y="5352"/>
                  <a:pt x="19705" y="5328"/>
                  <a:pt x="19745" y="5308"/>
                </a:cubicBezTo>
              </a:path>
              <a:path w="3002" h="1762">
                <a:moveTo>
                  <a:pt x="19745" y="4936"/>
                </a:moveTo>
                <a:cubicBezTo>
                  <a:pt x="19729" y="5066"/>
                  <a:pt x="19720" y="5179"/>
                  <a:pt x="19720" y="5308"/>
                </a:cubicBezTo>
                <a:cubicBezTo>
                  <a:pt x="19720" y="5385"/>
                  <a:pt x="19729" y="5481"/>
                  <a:pt x="19745" y="5556"/>
                </a:cubicBezTo>
                <a:cubicBezTo>
                  <a:pt x="19753" y="5581"/>
                  <a:pt x="19761" y="5606"/>
                  <a:pt x="19769" y="5631"/>
                </a:cubicBezTo>
              </a:path>
              <a:path w="3002" h="1762">
                <a:moveTo>
                  <a:pt x="19794" y="4589"/>
                </a:moveTo>
                <a:cubicBezTo>
                  <a:pt x="19874" y="4697"/>
                  <a:pt x="19931" y="4781"/>
                  <a:pt x="19968" y="4911"/>
                </a:cubicBezTo>
                <a:cubicBezTo>
                  <a:pt x="20005" y="5043"/>
                  <a:pt x="20038" y="5172"/>
                  <a:pt x="20042" y="5308"/>
                </a:cubicBezTo>
                <a:cubicBezTo>
                  <a:pt x="20046" y="5423"/>
                  <a:pt x="20009" y="5558"/>
                  <a:pt x="19943" y="5655"/>
                </a:cubicBezTo>
                <a:cubicBezTo>
                  <a:pt x="19908" y="5707"/>
                  <a:pt x="19864" y="5759"/>
                  <a:pt x="19819" y="5804"/>
                </a:cubicBezTo>
                <a:cubicBezTo>
                  <a:pt x="19796" y="5827"/>
                  <a:pt x="19792" y="5835"/>
                  <a:pt x="19769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7456320" y="1517760"/>
            <a:ext cx="1563840" cy="955440"/>
          </a:xfrm>
          <a:custGeom>
            <a:avLst/>
            <a:gdLst/>
            <a:ahLst/>
            <a:rect l="l" t="t" r="r" b="b"/>
            <a:pathLst>
              <a:path w="4342" h="2655">
                <a:moveTo>
                  <a:pt x="20712" y="5432"/>
                </a:moveTo>
                <a:cubicBezTo>
                  <a:pt x="20827" y="5432"/>
                  <a:pt x="20924" y="5420"/>
                  <a:pt x="21034" y="5407"/>
                </a:cubicBezTo>
                <a:cubicBezTo>
                  <a:pt x="21186" y="5389"/>
                  <a:pt x="21329" y="5325"/>
                  <a:pt x="21481" y="5308"/>
                </a:cubicBezTo>
                <a:cubicBezTo>
                  <a:pt x="21609" y="5294"/>
                  <a:pt x="21726" y="5251"/>
                  <a:pt x="21853" y="5234"/>
                </a:cubicBezTo>
                <a:cubicBezTo>
                  <a:pt x="21898" y="5228"/>
                  <a:pt x="22037" y="5197"/>
                  <a:pt x="22076" y="5209"/>
                </a:cubicBezTo>
                <a:cubicBezTo>
                  <a:pt x="22101" y="5234"/>
                  <a:pt x="22109" y="5242"/>
                  <a:pt x="22076" y="5259"/>
                </a:cubicBezTo>
              </a:path>
              <a:path w="4342" h="2655">
                <a:moveTo>
                  <a:pt x="21158" y="5953"/>
                </a:moveTo>
                <a:cubicBezTo>
                  <a:pt x="21123" y="5917"/>
                  <a:pt x="21114" y="5888"/>
                  <a:pt x="21084" y="5854"/>
                </a:cubicBezTo>
                <a:cubicBezTo>
                  <a:pt x="21061" y="5828"/>
                  <a:pt x="21034" y="5804"/>
                  <a:pt x="21010" y="5779"/>
                </a:cubicBezTo>
                <a:cubicBezTo>
                  <a:pt x="20959" y="5830"/>
                  <a:pt x="20959" y="5844"/>
                  <a:pt x="20935" y="5904"/>
                </a:cubicBezTo>
                <a:cubicBezTo>
                  <a:pt x="20901" y="5988"/>
                  <a:pt x="20860" y="6080"/>
                  <a:pt x="20886" y="6176"/>
                </a:cubicBezTo>
                <a:cubicBezTo>
                  <a:pt x="20910" y="6226"/>
                  <a:pt x="20918" y="6243"/>
                  <a:pt x="20960" y="6251"/>
                </a:cubicBezTo>
                <a:cubicBezTo>
                  <a:pt x="21011" y="6200"/>
                  <a:pt x="21012" y="6189"/>
                  <a:pt x="21034" y="6127"/>
                </a:cubicBezTo>
                <a:cubicBezTo>
                  <a:pt x="21055" y="6066"/>
                  <a:pt x="21064" y="6014"/>
                  <a:pt x="21084" y="5953"/>
                </a:cubicBezTo>
                <a:cubicBezTo>
                  <a:pt x="21105" y="5988"/>
                  <a:pt x="21148" y="6062"/>
                  <a:pt x="21158" y="6102"/>
                </a:cubicBezTo>
                <a:cubicBezTo>
                  <a:pt x="21177" y="6175"/>
                  <a:pt x="21183" y="6246"/>
                  <a:pt x="21183" y="6325"/>
                </a:cubicBezTo>
                <a:cubicBezTo>
                  <a:pt x="21183" y="6419"/>
                  <a:pt x="21188" y="6478"/>
                  <a:pt x="21183" y="6573"/>
                </a:cubicBezTo>
                <a:cubicBezTo>
                  <a:pt x="21179" y="6641"/>
                  <a:pt x="21149" y="6715"/>
                  <a:pt x="21109" y="6772"/>
                </a:cubicBezTo>
                <a:cubicBezTo>
                  <a:pt x="21075" y="6821"/>
                  <a:pt x="21010" y="6861"/>
                  <a:pt x="20960" y="6871"/>
                </a:cubicBezTo>
                <a:cubicBezTo>
                  <a:pt x="20872" y="6889"/>
                  <a:pt x="20861" y="6842"/>
                  <a:pt x="20861" y="6772"/>
                </a:cubicBezTo>
              </a:path>
              <a:path w="4342" h="2655">
                <a:moveTo>
                  <a:pt x="21258" y="5953"/>
                </a:moveTo>
                <a:cubicBezTo>
                  <a:pt x="21234" y="6070"/>
                  <a:pt x="21208" y="6159"/>
                  <a:pt x="21208" y="6276"/>
                </a:cubicBezTo>
                <a:cubicBezTo>
                  <a:pt x="21208" y="6347"/>
                  <a:pt x="21239" y="6392"/>
                  <a:pt x="21307" y="6400"/>
                </a:cubicBezTo>
                <a:cubicBezTo>
                  <a:pt x="21396" y="6411"/>
                  <a:pt x="21406" y="6363"/>
                  <a:pt x="21456" y="6300"/>
                </a:cubicBezTo>
              </a:path>
              <a:path w="4342" h="2655">
                <a:moveTo>
                  <a:pt x="21481" y="5779"/>
                </a:moveTo>
                <a:cubicBezTo>
                  <a:pt x="21522" y="5755"/>
                  <a:pt x="21596" y="5748"/>
                  <a:pt x="21630" y="5705"/>
                </a:cubicBezTo>
                <a:cubicBezTo>
                  <a:pt x="21630" y="5697"/>
                  <a:pt x="21630" y="5688"/>
                  <a:pt x="21630" y="5680"/>
                </a:cubicBezTo>
              </a:path>
              <a:path w="4342" h="2655">
                <a:moveTo>
                  <a:pt x="21431" y="5854"/>
                </a:moveTo>
                <a:cubicBezTo>
                  <a:pt x="21407" y="5939"/>
                  <a:pt x="21372" y="5998"/>
                  <a:pt x="21481" y="6003"/>
                </a:cubicBezTo>
                <a:cubicBezTo>
                  <a:pt x="21568" y="6007"/>
                  <a:pt x="21595" y="6017"/>
                  <a:pt x="21654" y="6077"/>
                </a:cubicBezTo>
                <a:cubicBezTo>
                  <a:pt x="21706" y="6130"/>
                  <a:pt x="21672" y="6159"/>
                  <a:pt x="21630" y="6201"/>
                </a:cubicBezTo>
                <a:cubicBezTo>
                  <a:pt x="21604" y="6227"/>
                  <a:pt x="21499" y="6282"/>
                  <a:pt x="21456" y="6251"/>
                </a:cubicBezTo>
                <a:cubicBezTo>
                  <a:pt x="21456" y="6243"/>
                  <a:pt x="21456" y="6234"/>
                  <a:pt x="21456" y="6226"/>
                </a:cubicBezTo>
              </a:path>
              <a:path w="4342" h="2655">
                <a:moveTo>
                  <a:pt x="21754" y="5581"/>
                </a:moveTo>
                <a:cubicBezTo>
                  <a:pt x="21823" y="5665"/>
                  <a:pt x="21933" y="5765"/>
                  <a:pt x="21952" y="5879"/>
                </a:cubicBezTo>
                <a:cubicBezTo>
                  <a:pt x="21965" y="5958"/>
                  <a:pt x="21957" y="6056"/>
                  <a:pt x="21927" y="6127"/>
                </a:cubicBezTo>
                <a:cubicBezTo>
                  <a:pt x="21901" y="6189"/>
                  <a:pt x="21847" y="6250"/>
                  <a:pt x="21803" y="6300"/>
                </a:cubicBezTo>
                <a:cubicBezTo>
                  <a:pt x="21781" y="6323"/>
                  <a:pt x="21776" y="6331"/>
                  <a:pt x="21754" y="6325"/>
                </a:cubicBezTo>
              </a:path>
              <a:path w="4342" h="2655">
                <a:moveTo>
                  <a:pt x="22299" y="5135"/>
                </a:moveTo>
                <a:cubicBezTo>
                  <a:pt x="22388" y="5135"/>
                  <a:pt x="22465" y="5129"/>
                  <a:pt x="22547" y="5159"/>
                </a:cubicBezTo>
              </a:path>
              <a:path w="4342" h="2655">
                <a:moveTo>
                  <a:pt x="22324" y="5383"/>
                </a:moveTo>
                <a:cubicBezTo>
                  <a:pt x="22375" y="5352"/>
                  <a:pt x="22434" y="5338"/>
                  <a:pt x="22498" y="5333"/>
                </a:cubicBezTo>
                <a:cubicBezTo>
                  <a:pt x="22506" y="5333"/>
                  <a:pt x="22515" y="5333"/>
                  <a:pt x="22523" y="5333"/>
                </a:cubicBezTo>
              </a:path>
              <a:path w="4342" h="2655">
                <a:moveTo>
                  <a:pt x="22895" y="4465"/>
                </a:moveTo>
                <a:cubicBezTo>
                  <a:pt x="22859" y="4393"/>
                  <a:pt x="22917" y="4416"/>
                  <a:pt x="22969" y="4390"/>
                </a:cubicBezTo>
                <a:cubicBezTo>
                  <a:pt x="23051" y="4350"/>
                  <a:pt x="23114" y="4321"/>
                  <a:pt x="23217" y="4341"/>
                </a:cubicBezTo>
                <a:cubicBezTo>
                  <a:pt x="23337" y="4364"/>
                  <a:pt x="23328" y="4443"/>
                  <a:pt x="23292" y="4539"/>
                </a:cubicBezTo>
                <a:cubicBezTo>
                  <a:pt x="23257" y="4631"/>
                  <a:pt x="23185" y="4695"/>
                  <a:pt x="23118" y="4762"/>
                </a:cubicBezTo>
                <a:cubicBezTo>
                  <a:pt x="23064" y="4816"/>
                  <a:pt x="23005" y="4867"/>
                  <a:pt x="23044" y="4936"/>
                </a:cubicBezTo>
                <a:cubicBezTo>
                  <a:pt x="23064" y="4972"/>
                  <a:pt x="23154" y="4984"/>
                  <a:pt x="23192" y="4986"/>
                </a:cubicBezTo>
                <a:cubicBezTo>
                  <a:pt x="23291" y="4992"/>
                  <a:pt x="23338" y="4989"/>
                  <a:pt x="23416" y="4936"/>
                </a:cubicBezTo>
              </a:path>
              <a:path w="4342" h="2655">
                <a:moveTo>
                  <a:pt x="23639" y="4217"/>
                </a:moveTo>
                <a:cubicBezTo>
                  <a:pt x="23598" y="4282"/>
                  <a:pt x="23540" y="4339"/>
                  <a:pt x="23515" y="4415"/>
                </a:cubicBezTo>
                <a:cubicBezTo>
                  <a:pt x="23480" y="4523"/>
                  <a:pt x="23463" y="4631"/>
                  <a:pt x="23440" y="4738"/>
                </a:cubicBezTo>
                <a:cubicBezTo>
                  <a:pt x="23417" y="4843"/>
                  <a:pt x="23409" y="4912"/>
                  <a:pt x="23465" y="5011"/>
                </a:cubicBezTo>
                <a:cubicBezTo>
                  <a:pt x="23509" y="5089"/>
                  <a:pt x="23588" y="5049"/>
                  <a:pt x="23639" y="5011"/>
                </a:cubicBezTo>
                <a:cubicBezTo>
                  <a:pt x="23716" y="4954"/>
                  <a:pt x="23687" y="4859"/>
                  <a:pt x="23664" y="4787"/>
                </a:cubicBezTo>
                <a:cubicBezTo>
                  <a:pt x="23604" y="4802"/>
                  <a:pt x="23553" y="4828"/>
                  <a:pt x="23515" y="4887"/>
                </a:cubicBezTo>
                <a:cubicBezTo>
                  <a:pt x="23478" y="4944"/>
                  <a:pt x="23449" y="4971"/>
                  <a:pt x="23440" y="5035"/>
                </a:cubicBezTo>
              </a:path>
              <a:path w="4342" h="2655">
                <a:moveTo>
                  <a:pt x="22746" y="5135"/>
                </a:moveTo>
                <a:cubicBezTo>
                  <a:pt x="22843" y="5170"/>
                  <a:pt x="22964" y="5175"/>
                  <a:pt x="23068" y="5159"/>
                </a:cubicBezTo>
                <a:cubicBezTo>
                  <a:pt x="23189" y="5141"/>
                  <a:pt x="23317" y="5120"/>
                  <a:pt x="23440" y="5110"/>
                </a:cubicBezTo>
                <a:cubicBezTo>
                  <a:pt x="23574" y="5099"/>
                  <a:pt x="23704" y="5073"/>
                  <a:pt x="23837" y="5060"/>
                </a:cubicBezTo>
                <a:cubicBezTo>
                  <a:pt x="23893" y="5055"/>
                  <a:pt x="24110" y="5023"/>
                  <a:pt x="23937" y="5110"/>
                </a:cubicBezTo>
                <a:cubicBezTo>
                  <a:pt x="23929" y="5110"/>
                  <a:pt x="23920" y="5110"/>
                  <a:pt x="23912" y="5110"/>
                </a:cubicBezTo>
              </a:path>
              <a:path w="4342" h="2655">
                <a:moveTo>
                  <a:pt x="23143" y="5308"/>
                </a:moveTo>
                <a:cubicBezTo>
                  <a:pt x="23143" y="5390"/>
                  <a:pt x="23159" y="5453"/>
                  <a:pt x="23168" y="5531"/>
                </a:cubicBezTo>
                <a:cubicBezTo>
                  <a:pt x="23180" y="5636"/>
                  <a:pt x="23154" y="5729"/>
                  <a:pt x="23143" y="5829"/>
                </a:cubicBezTo>
                <a:cubicBezTo>
                  <a:pt x="23133" y="5918"/>
                  <a:pt x="23143" y="6012"/>
                  <a:pt x="23143" y="6102"/>
                </a:cubicBezTo>
              </a:path>
              <a:path w="4342" h="2655">
                <a:moveTo>
                  <a:pt x="24110" y="4961"/>
                </a:moveTo>
                <a:cubicBezTo>
                  <a:pt x="24229" y="4940"/>
                  <a:pt x="24297" y="4924"/>
                  <a:pt x="24408" y="4961"/>
                </a:cubicBezTo>
              </a:path>
              <a:path w="4342" h="2655">
                <a:moveTo>
                  <a:pt x="24135" y="5209"/>
                </a:moveTo>
                <a:cubicBezTo>
                  <a:pt x="24213" y="5200"/>
                  <a:pt x="24285" y="5187"/>
                  <a:pt x="24358" y="5159"/>
                </a:cubicBezTo>
              </a:path>
              <a:path w="4342" h="2655">
                <a:moveTo>
                  <a:pt x="24507" y="4713"/>
                </a:moveTo>
                <a:cubicBezTo>
                  <a:pt x="24584" y="4696"/>
                  <a:pt x="24665" y="4661"/>
                  <a:pt x="24730" y="4713"/>
                </a:cubicBezTo>
                <a:cubicBezTo>
                  <a:pt x="24788" y="4759"/>
                  <a:pt x="24784" y="4821"/>
                  <a:pt x="24755" y="4887"/>
                </a:cubicBezTo>
                <a:cubicBezTo>
                  <a:pt x="24736" y="4932"/>
                  <a:pt x="24666" y="5007"/>
                  <a:pt x="24631" y="5035"/>
                </a:cubicBezTo>
                <a:cubicBezTo>
                  <a:pt x="24572" y="5082"/>
                  <a:pt x="24537" y="5106"/>
                  <a:pt x="24532" y="5184"/>
                </a:cubicBezTo>
                <a:cubicBezTo>
                  <a:pt x="24532" y="5229"/>
                  <a:pt x="24529" y="5242"/>
                  <a:pt x="24557" y="5259"/>
                </a:cubicBezTo>
                <a:cubicBezTo>
                  <a:pt x="24651" y="5249"/>
                  <a:pt x="24721" y="5226"/>
                  <a:pt x="24805" y="5184"/>
                </a:cubicBezTo>
              </a:path>
              <a:path w="4342" h="2655">
                <a:moveTo>
                  <a:pt x="24904" y="4738"/>
                </a:moveTo>
                <a:cubicBezTo>
                  <a:pt x="24904" y="4813"/>
                  <a:pt x="24891" y="4867"/>
                  <a:pt x="24879" y="4936"/>
                </a:cubicBezTo>
                <a:cubicBezTo>
                  <a:pt x="24864" y="5024"/>
                  <a:pt x="24864" y="5179"/>
                  <a:pt x="24904" y="5259"/>
                </a:cubicBezTo>
                <a:cubicBezTo>
                  <a:pt x="24933" y="5316"/>
                  <a:pt x="24951" y="5318"/>
                  <a:pt x="25003" y="5333"/>
                </a:cubicBezTo>
                <a:cubicBezTo>
                  <a:pt x="25033" y="5244"/>
                  <a:pt x="25047" y="5171"/>
                  <a:pt x="25028" y="5085"/>
                </a:cubicBezTo>
                <a:cubicBezTo>
                  <a:pt x="24954" y="5070"/>
                  <a:pt x="24955" y="5123"/>
                  <a:pt x="24904" y="5184"/>
                </a:cubicBezTo>
                <a:cubicBezTo>
                  <a:pt x="24857" y="5240"/>
                  <a:pt x="24797" y="5307"/>
                  <a:pt x="24780" y="5383"/>
                </a:cubicBezTo>
                <a:cubicBezTo>
                  <a:pt x="24780" y="5399"/>
                  <a:pt x="24780" y="5416"/>
                  <a:pt x="24780" y="54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1152360" y="2562120"/>
            <a:ext cx="1017720" cy="6890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3969" y="7640"/>
                </a:moveTo>
                <a:cubicBezTo>
                  <a:pt x="3939" y="7590"/>
                  <a:pt x="3938" y="7541"/>
                  <a:pt x="3894" y="7491"/>
                </a:cubicBezTo>
                <a:cubicBezTo>
                  <a:pt x="3859" y="7452"/>
                  <a:pt x="3841" y="7397"/>
                  <a:pt x="3795" y="7367"/>
                </a:cubicBezTo>
                <a:cubicBezTo>
                  <a:pt x="3704" y="7307"/>
                  <a:pt x="3692" y="7381"/>
                  <a:pt x="3671" y="7441"/>
                </a:cubicBezTo>
                <a:cubicBezTo>
                  <a:pt x="3636" y="7540"/>
                  <a:pt x="3660" y="7588"/>
                  <a:pt x="3671" y="7689"/>
                </a:cubicBezTo>
                <a:cubicBezTo>
                  <a:pt x="3684" y="7805"/>
                  <a:pt x="3711" y="7923"/>
                  <a:pt x="3721" y="8037"/>
                </a:cubicBezTo>
                <a:cubicBezTo>
                  <a:pt x="3733" y="8164"/>
                  <a:pt x="3729" y="8282"/>
                  <a:pt x="3746" y="8409"/>
                </a:cubicBezTo>
                <a:cubicBezTo>
                  <a:pt x="3746" y="8444"/>
                  <a:pt x="3750" y="8461"/>
                  <a:pt x="3770" y="8483"/>
                </a:cubicBezTo>
              </a:path>
              <a:path w="2829" h="1911">
                <a:moveTo>
                  <a:pt x="3522" y="8210"/>
                </a:moveTo>
                <a:cubicBezTo>
                  <a:pt x="3617" y="8185"/>
                  <a:pt x="3696" y="8186"/>
                  <a:pt x="3795" y="8186"/>
                </a:cubicBezTo>
                <a:cubicBezTo>
                  <a:pt x="3880" y="8186"/>
                  <a:pt x="3959" y="8168"/>
                  <a:pt x="4043" y="8161"/>
                </a:cubicBezTo>
              </a:path>
              <a:path w="2829" h="1911">
                <a:moveTo>
                  <a:pt x="4514" y="7813"/>
                </a:moveTo>
                <a:cubicBezTo>
                  <a:pt x="4514" y="7935"/>
                  <a:pt x="4525" y="8046"/>
                  <a:pt x="4539" y="8161"/>
                </a:cubicBezTo>
                <a:cubicBezTo>
                  <a:pt x="4548" y="8233"/>
                  <a:pt x="4545" y="8295"/>
                  <a:pt x="4564" y="8334"/>
                </a:cubicBezTo>
                <a:cubicBezTo>
                  <a:pt x="4572" y="8359"/>
                  <a:pt x="4581" y="8384"/>
                  <a:pt x="4589" y="8409"/>
                </a:cubicBezTo>
              </a:path>
              <a:path w="2829" h="1911">
                <a:moveTo>
                  <a:pt x="4316" y="8136"/>
                </a:moveTo>
                <a:cubicBezTo>
                  <a:pt x="4298" y="8063"/>
                  <a:pt x="4389" y="8086"/>
                  <a:pt x="4465" y="8086"/>
                </a:cubicBezTo>
                <a:cubicBezTo>
                  <a:pt x="4531" y="8086"/>
                  <a:pt x="4564" y="8086"/>
                  <a:pt x="4614" y="8086"/>
                </a:cubicBezTo>
              </a:path>
              <a:path w="2829" h="1911">
                <a:moveTo>
                  <a:pt x="5259" y="7987"/>
                </a:moveTo>
                <a:cubicBezTo>
                  <a:pt x="5168" y="8020"/>
                  <a:pt x="5094" y="8053"/>
                  <a:pt x="5035" y="8136"/>
                </a:cubicBezTo>
                <a:cubicBezTo>
                  <a:pt x="4985" y="8206"/>
                  <a:pt x="4967" y="8261"/>
                  <a:pt x="4986" y="8334"/>
                </a:cubicBezTo>
                <a:cubicBezTo>
                  <a:pt x="5047" y="8349"/>
                  <a:pt x="5117" y="8377"/>
                  <a:pt x="5184" y="8359"/>
                </a:cubicBezTo>
                <a:cubicBezTo>
                  <a:pt x="5242" y="8344"/>
                  <a:pt x="5310" y="8286"/>
                  <a:pt x="5333" y="8235"/>
                </a:cubicBezTo>
                <a:cubicBezTo>
                  <a:pt x="5358" y="8179"/>
                  <a:pt x="5398" y="8043"/>
                  <a:pt x="5308" y="8086"/>
                </a:cubicBezTo>
                <a:cubicBezTo>
                  <a:pt x="5316" y="8172"/>
                  <a:pt x="5348" y="8251"/>
                  <a:pt x="5358" y="8334"/>
                </a:cubicBezTo>
                <a:cubicBezTo>
                  <a:pt x="5372" y="8442"/>
                  <a:pt x="5383" y="8547"/>
                  <a:pt x="5383" y="8657"/>
                </a:cubicBezTo>
                <a:cubicBezTo>
                  <a:pt x="5383" y="8781"/>
                  <a:pt x="5348" y="8923"/>
                  <a:pt x="5234" y="9004"/>
                </a:cubicBezTo>
                <a:cubicBezTo>
                  <a:pt x="5172" y="9048"/>
                  <a:pt x="5008" y="9042"/>
                  <a:pt x="4936" y="9029"/>
                </a:cubicBezTo>
                <a:cubicBezTo>
                  <a:pt x="4766" y="8997"/>
                  <a:pt x="4778" y="8953"/>
                  <a:pt x="4738" y="8781"/>
                </a:cubicBezTo>
              </a:path>
              <a:path w="2829" h="1911">
                <a:moveTo>
                  <a:pt x="5829" y="7342"/>
                </a:moveTo>
                <a:cubicBezTo>
                  <a:pt x="5919" y="7503"/>
                  <a:pt x="6010" y="7650"/>
                  <a:pt x="6028" y="7838"/>
                </a:cubicBezTo>
                <a:cubicBezTo>
                  <a:pt x="6041" y="7972"/>
                  <a:pt x="6041" y="8102"/>
                  <a:pt x="5953" y="8210"/>
                </a:cubicBezTo>
                <a:cubicBezTo>
                  <a:pt x="5866" y="8317"/>
                  <a:pt x="5751" y="8353"/>
                  <a:pt x="5631" y="8409"/>
                </a:cubicBezTo>
              </a:path>
              <a:path w="2829" h="1911">
                <a:moveTo>
                  <a:pt x="3473" y="7119"/>
                </a:moveTo>
                <a:cubicBezTo>
                  <a:pt x="3421" y="7184"/>
                  <a:pt x="3379" y="7239"/>
                  <a:pt x="3349" y="7317"/>
                </a:cubicBezTo>
                <a:cubicBezTo>
                  <a:pt x="3297" y="7453"/>
                  <a:pt x="3258" y="7572"/>
                  <a:pt x="3225" y="7714"/>
                </a:cubicBezTo>
                <a:cubicBezTo>
                  <a:pt x="3196" y="7842"/>
                  <a:pt x="3176" y="7985"/>
                  <a:pt x="3225" y="8111"/>
                </a:cubicBezTo>
                <a:cubicBezTo>
                  <a:pt x="3288" y="8271"/>
                  <a:pt x="3387" y="8315"/>
                  <a:pt x="3522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2367000" y="2670120"/>
            <a:ext cx="473040" cy="357120"/>
          </a:xfrm>
          <a:custGeom>
            <a:avLst/>
            <a:gdLst/>
            <a:ahLst/>
            <a:rect l="l" t="t" r="r" b="b"/>
            <a:pathLst>
              <a:path w="1316" h="993">
                <a:moveTo>
                  <a:pt x="6672" y="7417"/>
                </a:moveTo>
                <a:cubicBezTo>
                  <a:pt x="6664" y="7534"/>
                  <a:pt x="6612" y="7626"/>
                  <a:pt x="6598" y="7739"/>
                </a:cubicBezTo>
                <a:cubicBezTo>
                  <a:pt x="6583" y="7854"/>
                  <a:pt x="6573" y="7969"/>
                  <a:pt x="6573" y="8086"/>
                </a:cubicBezTo>
                <a:cubicBezTo>
                  <a:pt x="6573" y="8204"/>
                  <a:pt x="6568" y="8247"/>
                  <a:pt x="6648" y="8334"/>
                </a:cubicBezTo>
                <a:cubicBezTo>
                  <a:pt x="6694" y="8385"/>
                  <a:pt x="6711" y="8394"/>
                  <a:pt x="6772" y="8409"/>
                </a:cubicBezTo>
              </a:path>
              <a:path w="1316" h="993">
                <a:moveTo>
                  <a:pt x="7045" y="7466"/>
                </a:moveTo>
                <a:cubicBezTo>
                  <a:pt x="7174" y="7472"/>
                  <a:pt x="7281" y="7453"/>
                  <a:pt x="7367" y="7565"/>
                </a:cubicBezTo>
                <a:cubicBezTo>
                  <a:pt x="7425" y="7640"/>
                  <a:pt x="7352" y="7682"/>
                  <a:pt x="7293" y="7714"/>
                </a:cubicBezTo>
                <a:cubicBezTo>
                  <a:pt x="7218" y="7754"/>
                  <a:pt x="7147" y="7799"/>
                  <a:pt x="7069" y="7838"/>
                </a:cubicBezTo>
                <a:cubicBezTo>
                  <a:pt x="7133" y="7847"/>
                  <a:pt x="7172" y="7863"/>
                  <a:pt x="7243" y="7863"/>
                </a:cubicBezTo>
                <a:cubicBezTo>
                  <a:pt x="7324" y="7863"/>
                  <a:pt x="7378" y="7894"/>
                  <a:pt x="7417" y="7962"/>
                </a:cubicBezTo>
                <a:cubicBezTo>
                  <a:pt x="7448" y="8016"/>
                  <a:pt x="7501" y="8075"/>
                  <a:pt x="7441" y="8136"/>
                </a:cubicBezTo>
                <a:cubicBezTo>
                  <a:pt x="7383" y="8194"/>
                  <a:pt x="7275" y="8235"/>
                  <a:pt x="7193" y="8210"/>
                </a:cubicBezTo>
                <a:cubicBezTo>
                  <a:pt x="7141" y="8194"/>
                  <a:pt x="7125" y="8126"/>
                  <a:pt x="7119" y="8086"/>
                </a:cubicBezTo>
              </a:path>
              <a:path w="1316" h="993">
                <a:moveTo>
                  <a:pt x="7665" y="7417"/>
                </a:moveTo>
                <a:cubicBezTo>
                  <a:pt x="7760" y="7579"/>
                  <a:pt x="7882" y="7723"/>
                  <a:pt x="7888" y="7913"/>
                </a:cubicBezTo>
                <a:cubicBezTo>
                  <a:pt x="7892" y="8039"/>
                  <a:pt x="7844" y="8161"/>
                  <a:pt x="7764" y="8260"/>
                </a:cubicBezTo>
                <a:cubicBezTo>
                  <a:pt x="7747" y="8277"/>
                  <a:pt x="7731" y="8293"/>
                  <a:pt x="7714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4589640" y="3009960"/>
            <a:ext cx="20628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12849" y="8483"/>
                </a:moveTo>
                <a:cubicBezTo>
                  <a:pt x="12908" y="8413"/>
                  <a:pt x="12992" y="8413"/>
                  <a:pt x="13097" y="8409"/>
                </a:cubicBezTo>
                <a:cubicBezTo>
                  <a:pt x="13170" y="8409"/>
                  <a:pt x="13194" y="8410"/>
                  <a:pt x="13221" y="8359"/>
                </a:cubicBezTo>
              </a:path>
              <a:path w="571" h="795">
                <a:moveTo>
                  <a:pt x="12923" y="8434"/>
                </a:moveTo>
                <a:cubicBezTo>
                  <a:pt x="12889" y="8526"/>
                  <a:pt x="12866" y="8610"/>
                  <a:pt x="12849" y="8706"/>
                </a:cubicBezTo>
                <a:cubicBezTo>
                  <a:pt x="12849" y="8741"/>
                  <a:pt x="12854" y="8759"/>
                  <a:pt x="12874" y="8781"/>
                </a:cubicBezTo>
                <a:cubicBezTo>
                  <a:pt x="12994" y="8674"/>
                  <a:pt x="12955" y="8735"/>
                  <a:pt x="13072" y="8781"/>
                </a:cubicBezTo>
                <a:cubicBezTo>
                  <a:pt x="13166" y="8818"/>
                  <a:pt x="13162" y="8772"/>
                  <a:pt x="13246" y="8855"/>
                </a:cubicBezTo>
                <a:cubicBezTo>
                  <a:pt x="13278" y="8887"/>
                  <a:pt x="13336" y="8956"/>
                  <a:pt x="13320" y="9004"/>
                </a:cubicBezTo>
                <a:cubicBezTo>
                  <a:pt x="13296" y="9077"/>
                  <a:pt x="13247" y="9065"/>
                  <a:pt x="13196" y="9103"/>
                </a:cubicBezTo>
                <a:cubicBezTo>
                  <a:pt x="13115" y="9165"/>
                  <a:pt x="13079" y="9153"/>
                  <a:pt x="12973" y="9153"/>
                </a:cubicBezTo>
                <a:cubicBezTo>
                  <a:pt x="12874" y="9153"/>
                  <a:pt x="12808" y="9175"/>
                  <a:pt x="12750" y="9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6116760" y="2446200"/>
            <a:ext cx="1268280" cy="741600"/>
          </a:xfrm>
          <a:custGeom>
            <a:avLst/>
            <a:gdLst/>
            <a:ahLst/>
            <a:rect l="l" t="t" r="r" b="b"/>
            <a:pathLst>
              <a:path w="3523" h="2060">
                <a:moveTo>
                  <a:pt x="17016" y="6921"/>
                </a:moveTo>
                <a:cubicBezTo>
                  <a:pt x="17008" y="6904"/>
                  <a:pt x="16999" y="6888"/>
                  <a:pt x="16991" y="6871"/>
                </a:cubicBezTo>
                <a:cubicBezTo>
                  <a:pt x="16991" y="7136"/>
                  <a:pt x="16991" y="7400"/>
                  <a:pt x="16991" y="7665"/>
                </a:cubicBezTo>
              </a:path>
              <a:path w="3523" h="2060">
                <a:moveTo>
                  <a:pt x="17165" y="6896"/>
                </a:moveTo>
                <a:cubicBezTo>
                  <a:pt x="17270" y="6896"/>
                  <a:pt x="17372" y="6889"/>
                  <a:pt x="17462" y="6871"/>
                </a:cubicBezTo>
                <a:cubicBezTo>
                  <a:pt x="17514" y="6860"/>
                  <a:pt x="17596" y="6819"/>
                  <a:pt x="17636" y="6871"/>
                </a:cubicBezTo>
                <a:cubicBezTo>
                  <a:pt x="17675" y="6921"/>
                  <a:pt x="17636" y="7004"/>
                  <a:pt x="17636" y="7069"/>
                </a:cubicBezTo>
                <a:cubicBezTo>
                  <a:pt x="17636" y="7252"/>
                  <a:pt x="17628" y="7448"/>
                  <a:pt x="17661" y="7615"/>
                </a:cubicBezTo>
                <a:cubicBezTo>
                  <a:pt x="17673" y="7674"/>
                  <a:pt x="17644" y="7687"/>
                  <a:pt x="17686" y="7714"/>
                </a:cubicBezTo>
              </a:path>
              <a:path w="3523" h="2060">
                <a:moveTo>
                  <a:pt x="18132" y="7144"/>
                </a:moveTo>
                <a:cubicBezTo>
                  <a:pt x="18129" y="7166"/>
                  <a:pt x="18080" y="7300"/>
                  <a:pt x="18107" y="7317"/>
                </a:cubicBezTo>
                <a:cubicBezTo>
                  <a:pt x="18154" y="7346"/>
                  <a:pt x="18157" y="7177"/>
                  <a:pt x="18157" y="7169"/>
                </a:cubicBezTo>
                <a:cubicBezTo>
                  <a:pt x="18111" y="7225"/>
                  <a:pt x="18107" y="7276"/>
                  <a:pt x="18083" y="7342"/>
                </a:cubicBezTo>
                <a:cubicBezTo>
                  <a:pt x="18146" y="7306"/>
                  <a:pt x="18187" y="7286"/>
                  <a:pt x="18132" y="7218"/>
                </a:cubicBezTo>
                <a:cubicBezTo>
                  <a:pt x="18078" y="7150"/>
                  <a:pt x="18083" y="7259"/>
                  <a:pt x="18083" y="7293"/>
                </a:cubicBezTo>
              </a:path>
              <a:path w="3523" h="2060">
                <a:moveTo>
                  <a:pt x="18901" y="6821"/>
                </a:moveTo>
                <a:cubicBezTo>
                  <a:pt x="18872" y="6869"/>
                  <a:pt x="18857" y="6914"/>
                  <a:pt x="18827" y="6970"/>
                </a:cubicBezTo>
                <a:cubicBezTo>
                  <a:pt x="18794" y="7032"/>
                  <a:pt x="18743" y="7126"/>
                  <a:pt x="18728" y="7193"/>
                </a:cubicBezTo>
                <a:cubicBezTo>
                  <a:pt x="18714" y="7256"/>
                  <a:pt x="18720" y="7330"/>
                  <a:pt x="18703" y="7392"/>
                </a:cubicBezTo>
                <a:cubicBezTo>
                  <a:pt x="18682" y="7468"/>
                  <a:pt x="18666" y="7496"/>
                  <a:pt x="18703" y="7565"/>
                </a:cubicBezTo>
                <a:cubicBezTo>
                  <a:pt x="18739" y="7631"/>
                  <a:pt x="18751" y="7660"/>
                  <a:pt x="18827" y="7665"/>
                </a:cubicBezTo>
                <a:cubicBezTo>
                  <a:pt x="18872" y="7668"/>
                  <a:pt x="18961" y="7643"/>
                  <a:pt x="19000" y="7615"/>
                </a:cubicBezTo>
                <a:cubicBezTo>
                  <a:pt x="19066" y="7567"/>
                  <a:pt x="19149" y="7509"/>
                  <a:pt x="19199" y="7441"/>
                </a:cubicBezTo>
                <a:cubicBezTo>
                  <a:pt x="19245" y="7377"/>
                  <a:pt x="19269" y="7294"/>
                  <a:pt x="19273" y="7218"/>
                </a:cubicBezTo>
                <a:cubicBezTo>
                  <a:pt x="19278" y="7133"/>
                  <a:pt x="19285" y="7040"/>
                  <a:pt x="19248" y="6970"/>
                </a:cubicBezTo>
                <a:cubicBezTo>
                  <a:pt x="19211" y="6899"/>
                  <a:pt x="19150" y="6849"/>
                  <a:pt x="19075" y="6821"/>
                </a:cubicBezTo>
                <a:cubicBezTo>
                  <a:pt x="18972" y="6782"/>
                  <a:pt x="18935" y="6804"/>
                  <a:pt x="18852" y="6821"/>
                </a:cubicBezTo>
                <a:cubicBezTo>
                  <a:pt x="18790" y="6833"/>
                  <a:pt x="18797" y="6826"/>
                  <a:pt x="18752" y="6871"/>
                </a:cubicBezTo>
              </a:path>
              <a:path w="3523" h="2060">
                <a:moveTo>
                  <a:pt x="18033" y="8111"/>
                </a:moveTo>
                <a:cubicBezTo>
                  <a:pt x="17991" y="8174"/>
                  <a:pt x="17968" y="8259"/>
                  <a:pt x="17959" y="8334"/>
                </a:cubicBezTo>
                <a:cubicBezTo>
                  <a:pt x="17949" y="8421"/>
                  <a:pt x="17921" y="8491"/>
                  <a:pt x="17909" y="8582"/>
                </a:cubicBezTo>
                <a:cubicBezTo>
                  <a:pt x="17897" y="8672"/>
                  <a:pt x="17918" y="8733"/>
                  <a:pt x="17959" y="8806"/>
                </a:cubicBezTo>
                <a:cubicBezTo>
                  <a:pt x="17985" y="8853"/>
                  <a:pt x="18068" y="8894"/>
                  <a:pt x="18132" y="8855"/>
                </a:cubicBezTo>
                <a:cubicBezTo>
                  <a:pt x="18197" y="8815"/>
                  <a:pt x="18230" y="8717"/>
                  <a:pt x="18281" y="8657"/>
                </a:cubicBezTo>
                <a:cubicBezTo>
                  <a:pt x="18339" y="8589"/>
                  <a:pt x="18374" y="8517"/>
                  <a:pt x="18405" y="8434"/>
                </a:cubicBezTo>
                <a:cubicBezTo>
                  <a:pt x="18428" y="8372"/>
                  <a:pt x="18451" y="8253"/>
                  <a:pt x="18430" y="8186"/>
                </a:cubicBezTo>
                <a:cubicBezTo>
                  <a:pt x="18412" y="8130"/>
                  <a:pt x="18349" y="8056"/>
                  <a:pt x="18306" y="8012"/>
                </a:cubicBezTo>
                <a:cubicBezTo>
                  <a:pt x="18242" y="7947"/>
                  <a:pt x="18165" y="7948"/>
                  <a:pt x="18083" y="7987"/>
                </a:cubicBezTo>
                <a:cubicBezTo>
                  <a:pt x="18030" y="8013"/>
                  <a:pt x="17998" y="8047"/>
                  <a:pt x="17959" y="8086"/>
                </a:cubicBezTo>
              </a:path>
              <a:path w="3523" h="2060">
                <a:moveTo>
                  <a:pt x="20340" y="7590"/>
                </a:moveTo>
                <a:cubicBezTo>
                  <a:pt x="20368" y="7544"/>
                  <a:pt x="20366" y="7491"/>
                  <a:pt x="20340" y="7441"/>
                </a:cubicBezTo>
                <a:cubicBezTo>
                  <a:pt x="20310" y="7382"/>
                  <a:pt x="20260" y="7383"/>
                  <a:pt x="20216" y="7417"/>
                </a:cubicBezTo>
                <a:cubicBezTo>
                  <a:pt x="20170" y="7453"/>
                  <a:pt x="20123" y="7518"/>
                  <a:pt x="20092" y="7565"/>
                </a:cubicBezTo>
                <a:cubicBezTo>
                  <a:pt x="20064" y="7607"/>
                  <a:pt x="20028" y="7714"/>
                  <a:pt x="20017" y="7764"/>
                </a:cubicBezTo>
                <a:cubicBezTo>
                  <a:pt x="20004" y="7821"/>
                  <a:pt x="20023" y="7863"/>
                  <a:pt x="20042" y="7913"/>
                </a:cubicBezTo>
                <a:cubicBezTo>
                  <a:pt x="20109" y="7903"/>
                  <a:pt x="20118" y="7887"/>
                  <a:pt x="20166" y="7838"/>
                </a:cubicBezTo>
                <a:cubicBezTo>
                  <a:pt x="20210" y="7794"/>
                  <a:pt x="20229" y="7737"/>
                  <a:pt x="20265" y="7689"/>
                </a:cubicBezTo>
                <a:cubicBezTo>
                  <a:pt x="20292" y="7653"/>
                  <a:pt x="20292" y="7628"/>
                  <a:pt x="20315" y="7590"/>
                </a:cubicBezTo>
                <a:cubicBezTo>
                  <a:pt x="20324" y="7653"/>
                  <a:pt x="20354" y="7699"/>
                  <a:pt x="20365" y="7764"/>
                </a:cubicBezTo>
                <a:cubicBezTo>
                  <a:pt x="20382" y="7865"/>
                  <a:pt x="20365" y="7984"/>
                  <a:pt x="20365" y="8086"/>
                </a:cubicBezTo>
              </a:path>
              <a:path w="3523" h="2060">
                <a:moveTo>
                  <a:pt x="20315" y="7268"/>
                </a:moveTo>
                <a:cubicBezTo>
                  <a:pt x="20236" y="7251"/>
                  <a:pt x="20119" y="7213"/>
                  <a:pt x="20042" y="7268"/>
                </a:cubicBezTo>
                <a:cubicBezTo>
                  <a:pt x="19914" y="7360"/>
                  <a:pt x="19736" y="7539"/>
                  <a:pt x="19670" y="7689"/>
                </a:cubicBezTo>
                <a:cubicBezTo>
                  <a:pt x="19624" y="7793"/>
                  <a:pt x="19600" y="7925"/>
                  <a:pt x="19596" y="8037"/>
                </a:cubicBezTo>
                <a:cubicBezTo>
                  <a:pt x="19593" y="8133"/>
                  <a:pt x="19604" y="8198"/>
                  <a:pt x="19645" y="8285"/>
                </a:cubicBezTo>
                <a:cubicBezTo>
                  <a:pt x="19676" y="8351"/>
                  <a:pt x="19734" y="8382"/>
                  <a:pt x="19794" y="8409"/>
                </a:cubicBezTo>
                <a:cubicBezTo>
                  <a:pt x="19857" y="8437"/>
                  <a:pt x="19955" y="8443"/>
                  <a:pt x="20017" y="8409"/>
                </a:cubicBezTo>
                <a:cubicBezTo>
                  <a:pt x="20126" y="8348"/>
                  <a:pt x="20233" y="8246"/>
                  <a:pt x="20315" y="8161"/>
                </a:cubicBezTo>
                <a:cubicBezTo>
                  <a:pt x="20406" y="8066"/>
                  <a:pt x="20454" y="7990"/>
                  <a:pt x="20489" y="7863"/>
                </a:cubicBezTo>
                <a:cubicBezTo>
                  <a:pt x="20513" y="7778"/>
                  <a:pt x="20533" y="7654"/>
                  <a:pt x="20513" y="7565"/>
                </a:cubicBezTo>
                <a:cubicBezTo>
                  <a:pt x="20500" y="7506"/>
                  <a:pt x="20431" y="7404"/>
                  <a:pt x="20389" y="7367"/>
                </a:cubicBezTo>
                <a:cubicBezTo>
                  <a:pt x="20343" y="7327"/>
                  <a:pt x="20271" y="7301"/>
                  <a:pt x="20216" y="7293"/>
                </a:cubicBezTo>
              </a:path>
              <a:path w="3523" h="2060">
                <a:moveTo>
                  <a:pt x="19645" y="7739"/>
                </a:moveTo>
                <a:cubicBezTo>
                  <a:pt x="19655" y="7818"/>
                  <a:pt x="19670" y="7878"/>
                  <a:pt x="19670" y="7962"/>
                </a:cubicBezTo>
                <a:cubicBezTo>
                  <a:pt x="19670" y="8044"/>
                  <a:pt x="19649" y="8109"/>
                  <a:pt x="19645" y="8186"/>
                </a:cubicBezTo>
                <a:cubicBezTo>
                  <a:pt x="19645" y="8235"/>
                  <a:pt x="19645" y="8252"/>
                  <a:pt x="19645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7545240" y="2536920"/>
            <a:ext cx="1428840" cy="500040"/>
          </a:xfrm>
          <a:custGeom>
            <a:avLst/>
            <a:gdLst/>
            <a:ahLst/>
            <a:rect l="l" t="t" r="r" b="b"/>
            <a:pathLst>
              <a:path w="3970" h="1390">
                <a:moveTo>
                  <a:pt x="21307" y="7317"/>
                </a:moveTo>
                <a:cubicBezTo>
                  <a:pt x="21363" y="7373"/>
                  <a:pt x="21295" y="7269"/>
                  <a:pt x="21282" y="7243"/>
                </a:cubicBezTo>
                <a:cubicBezTo>
                  <a:pt x="21267" y="7215"/>
                  <a:pt x="21214" y="7102"/>
                  <a:pt x="21158" y="7144"/>
                </a:cubicBezTo>
                <a:cubicBezTo>
                  <a:pt x="21096" y="7190"/>
                  <a:pt x="21122" y="7282"/>
                  <a:pt x="21109" y="7342"/>
                </a:cubicBezTo>
                <a:cubicBezTo>
                  <a:pt x="21090" y="7428"/>
                  <a:pt x="21109" y="7475"/>
                  <a:pt x="21109" y="7565"/>
                </a:cubicBezTo>
                <a:cubicBezTo>
                  <a:pt x="21109" y="7647"/>
                  <a:pt x="21094" y="7714"/>
                  <a:pt x="21084" y="7789"/>
                </a:cubicBezTo>
                <a:cubicBezTo>
                  <a:pt x="21076" y="7852"/>
                  <a:pt x="21084" y="7923"/>
                  <a:pt x="21084" y="7987"/>
                </a:cubicBezTo>
              </a:path>
              <a:path w="3970" h="1390">
                <a:moveTo>
                  <a:pt x="20960" y="7789"/>
                </a:moveTo>
                <a:cubicBezTo>
                  <a:pt x="21034" y="7789"/>
                  <a:pt x="21109" y="7789"/>
                  <a:pt x="21183" y="7789"/>
                </a:cubicBezTo>
              </a:path>
              <a:path w="3970" h="1390">
                <a:moveTo>
                  <a:pt x="21630" y="7069"/>
                </a:moveTo>
                <a:cubicBezTo>
                  <a:pt x="21621" y="7148"/>
                  <a:pt x="21606" y="7219"/>
                  <a:pt x="21580" y="7293"/>
                </a:cubicBezTo>
                <a:cubicBezTo>
                  <a:pt x="21550" y="7378"/>
                  <a:pt x="21527" y="7456"/>
                  <a:pt x="21506" y="7541"/>
                </a:cubicBezTo>
                <a:cubicBezTo>
                  <a:pt x="21487" y="7616"/>
                  <a:pt x="21462" y="7709"/>
                  <a:pt x="21481" y="7789"/>
                </a:cubicBezTo>
                <a:cubicBezTo>
                  <a:pt x="21496" y="7852"/>
                  <a:pt x="21530" y="7938"/>
                  <a:pt x="21580" y="7962"/>
                </a:cubicBezTo>
              </a:path>
              <a:path w="3970" h="1390">
                <a:moveTo>
                  <a:pt x="21679" y="7541"/>
                </a:moveTo>
                <a:cubicBezTo>
                  <a:pt x="21734" y="7573"/>
                  <a:pt x="21786" y="7565"/>
                  <a:pt x="21853" y="7565"/>
                </a:cubicBezTo>
                <a:cubicBezTo>
                  <a:pt x="21870" y="7565"/>
                  <a:pt x="21886" y="7565"/>
                  <a:pt x="21903" y="7565"/>
                </a:cubicBezTo>
              </a:path>
              <a:path w="3970" h="1390">
                <a:moveTo>
                  <a:pt x="22051" y="7268"/>
                </a:moveTo>
                <a:cubicBezTo>
                  <a:pt x="22132" y="7238"/>
                  <a:pt x="22219" y="7245"/>
                  <a:pt x="22299" y="7218"/>
                </a:cubicBezTo>
                <a:cubicBezTo>
                  <a:pt x="22316" y="7210"/>
                  <a:pt x="22332" y="7201"/>
                  <a:pt x="22349" y="7193"/>
                </a:cubicBezTo>
              </a:path>
              <a:path w="3970" h="1390">
                <a:moveTo>
                  <a:pt x="22175" y="7218"/>
                </a:moveTo>
                <a:cubicBezTo>
                  <a:pt x="22103" y="7274"/>
                  <a:pt x="22023" y="7320"/>
                  <a:pt x="22002" y="7417"/>
                </a:cubicBezTo>
                <a:cubicBezTo>
                  <a:pt x="21979" y="7521"/>
                  <a:pt x="22053" y="7516"/>
                  <a:pt x="22126" y="7516"/>
                </a:cubicBezTo>
                <a:cubicBezTo>
                  <a:pt x="22185" y="7516"/>
                  <a:pt x="22230" y="7549"/>
                  <a:pt x="22275" y="7590"/>
                </a:cubicBezTo>
                <a:cubicBezTo>
                  <a:pt x="22340" y="7650"/>
                  <a:pt x="22330" y="7719"/>
                  <a:pt x="22299" y="7789"/>
                </a:cubicBezTo>
                <a:cubicBezTo>
                  <a:pt x="22259" y="7880"/>
                  <a:pt x="22198" y="7855"/>
                  <a:pt x="22126" y="7888"/>
                </a:cubicBezTo>
                <a:cubicBezTo>
                  <a:pt x="22101" y="7913"/>
                  <a:pt x="22093" y="7921"/>
                  <a:pt x="22076" y="7888"/>
                </a:cubicBezTo>
              </a:path>
              <a:path w="3970" h="1390">
                <a:moveTo>
                  <a:pt x="22523" y="7243"/>
                </a:moveTo>
                <a:cubicBezTo>
                  <a:pt x="22548" y="7313"/>
                  <a:pt x="22547" y="7366"/>
                  <a:pt x="22547" y="7441"/>
                </a:cubicBezTo>
                <a:cubicBezTo>
                  <a:pt x="22547" y="7505"/>
                  <a:pt x="22499" y="7575"/>
                  <a:pt x="22523" y="7640"/>
                </a:cubicBezTo>
                <a:cubicBezTo>
                  <a:pt x="22540" y="7687"/>
                  <a:pt x="22572" y="7789"/>
                  <a:pt x="22647" y="7789"/>
                </a:cubicBezTo>
                <a:cubicBezTo>
                  <a:pt x="22669" y="7766"/>
                  <a:pt x="22674" y="7758"/>
                  <a:pt x="22696" y="7764"/>
                </a:cubicBezTo>
              </a:path>
              <a:path w="3970" h="1390">
                <a:moveTo>
                  <a:pt x="22349" y="7565"/>
                </a:moveTo>
                <a:cubicBezTo>
                  <a:pt x="22425" y="7557"/>
                  <a:pt x="22527" y="7551"/>
                  <a:pt x="22597" y="7516"/>
                </a:cubicBezTo>
                <a:cubicBezTo>
                  <a:pt x="22605" y="7508"/>
                  <a:pt x="22614" y="7499"/>
                  <a:pt x="22622" y="7491"/>
                </a:cubicBezTo>
              </a:path>
              <a:path w="3970" h="1390">
                <a:moveTo>
                  <a:pt x="22696" y="7045"/>
                </a:moveTo>
                <a:cubicBezTo>
                  <a:pt x="22780" y="7129"/>
                  <a:pt x="22828" y="7182"/>
                  <a:pt x="22870" y="7293"/>
                </a:cubicBezTo>
                <a:cubicBezTo>
                  <a:pt x="22899" y="7369"/>
                  <a:pt x="22957" y="7482"/>
                  <a:pt x="22944" y="7565"/>
                </a:cubicBezTo>
                <a:cubicBezTo>
                  <a:pt x="22927" y="7670"/>
                  <a:pt x="22889" y="7725"/>
                  <a:pt x="22845" y="7813"/>
                </a:cubicBezTo>
                <a:cubicBezTo>
                  <a:pt x="22801" y="7901"/>
                  <a:pt x="22781" y="7941"/>
                  <a:pt x="22721" y="8012"/>
                </a:cubicBezTo>
                <a:cubicBezTo>
                  <a:pt x="22698" y="8035"/>
                  <a:pt x="22690" y="8039"/>
                  <a:pt x="22696" y="8062"/>
                </a:cubicBezTo>
              </a:path>
              <a:path w="3970" h="1390">
                <a:moveTo>
                  <a:pt x="23316" y="7541"/>
                </a:moveTo>
                <a:cubicBezTo>
                  <a:pt x="23264" y="7487"/>
                  <a:pt x="23240" y="7451"/>
                  <a:pt x="23168" y="7441"/>
                </a:cubicBezTo>
                <a:cubicBezTo>
                  <a:pt x="23138" y="7501"/>
                  <a:pt x="23107" y="7562"/>
                  <a:pt x="23068" y="7615"/>
                </a:cubicBezTo>
                <a:cubicBezTo>
                  <a:pt x="23038" y="7655"/>
                  <a:pt x="23030" y="7736"/>
                  <a:pt x="23044" y="7789"/>
                </a:cubicBezTo>
                <a:cubicBezTo>
                  <a:pt x="23060" y="7848"/>
                  <a:pt x="23119" y="7902"/>
                  <a:pt x="23168" y="7838"/>
                </a:cubicBezTo>
                <a:cubicBezTo>
                  <a:pt x="23198" y="7799"/>
                  <a:pt x="23234" y="7729"/>
                  <a:pt x="23242" y="7689"/>
                </a:cubicBezTo>
                <a:cubicBezTo>
                  <a:pt x="23242" y="7638"/>
                  <a:pt x="23243" y="7619"/>
                  <a:pt x="23267" y="7590"/>
                </a:cubicBezTo>
                <a:cubicBezTo>
                  <a:pt x="23275" y="7661"/>
                  <a:pt x="23277" y="7743"/>
                  <a:pt x="23292" y="7813"/>
                </a:cubicBezTo>
                <a:cubicBezTo>
                  <a:pt x="23310" y="7898"/>
                  <a:pt x="23353" y="8025"/>
                  <a:pt x="23341" y="8111"/>
                </a:cubicBezTo>
                <a:cubicBezTo>
                  <a:pt x="23323" y="8241"/>
                  <a:pt x="23294" y="8247"/>
                  <a:pt x="23242" y="8334"/>
                </a:cubicBezTo>
                <a:cubicBezTo>
                  <a:pt x="23185" y="8428"/>
                  <a:pt x="23195" y="8426"/>
                  <a:pt x="23068" y="8434"/>
                </a:cubicBezTo>
                <a:cubicBezTo>
                  <a:pt x="23037" y="8436"/>
                  <a:pt x="23023" y="8416"/>
                  <a:pt x="22994" y="8409"/>
                </a:cubicBezTo>
              </a:path>
              <a:path w="3970" h="1390">
                <a:moveTo>
                  <a:pt x="23614" y="7069"/>
                </a:moveTo>
                <a:cubicBezTo>
                  <a:pt x="23583" y="7163"/>
                  <a:pt x="23530" y="7269"/>
                  <a:pt x="23515" y="7367"/>
                </a:cubicBezTo>
                <a:cubicBezTo>
                  <a:pt x="23500" y="7466"/>
                  <a:pt x="23479" y="7566"/>
                  <a:pt x="23465" y="7665"/>
                </a:cubicBezTo>
                <a:cubicBezTo>
                  <a:pt x="23457" y="7721"/>
                  <a:pt x="23468" y="7815"/>
                  <a:pt x="23490" y="7863"/>
                </a:cubicBezTo>
                <a:cubicBezTo>
                  <a:pt x="23523" y="7934"/>
                  <a:pt x="23582" y="7954"/>
                  <a:pt x="23639" y="7938"/>
                </a:cubicBezTo>
              </a:path>
              <a:path w="3970" h="1390">
                <a:moveTo>
                  <a:pt x="23688" y="7491"/>
                </a:moveTo>
                <a:cubicBezTo>
                  <a:pt x="23746" y="7491"/>
                  <a:pt x="23804" y="7491"/>
                  <a:pt x="23862" y="7491"/>
                </a:cubicBezTo>
              </a:path>
              <a:path w="3970" h="1390">
                <a:moveTo>
                  <a:pt x="24061" y="7243"/>
                </a:moveTo>
                <a:cubicBezTo>
                  <a:pt x="24135" y="7243"/>
                  <a:pt x="24189" y="7222"/>
                  <a:pt x="24259" y="7218"/>
                </a:cubicBezTo>
                <a:cubicBezTo>
                  <a:pt x="24311" y="7218"/>
                  <a:pt x="24329" y="7217"/>
                  <a:pt x="24358" y="7193"/>
                </a:cubicBezTo>
              </a:path>
              <a:path w="3970" h="1390">
                <a:moveTo>
                  <a:pt x="24036" y="7293"/>
                </a:moveTo>
                <a:cubicBezTo>
                  <a:pt x="23996" y="7363"/>
                  <a:pt x="23986" y="7384"/>
                  <a:pt x="23986" y="7466"/>
                </a:cubicBezTo>
                <a:cubicBezTo>
                  <a:pt x="24049" y="7466"/>
                  <a:pt x="24111" y="7452"/>
                  <a:pt x="24160" y="7491"/>
                </a:cubicBezTo>
                <a:cubicBezTo>
                  <a:pt x="24195" y="7519"/>
                  <a:pt x="24227" y="7558"/>
                  <a:pt x="24259" y="7590"/>
                </a:cubicBezTo>
                <a:cubicBezTo>
                  <a:pt x="24329" y="7659"/>
                  <a:pt x="24258" y="7718"/>
                  <a:pt x="24209" y="7764"/>
                </a:cubicBezTo>
                <a:cubicBezTo>
                  <a:pt x="24163" y="7807"/>
                  <a:pt x="24078" y="7857"/>
                  <a:pt x="24011" y="7838"/>
                </a:cubicBezTo>
                <a:cubicBezTo>
                  <a:pt x="23988" y="7815"/>
                  <a:pt x="23977" y="7807"/>
                  <a:pt x="24011" y="7813"/>
                </a:cubicBezTo>
              </a:path>
              <a:path w="3970" h="1390">
                <a:moveTo>
                  <a:pt x="24532" y="7293"/>
                </a:moveTo>
                <a:cubicBezTo>
                  <a:pt x="24524" y="7386"/>
                  <a:pt x="24507" y="7470"/>
                  <a:pt x="24507" y="7565"/>
                </a:cubicBezTo>
                <a:cubicBezTo>
                  <a:pt x="24507" y="7605"/>
                  <a:pt x="24539" y="7718"/>
                  <a:pt x="24581" y="7739"/>
                </a:cubicBezTo>
                <a:cubicBezTo>
                  <a:pt x="24631" y="7739"/>
                  <a:pt x="24648" y="7739"/>
                  <a:pt x="24681" y="7739"/>
                </a:cubicBezTo>
              </a:path>
              <a:path w="3970" h="1390">
                <a:moveTo>
                  <a:pt x="24358" y="7516"/>
                </a:moveTo>
                <a:cubicBezTo>
                  <a:pt x="24444" y="7497"/>
                  <a:pt x="24525" y="7485"/>
                  <a:pt x="24606" y="7466"/>
                </a:cubicBezTo>
                <a:cubicBezTo>
                  <a:pt x="24614" y="7466"/>
                  <a:pt x="24623" y="7466"/>
                  <a:pt x="24631" y="7466"/>
                </a:cubicBezTo>
              </a:path>
              <a:path w="3970" h="1390">
                <a:moveTo>
                  <a:pt x="24681" y="7045"/>
                </a:moveTo>
                <a:cubicBezTo>
                  <a:pt x="24738" y="7090"/>
                  <a:pt x="24766" y="7107"/>
                  <a:pt x="24805" y="7169"/>
                </a:cubicBezTo>
                <a:cubicBezTo>
                  <a:pt x="24870" y="7271"/>
                  <a:pt x="24874" y="7331"/>
                  <a:pt x="24904" y="7441"/>
                </a:cubicBezTo>
                <a:cubicBezTo>
                  <a:pt x="24926" y="7522"/>
                  <a:pt x="24931" y="7584"/>
                  <a:pt x="24904" y="7665"/>
                </a:cubicBezTo>
                <a:cubicBezTo>
                  <a:pt x="24876" y="7747"/>
                  <a:pt x="24771" y="7878"/>
                  <a:pt x="24705" y="7938"/>
                </a:cubicBezTo>
                <a:cubicBezTo>
                  <a:pt x="24680" y="7954"/>
                  <a:pt x="24656" y="7971"/>
                  <a:pt x="24631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4259160" y="2411280"/>
            <a:ext cx="938160" cy="463680"/>
          </a:xfrm>
          <a:custGeom>
            <a:avLst/>
            <a:gdLst/>
            <a:ahLst/>
            <a:rect l="l" t="t" r="r" b="b"/>
            <a:pathLst>
              <a:path w="2605" h="1291">
                <a:moveTo>
                  <a:pt x="11906" y="6697"/>
                </a:moveTo>
                <a:cubicBezTo>
                  <a:pt x="11906" y="6773"/>
                  <a:pt x="11897" y="6848"/>
                  <a:pt x="11881" y="6921"/>
                </a:cubicBezTo>
                <a:cubicBezTo>
                  <a:pt x="11858" y="7023"/>
                  <a:pt x="11857" y="7112"/>
                  <a:pt x="11857" y="7218"/>
                </a:cubicBezTo>
                <a:cubicBezTo>
                  <a:pt x="11857" y="7403"/>
                  <a:pt x="11860" y="7587"/>
                  <a:pt x="11832" y="7764"/>
                </a:cubicBezTo>
                <a:cubicBezTo>
                  <a:pt x="11821" y="7834"/>
                  <a:pt x="11832" y="7916"/>
                  <a:pt x="11832" y="7987"/>
                </a:cubicBezTo>
              </a:path>
              <a:path w="2605" h="1291">
                <a:moveTo>
                  <a:pt x="12402" y="7441"/>
                </a:moveTo>
                <a:cubicBezTo>
                  <a:pt x="12505" y="7450"/>
                  <a:pt x="12575" y="7453"/>
                  <a:pt x="12675" y="7441"/>
                </a:cubicBezTo>
                <a:cubicBezTo>
                  <a:pt x="12768" y="7430"/>
                  <a:pt x="12856" y="7405"/>
                  <a:pt x="12948" y="7392"/>
                </a:cubicBezTo>
                <a:cubicBezTo>
                  <a:pt x="12987" y="7386"/>
                  <a:pt x="13115" y="7386"/>
                  <a:pt x="13146" y="7367"/>
                </a:cubicBezTo>
                <a:cubicBezTo>
                  <a:pt x="13146" y="7359"/>
                  <a:pt x="13146" y="7350"/>
                  <a:pt x="13146" y="7342"/>
                </a:cubicBezTo>
              </a:path>
              <a:path w="2605" h="1291">
                <a:moveTo>
                  <a:pt x="13618" y="7218"/>
                </a:moveTo>
                <a:cubicBezTo>
                  <a:pt x="13695" y="7208"/>
                  <a:pt x="13759" y="7193"/>
                  <a:pt x="13841" y="7193"/>
                </a:cubicBezTo>
                <a:cubicBezTo>
                  <a:pt x="13891" y="7193"/>
                  <a:pt x="13940" y="7193"/>
                  <a:pt x="13990" y="7193"/>
                </a:cubicBezTo>
              </a:path>
              <a:path w="2605" h="1291">
                <a:moveTo>
                  <a:pt x="14163" y="6921"/>
                </a:moveTo>
                <a:cubicBezTo>
                  <a:pt x="14142" y="7039"/>
                  <a:pt x="14114" y="7109"/>
                  <a:pt x="14114" y="7218"/>
                </a:cubicBezTo>
                <a:cubicBezTo>
                  <a:pt x="14114" y="7235"/>
                  <a:pt x="14114" y="7251"/>
                  <a:pt x="14114" y="7268"/>
                </a:cubicBezTo>
                <a:cubicBezTo>
                  <a:pt x="14184" y="7268"/>
                  <a:pt x="14257" y="7283"/>
                  <a:pt x="14312" y="7243"/>
                </a:cubicBezTo>
                <a:cubicBezTo>
                  <a:pt x="14340" y="7215"/>
                  <a:pt x="14354" y="7206"/>
                  <a:pt x="14387" y="7218"/>
                </a:cubicBezTo>
              </a:path>
              <a:path w="2605" h="1291">
                <a:moveTo>
                  <a:pt x="14436" y="6747"/>
                </a:moveTo>
                <a:cubicBezTo>
                  <a:pt x="14399" y="6811"/>
                  <a:pt x="14390" y="6891"/>
                  <a:pt x="14387" y="6970"/>
                </a:cubicBezTo>
                <a:cubicBezTo>
                  <a:pt x="14383" y="7080"/>
                  <a:pt x="14362" y="7181"/>
                  <a:pt x="14362" y="7293"/>
                </a:cubicBezTo>
                <a:cubicBezTo>
                  <a:pt x="14362" y="7451"/>
                  <a:pt x="14375" y="7612"/>
                  <a:pt x="14337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857160" y="3295800"/>
            <a:ext cx="1857600" cy="714240"/>
          </a:xfrm>
          <a:custGeom>
            <a:avLst/>
            <a:gdLst/>
            <a:ahLst/>
            <a:rect l="l" t="t" r="r" b="b"/>
            <a:pathLst>
              <a:path w="5161" h="1985">
                <a:moveTo>
                  <a:pt x="2729" y="9376"/>
                </a:moveTo>
                <a:cubicBezTo>
                  <a:pt x="2761" y="9418"/>
                  <a:pt x="2774" y="9461"/>
                  <a:pt x="2803" y="9500"/>
                </a:cubicBezTo>
                <a:cubicBezTo>
                  <a:pt x="2782" y="9444"/>
                  <a:pt x="2768" y="9385"/>
                  <a:pt x="2753" y="9327"/>
                </a:cubicBezTo>
                <a:cubicBezTo>
                  <a:pt x="2739" y="9273"/>
                  <a:pt x="2714" y="9224"/>
                  <a:pt x="2679" y="9178"/>
                </a:cubicBezTo>
                <a:cubicBezTo>
                  <a:pt x="2671" y="9170"/>
                  <a:pt x="2662" y="9161"/>
                  <a:pt x="2654" y="9153"/>
                </a:cubicBezTo>
                <a:cubicBezTo>
                  <a:pt x="2600" y="9180"/>
                  <a:pt x="2578" y="9222"/>
                  <a:pt x="2555" y="9302"/>
                </a:cubicBezTo>
                <a:cubicBezTo>
                  <a:pt x="2526" y="9404"/>
                  <a:pt x="2571" y="9502"/>
                  <a:pt x="2580" y="9599"/>
                </a:cubicBezTo>
                <a:cubicBezTo>
                  <a:pt x="2592" y="9732"/>
                  <a:pt x="2616" y="9864"/>
                  <a:pt x="2629" y="9996"/>
                </a:cubicBezTo>
                <a:cubicBezTo>
                  <a:pt x="2641" y="10114"/>
                  <a:pt x="2649" y="10237"/>
                  <a:pt x="2654" y="10344"/>
                </a:cubicBezTo>
                <a:cubicBezTo>
                  <a:pt x="2654" y="10369"/>
                  <a:pt x="2654" y="10393"/>
                  <a:pt x="2654" y="10418"/>
                </a:cubicBezTo>
              </a:path>
              <a:path w="5161" h="1985">
                <a:moveTo>
                  <a:pt x="2381" y="9922"/>
                </a:moveTo>
                <a:cubicBezTo>
                  <a:pt x="2469" y="9944"/>
                  <a:pt x="2501" y="9971"/>
                  <a:pt x="2604" y="9971"/>
                </a:cubicBezTo>
                <a:cubicBezTo>
                  <a:pt x="2691" y="9971"/>
                  <a:pt x="2744" y="9936"/>
                  <a:pt x="2828" y="9922"/>
                </a:cubicBezTo>
              </a:path>
              <a:path w="5161" h="1985">
                <a:moveTo>
                  <a:pt x="3274" y="9451"/>
                </a:moveTo>
                <a:cubicBezTo>
                  <a:pt x="3218" y="9548"/>
                  <a:pt x="3186" y="9641"/>
                  <a:pt x="3150" y="9748"/>
                </a:cubicBezTo>
                <a:cubicBezTo>
                  <a:pt x="3114" y="9854"/>
                  <a:pt x="3125" y="9959"/>
                  <a:pt x="3125" y="10071"/>
                </a:cubicBezTo>
                <a:cubicBezTo>
                  <a:pt x="3125" y="10154"/>
                  <a:pt x="3149" y="10224"/>
                  <a:pt x="3200" y="10269"/>
                </a:cubicBezTo>
                <a:cubicBezTo>
                  <a:pt x="3233" y="10302"/>
                  <a:pt x="3250" y="10319"/>
                  <a:pt x="3274" y="10344"/>
                </a:cubicBezTo>
              </a:path>
              <a:path w="5161" h="1985">
                <a:moveTo>
                  <a:pt x="3497" y="9748"/>
                </a:moveTo>
                <a:cubicBezTo>
                  <a:pt x="3559" y="9702"/>
                  <a:pt x="3662" y="9615"/>
                  <a:pt x="3746" y="9699"/>
                </a:cubicBezTo>
                <a:cubicBezTo>
                  <a:pt x="3799" y="9752"/>
                  <a:pt x="3803" y="9779"/>
                  <a:pt x="3770" y="9847"/>
                </a:cubicBezTo>
                <a:cubicBezTo>
                  <a:pt x="3748" y="9892"/>
                  <a:pt x="3652" y="9946"/>
                  <a:pt x="3597" y="9971"/>
                </a:cubicBezTo>
                <a:cubicBezTo>
                  <a:pt x="3589" y="9971"/>
                  <a:pt x="3580" y="9971"/>
                  <a:pt x="3572" y="9971"/>
                </a:cubicBezTo>
                <a:cubicBezTo>
                  <a:pt x="3648" y="10003"/>
                  <a:pt x="3755" y="10025"/>
                  <a:pt x="3820" y="10071"/>
                </a:cubicBezTo>
                <a:cubicBezTo>
                  <a:pt x="3851" y="10093"/>
                  <a:pt x="3936" y="10194"/>
                  <a:pt x="3944" y="10220"/>
                </a:cubicBezTo>
                <a:cubicBezTo>
                  <a:pt x="3973" y="10314"/>
                  <a:pt x="3834" y="10340"/>
                  <a:pt x="3770" y="10344"/>
                </a:cubicBezTo>
                <a:cubicBezTo>
                  <a:pt x="3663" y="10351"/>
                  <a:pt x="3608" y="10362"/>
                  <a:pt x="3547" y="10294"/>
                </a:cubicBezTo>
                <a:cubicBezTo>
                  <a:pt x="3539" y="10286"/>
                  <a:pt x="3530" y="10277"/>
                  <a:pt x="3522" y="10269"/>
                </a:cubicBezTo>
              </a:path>
              <a:path w="5161" h="1985">
                <a:moveTo>
                  <a:pt x="3795" y="9376"/>
                </a:moveTo>
                <a:cubicBezTo>
                  <a:pt x="3961" y="9487"/>
                  <a:pt x="4051" y="9587"/>
                  <a:pt x="4167" y="9748"/>
                </a:cubicBezTo>
                <a:cubicBezTo>
                  <a:pt x="4265" y="9885"/>
                  <a:pt x="4318" y="10027"/>
                  <a:pt x="4341" y="10195"/>
                </a:cubicBezTo>
                <a:cubicBezTo>
                  <a:pt x="4353" y="10281"/>
                  <a:pt x="4289" y="10461"/>
                  <a:pt x="4192" y="10492"/>
                </a:cubicBezTo>
                <a:cubicBezTo>
                  <a:pt x="4124" y="10492"/>
                  <a:pt x="4103" y="10498"/>
                  <a:pt x="4093" y="10443"/>
                </a:cubicBezTo>
              </a:path>
              <a:path w="5161" h="1985">
                <a:moveTo>
                  <a:pt x="4911" y="9674"/>
                </a:moveTo>
                <a:cubicBezTo>
                  <a:pt x="4930" y="9808"/>
                  <a:pt x="4943" y="9919"/>
                  <a:pt x="4986" y="10046"/>
                </a:cubicBezTo>
                <a:cubicBezTo>
                  <a:pt x="5014" y="10128"/>
                  <a:pt x="5005" y="10215"/>
                  <a:pt x="5035" y="10294"/>
                </a:cubicBezTo>
                <a:cubicBezTo>
                  <a:pt x="5055" y="10335"/>
                  <a:pt x="5074" y="10351"/>
                  <a:pt x="5035" y="10344"/>
                </a:cubicBezTo>
              </a:path>
              <a:path w="5161" h="1985">
                <a:moveTo>
                  <a:pt x="4738" y="10046"/>
                </a:moveTo>
                <a:cubicBezTo>
                  <a:pt x="4936" y="10046"/>
                  <a:pt x="5135" y="10046"/>
                  <a:pt x="5333" y="10046"/>
                </a:cubicBezTo>
              </a:path>
              <a:path w="5161" h="1985">
                <a:moveTo>
                  <a:pt x="6052" y="9823"/>
                </a:moveTo>
                <a:cubicBezTo>
                  <a:pt x="5976" y="9851"/>
                  <a:pt x="5919" y="9868"/>
                  <a:pt x="5854" y="9922"/>
                </a:cubicBezTo>
                <a:cubicBezTo>
                  <a:pt x="5793" y="9973"/>
                  <a:pt x="5733" y="10043"/>
                  <a:pt x="5730" y="10120"/>
                </a:cubicBezTo>
                <a:cubicBezTo>
                  <a:pt x="5725" y="10220"/>
                  <a:pt x="5763" y="10235"/>
                  <a:pt x="5829" y="10294"/>
                </a:cubicBezTo>
                <a:cubicBezTo>
                  <a:pt x="5912" y="10367"/>
                  <a:pt x="5966" y="10362"/>
                  <a:pt x="6052" y="10294"/>
                </a:cubicBezTo>
                <a:cubicBezTo>
                  <a:pt x="6090" y="10264"/>
                  <a:pt x="6130" y="10246"/>
                  <a:pt x="6152" y="10195"/>
                </a:cubicBezTo>
                <a:cubicBezTo>
                  <a:pt x="6186" y="10117"/>
                  <a:pt x="6185" y="10041"/>
                  <a:pt x="6152" y="9971"/>
                </a:cubicBezTo>
                <a:cubicBezTo>
                  <a:pt x="6129" y="10063"/>
                  <a:pt x="6109" y="10172"/>
                  <a:pt x="6127" y="10269"/>
                </a:cubicBezTo>
                <a:cubicBezTo>
                  <a:pt x="6150" y="10390"/>
                  <a:pt x="6190" y="10516"/>
                  <a:pt x="6201" y="10641"/>
                </a:cubicBezTo>
                <a:cubicBezTo>
                  <a:pt x="6213" y="10773"/>
                  <a:pt x="6240" y="10951"/>
                  <a:pt x="6152" y="11063"/>
                </a:cubicBezTo>
                <a:cubicBezTo>
                  <a:pt x="6071" y="11166"/>
                  <a:pt x="5932" y="11142"/>
                  <a:pt x="5829" y="11088"/>
                </a:cubicBezTo>
                <a:cubicBezTo>
                  <a:pt x="5710" y="11026"/>
                  <a:pt x="5655" y="10932"/>
                  <a:pt x="5606" y="10815"/>
                </a:cubicBezTo>
              </a:path>
              <a:path w="5161" h="1985">
                <a:moveTo>
                  <a:pt x="6474" y="9401"/>
                </a:moveTo>
                <a:cubicBezTo>
                  <a:pt x="6436" y="9569"/>
                  <a:pt x="6403" y="9723"/>
                  <a:pt x="6424" y="9897"/>
                </a:cubicBezTo>
                <a:cubicBezTo>
                  <a:pt x="6437" y="10001"/>
                  <a:pt x="6485" y="10123"/>
                  <a:pt x="6524" y="10220"/>
                </a:cubicBezTo>
                <a:cubicBezTo>
                  <a:pt x="6558" y="10304"/>
                  <a:pt x="6588" y="10356"/>
                  <a:pt x="6672" y="10368"/>
                </a:cubicBezTo>
              </a:path>
              <a:path w="5161" h="1985">
                <a:moveTo>
                  <a:pt x="6722" y="9699"/>
                </a:moveTo>
                <a:cubicBezTo>
                  <a:pt x="6784" y="9688"/>
                  <a:pt x="6933" y="9638"/>
                  <a:pt x="6995" y="9699"/>
                </a:cubicBezTo>
                <a:cubicBezTo>
                  <a:pt x="7055" y="9758"/>
                  <a:pt x="7000" y="9798"/>
                  <a:pt x="6970" y="9847"/>
                </a:cubicBezTo>
                <a:cubicBezTo>
                  <a:pt x="6926" y="9921"/>
                  <a:pt x="6888" y="9882"/>
                  <a:pt x="6821" y="9922"/>
                </a:cubicBezTo>
                <a:cubicBezTo>
                  <a:pt x="6879" y="9990"/>
                  <a:pt x="6924" y="9953"/>
                  <a:pt x="6995" y="9996"/>
                </a:cubicBezTo>
                <a:cubicBezTo>
                  <a:pt x="7065" y="10039"/>
                  <a:pt x="7128" y="10060"/>
                  <a:pt x="7193" y="10120"/>
                </a:cubicBezTo>
                <a:cubicBezTo>
                  <a:pt x="7245" y="10168"/>
                  <a:pt x="7218" y="10244"/>
                  <a:pt x="7193" y="10294"/>
                </a:cubicBezTo>
                <a:cubicBezTo>
                  <a:pt x="7158" y="10365"/>
                  <a:pt x="7117" y="10344"/>
                  <a:pt x="7045" y="10344"/>
                </a:cubicBezTo>
                <a:cubicBezTo>
                  <a:pt x="6946" y="10344"/>
                  <a:pt x="6922" y="10287"/>
                  <a:pt x="6871" y="10220"/>
                </a:cubicBezTo>
                <a:cubicBezTo>
                  <a:pt x="6863" y="10212"/>
                  <a:pt x="6854" y="10203"/>
                  <a:pt x="6846" y="10195"/>
                </a:cubicBezTo>
              </a:path>
              <a:path w="5161" h="1985">
                <a:moveTo>
                  <a:pt x="7144" y="9302"/>
                </a:moveTo>
                <a:cubicBezTo>
                  <a:pt x="7240" y="9316"/>
                  <a:pt x="7291" y="9415"/>
                  <a:pt x="7342" y="9500"/>
                </a:cubicBezTo>
                <a:cubicBezTo>
                  <a:pt x="7428" y="9643"/>
                  <a:pt x="7470" y="9814"/>
                  <a:pt x="7516" y="9971"/>
                </a:cubicBezTo>
                <a:cubicBezTo>
                  <a:pt x="7554" y="10100"/>
                  <a:pt x="7528" y="10238"/>
                  <a:pt x="7441" y="10344"/>
                </a:cubicBezTo>
                <a:cubicBezTo>
                  <a:pt x="7376" y="10424"/>
                  <a:pt x="7283" y="10438"/>
                  <a:pt x="7193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3857760" y="3544920"/>
            <a:ext cx="411120" cy="473040"/>
          </a:xfrm>
          <a:custGeom>
            <a:avLst/>
            <a:gdLst/>
            <a:ahLst/>
            <a:rect l="l" t="t" r="r" b="b"/>
            <a:pathLst>
              <a:path w="1142" h="1316">
                <a:moveTo>
                  <a:pt x="11038" y="10120"/>
                </a:moveTo>
                <a:cubicBezTo>
                  <a:pt x="11038" y="10225"/>
                  <a:pt x="11024" y="10317"/>
                  <a:pt x="11013" y="10418"/>
                </a:cubicBezTo>
                <a:cubicBezTo>
                  <a:pt x="11001" y="10526"/>
                  <a:pt x="10992" y="10633"/>
                  <a:pt x="10964" y="10740"/>
                </a:cubicBezTo>
                <a:cubicBezTo>
                  <a:pt x="10950" y="10793"/>
                  <a:pt x="10897" y="10910"/>
                  <a:pt x="10914" y="10964"/>
                </a:cubicBezTo>
                <a:cubicBezTo>
                  <a:pt x="10922" y="10972"/>
                  <a:pt x="10931" y="10980"/>
                  <a:pt x="10939" y="10988"/>
                </a:cubicBezTo>
              </a:path>
              <a:path w="1142" h="1316">
                <a:moveTo>
                  <a:pt x="11212" y="10195"/>
                </a:moveTo>
                <a:cubicBezTo>
                  <a:pt x="11250" y="10150"/>
                  <a:pt x="11340" y="10089"/>
                  <a:pt x="11385" y="10071"/>
                </a:cubicBezTo>
                <a:cubicBezTo>
                  <a:pt x="11434" y="10052"/>
                  <a:pt x="11504" y="10046"/>
                  <a:pt x="11559" y="10046"/>
                </a:cubicBezTo>
                <a:cubicBezTo>
                  <a:pt x="11634" y="10046"/>
                  <a:pt x="11678" y="10043"/>
                  <a:pt x="11658" y="10145"/>
                </a:cubicBezTo>
                <a:cubicBezTo>
                  <a:pt x="11642" y="10223"/>
                  <a:pt x="11613" y="10272"/>
                  <a:pt x="11584" y="10344"/>
                </a:cubicBezTo>
                <a:cubicBezTo>
                  <a:pt x="11543" y="10444"/>
                  <a:pt x="11544" y="10542"/>
                  <a:pt x="11509" y="10641"/>
                </a:cubicBezTo>
                <a:cubicBezTo>
                  <a:pt x="11504" y="10654"/>
                  <a:pt x="11477" y="10843"/>
                  <a:pt x="11485" y="10840"/>
                </a:cubicBezTo>
                <a:cubicBezTo>
                  <a:pt x="11506" y="10796"/>
                  <a:pt x="11509" y="10784"/>
                  <a:pt x="11534" y="10765"/>
                </a:cubicBezTo>
              </a:path>
              <a:path w="1142" h="1316">
                <a:moveTo>
                  <a:pt x="11708" y="10269"/>
                </a:moveTo>
                <a:cubicBezTo>
                  <a:pt x="11722" y="10171"/>
                  <a:pt x="11771" y="10009"/>
                  <a:pt x="11683" y="9922"/>
                </a:cubicBezTo>
                <a:cubicBezTo>
                  <a:pt x="11649" y="9888"/>
                  <a:pt x="11527" y="9852"/>
                  <a:pt x="11485" y="9847"/>
                </a:cubicBezTo>
                <a:cubicBezTo>
                  <a:pt x="11434" y="9841"/>
                  <a:pt x="11262" y="9893"/>
                  <a:pt x="11212" y="9922"/>
                </a:cubicBezTo>
                <a:cubicBezTo>
                  <a:pt x="11071" y="10004"/>
                  <a:pt x="10883" y="10224"/>
                  <a:pt x="10815" y="10368"/>
                </a:cubicBezTo>
                <a:cubicBezTo>
                  <a:pt x="10737" y="10532"/>
                  <a:pt x="10716" y="10685"/>
                  <a:pt x="10716" y="10864"/>
                </a:cubicBezTo>
                <a:cubicBezTo>
                  <a:pt x="10716" y="10959"/>
                  <a:pt x="10766" y="11094"/>
                  <a:pt x="10864" y="11137"/>
                </a:cubicBezTo>
                <a:cubicBezTo>
                  <a:pt x="10948" y="11174"/>
                  <a:pt x="11051" y="11163"/>
                  <a:pt x="11137" y="11137"/>
                </a:cubicBezTo>
                <a:cubicBezTo>
                  <a:pt x="11238" y="11107"/>
                  <a:pt x="11377" y="11028"/>
                  <a:pt x="11460" y="10964"/>
                </a:cubicBezTo>
                <a:cubicBezTo>
                  <a:pt x="11563" y="10885"/>
                  <a:pt x="11675" y="10757"/>
                  <a:pt x="11733" y="10641"/>
                </a:cubicBezTo>
                <a:cubicBezTo>
                  <a:pt x="11783" y="10540"/>
                  <a:pt x="11840" y="10383"/>
                  <a:pt x="11857" y="10269"/>
                </a:cubicBezTo>
                <a:cubicBezTo>
                  <a:pt x="11873" y="10163"/>
                  <a:pt x="11835" y="10000"/>
                  <a:pt x="11757" y="9922"/>
                </a:cubicBezTo>
                <a:cubicBezTo>
                  <a:pt x="11704" y="9869"/>
                  <a:pt x="11477" y="9888"/>
                  <a:pt x="11410" y="9897"/>
                </a:cubicBezTo>
                <a:cubicBezTo>
                  <a:pt x="11315" y="9921"/>
                  <a:pt x="11286" y="9927"/>
                  <a:pt x="1123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4446720" y="3348000"/>
            <a:ext cx="1287360" cy="768240"/>
          </a:xfrm>
          <a:custGeom>
            <a:avLst/>
            <a:gdLst/>
            <a:ahLst/>
            <a:rect l="l" t="t" r="r" b="b"/>
            <a:pathLst>
              <a:path w="3573" h="2134">
                <a:moveTo>
                  <a:pt x="13047" y="9624"/>
                </a:moveTo>
                <a:cubicBezTo>
                  <a:pt x="13075" y="9578"/>
                  <a:pt x="13073" y="9525"/>
                  <a:pt x="13047" y="9475"/>
                </a:cubicBezTo>
                <a:cubicBezTo>
                  <a:pt x="13024" y="9429"/>
                  <a:pt x="12994" y="9390"/>
                  <a:pt x="12948" y="9376"/>
                </a:cubicBezTo>
                <a:cubicBezTo>
                  <a:pt x="12874" y="9354"/>
                  <a:pt x="12830" y="9424"/>
                  <a:pt x="12799" y="9475"/>
                </a:cubicBezTo>
                <a:cubicBezTo>
                  <a:pt x="12765" y="9532"/>
                  <a:pt x="12715" y="9641"/>
                  <a:pt x="12700" y="9699"/>
                </a:cubicBezTo>
                <a:cubicBezTo>
                  <a:pt x="12678" y="9787"/>
                  <a:pt x="12675" y="9878"/>
                  <a:pt x="12675" y="9971"/>
                </a:cubicBezTo>
                <a:cubicBezTo>
                  <a:pt x="12675" y="10197"/>
                  <a:pt x="12675" y="10420"/>
                  <a:pt x="12650" y="10641"/>
                </a:cubicBezTo>
                <a:cubicBezTo>
                  <a:pt x="12643" y="10707"/>
                  <a:pt x="12650" y="10724"/>
                  <a:pt x="12650" y="10790"/>
                </a:cubicBezTo>
              </a:path>
              <a:path w="3573" h="2134">
                <a:moveTo>
                  <a:pt x="12402" y="10269"/>
                </a:moveTo>
                <a:cubicBezTo>
                  <a:pt x="12548" y="10269"/>
                  <a:pt x="12734" y="10305"/>
                  <a:pt x="12849" y="10220"/>
                </a:cubicBezTo>
              </a:path>
              <a:path w="3573" h="2134">
                <a:moveTo>
                  <a:pt x="13196" y="10071"/>
                </a:moveTo>
                <a:cubicBezTo>
                  <a:pt x="13289" y="10084"/>
                  <a:pt x="13330" y="10120"/>
                  <a:pt x="13419" y="10120"/>
                </a:cubicBezTo>
              </a:path>
              <a:path w="3573" h="2134">
                <a:moveTo>
                  <a:pt x="13940" y="10120"/>
                </a:moveTo>
                <a:cubicBezTo>
                  <a:pt x="13958" y="10059"/>
                  <a:pt x="13953" y="10008"/>
                  <a:pt x="13891" y="9971"/>
                </a:cubicBezTo>
                <a:cubicBezTo>
                  <a:pt x="13855" y="9950"/>
                  <a:pt x="13791" y="9975"/>
                  <a:pt x="13767" y="9996"/>
                </a:cubicBezTo>
                <a:cubicBezTo>
                  <a:pt x="13677" y="10075"/>
                  <a:pt x="13642" y="10125"/>
                  <a:pt x="13618" y="10269"/>
                </a:cubicBezTo>
                <a:cubicBezTo>
                  <a:pt x="13608" y="10329"/>
                  <a:pt x="13625" y="10365"/>
                  <a:pt x="13643" y="10418"/>
                </a:cubicBezTo>
                <a:cubicBezTo>
                  <a:pt x="13743" y="10418"/>
                  <a:pt x="13755" y="10428"/>
                  <a:pt x="13816" y="10368"/>
                </a:cubicBezTo>
                <a:cubicBezTo>
                  <a:pt x="13858" y="10327"/>
                  <a:pt x="13863" y="10326"/>
                  <a:pt x="13891" y="10269"/>
                </a:cubicBezTo>
                <a:cubicBezTo>
                  <a:pt x="13911" y="10229"/>
                  <a:pt x="13919" y="10222"/>
                  <a:pt x="13915" y="10195"/>
                </a:cubicBezTo>
                <a:cubicBezTo>
                  <a:pt x="13920" y="10272"/>
                  <a:pt x="13937" y="10342"/>
                  <a:pt x="13940" y="10418"/>
                </a:cubicBezTo>
                <a:cubicBezTo>
                  <a:pt x="13944" y="10518"/>
                  <a:pt x="13948" y="10640"/>
                  <a:pt x="13965" y="10740"/>
                </a:cubicBezTo>
                <a:cubicBezTo>
                  <a:pt x="13982" y="10841"/>
                  <a:pt x="13988" y="10909"/>
                  <a:pt x="13965" y="11013"/>
                </a:cubicBezTo>
                <a:cubicBezTo>
                  <a:pt x="13940" y="11123"/>
                  <a:pt x="13852" y="11239"/>
                  <a:pt x="13767" y="11311"/>
                </a:cubicBezTo>
                <a:cubicBezTo>
                  <a:pt x="13677" y="11371"/>
                  <a:pt x="13636" y="11397"/>
                  <a:pt x="13568" y="11435"/>
                </a:cubicBezTo>
              </a:path>
              <a:path w="3573" h="2134">
                <a:moveTo>
                  <a:pt x="12526" y="9624"/>
                </a:moveTo>
                <a:cubicBezTo>
                  <a:pt x="12469" y="9624"/>
                  <a:pt x="12480" y="9701"/>
                  <a:pt x="12452" y="9773"/>
                </a:cubicBezTo>
                <a:cubicBezTo>
                  <a:pt x="12413" y="9873"/>
                  <a:pt x="12389" y="10035"/>
                  <a:pt x="12378" y="10145"/>
                </a:cubicBezTo>
                <a:cubicBezTo>
                  <a:pt x="12367" y="10259"/>
                  <a:pt x="12332" y="10402"/>
                  <a:pt x="12353" y="10517"/>
                </a:cubicBezTo>
                <a:cubicBezTo>
                  <a:pt x="12369" y="10603"/>
                  <a:pt x="12414" y="10734"/>
                  <a:pt x="12477" y="10790"/>
                </a:cubicBezTo>
                <a:cubicBezTo>
                  <a:pt x="12533" y="10819"/>
                  <a:pt x="12557" y="10830"/>
                  <a:pt x="12601" y="10840"/>
                </a:cubicBezTo>
              </a:path>
              <a:path w="3573" h="2134">
                <a:moveTo>
                  <a:pt x="14114" y="9302"/>
                </a:moveTo>
                <a:cubicBezTo>
                  <a:pt x="14168" y="9383"/>
                  <a:pt x="14250" y="9463"/>
                  <a:pt x="14288" y="9550"/>
                </a:cubicBezTo>
                <a:cubicBezTo>
                  <a:pt x="14321" y="9627"/>
                  <a:pt x="14374" y="9740"/>
                  <a:pt x="14387" y="9823"/>
                </a:cubicBezTo>
                <a:cubicBezTo>
                  <a:pt x="14403" y="9926"/>
                  <a:pt x="14388" y="10047"/>
                  <a:pt x="14362" y="10145"/>
                </a:cubicBezTo>
                <a:cubicBezTo>
                  <a:pt x="14337" y="10240"/>
                  <a:pt x="14293" y="10363"/>
                  <a:pt x="14238" y="10443"/>
                </a:cubicBezTo>
                <a:cubicBezTo>
                  <a:pt x="14193" y="10509"/>
                  <a:pt x="14155" y="10570"/>
                  <a:pt x="14114" y="10641"/>
                </a:cubicBezTo>
              </a:path>
              <a:path w="3573" h="2134">
                <a:moveTo>
                  <a:pt x="14684" y="9401"/>
                </a:moveTo>
                <a:cubicBezTo>
                  <a:pt x="14673" y="9493"/>
                  <a:pt x="14657" y="9582"/>
                  <a:pt x="14635" y="9674"/>
                </a:cubicBezTo>
                <a:cubicBezTo>
                  <a:pt x="14603" y="9807"/>
                  <a:pt x="14566" y="9938"/>
                  <a:pt x="14536" y="10071"/>
                </a:cubicBezTo>
                <a:cubicBezTo>
                  <a:pt x="14519" y="10148"/>
                  <a:pt x="14490" y="10283"/>
                  <a:pt x="14511" y="10368"/>
                </a:cubicBezTo>
                <a:cubicBezTo>
                  <a:pt x="14526" y="10427"/>
                  <a:pt x="14607" y="10551"/>
                  <a:pt x="14684" y="10492"/>
                </a:cubicBezTo>
                <a:cubicBezTo>
                  <a:pt x="14709" y="10443"/>
                  <a:pt x="14718" y="10426"/>
                  <a:pt x="14759" y="10418"/>
                </a:cubicBezTo>
              </a:path>
              <a:path w="3573" h="2134">
                <a:moveTo>
                  <a:pt x="14932" y="9699"/>
                </a:moveTo>
                <a:cubicBezTo>
                  <a:pt x="14980" y="9639"/>
                  <a:pt x="15001" y="9578"/>
                  <a:pt x="15081" y="9624"/>
                </a:cubicBezTo>
                <a:cubicBezTo>
                  <a:pt x="15182" y="9682"/>
                  <a:pt x="15233" y="9677"/>
                  <a:pt x="15205" y="9823"/>
                </a:cubicBezTo>
                <a:cubicBezTo>
                  <a:pt x="15195" y="9876"/>
                  <a:pt x="15082" y="9986"/>
                  <a:pt x="15056" y="10046"/>
                </a:cubicBezTo>
                <a:cubicBezTo>
                  <a:pt x="15019" y="10130"/>
                  <a:pt x="14994" y="10207"/>
                  <a:pt x="14957" y="10269"/>
                </a:cubicBezTo>
                <a:cubicBezTo>
                  <a:pt x="14930" y="10315"/>
                  <a:pt x="14905" y="10402"/>
                  <a:pt x="14982" y="10418"/>
                </a:cubicBezTo>
                <a:cubicBezTo>
                  <a:pt x="15072" y="10437"/>
                  <a:pt x="15128" y="10379"/>
                  <a:pt x="15205" y="10344"/>
                </a:cubicBezTo>
              </a:path>
              <a:path w="3573" h="2134">
                <a:moveTo>
                  <a:pt x="15627" y="9674"/>
                </a:moveTo>
                <a:cubicBezTo>
                  <a:pt x="15596" y="9750"/>
                  <a:pt x="15562" y="9813"/>
                  <a:pt x="15553" y="9897"/>
                </a:cubicBezTo>
                <a:cubicBezTo>
                  <a:pt x="15544" y="9973"/>
                  <a:pt x="15528" y="10043"/>
                  <a:pt x="15528" y="10120"/>
                </a:cubicBezTo>
                <a:cubicBezTo>
                  <a:pt x="15528" y="10174"/>
                  <a:pt x="15538" y="10260"/>
                  <a:pt x="15602" y="10269"/>
                </a:cubicBezTo>
                <a:cubicBezTo>
                  <a:pt x="15652" y="10269"/>
                  <a:pt x="15668" y="10269"/>
                  <a:pt x="15701" y="10269"/>
                </a:cubicBezTo>
              </a:path>
              <a:path w="3573" h="2134">
                <a:moveTo>
                  <a:pt x="15354" y="9971"/>
                </a:moveTo>
                <a:cubicBezTo>
                  <a:pt x="15452" y="9971"/>
                  <a:pt x="15525" y="9964"/>
                  <a:pt x="15602" y="9922"/>
                </a:cubicBezTo>
                <a:cubicBezTo>
                  <a:pt x="15610" y="9914"/>
                  <a:pt x="15619" y="9905"/>
                  <a:pt x="15627" y="9897"/>
                </a:cubicBezTo>
              </a:path>
              <a:path w="3573" h="2134">
                <a:moveTo>
                  <a:pt x="15825" y="9451"/>
                </a:moveTo>
                <a:cubicBezTo>
                  <a:pt x="15856" y="9528"/>
                  <a:pt x="15896" y="9616"/>
                  <a:pt x="15900" y="9699"/>
                </a:cubicBezTo>
                <a:cubicBezTo>
                  <a:pt x="15905" y="9794"/>
                  <a:pt x="15925" y="9875"/>
                  <a:pt x="15925" y="9971"/>
                </a:cubicBezTo>
                <a:cubicBezTo>
                  <a:pt x="15925" y="10117"/>
                  <a:pt x="15896" y="10222"/>
                  <a:pt x="1582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6939000" y="3054240"/>
            <a:ext cx="2035080" cy="642960"/>
          </a:xfrm>
          <a:custGeom>
            <a:avLst/>
            <a:gdLst/>
            <a:ahLst/>
            <a:rect l="l" t="t" r="r" b="b"/>
            <a:pathLst>
              <a:path w="5657" h="1787">
                <a:moveTo>
                  <a:pt x="19720" y="8781"/>
                </a:moveTo>
                <a:cubicBezTo>
                  <a:pt x="19681" y="8808"/>
                  <a:pt x="19655" y="8832"/>
                  <a:pt x="19621" y="8880"/>
                </a:cubicBezTo>
                <a:cubicBezTo>
                  <a:pt x="19564" y="8961"/>
                  <a:pt x="19539" y="9004"/>
                  <a:pt x="19496" y="9079"/>
                </a:cubicBezTo>
                <a:cubicBezTo>
                  <a:pt x="19484" y="9100"/>
                  <a:pt x="19426" y="9189"/>
                  <a:pt x="19397" y="9227"/>
                </a:cubicBezTo>
                <a:cubicBezTo>
                  <a:pt x="19374" y="9257"/>
                  <a:pt x="19329" y="9362"/>
                  <a:pt x="19323" y="9376"/>
                </a:cubicBezTo>
                <a:cubicBezTo>
                  <a:pt x="19293" y="9447"/>
                  <a:pt x="19276" y="9523"/>
                  <a:pt x="19273" y="9599"/>
                </a:cubicBezTo>
                <a:cubicBezTo>
                  <a:pt x="19269" y="9691"/>
                  <a:pt x="19283" y="9771"/>
                  <a:pt x="19298" y="9847"/>
                </a:cubicBezTo>
                <a:cubicBezTo>
                  <a:pt x="19313" y="9922"/>
                  <a:pt x="19320" y="9994"/>
                  <a:pt x="19323" y="10071"/>
                </a:cubicBezTo>
                <a:cubicBezTo>
                  <a:pt x="19326" y="10137"/>
                  <a:pt x="19323" y="10203"/>
                  <a:pt x="19323" y="10269"/>
                </a:cubicBezTo>
              </a:path>
              <a:path w="5657" h="1787">
                <a:moveTo>
                  <a:pt x="22349" y="8657"/>
                </a:moveTo>
                <a:cubicBezTo>
                  <a:pt x="22385" y="8707"/>
                  <a:pt x="22408" y="8727"/>
                  <a:pt x="22448" y="8781"/>
                </a:cubicBezTo>
                <a:cubicBezTo>
                  <a:pt x="22506" y="8858"/>
                  <a:pt x="22503" y="8913"/>
                  <a:pt x="22523" y="9004"/>
                </a:cubicBezTo>
                <a:cubicBezTo>
                  <a:pt x="22523" y="9005"/>
                  <a:pt x="22539" y="9115"/>
                  <a:pt x="22547" y="9153"/>
                </a:cubicBezTo>
                <a:cubicBezTo>
                  <a:pt x="22570" y="9267"/>
                  <a:pt x="22552" y="9336"/>
                  <a:pt x="22547" y="9451"/>
                </a:cubicBezTo>
                <a:cubicBezTo>
                  <a:pt x="22543" y="9532"/>
                  <a:pt x="22502" y="9598"/>
                  <a:pt x="22473" y="9674"/>
                </a:cubicBezTo>
                <a:cubicBezTo>
                  <a:pt x="22448" y="9741"/>
                  <a:pt x="22408" y="9779"/>
                  <a:pt x="22374" y="9823"/>
                </a:cubicBezTo>
                <a:cubicBezTo>
                  <a:pt x="22342" y="9865"/>
                  <a:pt x="22300" y="9885"/>
                  <a:pt x="22275" y="9922"/>
                </a:cubicBezTo>
                <a:cubicBezTo>
                  <a:pt x="22263" y="9939"/>
                  <a:pt x="22193" y="10037"/>
                  <a:pt x="22175" y="10046"/>
                </a:cubicBezTo>
                <a:cubicBezTo>
                  <a:pt x="22159" y="10046"/>
                  <a:pt x="22142" y="10046"/>
                  <a:pt x="22126" y="10046"/>
                </a:cubicBezTo>
              </a:path>
              <a:path w="5657" h="1787">
                <a:moveTo>
                  <a:pt x="21059" y="9227"/>
                </a:moveTo>
                <a:cubicBezTo>
                  <a:pt x="21025" y="9261"/>
                  <a:pt x="21034" y="9332"/>
                  <a:pt x="21034" y="9401"/>
                </a:cubicBezTo>
                <a:cubicBezTo>
                  <a:pt x="21034" y="9471"/>
                  <a:pt x="21008" y="9535"/>
                  <a:pt x="20985" y="9599"/>
                </a:cubicBezTo>
                <a:cubicBezTo>
                  <a:pt x="20962" y="9665"/>
                  <a:pt x="20960" y="9705"/>
                  <a:pt x="20960" y="9773"/>
                </a:cubicBezTo>
              </a:path>
              <a:path w="5657" h="1787">
                <a:moveTo>
                  <a:pt x="20836" y="9500"/>
                </a:moveTo>
                <a:cubicBezTo>
                  <a:pt x="20965" y="9500"/>
                  <a:pt x="21087" y="9497"/>
                  <a:pt x="21208" y="9525"/>
                </a:cubicBezTo>
                <a:cubicBezTo>
                  <a:pt x="21216" y="9525"/>
                  <a:pt x="21225" y="9525"/>
                  <a:pt x="21233" y="9525"/>
                </a:cubicBezTo>
              </a:path>
              <a:path w="5657" h="1787">
                <a:moveTo>
                  <a:pt x="21654" y="9153"/>
                </a:moveTo>
                <a:cubicBezTo>
                  <a:pt x="21622" y="9208"/>
                  <a:pt x="21630" y="9258"/>
                  <a:pt x="21630" y="9327"/>
                </a:cubicBezTo>
                <a:cubicBezTo>
                  <a:pt x="21630" y="9496"/>
                  <a:pt x="21634" y="9659"/>
                  <a:pt x="21605" y="9823"/>
                </a:cubicBezTo>
                <a:cubicBezTo>
                  <a:pt x="21599" y="9857"/>
                  <a:pt x="21587" y="9888"/>
                  <a:pt x="21580" y="9922"/>
                </a:cubicBezTo>
              </a:path>
              <a:path w="5657" h="1787">
                <a:moveTo>
                  <a:pt x="19645" y="9376"/>
                </a:moveTo>
                <a:cubicBezTo>
                  <a:pt x="19669" y="9335"/>
                  <a:pt x="19704" y="9251"/>
                  <a:pt x="19745" y="9227"/>
                </a:cubicBezTo>
                <a:cubicBezTo>
                  <a:pt x="19779" y="9227"/>
                  <a:pt x="19792" y="9218"/>
                  <a:pt x="19794" y="9178"/>
                </a:cubicBezTo>
                <a:cubicBezTo>
                  <a:pt x="19880" y="9250"/>
                  <a:pt x="19869" y="9254"/>
                  <a:pt x="19869" y="9376"/>
                </a:cubicBezTo>
                <a:cubicBezTo>
                  <a:pt x="19869" y="9447"/>
                  <a:pt x="19841" y="9488"/>
                  <a:pt x="19819" y="9550"/>
                </a:cubicBezTo>
                <a:cubicBezTo>
                  <a:pt x="19809" y="9577"/>
                  <a:pt x="19732" y="9739"/>
                  <a:pt x="19720" y="9748"/>
                </a:cubicBezTo>
                <a:cubicBezTo>
                  <a:pt x="19678" y="9781"/>
                  <a:pt x="19650" y="9855"/>
                  <a:pt x="19596" y="9897"/>
                </a:cubicBezTo>
                <a:cubicBezTo>
                  <a:pt x="19555" y="9929"/>
                  <a:pt x="19500" y="9958"/>
                  <a:pt x="19447" y="9971"/>
                </a:cubicBezTo>
                <a:cubicBezTo>
                  <a:pt x="19411" y="9889"/>
                  <a:pt x="19432" y="9881"/>
                  <a:pt x="19472" y="9823"/>
                </a:cubicBezTo>
                <a:cubicBezTo>
                  <a:pt x="19537" y="9727"/>
                  <a:pt x="19556" y="9783"/>
                  <a:pt x="19621" y="9823"/>
                </a:cubicBezTo>
                <a:cubicBezTo>
                  <a:pt x="19680" y="9859"/>
                  <a:pt x="19672" y="9888"/>
                  <a:pt x="19695" y="9971"/>
                </a:cubicBezTo>
              </a:path>
              <a:path w="5657" h="1787">
                <a:moveTo>
                  <a:pt x="20042" y="9178"/>
                </a:moveTo>
                <a:cubicBezTo>
                  <a:pt x="20110" y="9197"/>
                  <a:pt x="20112" y="9227"/>
                  <a:pt x="20191" y="9227"/>
                </a:cubicBezTo>
              </a:path>
              <a:path w="5657" h="1787">
                <a:moveTo>
                  <a:pt x="19993" y="9178"/>
                </a:moveTo>
                <a:cubicBezTo>
                  <a:pt x="19972" y="9241"/>
                  <a:pt x="19972" y="9333"/>
                  <a:pt x="19943" y="9376"/>
                </a:cubicBezTo>
                <a:cubicBezTo>
                  <a:pt x="19930" y="9395"/>
                  <a:pt x="19918" y="9424"/>
                  <a:pt x="19918" y="9475"/>
                </a:cubicBezTo>
                <a:cubicBezTo>
                  <a:pt x="19982" y="9449"/>
                  <a:pt x="20022" y="9451"/>
                  <a:pt x="20092" y="9451"/>
                </a:cubicBezTo>
                <a:cubicBezTo>
                  <a:pt x="20159" y="9451"/>
                  <a:pt x="20180" y="9544"/>
                  <a:pt x="20166" y="9599"/>
                </a:cubicBezTo>
                <a:cubicBezTo>
                  <a:pt x="20155" y="9643"/>
                  <a:pt x="20103" y="9726"/>
                  <a:pt x="20092" y="9748"/>
                </a:cubicBezTo>
                <a:cubicBezTo>
                  <a:pt x="20070" y="9792"/>
                  <a:pt x="20037" y="9863"/>
                  <a:pt x="19993" y="9897"/>
                </a:cubicBezTo>
                <a:cubicBezTo>
                  <a:pt x="19966" y="9918"/>
                  <a:pt x="19921" y="9957"/>
                  <a:pt x="19893" y="9971"/>
                </a:cubicBezTo>
              </a:path>
              <a:path w="5657" h="1787">
                <a:moveTo>
                  <a:pt x="20340" y="9252"/>
                </a:moveTo>
                <a:cubicBezTo>
                  <a:pt x="20340" y="9353"/>
                  <a:pt x="20330" y="9367"/>
                  <a:pt x="20290" y="9451"/>
                </a:cubicBezTo>
                <a:cubicBezTo>
                  <a:pt x="20254" y="9526"/>
                  <a:pt x="20233" y="9595"/>
                  <a:pt x="20216" y="9674"/>
                </a:cubicBezTo>
                <a:cubicBezTo>
                  <a:pt x="20204" y="9730"/>
                  <a:pt x="20232" y="9799"/>
                  <a:pt x="20290" y="9823"/>
                </a:cubicBezTo>
                <a:cubicBezTo>
                  <a:pt x="20357" y="9851"/>
                  <a:pt x="20394" y="9807"/>
                  <a:pt x="20439" y="9773"/>
                </a:cubicBezTo>
              </a:path>
              <a:path w="5657" h="1787">
                <a:moveTo>
                  <a:pt x="20141" y="9451"/>
                </a:moveTo>
                <a:cubicBezTo>
                  <a:pt x="20208" y="9451"/>
                  <a:pt x="20280" y="9491"/>
                  <a:pt x="20340" y="9475"/>
                </a:cubicBezTo>
                <a:cubicBezTo>
                  <a:pt x="20348" y="9467"/>
                  <a:pt x="20357" y="9459"/>
                  <a:pt x="20365" y="9451"/>
                </a:cubicBezTo>
              </a:path>
              <a:path w="5657" h="1787">
                <a:moveTo>
                  <a:pt x="20464" y="9004"/>
                </a:moveTo>
                <a:cubicBezTo>
                  <a:pt x="20519" y="9004"/>
                  <a:pt x="20688" y="8971"/>
                  <a:pt x="20662" y="9079"/>
                </a:cubicBezTo>
                <a:cubicBezTo>
                  <a:pt x="20652" y="9120"/>
                  <a:pt x="20586" y="9187"/>
                  <a:pt x="20563" y="9227"/>
                </a:cubicBezTo>
                <a:cubicBezTo>
                  <a:pt x="20627" y="9209"/>
                  <a:pt x="20667" y="9166"/>
                  <a:pt x="20737" y="9153"/>
                </a:cubicBezTo>
                <a:cubicBezTo>
                  <a:pt x="20786" y="9153"/>
                  <a:pt x="20803" y="9153"/>
                  <a:pt x="20836" y="9153"/>
                </a:cubicBezTo>
              </a:path>
              <a:path w="5657" h="1787">
                <a:moveTo>
                  <a:pt x="22969" y="8632"/>
                </a:moveTo>
                <a:cubicBezTo>
                  <a:pt x="22969" y="8607"/>
                  <a:pt x="22969" y="8583"/>
                  <a:pt x="22969" y="8558"/>
                </a:cubicBezTo>
                <a:cubicBezTo>
                  <a:pt x="22894" y="8565"/>
                  <a:pt x="22878" y="8552"/>
                  <a:pt x="22845" y="8632"/>
                </a:cubicBezTo>
                <a:cubicBezTo>
                  <a:pt x="22824" y="8684"/>
                  <a:pt x="22805" y="8752"/>
                  <a:pt x="22796" y="8806"/>
                </a:cubicBezTo>
                <a:cubicBezTo>
                  <a:pt x="22780" y="8902"/>
                  <a:pt x="22794" y="9008"/>
                  <a:pt x="22771" y="9103"/>
                </a:cubicBezTo>
                <a:cubicBezTo>
                  <a:pt x="22749" y="9192"/>
                  <a:pt x="22700" y="9287"/>
                  <a:pt x="22671" y="9376"/>
                </a:cubicBezTo>
                <a:cubicBezTo>
                  <a:pt x="22643" y="9462"/>
                  <a:pt x="22621" y="9542"/>
                  <a:pt x="22597" y="9624"/>
                </a:cubicBezTo>
                <a:cubicBezTo>
                  <a:pt x="22573" y="9708"/>
                  <a:pt x="22571" y="9768"/>
                  <a:pt x="22597" y="9823"/>
                </a:cubicBezTo>
                <a:cubicBezTo>
                  <a:pt x="22617" y="9866"/>
                  <a:pt x="22685" y="9847"/>
                  <a:pt x="22721" y="9847"/>
                </a:cubicBezTo>
              </a:path>
              <a:path w="5657" h="1787">
                <a:moveTo>
                  <a:pt x="22870" y="9178"/>
                </a:moveTo>
                <a:cubicBezTo>
                  <a:pt x="22895" y="9227"/>
                  <a:pt x="22903" y="9243"/>
                  <a:pt x="22920" y="9178"/>
                </a:cubicBezTo>
                <a:cubicBezTo>
                  <a:pt x="22977" y="9247"/>
                  <a:pt x="23020" y="9227"/>
                  <a:pt x="23118" y="9227"/>
                </a:cubicBezTo>
              </a:path>
              <a:path w="5657" h="1787">
                <a:moveTo>
                  <a:pt x="23267" y="8930"/>
                </a:moveTo>
                <a:cubicBezTo>
                  <a:pt x="23350" y="8930"/>
                  <a:pt x="23432" y="8930"/>
                  <a:pt x="23515" y="8930"/>
                </a:cubicBezTo>
              </a:path>
              <a:path w="5657" h="1787">
                <a:moveTo>
                  <a:pt x="23143" y="9029"/>
                </a:moveTo>
                <a:cubicBezTo>
                  <a:pt x="23143" y="9128"/>
                  <a:pt x="23130" y="9155"/>
                  <a:pt x="23192" y="9227"/>
                </a:cubicBezTo>
                <a:cubicBezTo>
                  <a:pt x="23272" y="9133"/>
                  <a:pt x="23267" y="9198"/>
                  <a:pt x="23341" y="9227"/>
                </a:cubicBezTo>
                <a:cubicBezTo>
                  <a:pt x="23417" y="9257"/>
                  <a:pt x="23422" y="9254"/>
                  <a:pt x="23490" y="9302"/>
                </a:cubicBezTo>
                <a:cubicBezTo>
                  <a:pt x="23532" y="9331"/>
                  <a:pt x="23521" y="9417"/>
                  <a:pt x="23490" y="9475"/>
                </a:cubicBezTo>
                <a:cubicBezTo>
                  <a:pt x="23468" y="9516"/>
                  <a:pt x="23377" y="9587"/>
                  <a:pt x="23341" y="9599"/>
                </a:cubicBezTo>
                <a:cubicBezTo>
                  <a:pt x="23300" y="9599"/>
                  <a:pt x="23292" y="9599"/>
                  <a:pt x="23267" y="9599"/>
                </a:cubicBezTo>
              </a:path>
              <a:path w="5657" h="1787">
                <a:moveTo>
                  <a:pt x="23713" y="8954"/>
                </a:moveTo>
                <a:cubicBezTo>
                  <a:pt x="23692" y="9016"/>
                  <a:pt x="23693" y="9110"/>
                  <a:pt x="23664" y="9153"/>
                </a:cubicBezTo>
                <a:cubicBezTo>
                  <a:pt x="23647" y="9178"/>
                  <a:pt x="23624" y="9267"/>
                  <a:pt x="23639" y="9327"/>
                </a:cubicBezTo>
                <a:cubicBezTo>
                  <a:pt x="23653" y="9383"/>
                  <a:pt x="23690" y="9421"/>
                  <a:pt x="23713" y="9451"/>
                </a:cubicBezTo>
                <a:cubicBezTo>
                  <a:pt x="23757" y="9509"/>
                  <a:pt x="23799" y="9525"/>
                  <a:pt x="23837" y="9451"/>
                </a:cubicBezTo>
              </a:path>
              <a:path w="5657" h="1787">
                <a:moveTo>
                  <a:pt x="23465" y="9178"/>
                </a:moveTo>
                <a:cubicBezTo>
                  <a:pt x="23565" y="9178"/>
                  <a:pt x="23583" y="9200"/>
                  <a:pt x="23664" y="9227"/>
                </a:cubicBezTo>
                <a:cubicBezTo>
                  <a:pt x="23686" y="9234"/>
                  <a:pt x="23737" y="9227"/>
                  <a:pt x="23763" y="9227"/>
                </a:cubicBezTo>
              </a:path>
              <a:path w="5657" h="1787">
                <a:moveTo>
                  <a:pt x="24135" y="9079"/>
                </a:moveTo>
                <a:cubicBezTo>
                  <a:pt x="24190" y="9111"/>
                  <a:pt x="24242" y="9103"/>
                  <a:pt x="24309" y="9103"/>
                </a:cubicBezTo>
                <a:cubicBezTo>
                  <a:pt x="24334" y="9103"/>
                  <a:pt x="24358" y="9103"/>
                  <a:pt x="24383" y="9103"/>
                </a:cubicBezTo>
              </a:path>
              <a:path w="5657" h="1787">
                <a:moveTo>
                  <a:pt x="24433" y="8954"/>
                </a:moveTo>
                <a:cubicBezTo>
                  <a:pt x="24455" y="9023"/>
                  <a:pt x="24457" y="9080"/>
                  <a:pt x="24457" y="9153"/>
                </a:cubicBezTo>
                <a:cubicBezTo>
                  <a:pt x="24457" y="9241"/>
                  <a:pt x="24483" y="9279"/>
                  <a:pt x="24581" y="9252"/>
                </a:cubicBezTo>
                <a:cubicBezTo>
                  <a:pt x="24629" y="9228"/>
                  <a:pt x="24644" y="9220"/>
                  <a:pt x="24681" y="9227"/>
                </a:cubicBezTo>
              </a:path>
              <a:path w="5657" h="1787">
                <a:moveTo>
                  <a:pt x="24656" y="8855"/>
                </a:moveTo>
                <a:cubicBezTo>
                  <a:pt x="24615" y="8896"/>
                  <a:pt x="24626" y="8924"/>
                  <a:pt x="24631" y="8954"/>
                </a:cubicBezTo>
                <a:cubicBezTo>
                  <a:pt x="24644" y="9035"/>
                  <a:pt x="24648" y="9181"/>
                  <a:pt x="24656" y="9227"/>
                </a:cubicBezTo>
                <a:cubicBezTo>
                  <a:pt x="24669" y="9305"/>
                  <a:pt x="24636" y="9332"/>
                  <a:pt x="24631" y="9401"/>
                </a:cubicBezTo>
                <a:cubicBezTo>
                  <a:pt x="24631" y="9451"/>
                  <a:pt x="24631" y="9467"/>
                  <a:pt x="24631" y="9500"/>
                </a:cubicBezTo>
              </a:path>
              <a:path w="5657" h="1787">
                <a:moveTo>
                  <a:pt x="24705" y="8483"/>
                </a:moveTo>
                <a:cubicBezTo>
                  <a:pt x="24741" y="8528"/>
                  <a:pt x="24783" y="8578"/>
                  <a:pt x="24805" y="8632"/>
                </a:cubicBezTo>
                <a:cubicBezTo>
                  <a:pt x="24836" y="8708"/>
                  <a:pt x="24874" y="8777"/>
                  <a:pt x="24904" y="8855"/>
                </a:cubicBezTo>
                <a:cubicBezTo>
                  <a:pt x="24943" y="8959"/>
                  <a:pt x="24929" y="9068"/>
                  <a:pt x="24929" y="9178"/>
                </a:cubicBezTo>
                <a:cubicBezTo>
                  <a:pt x="24929" y="9282"/>
                  <a:pt x="24891" y="9378"/>
                  <a:pt x="24854" y="9475"/>
                </a:cubicBezTo>
                <a:cubicBezTo>
                  <a:pt x="24784" y="9661"/>
                  <a:pt x="24660" y="9822"/>
                  <a:pt x="24532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23"/>
          <p:cNvSpPr/>
          <p:nvPr/>
        </p:nvSpPr>
        <p:spPr>
          <a:xfrm>
            <a:off x="1143000" y="4054320"/>
            <a:ext cx="303120" cy="357480"/>
          </a:xfrm>
          <a:custGeom>
            <a:avLst/>
            <a:gdLst/>
            <a:ahLst/>
            <a:rect l="l" t="t" r="r" b="b"/>
            <a:pathLst>
              <a:path w="844" h="994">
                <a:moveTo>
                  <a:pt x="3175" y="11261"/>
                </a:moveTo>
                <a:cubicBezTo>
                  <a:pt x="3209" y="11329"/>
                  <a:pt x="3200" y="11404"/>
                  <a:pt x="3200" y="11485"/>
                </a:cubicBezTo>
                <a:cubicBezTo>
                  <a:pt x="3200" y="11677"/>
                  <a:pt x="3128" y="12067"/>
                  <a:pt x="3225" y="12229"/>
                </a:cubicBezTo>
              </a:path>
              <a:path w="844" h="994">
                <a:moveTo>
                  <a:pt x="3497" y="11385"/>
                </a:moveTo>
                <a:cubicBezTo>
                  <a:pt x="3487" y="11468"/>
                  <a:pt x="3458" y="11553"/>
                  <a:pt x="3448" y="11633"/>
                </a:cubicBezTo>
                <a:cubicBezTo>
                  <a:pt x="3436" y="11733"/>
                  <a:pt x="3445" y="11837"/>
                  <a:pt x="3473" y="11931"/>
                </a:cubicBezTo>
                <a:cubicBezTo>
                  <a:pt x="3501" y="12028"/>
                  <a:pt x="3545" y="12075"/>
                  <a:pt x="3597" y="12154"/>
                </a:cubicBezTo>
                <a:cubicBezTo>
                  <a:pt x="3639" y="12217"/>
                  <a:pt x="3706" y="12273"/>
                  <a:pt x="3795" y="12254"/>
                </a:cubicBezTo>
                <a:cubicBezTo>
                  <a:pt x="3842" y="12244"/>
                  <a:pt x="3946" y="12167"/>
                  <a:pt x="3969" y="12129"/>
                </a:cubicBezTo>
                <a:cubicBezTo>
                  <a:pt x="4030" y="12027"/>
                  <a:pt x="4031" y="11850"/>
                  <a:pt x="4018" y="11733"/>
                </a:cubicBezTo>
                <a:cubicBezTo>
                  <a:pt x="4004" y="11598"/>
                  <a:pt x="3977" y="11510"/>
                  <a:pt x="3894" y="11410"/>
                </a:cubicBezTo>
                <a:cubicBezTo>
                  <a:pt x="3851" y="11358"/>
                  <a:pt x="3768" y="11298"/>
                  <a:pt x="3696" y="11311"/>
                </a:cubicBezTo>
                <a:cubicBezTo>
                  <a:pt x="3623" y="11324"/>
                  <a:pt x="3543" y="11385"/>
                  <a:pt x="3522" y="11460"/>
                </a:cubicBezTo>
                <a:cubicBezTo>
                  <a:pt x="3496" y="11552"/>
                  <a:pt x="3520" y="11693"/>
                  <a:pt x="3547" y="11782"/>
                </a:cubicBezTo>
                <a:cubicBezTo>
                  <a:pt x="3569" y="11849"/>
                  <a:pt x="3574" y="11867"/>
                  <a:pt x="3597" y="119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24"/>
          <p:cNvSpPr/>
          <p:nvPr/>
        </p:nvSpPr>
        <p:spPr>
          <a:xfrm>
            <a:off x="1616040" y="4160880"/>
            <a:ext cx="482760" cy="250920"/>
          </a:xfrm>
          <a:custGeom>
            <a:avLst/>
            <a:gdLst/>
            <a:ahLst/>
            <a:rect l="l" t="t" r="r" b="b"/>
            <a:pathLst>
              <a:path w="1340" h="696">
                <a:moveTo>
                  <a:pt x="4688" y="11559"/>
                </a:moveTo>
                <a:cubicBezTo>
                  <a:pt x="4688" y="11653"/>
                  <a:pt x="4690" y="11742"/>
                  <a:pt x="4713" y="11832"/>
                </a:cubicBezTo>
                <a:cubicBezTo>
                  <a:pt x="4735" y="11920"/>
                  <a:pt x="4735" y="12020"/>
                  <a:pt x="4762" y="12105"/>
                </a:cubicBezTo>
                <a:cubicBezTo>
                  <a:pt x="4781" y="12164"/>
                  <a:pt x="4787" y="12190"/>
                  <a:pt x="4787" y="12254"/>
                </a:cubicBezTo>
              </a:path>
              <a:path w="1340" h="696">
                <a:moveTo>
                  <a:pt x="4490" y="11807"/>
                </a:moveTo>
                <a:cubicBezTo>
                  <a:pt x="4578" y="11774"/>
                  <a:pt x="4621" y="11802"/>
                  <a:pt x="4713" y="11807"/>
                </a:cubicBezTo>
                <a:cubicBezTo>
                  <a:pt x="4790" y="11811"/>
                  <a:pt x="4857" y="11832"/>
                  <a:pt x="4936" y="11832"/>
                </a:cubicBezTo>
                <a:cubicBezTo>
                  <a:pt x="5001" y="11832"/>
                  <a:pt x="5043" y="11850"/>
                  <a:pt x="5060" y="11782"/>
                </a:cubicBezTo>
              </a:path>
              <a:path w="1340" h="696">
                <a:moveTo>
                  <a:pt x="5432" y="11733"/>
                </a:moveTo>
                <a:cubicBezTo>
                  <a:pt x="5518" y="11764"/>
                  <a:pt x="5591" y="11740"/>
                  <a:pt x="5680" y="11757"/>
                </a:cubicBezTo>
                <a:cubicBezTo>
                  <a:pt x="5753" y="11781"/>
                  <a:pt x="5777" y="11790"/>
                  <a:pt x="5829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25"/>
          <p:cNvSpPr/>
          <p:nvPr/>
        </p:nvSpPr>
        <p:spPr>
          <a:xfrm>
            <a:off x="2276640" y="4133880"/>
            <a:ext cx="18720" cy="331920"/>
          </a:xfrm>
          <a:custGeom>
            <a:avLst/>
            <a:gdLst/>
            <a:ahLst/>
            <a:rect l="l" t="t" r="r" b="b"/>
            <a:pathLst>
              <a:path w="51" h="918">
                <a:moveTo>
                  <a:pt x="6325" y="11485"/>
                </a:moveTo>
                <a:cubicBezTo>
                  <a:pt x="6325" y="11696"/>
                  <a:pt x="6328" y="11900"/>
                  <a:pt x="6350" y="12105"/>
                </a:cubicBezTo>
                <a:cubicBezTo>
                  <a:pt x="6361" y="12207"/>
                  <a:pt x="6366" y="12303"/>
                  <a:pt x="6375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26"/>
          <p:cNvSpPr/>
          <p:nvPr/>
        </p:nvSpPr>
        <p:spPr>
          <a:xfrm>
            <a:off x="4179960" y="4044960"/>
            <a:ext cx="1562040" cy="598320"/>
          </a:xfrm>
          <a:custGeom>
            <a:avLst/>
            <a:gdLst/>
            <a:ahLst/>
            <a:rect l="l" t="t" r="r" b="b"/>
            <a:pathLst>
              <a:path w="4341" h="1662">
                <a:moveTo>
                  <a:pt x="12204" y="11609"/>
                </a:moveTo>
                <a:cubicBezTo>
                  <a:pt x="12233" y="11637"/>
                  <a:pt x="12241" y="11650"/>
                  <a:pt x="12229" y="11683"/>
                </a:cubicBezTo>
                <a:cubicBezTo>
                  <a:pt x="12183" y="11637"/>
                  <a:pt x="12158" y="11593"/>
                  <a:pt x="12129" y="11534"/>
                </a:cubicBezTo>
                <a:cubicBezTo>
                  <a:pt x="12107" y="11489"/>
                  <a:pt x="12045" y="11411"/>
                  <a:pt x="11981" y="11460"/>
                </a:cubicBezTo>
                <a:cubicBezTo>
                  <a:pt x="11913" y="11512"/>
                  <a:pt x="11909" y="11661"/>
                  <a:pt x="11906" y="11733"/>
                </a:cubicBezTo>
                <a:cubicBezTo>
                  <a:pt x="11902" y="11808"/>
                  <a:pt x="11895" y="11906"/>
                  <a:pt x="11881" y="11981"/>
                </a:cubicBezTo>
                <a:cubicBezTo>
                  <a:pt x="11853" y="12130"/>
                  <a:pt x="11806" y="12275"/>
                  <a:pt x="11782" y="12427"/>
                </a:cubicBezTo>
                <a:cubicBezTo>
                  <a:pt x="11770" y="12504"/>
                  <a:pt x="11757" y="12571"/>
                  <a:pt x="11757" y="12650"/>
                </a:cubicBezTo>
                <a:cubicBezTo>
                  <a:pt x="11757" y="12642"/>
                  <a:pt x="11757" y="12634"/>
                  <a:pt x="11757" y="12626"/>
                </a:cubicBezTo>
              </a:path>
              <a:path w="4341" h="1662">
                <a:moveTo>
                  <a:pt x="11609" y="12154"/>
                </a:moveTo>
                <a:cubicBezTo>
                  <a:pt x="11686" y="12125"/>
                  <a:pt x="11747" y="12129"/>
                  <a:pt x="11832" y="12129"/>
                </a:cubicBezTo>
                <a:cubicBezTo>
                  <a:pt x="11900" y="12129"/>
                  <a:pt x="11919" y="12132"/>
                  <a:pt x="11956" y="12105"/>
                </a:cubicBezTo>
              </a:path>
              <a:path w="4341" h="1662">
                <a:moveTo>
                  <a:pt x="12477" y="11609"/>
                </a:moveTo>
                <a:cubicBezTo>
                  <a:pt x="12423" y="11680"/>
                  <a:pt x="12416" y="11723"/>
                  <a:pt x="12378" y="11807"/>
                </a:cubicBezTo>
                <a:cubicBezTo>
                  <a:pt x="12342" y="11889"/>
                  <a:pt x="12313" y="11973"/>
                  <a:pt x="12278" y="12055"/>
                </a:cubicBezTo>
                <a:cubicBezTo>
                  <a:pt x="12251" y="12119"/>
                  <a:pt x="12239" y="12207"/>
                  <a:pt x="12254" y="12278"/>
                </a:cubicBezTo>
                <a:cubicBezTo>
                  <a:pt x="12281" y="12405"/>
                  <a:pt x="12295" y="12416"/>
                  <a:pt x="12402" y="12402"/>
                </a:cubicBezTo>
                <a:cubicBezTo>
                  <a:pt x="12410" y="12402"/>
                  <a:pt x="12419" y="12402"/>
                  <a:pt x="12427" y="12402"/>
                </a:cubicBezTo>
              </a:path>
              <a:path w="4341" h="1662">
                <a:moveTo>
                  <a:pt x="12502" y="11906"/>
                </a:moveTo>
                <a:cubicBezTo>
                  <a:pt x="12536" y="11837"/>
                  <a:pt x="12551" y="11787"/>
                  <a:pt x="12626" y="11757"/>
                </a:cubicBezTo>
                <a:cubicBezTo>
                  <a:pt x="12668" y="11740"/>
                  <a:pt x="12803" y="11701"/>
                  <a:pt x="12824" y="11782"/>
                </a:cubicBezTo>
                <a:cubicBezTo>
                  <a:pt x="12845" y="11862"/>
                  <a:pt x="12786" y="11922"/>
                  <a:pt x="12750" y="11981"/>
                </a:cubicBezTo>
                <a:cubicBezTo>
                  <a:pt x="12724" y="12024"/>
                  <a:pt x="12662" y="12110"/>
                  <a:pt x="12650" y="12154"/>
                </a:cubicBezTo>
                <a:cubicBezTo>
                  <a:pt x="12641" y="12186"/>
                  <a:pt x="12599" y="12283"/>
                  <a:pt x="12650" y="12303"/>
                </a:cubicBezTo>
                <a:cubicBezTo>
                  <a:pt x="12695" y="12320"/>
                  <a:pt x="12753" y="12260"/>
                  <a:pt x="12799" y="12254"/>
                </a:cubicBezTo>
              </a:path>
              <a:path w="4341" h="1662">
                <a:moveTo>
                  <a:pt x="13146" y="11683"/>
                </a:moveTo>
                <a:cubicBezTo>
                  <a:pt x="13124" y="11766"/>
                  <a:pt x="13120" y="11852"/>
                  <a:pt x="13097" y="11931"/>
                </a:cubicBezTo>
                <a:cubicBezTo>
                  <a:pt x="13074" y="12010"/>
                  <a:pt x="13047" y="12043"/>
                  <a:pt x="13047" y="12129"/>
                </a:cubicBezTo>
                <a:cubicBezTo>
                  <a:pt x="13047" y="12190"/>
                  <a:pt x="13065" y="12273"/>
                  <a:pt x="13146" y="12254"/>
                </a:cubicBezTo>
                <a:cubicBezTo>
                  <a:pt x="13190" y="12232"/>
                  <a:pt x="13202" y="12229"/>
                  <a:pt x="13221" y="12204"/>
                </a:cubicBezTo>
              </a:path>
              <a:path w="4341" h="1662">
                <a:moveTo>
                  <a:pt x="12973" y="11956"/>
                </a:moveTo>
                <a:cubicBezTo>
                  <a:pt x="13030" y="11956"/>
                  <a:pt x="13099" y="11955"/>
                  <a:pt x="13146" y="11931"/>
                </a:cubicBezTo>
                <a:cubicBezTo>
                  <a:pt x="13183" y="11912"/>
                  <a:pt x="13210" y="11903"/>
                  <a:pt x="13246" y="11881"/>
                </a:cubicBezTo>
              </a:path>
              <a:path w="4341" h="1662">
                <a:moveTo>
                  <a:pt x="13320" y="11485"/>
                </a:moveTo>
                <a:cubicBezTo>
                  <a:pt x="13383" y="11591"/>
                  <a:pt x="13426" y="11666"/>
                  <a:pt x="13444" y="11782"/>
                </a:cubicBezTo>
                <a:cubicBezTo>
                  <a:pt x="13465" y="11915"/>
                  <a:pt x="13446" y="12034"/>
                  <a:pt x="13395" y="12154"/>
                </a:cubicBezTo>
                <a:cubicBezTo>
                  <a:pt x="13364" y="12227"/>
                  <a:pt x="13340" y="12312"/>
                  <a:pt x="13295" y="12378"/>
                </a:cubicBezTo>
                <a:cubicBezTo>
                  <a:pt x="13266" y="12407"/>
                  <a:pt x="13255" y="12422"/>
                  <a:pt x="13246" y="12452"/>
                </a:cubicBezTo>
              </a:path>
              <a:path w="4341" h="1662">
                <a:moveTo>
                  <a:pt x="13692" y="11906"/>
                </a:moveTo>
                <a:cubicBezTo>
                  <a:pt x="13777" y="11917"/>
                  <a:pt x="13849" y="11931"/>
                  <a:pt x="13940" y="11931"/>
                </a:cubicBezTo>
              </a:path>
              <a:path w="4341" h="1662">
                <a:moveTo>
                  <a:pt x="14585" y="11658"/>
                </a:moveTo>
                <a:cubicBezTo>
                  <a:pt x="14585" y="11684"/>
                  <a:pt x="14599" y="11837"/>
                  <a:pt x="14585" y="11757"/>
                </a:cubicBezTo>
                <a:cubicBezTo>
                  <a:pt x="14575" y="11696"/>
                  <a:pt x="14556" y="11659"/>
                  <a:pt x="14511" y="11609"/>
                </a:cubicBezTo>
                <a:cubicBezTo>
                  <a:pt x="14473" y="11568"/>
                  <a:pt x="14408" y="11613"/>
                  <a:pt x="14387" y="11658"/>
                </a:cubicBezTo>
                <a:cubicBezTo>
                  <a:pt x="14353" y="11731"/>
                  <a:pt x="14335" y="11809"/>
                  <a:pt x="14312" y="11881"/>
                </a:cubicBezTo>
                <a:cubicBezTo>
                  <a:pt x="14292" y="11944"/>
                  <a:pt x="14282" y="11996"/>
                  <a:pt x="14312" y="12055"/>
                </a:cubicBezTo>
                <a:cubicBezTo>
                  <a:pt x="14326" y="12084"/>
                  <a:pt x="14399" y="12156"/>
                  <a:pt x="14436" y="12129"/>
                </a:cubicBezTo>
                <a:cubicBezTo>
                  <a:pt x="14487" y="12091"/>
                  <a:pt x="14526" y="11963"/>
                  <a:pt x="14536" y="11906"/>
                </a:cubicBezTo>
                <a:cubicBezTo>
                  <a:pt x="14541" y="11878"/>
                  <a:pt x="14560" y="11680"/>
                  <a:pt x="14560" y="11807"/>
                </a:cubicBezTo>
                <a:cubicBezTo>
                  <a:pt x="14560" y="11877"/>
                  <a:pt x="14585" y="11932"/>
                  <a:pt x="14585" y="12005"/>
                </a:cubicBezTo>
                <a:cubicBezTo>
                  <a:pt x="14585" y="12098"/>
                  <a:pt x="14596" y="12164"/>
                  <a:pt x="14585" y="12254"/>
                </a:cubicBezTo>
                <a:cubicBezTo>
                  <a:pt x="14572" y="12353"/>
                  <a:pt x="14581" y="12453"/>
                  <a:pt x="14560" y="12551"/>
                </a:cubicBezTo>
                <a:cubicBezTo>
                  <a:pt x="14535" y="12668"/>
                  <a:pt x="14443" y="12743"/>
                  <a:pt x="14362" y="12824"/>
                </a:cubicBezTo>
                <a:cubicBezTo>
                  <a:pt x="14295" y="12891"/>
                  <a:pt x="14300" y="12890"/>
                  <a:pt x="14213" y="12898"/>
                </a:cubicBezTo>
              </a:path>
              <a:path w="4341" h="1662">
                <a:moveTo>
                  <a:pt x="14908" y="11237"/>
                </a:moveTo>
                <a:cubicBezTo>
                  <a:pt x="14879" y="11285"/>
                  <a:pt x="14856" y="11351"/>
                  <a:pt x="14833" y="11410"/>
                </a:cubicBezTo>
                <a:cubicBezTo>
                  <a:pt x="14785" y="11533"/>
                  <a:pt x="14762" y="11657"/>
                  <a:pt x="14734" y="11782"/>
                </a:cubicBezTo>
                <a:cubicBezTo>
                  <a:pt x="14715" y="11869"/>
                  <a:pt x="14709" y="11940"/>
                  <a:pt x="14709" y="12030"/>
                </a:cubicBezTo>
                <a:cubicBezTo>
                  <a:pt x="14709" y="12101"/>
                  <a:pt x="14735" y="12203"/>
                  <a:pt x="14808" y="12229"/>
                </a:cubicBezTo>
                <a:cubicBezTo>
                  <a:pt x="14871" y="12229"/>
                  <a:pt x="14895" y="12218"/>
                  <a:pt x="14908" y="12154"/>
                </a:cubicBezTo>
              </a:path>
              <a:path w="4341" h="1662">
                <a:moveTo>
                  <a:pt x="15007" y="11633"/>
                </a:moveTo>
                <a:cubicBezTo>
                  <a:pt x="15045" y="11567"/>
                  <a:pt x="15065" y="11516"/>
                  <a:pt x="15156" y="11534"/>
                </a:cubicBezTo>
                <a:cubicBezTo>
                  <a:pt x="15253" y="11554"/>
                  <a:pt x="15255" y="11635"/>
                  <a:pt x="15230" y="11708"/>
                </a:cubicBezTo>
                <a:cubicBezTo>
                  <a:pt x="15203" y="11787"/>
                  <a:pt x="15147" y="11839"/>
                  <a:pt x="15106" y="11906"/>
                </a:cubicBezTo>
                <a:cubicBezTo>
                  <a:pt x="15052" y="11995"/>
                  <a:pt x="15006" y="12063"/>
                  <a:pt x="15032" y="12154"/>
                </a:cubicBezTo>
                <a:cubicBezTo>
                  <a:pt x="15090" y="12120"/>
                  <a:pt x="15144" y="12086"/>
                  <a:pt x="15205" y="12055"/>
                </a:cubicBezTo>
                <a:cubicBezTo>
                  <a:pt x="15222" y="12047"/>
                  <a:pt x="15238" y="12038"/>
                  <a:pt x="15255" y="12030"/>
                </a:cubicBezTo>
              </a:path>
              <a:path w="4341" h="1662">
                <a:moveTo>
                  <a:pt x="15553" y="11534"/>
                </a:moveTo>
                <a:cubicBezTo>
                  <a:pt x="15545" y="11628"/>
                  <a:pt x="15528" y="11711"/>
                  <a:pt x="15528" y="11807"/>
                </a:cubicBezTo>
                <a:cubicBezTo>
                  <a:pt x="15528" y="11882"/>
                  <a:pt x="15523" y="11937"/>
                  <a:pt x="15553" y="12005"/>
                </a:cubicBezTo>
                <a:cubicBezTo>
                  <a:pt x="15586" y="12080"/>
                  <a:pt x="15643" y="12066"/>
                  <a:pt x="15701" y="12030"/>
                </a:cubicBezTo>
              </a:path>
              <a:path w="4341" h="1662">
                <a:moveTo>
                  <a:pt x="15429" y="11782"/>
                </a:moveTo>
                <a:cubicBezTo>
                  <a:pt x="15497" y="11773"/>
                  <a:pt x="15563" y="11761"/>
                  <a:pt x="15627" y="11733"/>
                </a:cubicBezTo>
                <a:cubicBezTo>
                  <a:pt x="15667" y="11713"/>
                  <a:pt x="15674" y="11704"/>
                  <a:pt x="15701" y="11708"/>
                </a:cubicBezTo>
              </a:path>
              <a:path w="4341" h="1662">
                <a:moveTo>
                  <a:pt x="15825" y="11237"/>
                </a:moveTo>
                <a:cubicBezTo>
                  <a:pt x="15873" y="11325"/>
                  <a:pt x="15902" y="11370"/>
                  <a:pt x="15925" y="11460"/>
                </a:cubicBezTo>
                <a:cubicBezTo>
                  <a:pt x="15949" y="11555"/>
                  <a:pt x="15949" y="11634"/>
                  <a:pt x="15949" y="11733"/>
                </a:cubicBezTo>
                <a:cubicBezTo>
                  <a:pt x="15949" y="11845"/>
                  <a:pt x="15936" y="11923"/>
                  <a:pt x="15900" y="12030"/>
                </a:cubicBezTo>
                <a:cubicBezTo>
                  <a:pt x="15852" y="12175"/>
                  <a:pt x="15809" y="12269"/>
                  <a:pt x="15726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7"/>
          <p:cNvSpPr/>
          <p:nvPr/>
        </p:nvSpPr>
        <p:spPr>
          <a:xfrm>
            <a:off x="6626160" y="3759120"/>
            <a:ext cx="2276640" cy="527040"/>
          </a:xfrm>
          <a:custGeom>
            <a:avLst/>
            <a:gdLst/>
            <a:ahLst/>
            <a:rect l="l" t="t" r="r" b="b"/>
            <a:pathLst>
              <a:path w="6326" h="1464">
                <a:moveTo>
                  <a:pt x="18405" y="11410"/>
                </a:moveTo>
                <a:cubicBezTo>
                  <a:pt x="18472" y="11410"/>
                  <a:pt x="18525" y="11396"/>
                  <a:pt x="18579" y="11385"/>
                </a:cubicBezTo>
                <a:cubicBezTo>
                  <a:pt x="18636" y="11373"/>
                  <a:pt x="18697" y="11364"/>
                  <a:pt x="18752" y="11361"/>
                </a:cubicBezTo>
                <a:cubicBezTo>
                  <a:pt x="18809" y="11358"/>
                  <a:pt x="18827" y="11382"/>
                  <a:pt x="18876" y="11410"/>
                </a:cubicBezTo>
              </a:path>
              <a:path w="6326" h="1464">
                <a:moveTo>
                  <a:pt x="19075" y="11063"/>
                </a:moveTo>
                <a:cubicBezTo>
                  <a:pt x="19075" y="11130"/>
                  <a:pt x="19071" y="11200"/>
                  <a:pt x="19050" y="11261"/>
                </a:cubicBezTo>
                <a:cubicBezTo>
                  <a:pt x="19028" y="11327"/>
                  <a:pt x="19021" y="11396"/>
                  <a:pt x="19000" y="11460"/>
                </a:cubicBezTo>
                <a:cubicBezTo>
                  <a:pt x="18976" y="11533"/>
                  <a:pt x="18955" y="11604"/>
                  <a:pt x="18951" y="11683"/>
                </a:cubicBezTo>
                <a:cubicBezTo>
                  <a:pt x="18948" y="11732"/>
                  <a:pt x="18941" y="11832"/>
                  <a:pt x="18926" y="11881"/>
                </a:cubicBezTo>
                <a:cubicBezTo>
                  <a:pt x="18903" y="11904"/>
                  <a:pt x="18892" y="11912"/>
                  <a:pt x="18926" y="11906"/>
                </a:cubicBezTo>
              </a:path>
              <a:path w="6326" h="1464">
                <a:moveTo>
                  <a:pt x="19224" y="11137"/>
                </a:moveTo>
                <a:cubicBezTo>
                  <a:pt x="19253" y="11086"/>
                  <a:pt x="19281" y="11055"/>
                  <a:pt x="19323" y="11013"/>
                </a:cubicBezTo>
                <a:cubicBezTo>
                  <a:pt x="19369" y="10967"/>
                  <a:pt x="19451" y="10976"/>
                  <a:pt x="19496" y="11013"/>
                </a:cubicBezTo>
                <a:cubicBezTo>
                  <a:pt x="19557" y="11062"/>
                  <a:pt x="19514" y="11176"/>
                  <a:pt x="19496" y="11237"/>
                </a:cubicBezTo>
                <a:cubicBezTo>
                  <a:pt x="19475" y="11309"/>
                  <a:pt x="19442" y="11376"/>
                  <a:pt x="19397" y="11435"/>
                </a:cubicBezTo>
                <a:cubicBezTo>
                  <a:pt x="19361" y="11483"/>
                  <a:pt x="19327" y="11530"/>
                  <a:pt x="19298" y="11584"/>
                </a:cubicBezTo>
                <a:cubicBezTo>
                  <a:pt x="19266" y="11644"/>
                  <a:pt x="19219" y="11707"/>
                  <a:pt x="19174" y="11757"/>
                </a:cubicBezTo>
                <a:cubicBezTo>
                  <a:pt x="19144" y="11787"/>
                  <a:pt x="19133" y="11801"/>
                  <a:pt x="19124" y="11832"/>
                </a:cubicBezTo>
                <a:cubicBezTo>
                  <a:pt x="19176" y="11863"/>
                  <a:pt x="19215" y="11853"/>
                  <a:pt x="19273" y="11832"/>
                </a:cubicBezTo>
                <a:cubicBezTo>
                  <a:pt x="19347" y="11806"/>
                  <a:pt x="19380" y="11796"/>
                  <a:pt x="19447" y="11832"/>
                </a:cubicBezTo>
                <a:cubicBezTo>
                  <a:pt x="19502" y="11862"/>
                  <a:pt x="19535" y="11857"/>
                  <a:pt x="19596" y="11857"/>
                </a:cubicBezTo>
              </a:path>
              <a:path w="6326" h="1464">
                <a:moveTo>
                  <a:pt x="19819" y="11013"/>
                </a:moveTo>
                <a:cubicBezTo>
                  <a:pt x="19874" y="10980"/>
                  <a:pt x="19925" y="10988"/>
                  <a:pt x="19993" y="10988"/>
                </a:cubicBezTo>
                <a:cubicBezTo>
                  <a:pt x="20050" y="10988"/>
                  <a:pt x="20071" y="10990"/>
                  <a:pt x="20117" y="10964"/>
                </a:cubicBezTo>
              </a:path>
              <a:path w="6326" h="1464">
                <a:moveTo>
                  <a:pt x="19745" y="11038"/>
                </a:moveTo>
                <a:cubicBezTo>
                  <a:pt x="19707" y="11104"/>
                  <a:pt x="19660" y="11158"/>
                  <a:pt x="19645" y="11237"/>
                </a:cubicBezTo>
                <a:cubicBezTo>
                  <a:pt x="19635" y="11291"/>
                  <a:pt x="19634" y="11390"/>
                  <a:pt x="19720" y="11361"/>
                </a:cubicBezTo>
                <a:cubicBezTo>
                  <a:pt x="19770" y="11344"/>
                  <a:pt x="19783" y="11275"/>
                  <a:pt x="19844" y="11261"/>
                </a:cubicBezTo>
                <a:cubicBezTo>
                  <a:pt x="19911" y="11245"/>
                  <a:pt x="19966" y="11272"/>
                  <a:pt x="20017" y="11311"/>
                </a:cubicBezTo>
                <a:cubicBezTo>
                  <a:pt x="20075" y="11355"/>
                  <a:pt x="20067" y="11392"/>
                  <a:pt x="20067" y="11460"/>
                </a:cubicBezTo>
                <a:cubicBezTo>
                  <a:pt x="20067" y="11538"/>
                  <a:pt x="20020" y="11581"/>
                  <a:pt x="19968" y="11633"/>
                </a:cubicBezTo>
                <a:cubicBezTo>
                  <a:pt x="19919" y="11682"/>
                  <a:pt x="19869" y="11712"/>
                  <a:pt x="19819" y="11757"/>
                </a:cubicBezTo>
                <a:cubicBezTo>
                  <a:pt x="19796" y="11780"/>
                  <a:pt x="19792" y="11788"/>
                  <a:pt x="19769" y="11782"/>
                </a:cubicBezTo>
              </a:path>
              <a:path w="6326" h="1464">
                <a:moveTo>
                  <a:pt x="20414" y="10889"/>
                </a:moveTo>
                <a:cubicBezTo>
                  <a:pt x="20388" y="10988"/>
                  <a:pt x="20364" y="11091"/>
                  <a:pt x="20340" y="11187"/>
                </a:cubicBezTo>
                <a:cubicBezTo>
                  <a:pt x="20318" y="11274"/>
                  <a:pt x="20294" y="11346"/>
                  <a:pt x="20290" y="11435"/>
                </a:cubicBezTo>
                <a:cubicBezTo>
                  <a:pt x="20287" y="11507"/>
                  <a:pt x="20304" y="11575"/>
                  <a:pt x="20315" y="11633"/>
                </a:cubicBezTo>
                <a:cubicBezTo>
                  <a:pt x="20322" y="11671"/>
                  <a:pt x="20336" y="11742"/>
                  <a:pt x="20389" y="11757"/>
                </a:cubicBezTo>
                <a:cubicBezTo>
                  <a:pt x="20481" y="11783"/>
                  <a:pt x="20477" y="11749"/>
                  <a:pt x="20513" y="11683"/>
                </a:cubicBezTo>
              </a:path>
              <a:path w="6326" h="1464">
                <a:moveTo>
                  <a:pt x="20092" y="11212"/>
                </a:moveTo>
                <a:cubicBezTo>
                  <a:pt x="20188" y="11212"/>
                  <a:pt x="20283" y="11203"/>
                  <a:pt x="20365" y="11187"/>
                </a:cubicBezTo>
                <a:cubicBezTo>
                  <a:pt x="20410" y="11178"/>
                  <a:pt x="20467" y="11187"/>
                  <a:pt x="20513" y="11187"/>
                </a:cubicBezTo>
              </a:path>
              <a:path w="6326" h="1464">
                <a:moveTo>
                  <a:pt x="20638" y="10567"/>
                </a:moveTo>
                <a:cubicBezTo>
                  <a:pt x="20709" y="10546"/>
                  <a:pt x="20722" y="10497"/>
                  <a:pt x="20811" y="10492"/>
                </a:cubicBezTo>
                <a:cubicBezTo>
                  <a:pt x="20853" y="10490"/>
                  <a:pt x="20955" y="10529"/>
                  <a:pt x="20935" y="10592"/>
                </a:cubicBezTo>
                <a:cubicBezTo>
                  <a:pt x="20914" y="10657"/>
                  <a:pt x="20857" y="10739"/>
                  <a:pt x="20811" y="10790"/>
                </a:cubicBezTo>
                <a:cubicBezTo>
                  <a:pt x="20786" y="10815"/>
                  <a:pt x="20778" y="10823"/>
                  <a:pt x="20762" y="10840"/>
                </a:cubicBezTo>
                <a:cubicBezTo>
                  <a:pt x="20813" y="10788"/>
                  <a:pt x="20840" y="10771"/>
                  <a:pt x="20910" y="10815"/>
                </a:cubicBezTo>
                <a:cubicBezTo>
                  <a:pt x="20967" y="10850"/>
                  <a:pt x="20930" y="10925"/>
                  <a:pt x="20910" y="10964"/>
                </a:cubicBezTo>
                <a:cubicBezTo>
                  <a:pt x="20880" y="11020"/>
                  <a:pt x="20823" y="11030"/>
                  <a:pt x="20762" y="11063"/>
                </a:cubicBezTo>
                <a:cubicBezTo>
                  <a:pt x="20699" y="11097"/>
                  <a:pt x="20631" y="11115"/>
                  <a:pt x="20563" y="11137"/>
                </a:cubicBezTo>
              </a:path>
              <a:path w="6326" h="1464">
                <a:moveTo>
                  <a:pt x="20861" y="11286"/>
                </a:moveTo>
                <a:cubicBezTo>
                  <a:pt x="20916" y="11319"/>
                  <a:pt x="20966" y="11311"/>
                  <a:pt x="21034" y="11311"/>
                </a:cubicBezTo>
                <a:cubicBezTo>
                  <a:pt x="21084" y="11311"/>
                  <a:pt x="21133" y="11311"/>
                  <a:pt x="21183" y="11311"/>
                </a:cubicBezTo>
              </a:path>
              <a:path w="6326" h="1464">
                <a:moveTo>
                  <a:pt x="21406" y="10964"/>
                </a:moveTo>
                <a:cubicBezTo>
                  <a:pt x="21414" y="10972"/>
                  <a:pt x="21423" y="10980"/>
                  <a:pt x="21431" y="10988"/>
                </a:cubicBezTo>
                <a:cubicBezTo>
                  <a:pt x="21394" y="11050"/>
                  <a:pt x="21386" y="11134"/>
                  <a:pt x="21382" y="11212"/>
                </a:cubicBezTo>
                <a:cubicBezTo>
                  <a:pt x="21378" y="11289"/>
                  <a:pt x="21341" y="11361"/>
                  <a:pt x="21332" y="11435"/>
                </a:cubicBezTo>
                <a:cubicBezTo>
                  <a:pt x="21323" y="11506"/>
                  <a:pt x="21316" y="11520"/>
                  <a:pt x="21307" y="11584"/>
                </a:cubicBezTo>
              </a:path>
              <a:path w="6326" h="1464">
                <a:moveTo>
                  <a:pt x="21630" y="10964"/>
                </a:moveTo>
                <a:cubicBezTo>
                  <a:pt x="21599" y="11002"/>
                  <a:pt x="21542" y="11062"/>
                  <a:pt x="21530" y="11112"/>
                </a:cubicBezTo>
                <a:cubicBezTo>
                  <a:pt x="21512" y="11186"/>
                  <a:pt x="21506" y="11257"/>
                  <a:pt x="21506" y="11336"/>
                </a:cubicBezTo>
                <a:cubicBezTo>
                  <a:pt x="21506" y="11386"/>
                  <a:pt x="21512" y="11490"/>
                  <a:pt x="21580" y="11509"/>
                </a:cubicBezTo>
                <a:cubicBezTo>
                  <a:pt x="21641" y="11526"/>
                  <a:pt x="21713" y="11472"/>
                  <a:pt x="21754" y="11435"/>
                </a:cubicBezTo>
                <a:cubicBezTo>
                  <a:pt x="21799" y="11394"/>
                  <a:pt x="21825" y="11342"/>
                  <a:pt x="21828" y="11286"/>
                </a:cubicBezTo>
                <a:cubicBezTo>
                  <a:pt x="21832" y="11212"/>
                  <a:pt x="21844" y="11121"/>
                  <a:pt x="21803" y="11063"/>
                </a:cubicBezTo>
                <a:cubicBezTo>
                  <a:pt x="21765" y="11010"/>
                  <a:pt x="21739" y="10971"/>
                  <a:pt x="21679" y="10964"/>
                </a:cubicBezTo>
                <a:cubicBezTo>
                  <a:pt x="21624" y="10958"/>
                  <a:pt x="21597" y="10964"/>
                  <a:pt x="21555" y="10988"/>
                </a:cubicBezTo>
              </a:path>
              <a:path w="6326" h="1464">
                <a:moveTo>
                  <a:pt x="21903" y="10939"/>
                </a:moveTo>
                <a:cubicBezTo>
                  <a:pt x="21893" y="11025"/>
                  <a:pt x="21859" y="11062"/>
                  <a:pt x="21828" y="11137"/>
                </a:cubicBezTo>
                <a:cubicBezTo>
                  <a:pt x="21790" y="11230"/>
                  <a:pt x="21763" y="11289"/>
                  <a:pt x="21803" y="11385"/>
                </a:cubicBezTo>
                <a:cubicBezTo>
                  <a:pt x="21820" y="11427"/>
                  <a:pt x="21900" y="11477"/>
                  <a:pt x="21952" y="11460"/>
                </a:cubicBezTo>
                <a:cubicBezTo>
                  <a:pt x="22013" y="11439"/>
                  <a:pt x="22041" y="11383"/>
                  <a:pt x="22076" y="11336"/>
                </a:cubicBezTo>
                <a:cubicBezTo>
                  <a:pt x="22109" y="11293"/>
                  <a:pt x="22136" y="11196"/>
                  <a:pt x="22126" y="11137"/>
                </a:cubicBezTo>
                <a:cubicBezTo>
                  <a:pt x="22119" y="11097"/>
                  <a:pt x="22080" y="10979"/>
                  <a:pt x="22027" y="10964"/>
                </a:cubicBezTo>
                <a:cubicBezTo>
                  <a:pt x="21954" y="10944"/>
                  <a:pt x="21863" y="10970"/>
                  <a:pt x="21803" y="10988"/>
                </a:cubicBezTo>
                <a:cubicBezTo>
                  <a:pt x="21795" y="10988"/>
                  <a:pt x="21787" y="10988"/>
                  <a:pt x="21779" y="10988"/>
                </a:cubicBezTo>
              </a:path>
              <a:path w="6326" h="1464">
                <a:moveTo>
                  <a:pt x="22299" y="10815"/>
                </a:moveTo>
                <a:cubicBezTo>
                  <a:pt x="22291" y="10892"/>
                  <a:pt x="22281" y="10968"/>
                  <a:pt x="22250" y="11038"/>
                </a:cubicBezTo>
                <a:cubicBezTo>
                  <a:pt x="22223" y="11100"/>
                  <a:pt x="22202" y="11169"/>
                  <a:pt x="22200" y="11237"/>
                </a:cubicBezTo>
                <a:cubicBezTo>
                  <a:pt x="22196" y="11349"/>
                  <a:pt x="22206" y="11388"/>
                  <a:pt x="22250" y="11485"/>
                </a:cubicBezTo>
                <a:cubicBezTo>
                  <a:pt x="22278" y="11547"/>
                  <a:pt x="22332" y="11601"/>
                  <a:pt x="22399" y="11534"/>
                </a:cubicBezTo>
                <a:cubicBezTo>
                  <a:pt x="22399" y="11526"/>
                  <a:pt x="22399" y="11517"/>
                  <a:pt x="22399" y="11509"/>
                </a:cubicBezTo>
              </a:path>
              <a:path w="6326" h="1464">
                <a:moveTo>
                  <a:pt x="22151" y="11038"/>
                </a:moveTo>
                <a:cubicBezTo>
                  <a:pt x="22205" y="11005"/>
                  <a:pt x="22256" y="11013"/>
                  <a:pt x="22324" y="11013"/>
                </a:cubicBezTo>
                <a:cubicBezTo>
                  <a:pt x="22349" y="11013"/>
                  <a:pt x="22374" y="11013"/>
                  <a:pt x="22399" y="11013"/>
                </a:cubicBezTo>
              </a:path>
              <a:path w="6326" h="1464">
                <a:moveTo>
                  <a:pt x="22423" y="10641"/>
                </a:moveTo>
                <a:cubicBezTo>
                  <a:pt x="22432" y="10565"/>
                  <a:pt x="22435" y="10528"/>
                  <a:pt x="22523" y="10517"/>
                </a:cubicBezTo>
                <a:cubicBezTo>
                  <a:pt x="22643" y="10503"/>
                  <a:pt x="22629" y="10578"/>
                  <a:pt x="22622" y="10641"/>
                </a:cubicBezTo>
                <a:cubicBezTo>
                  <a:pt x="22615" y="10709"/>
                  <a:pt x="22594" y="10717"/>
                  <a:pt x="22547" y="10765"/>
                </a:cubicBezTo>
                <a:cubicBezTo>
                  <a:pt x="22523" y="10790"/>
                  <a:pt x="22515" y="10799"/>
                  <a:pt x="22498" y="10815"/>
                </a:cubicBezTo>
                <a:cubicBezTo>
                  <a:pt x="22530" y="10831"/>
                  <a:pt x="22591" y="10831"/>
                  <a:pt x="22647" y="10840"/>
                </a:cubicBezTo>
                <a:cubicBezTo>
                  <a:pt x="22663" y="10840"/>
                  <a:pt x="22680" y="10840"/>
                  <a:pt x="22696" y="10840"/>
                </a:cubicBezTo>
              </a:path>
              <a:path w="6326" h="1464">
                <a:moveTo>
                  <a:pt x="22696" y="11137"/>
                </a:moveTo>
                <a:cubicBezTo>
                  <a:pt x="22787" y="11137"/>
                  <a:pt x="22878" y="11137"/>
                  <a:pt x="22969" y="11137"/>
                </a:cubicBezTo>
              </a:path>
              <a:path w="6326" h="1464">
                <a:moveTo>
                  <a:pt x="23316" y="10765"/>
                </a:moveTo>
                <a:cubicBezTo>
                  <a:pt x="23308" y="10757"/>
                  <a:pt x="23300" y="10748"/>
                  <a:pt x="23292" y="10740"/>
                </a:cubicBezTo>
                <a:cubicBezTo>
                  <a:pt x="23353" y="10733"/>
                  <a:pt x="23402" y="10716"/>
                  <a:pt x="23465" y="10716"/>
                </a:cubicBezTo>
              </a:path>
              <a:path w="6326" h="1464">
                <a:moveTo>
                  <a:pt x="23192" y="10740"/>
                </a:moveTo>
                <a:cubicBezTo>
                  <a:pt x="23192" y="10822"/>
                  <a:pt x="23181" y="10895"/>
                  <a:pt x="23168" y="10964"/>
                </a:cubicBezTo>
                <a:cubicBezTo>
                  <a:pt x="23168" y="10980"/>
                  <a:pt x="23168" y="10997"/>
                  <a:pt x="23168" y="11013"/>
                </a:cubicBezTo>
                <a:cubicBezTo>
                  <a:pt x="23216" y="10985"/>
                  <a:pt x="23280" y="10920"/>
                  <a:pt x="23341" y="10939"/>
                </a:cubicBezTo>
                <a:cubicBezTo>
                  <a:pt x="23391" y="10955"/>
                  <a:pt x="23414" y="11022"/>
                  <a:pt x="23416" y="11063"/>
                </a:cubicBezTo>
                <a:cubicBezTo>
                  <a:pt x="23419" y="11123"/>
                  <a:pt x="23402" y="11193"/>
                  <a:pt x="23366" y="11237"/>
                </a:cubicBezTo>
                <a:cubicBezTo>
                  <a:pt x="23319" y="11295"/>
                  <a:pt x="23298" y="11339"/>
                  <a:pt x="23242" y="11385"/>
                </a:cubicBezTo>
                <a:cubicBezTo>
                  <a:pt x="23205" y="11416"/>
                  <a:pt x="23187" y="11435"/>
                  <a:pt x="23143" y="11460"/>
                </a:cubicBezTo>
              </a:path>
              <a:path w="6326" h="1464">
                <a:moveTo>
                  <a:pt x="23664" y="10790"/>
                </a:moveTo>
                <a:cubicBezTo>
                  <a:pt x="23653" y="10891"/>
                  <a:pt x="23622" y="10994"/>
                  <a:pt x="23589" y="11088"/>
                </a:cubicBezTo>
                <a:cubicBezTo>
                  <a:pt x="23571" y="11139"/>
                  <a:pt x="23533" y="11302"/>
                  <a:pt x="23614" y="11336"/>
                </a:cubicBezTo>
                <a:cubicBezTo>
                  <a:pt x="23686" y="11366"/>
                  <a:pt x="23722" y="11302"/>
                  <a:pt x="23763" y="11261"/>
                </a:cubicBezTo>
              </a:path>
              <a:path w="6326" h="1464">
                <a:moveTo>
                  <a:pt x="23391" y="10914"/>
                </a:moveTo>
                <a:cubicBezTo>
                  <a:pt x="23461" y="10905"/>
                  <a:pt x="23516" y="10889"/>
                  <a:pt x="23589" y="10889"/>
                </a:cubicBezTo>
                <a:cubicBezTo>
                  <a:pt x="23648" y="10889"/>
                  <a:pt x="23675" y="10864"/>
                  <a:pt x="23738" y="10864"/>
                </a:cubicBezTo>
              </a:path>
              <a:path w="6326" h="1464">
                <a:moveTo>
                  <a:pt x="24085" y="10988"/>
                </a:moveTo>
                <a:cubicBezTo>
                  <a:pt x="24142" y="10988"/>
                  <a:pt x="24164" y="10991"/>
                  <a:pt x="24209" y="10964"/>
                </a:cubicBezTo>
                <a:cubicBezTo>
                  <a:pt x="24255" y="10990"/>
                  <a:pt x="24276" y="10988"/>
                  <a:pt x="24333" y="10988"/>
                </a:cubicBezTo>
              </a:path>
              <a:path w="6326" h="1464">
                <a:moveTo>
                  <a:pt x="24507" y="10641"/>
                </a:moveTo>
                <a:cubicBezTo>
                  <a:pt x="24478" y="10699"/>
                  <a:pt x="24441" y="10738"/>
                  <a:pt x="24408" y="10790"/>
                </a:cubicBezTo>
                <a:cubicBezTo>
                  <a:pt x="24395" y="10810"/>
                  <a:pt x="24346" y="10964"/>
                  <a:pt x="24408" y="10964"/>
                </a:cubicBezTo>
                <a:cubicBezTo>
                  <a:pt x="24448" y="10964"/>
                  <a:pt x="24543" y="10928"/>
                  <a:pt x="24581" y="10914"/>
                </a:cubicBezTo>
                <a:cubicBezTo>
                  <a:pt x="24626" y="10898"/>
                  <a:pt x="24659" y="10873"/>
                  <a:pt x="24705" y="10864"/>
                </a:cubicBezTo>
              </a:path>
              <a:path w="6326" h="1464">
                <a:moveTo>
                  <a:pt x="24730" y="10443"/>
                </a:moveTo>
                <a:cubicBezTo>
                  <a:pt x="24706" y="10515"/>
                  <a:pt x="24689" y="10612"/>
                  <a:pt x="24681" y="10691"/>
                </a:cubicBezTo>
                <a:cubicBezTo>
                  <a:pt x="24673" y="10771"/>
                  <a:pt x="24676" y="10839"/>
                  <a:pt x="24656" y="10914"/>
                </a:cubicBezTo>
                <a:cubicBezTo>
                  <a:pt x="24636" y="10990"/>
                  <a:pt x="24625" y="11064"/>
                  <a:pt x="24606" y="11137"/>
                </a:cubicBezTo>
                <a:cubicBezTo>
                  <a:pt x="24589" y="11203"/>
                  <a:pt x="24544" y="11278"/>
                  <a:pt x="24532" y="11336"/>
                </a:cubicBezTo>
                <a:cubicBezTo>
                  <a:pt x="24527" y="11363"/>
                  <a:pt x="24479" y="11472"/>
                  <a:pt x="24482" y="11485"/>
                </a:cubicBezTo>
                <a:cubicBezTo>
                  <a:pt x="24490" y="11493"/>
                  <a:pt x="24499" y="11501"/>
                  <a:pt x="24507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28"/>
          <p:cNvSpPr/>
          <p:nvPr/>
        </p:nvSpPr>
        <p:spPr>
          <a:xfrm>
            <a:off x="1517760" y="4616280"/>
            <a:ext cx="669960" cy="768600"/>
          </a:xfrm>
          <a:custGeom>
            <a:avLst/>
            <a:gdLst/>
            <a:ahLst/>
            <a:rect l="l" t="t" r="r" b="b"/>
            <a:pathLst>
              <a:path w="1861" h="2134">
                <a:moveTo>
                  <a:pt x="5209" y="13494"/>
                </a:moveTo>
                <a:cubicBezTo>
                  <a:pt x="5215" y="13563"/>
                  <a:pt x="5226" y="13624"/>
                  <a:pt x="5234" y="13692"/>
                </a:cubicBezTo>
                <a:cubicBezTo>
                  <a:pt x="5204" y="13602"/>
                  <a:pt x="5186" y="13505"/>
                  <a:pt x="5159" y="13419"/>
                </a:cubicBezTo>
                <a:cubicBezTo>
                  <a:pt x="5147" y="13380"/>
                  <a:pt x="5085" y="13293"/>
                  <a:pt x="5035" y="13295"/>
                </a:cubicBezTo>
                <a:cubicBezTo>
                  <a:pt x="4979" y="13298"/>
                  <a:pt x="4889" y="13370"/>
                  <a:pt x="4862" y="13419"/>
                </a:cubicBezTo>
                <a:cubicBezTo>
                  <a:pt x="4816" y="13503"/>
                  <a:pt x="4766" y="13622"/>
                  <a:pt x="4762" y="13717"/>
                </a:cubicBezTo>
                <a:cubicBezTo>
                  <a:pt x="4759" y="13787"/>
                  <a:pt x="4773" y="13851"/>
                  <a:pt x="4837" y="13891"/>
                </a:cubicBezTo>
                <a:cubicBezTo>
                  <a:pt x="4907" y="13935"/>
                  <a:pt x="4971" y="13910"/>
                  <a:pt x="5035" y="13866"/>
                </a:cubicBezTo>
                <a:cubicBezTo>
                  <a:pt x="5084" y="13832"/>
                  <a:pt x="5109" y="13744"/>
                  <a:pt x="5135" y="13692"/>
                </a:cubicBezTo>
                <a:cubicBezTo>
                  <a:pt x="5160" y="13642"/>
                  <a:pt x="5199" y="13591"/>
                  <a:pt x="5209" y="13543"/>
                </a:cubicBezTo>
                <a:cubicBezTo>
                  <a:pt x="5233" y="13424"/>
                  <a:pt x="5209" y="13611"/>
                  <a:pt x="5209" y="13643"/>
                </a:cubicBezTo>
                <a:cubicBezTo>
                  <a:pt x="5209" y="13821"/>
                  <a:pt x="5183" y="14018"/>
                  <a:pt x="5234" y="14188"/>
                </a:cubicBezTo>
                <a:cubicBezTo>
                  <a:pt x="5266" y="14297"/>
                  <a:pt x="5264" y="14436"/>
                  <a:pt x="5308" y="14536"/>
                </a:cubicBezTo>
                <a:cubicBezTo>
                  <a:pt x="5348" y="14627"/>
                  <a:pt x="5333" y="14611"/>
                  <a:pt x="5333" y="14511"/>
                </a:cubicBezTo>
              </a:path>
              <a:path w="1861" h="2134">
                <a:moveTo>
                  <a:pt x="5705" y="13395"/>
                </a:moveTo>
                <a:cubicBezTo>
                  <a:pt x="5644" y="13226"/>
                  <a:pt x="5609" y="13139"/>
                  <a:pt x="5482" y="13022"/>
                </a:cubicBezTo>
                <a:cubicBezTo>
                  <a:pt x="5368" y="12917"/>
                  <a:pt x="5242" y="12844"/>
                  <a:pt x="5085" y="12824"/>
                </a:cubicBezTo>
                <a:cubicBezTo>
                  <a:pt x="4900" y="12800"/>
                  <a:pt x="4730" y="12848"/>
                  <a:pt x="4564" y="12923"/>
                </a:cubicBezTo>
                <a:cubicBezTo>
                  <a:pt x="4435" y="12981"/>
                  <a:pt x="4359" y="13074"/>
                  <a:pt x="4291" y="13196"/>
                </a:cubicBezTo>
                <a:cubicBezTo>
                  <a:pt x="4213" y="13334"/>
                  <a:pt x="4199" y="13486"/>
                  <a:pt x="4217" y="13643"/>
                </a:cubicBezTo>
                <a:cubicBezTo>
                  <a:pt x="4234" y="13798"/>
                  <a:pt x="4284" y="13947"/>
                  <a:pt x="4341" y="14089"/>
                </a:cubicBezTo>
                <a:cubicBezTo>
                  <a:pt x="4402" y="14241"/>
                  <a:pt x="4493" y="14378"/>
                  <a:pt x="4589" y="14511"/>
                </a:cubicBezTo>
                <a:cubicBezTo>
                  <a:pt x="4682" y="14640"/>
                  <a:pt x="4811" y="14736"/>
                  <a:pt x="4936" y="14833"/>
                </a:cubicBezTo>
                <a:cubicBezTo>
                  <a:pt x="5086" y="14949"/>
                  <a:pt x="5173" y="14957"/>
                  <a:pt x="5358" y="14957"/>
                </a:cubicBezTo>
                <a:cubicBezTo>
                  <a:pt x="5477" y="14957"/>
                  <a:pt x="5610" y="14910"/>
                  <a:pt x="5705" y="14833"/>
                </a:cubicBezTo>
                <a:cubicBezTo>
                  <a:pt x="5821" y="14738"/>
                  <a:pt x="5900" y="14643"/>
                  <a:pt x="5953" y="14511"/>
                </a:cubicBezTo>
                <a:cubicBezTo>
                  <a:pt x="6006" y="14379"/>
                  <a:pt x="6090" y="14160"/>
                  <a:pt x="6077" y="14015"/>
                </a:cubicBezTo>
                <a:cubicBezTo>
                  <a:pt x="6061" y="13836"/>
                  <a:pt x="6005" y="13631"/>
                  <a:pt x="5928" y="13469"/>
                </a:cubicBezTo>
                <a:cubicBezTo>
                  <a:pt x="5858" y="13320"/>
                  <a:pt x="5725" y="13213"/>
                  <a:pt x="5581" y="13146"/>
                </a:cubicBezTo>
                <a:cubicBezTo>
                  <a:pt x="5370" y="13048"/>
                  <a:pt x="5086" y="13026"/>
                  <a:pt x="4862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29"/>
          <p:cNvSpPr/>
          <p:nvPr/>
        </p:nvSpPr>
        <p:spPr>
          <a:xfrm>
            <a:off x="3990960" y="4340160"/>
            <a:ext cx="3983040" cy="830160"/>
          </a:xfrm>
          <a:custGeom>
            <a:avLst/>
            <a:gdLst/>
            <a:ahLst/>
            <a:rect l="l" t="t" r="r" b="b"/>
            <a:pathLst>
              <a:path w="11064" h="2308">
                <a:moveTo>
                  <a:pt x="11708" y="13047"/>
                </a:moveTo>
                <a:cubicBezTo>
                  <a:pt x="11672" y="13118"/>
                  <a:pt x="11624" y="13192"/>
                  <a:pt x="11609" y="13271"/>
                </a:cubicBezTo>
                <a:cubicBezTo>
                  <a:pt x="11592" y="13364"/>
                  <a:pt x="11565" y="13451"/>
                  <a:pt x="11534" y="13543"/>
                </a:cubicBezTo>
                <a:cubicBezTo>
                  <a:pt x="11496" y="13657"/>
                  <a:pt x="11485" y="13744"/>
                  <a:pt x="11485" y="13866"/>
                </a:cubicBezTo>
                <a:cubicBezTo>
                  <a:pt x="11485" y="13930"/>
                  <a:pt x="11474" y="13997"/>
                  <a:pt x="11534" y="14039"/>
                </a:cubicBezTo>
                <a:cubicBezTo>
                  <a:pt x="11575" y="14059"/>
                  <a:pt x="11581" y="14068"/>
                  <a:pt x="11609" y="14064"/>
                </a:cubicBezTo>
              </a:path>
              <a:path w="11064" h="2308">
                <a:moveTo>
                  <a:pt x="11782" y="13419"/>
                </a:moveTo>
                <a:cubicBezTo>
                  <a:pt x="11792" y="13353"/>
                  <a:pt x="11809" y="13343"/>
                  <a:pt x="11857" y="13295"/>
                </a:cubicBezTo>
                <a:cubicBezTo>
                  <a:pt x="11897" y="13255"/>
                  <a:pt x="11974" y="13249"/>
                  <a:pt x="12030" y="13246"/>
                </a:cubicBezTo>
                <a:cubicBezTo>
                  <a:pt x="12085" y="13243"/>
                  <a:pt x="12145" y="13282"/>
                  <a:pt x="12154" y="13345"/>
                </a:cubicBezTo>
                <a:cubicBezTo>
                  <a:pt x="12168" y="13440"/>
                  <a:pt x="12117" y="13532"/>
                  <a:pt x="12080" y="13618"/>
                </a:cubicBezTo>
                <a:cubicBezTo>
                  <a:pt x="12048" y="13692"/>
                  <a:pt x="12015" y="13768"/>
                  <a:pt x="11981" y="13841"/>
                </a:cubicBezTo>
                <a:cubicBezTo>
                  <a:pt x="11954" y="13899"/>
                  <a:pt x="11939" y="13928"/>
                  <a:pt x="11931" y="13990"/>
                </a:cubicBezTo>
                <a:cubicBezTo>
                  <a:pt x="12018" y="13920"/>
                  <a:pt x="12012" y="13969"/>
                  <a:pt x="12105" y="13990"/>
                </a:cubicBezTo>
                <a:cubicBezTo>
                  <a:pt x="12176" y="14006"/>
                  <a:pt x="12226" y="13982"/>
                  <a:pt x="12278" y="13940"/>
                </a:cubicBezTo>
              </a:path>
              <a:path w="11064" h="2308">
                <a:moveTo>
                  <a:pt x="12502" y="13221"/>
                </a:moveTo>
                <a:cubicBezTo>
                  <a:pt x="12475" y="13320"/>
                  <a:pt x="12477" y="13421"/>
                  <a:pt x="12452" y="13519"/>
                </a:cubicBezTo>
                <a:cubicBezTo>
                  <a:pt x="12431" y="13602"/>
                  <a:pt x="12407" y="13681"/>
                  <a:pt x="12402" y="13767"/>
                </a:cubicBezTo>
                <a:cubicBezTo>
                  <a:pt x="12400" y="13797"/>
                  <a:pt x="12426" y="13918"/>
                  <a:pt x="12477" y="13915"/>
                </a:cubicBezTo>
                <a:cubicBezTo>
                  <a:pt x="12525" y="13912"/>
                  <a:pt x="12570" y="13847"/>
                  <a:pt x="12601" y="13816"/>
                </a:cubicBezTo>
              </a:path>
              <a:path w="11064" h="2308">
                <a:moveTo>
                  <a:pt x="12303" y="13593"/>
                </a:moveTo>
                <a:cubicBezTo>
                  <a:pt x="12397" y="13593"/>
                  <a:pt x="12459" y="13569"/>
                  <a:pt x="12551" y="13543"/>
                </a:cubicBezTo>
              </a:path>
              <a:path w="11064" h="2308">
                <a:moveTo>
                  <a:pt x="12774" y="13072"/>
                </a:moveTo>
                <a:cubicBezTo>
                  <a:pt x="12786" y="13153"/>
                  <a:pt x="12836" y="13236"/>
                  <a:pt x="12849" y="13320"/>
                </a:cubicBezTo>
                <a:cubicBezTo>
                  <a:pt x="12872" y="13468"/>
                  <a:pt x="12866" y="13676"/>
                  <a:pt x="12824" y="13816"/>
                </a:cubicBezTo>
                <a:cubicBezTo>
                  <a:pt x="12798" y="13903"/>
                  <a:pt x="12766" y="13983"/>
                  <a:pt x="12725" y="14064"/>
                </a:cubicBezTo>
                <a:cubicBezTo>
                  <a:pt x="12703" y="14108"/>
                  <a:pt x="12700" y="14120"/>
                  <a:pt x="12675" y="14139"/>
                </a:cubicBezTo>
              </a:path>
              <a:path w="11064" h="2308">
                <a:moveTo>
                  <a:pt x="12923" y="12824"/>
                </a:moveTo>
                <a:cubicBezTo>
                  <a:pt x="12992" y="12833"/>
                  <a:pt x="13043" y="12850"/>
                  <a:pt x="13097" y="12898"/>
                </a:cubicBezTo>
                <a:cubicBezTo>
                  <a:pt x="13162" y="12955"/>
                  <a:pt x="13142" y="13007"/>
                  <a:pt x="13097" y="13072"/>
                </a:cubicBezTo>
                <a:cubicBezTo>
                  <a:pt x="13067" y="13102"/>
                  <a:pt x="13056" y="13116"/>
                  <a:pt x="13047" y="13146"/>
                </a:cubicBezTo>
                <a:cubicBezTo>
                  <a:pt x="13083" y="13111"/>
                  <a:pt x="13120" y="13059"/>
                  <a:pt x="13171" y="13047"/>
                </a:cubicBezTo>
                <a:cubicBezTo>
                  <a:pt x="13213" y="13047"/>
                  <a:pt x="13229" y="13039"/>
                  <a:pt x="13221" y="13072"/>
                </a:cubicBezTo>
              </a:path>
              <a:path w="11064" h="2308">
                <a:moveTo>
                  <a:pt x="13395" y="13568"/>
                </a:moveTo>
                <a:cubicBezTo>
                  <a:pt x="13449" y="13535"/>
                  <a:pt x="13500" y="13543"/>
                  <a:pt x="13568" y="13543"/>
                </a:cubicBezTo>
                <a:cubicBezTo>
                  <a:pt x="13613" y="13543"/>
                  <a:pt x="13626" y="13547"/>
                  <a:pt x="13643" y="13519"/>
                </a:cubicBezTo>
              </a:path>
              <a:path w="11064" h="2308">
                <a:moveTo>
                  <a:pt x="13494" y="13295"/>
                </a:moveTo>
                <a:cubicBezTo>
                  <a:pt x="13474" y="13373"/>
                  <a:pt x="13448" y="13445"/>
                  <a:pt x="13444" y="13519"/>
                </a:cubicBezTo>
                <a:cubicBezTo>
                  <a:pt x="13439" y="13605"/>
                  <a:pt x="13427" y="13723"/>
                  <a:pt x="13469" y="13791"/>
                </a:cubicBezTo>
              </a:path>
              <a:path w="11064" h="2308">
                <a:moveTo>
                  <a:pt x="13915" y="13047"/>
                </a:moveTo>
                <a:cubicBezTo>
                  <a:pt x="13929" y="13117"/>
                  <a:pt x="13931" y="13170"/>
                  <a:pt x="13915" y="13246"/>
                </a:cubicBezTo>
                <a:cubicBezTo>
                  <a:pt x="13895" y="13343"/>
                  <a:pt x="13871" y="13444"/>
                  <a:pt x="13866" y="13543"/>
                </a:cubicBezTo>
                <a:cubicBezTo>
                  <a:pt x="13861" y="13645"/>
                  <a:pt x="13835" y="13814"/>
                  <a:pt x="13915" y="13841"/>
                </a:cubicBezTo>
              </a:path>
              <a:path w="11064" h="2308">
                <a:moveTo>
                  <a:pt x="14412" y="13395"/>
                </a:moveTo>
                <a:cubicBezTo>
                  <a:pt x="14504" y="13395"/>
                  <a:pt x="14523" y="13363"/>
                  <a:pt x="14610" y="13345"/>
                </a:cubicBezTo>
                <a:cubicBezTo>
                  <a:pt x="14673" y="13332"/>
                  <a:pt x="14713" y="13320"/>
                  <a:pt x="14784" y="13320"/>
                </a:cubicBezTo>
                <a:cubicBezTo>
                  <a:pt x="14828" y="13320"/>
                  <a:pt x="14842" y="13323"/>
                  <a:pt x="14858" y="13295"/>
                </a:cubicBezTo>
              </a:path>
              <a:path w="11064" h="2308">
                <a:moveTo>
                  <a:pt x="13990" y="12725"/>
                </a:moveTo>
                <a:cubicBezTo>
                  <a:pt x="14021" y="12776"/>
                  <a:pt x="14034" y="12838"/>
                  <a:pt x="14064" y="12898"/>
                </a:cubicBezTo>
                <a:cubicBezTo>
                  <a:pt x="14100" y="12969"/>
                  <a:pt x="14148" y="13043"/>
                  <a:pt x="14163" y="13122"/>
                </a:cubicBezTo>
                <a:cubicBezTo>
                  <a:pt x="14186" y="13244"/>
                  <a:pt x="14188" y="13369"/>
                  <a:pt x="14188" y="13494"/>
                </a:cubicBezTo>
                <a:cubicBezTo>
                  <a:pt x="14188" y="13605"/>
                  <a:pt x="14138" y="13762"/>
                  <a:pt x="14089" y="13866"/>
                </a:cubicBezTo>
                <a:cubicBezTo>
                  <a:pt x="14064" y="13907"/>
                  <a:pt x="14040" y="13949"/>
                  <a:pt x="14015" y="13990"/>
                </a:cubicBezTo>
              </a:path>
              <a:path w="11064" h="2308">
                <a:moveTo>
                  <a:pt x="11633" y="12923"/>
                </a:moveTo>
                <a:cubicBezTo>
                  <a:pt x="11579" y="12954"/>
                  <a:pt x="11522" y="12994"/>
                  <a:pt x="11485" y="13047"/>
                </a:cubicBezTo>
                <a:cubicBezTo>
                  <a:pt x="11446" y="13103"/>
                  <a:pt x="11397" y="13135"/>
                  <a:pt x="11361" y="13196"/>
                </a:cubicBezTo>
                <a:cubicBezTo>
                  <a:pt x="11313" y="13276"/>
                  <a:pt x="11275" y="13360"/>
                  <a:pt x="11237" y="13444"/>
                </a:cubicBezTo>
                <a:cubicBezTo>
                  <a:pt x="11197" y="13533"/>
                  <a:pt x="11168" y="13625"/>
                  <a:pt x="11137" y="13717"/>
                </a:cubicBezTo>
                <a:cubicBezTo>
                  <a:pt x="11102" y="13820"/>
                  <a:pt x="11088" y="13907"/>
                  <a:pt x="11088" y="14015"/>
                </a:cubicBezTo>
                <a:cubicBezTo>
                  <a:pt x="11088" y="14081"/>
                  <a:pt x="11110" y="14153"/>
                  <a:pt x="11137" y="14213"/>
                </a:cubicBezTo>
                <a:cubicBezTo>
                  <a:pt x="11165" y="14276"/>
                  <a:pt x="11192" y="14311"/>
                  <a:pt x="11237" y="14362"/>
                </a:cubicBezTo>
              </a:path>
              <a:path w="11064" h="2308">
                <a:moveTo>
                  <a:pt x="15379" y="12824"/>
                </a:moveTo>
                <a:cubicBezTo>
                  <a:pt x="15320" y="12854"/>
                  <a:pt x="15310" y="12907"/>
                  <a:pt x="15280" y="12973"/>
                </a:cubicBezTo>
                <a:cubicBezTo>
                  <a:pt x="15244" y="13053"/>
                  <a:pt x="15208" y="13115"/>
                  <a:pt x="15180" y="13196"/>
                </a:cubicBezTo>
                <a:cubicBezTo>
                  <a:pt x="15153" y="13274"/>
                  <a:pt x="15156" y="13338"/>
                  <a:pt x="15156" y="13419"/>
                </a:cubicBezTo>
                <a:cubicBezTo>
                  <a:pt x="15156" y="13499"/>
                  <a:pt x="15151" y="13566"/>
                  <a:pt x="15180" y="13643"/>
                </a:cubicBezTo>
                <a:cubicBezTo>
                  <a:pt x="15190" y="13668"/>
                  <a:pt x="15248" y="13816"/>
                  <a:pt x="15280" y="13816"/>
                </a:cubicBezTo>
                <a:cubicBezTo>
                  <a:pt x="15280" y="13808"/>
                  <a:pt x="15280" y="13799"/>
                  <a:pt x="15280" y="13791"/>
                </a:cubicBezTo>
              </a:path>
              <a:path w="11064" h="2308">
                <a:moveTo>
                  <a:pt x="15577" y="13097"/>
                </a:moveTo>
                <a:cubicBezTo>
                  <a:pt x="15655" y="13061"/>
                  <a:pt x="15748" y="12985"/>
                  <a:pt x="15825" y="13047"/>
                </a:cubicBezTo>
                <a:cubicBezTo>
                  <a:pt x="15879" y="13091"/>
                  <a:pt x="15848" y="13174"/>
                  <a:pt x="15825" y="13221"/>
                </a:cubicBezTo>
                <a:cubicBezTo>
                  <a:pt x="15795" y="13282"/>
                  <a:pt x="15760" y="13338"/>
                  <a:pt x="15726" y="13395"/>
                </a:cubicBezTo>
                <a:cubicBezTo>
                  <a:pt x="15702" y="13434"/>
                  <a:pt x="15645" y="13523"/>
                  <a:pt x="15652" y="13568"/>
                </a:cubicBezTo>
                <a:cubicBezTo>
                  <a:pt x="15661" y="13625"/>
                  <a:pt x="15747" y="13629"/>
                  <a:pt x="15776" y="13643"/>
                </a:cubicBezTo>
                <a:cubicBezTo>
                  <a:pt x="15819" y="13664"/>
                  <a:pt x="15847" y="13667"/>
                  <a:pt x="15900" y="13667"/>
                </a:cubicBezTo>
              </a:path>
              <a:path w="11064" h="2308">
                <a:moveTo>
                  <a:pt x="16197" y="12849"/>
                </a:moveTo>
                <a:cubicBezTo>
                  <a:pt x="16178" y="12902"/>
                  <a:pt x="16133" y="12969"/>
                  <a:pt x="16123" y="13022"/>
                </a:cubicBezTo>
                <a:cubicBezTo>
                  <a:pt x="16116" y="13059"/>
                  <a:pt x="16094" y="13215"/>
                  <a:pt x="16098" y="13246"/>
                </a:cubicBezTo>
                <a:cubicBezTo>
                  <a:pt x="16105" y="13307"/>
                  <a:pt x="16135" y="13396"/>
                  <a:pt x="16173" y="13444"/>
                </a:cubicBezTo>
                <a:cubicBezTo>
                  <a:pt x="16214" y="13495"/>
                  <a:pt x="16234" y="13531"/>
                  <a:pt x="16297" y="13494"/>
                </a:cubicBezTo>
                <a:cubicBezTo>
                  <a:pt x="16305" y="13486"/>
                  <a:pt x="16313" y="13477"/>
                  <a:pt x="16321" y="13469"/>
                </a:cubicBezTo>
              </a:path>
              <a:path w="11064" h="2308">
                <a:moveTo>
                  <a:pt x="16024" y="13122"/>
                </a:moveTo>
                <a:cubicBezTo>
                  <a:pt x="16087" y="13131"/>
                  <a:pt x="16127" y="13146"/>
                  <a:pt x="16197" y="13146"/>
                </a:cubicBezTo>
                <a:cubicBezTo>
                  <a:pt x="16205" y="13146"/>
                  <a:pt x="16214" y="13146"/>
                  <a:pt x="16222" y="13146"/>
                </a:cubicBezTo>
              </a:path>
              <a:path w="11064" h="2308">
                <a:moveTo>
                  <a:pt x="16545" y="13097"/>
                </a:moveTo>
                <a:cubicBezTo>
                  <a:pt x="16603" y="13097"/>
                  <a:pt x="16660" y="13097"/>
                  <a:pt x="16718" y="13097"/>
                </a:cubicBezTo>
              </a:path>
              <a:path w="11064" h="2308">
                <a:moveTo>
                  <a:pt x="16917" y="12973"/>
                </a:moveTo>
                <a:cubicBezTo>
                  <a:pt x="16914" y="13017"/>
                  <a:pt x="16861" y="13156"/>
                  <a:pt x="16867" y="13196"/>
                </a:cubicBezTo>
                <a:cubicBezTo>
                  <a:pt x="16875" y="13250"/>
                  <a:pt x="16980" y="13260"/>
                  <a:pt x="17016" y="13246"/>
                </a:cubicBezTo>
                <a:cubicBezTo>
                  <a:pt x="17044" y="13218"/>
                  <a:pt x="17057" y="13209"/>
                  <a:pt x="17090" y="13221"/>
                </a:cubicBezTo>
              </a:path>
              <a:path w="11064" h="2308">
                <a:moveTo>
                  <a:pt x="17165" y="12849"/>
                </a:moveTo>
                <a:cubicBezTo>
                  <a:pt x="17114" y="12978"/>
                  <a:pt x="17090" y="13082"/>
                  <a:pt x="17090" y="13221"/>
                </a:cubicBezTo>
                <a:cubicBezTo>
                  <a:pt x="17090" y="13305"/>
                  <a:pt x="17066" y="13382"/>
                  <a:pt x="17066" y="13469"/>
                </a:cubicBezTo>
                <a:cubicBezTo>
                  <a:pt x="17066" y="13535"/>
                  <a:pt x="17058" y="13609"/>
                  <a:pt x="17090" y="13643"/>
                </a:cubicBezTo>
              </a:path>
              <a:path w="11064" h="2308">
                <a:moveTo>
                  <a:pt x="17289" y="12601"/>
                </a:moveTo>
                <a:cubicBezTo>
                  <a:pt x="17389" y="12651"/>
                  <a:pt x="17393" y="12672"/>
                  <a:pt x="17438" y="12774"/>
                </a:cubicBezTo>
                <a:cubicBezTo>
                  <a:pt x="17476" y="12859"/>
                  <a:pt x="17503" y="12955"/>
                  <a:pt x="17512" y="13047"/>
                </a:cubicBezTo>
                <a:cubicBezTo>
                  <a:pt x="17524" y="13177"/>
                  <a:pt x="17470" y="13285"/>
                  <a:pt x="17413" y="13395"/>
                </a:cubicBezTo>
                <a:cubicBezTo>
                  <a:pt x="17347" y="13524"/>
                  <a:pt x="17265" y="13643"/>
                  <a:pt x="17190" y="13767"/>
                </a:cubicBezTo>
              </a:path>
              <a:path w="11064" h="2308">
                <a:moveTo>
                  <a:pt x="18331" y="13146"/>
                </a:moveTo>
                <a:cubicBezTo>
                  <a:pt x="18314" y="13138"/>
                  <a:pt x="18298" y="13130"/>
                  <a:pt x="18281" y="13122"/>
                </a:cubicBezTo>
                <a:cubicBezTo>
                  <a:pt x="18334" y="13102"/>
                  <a:pt x="18401" y="13057"/>
                  <a:pt x="18455" y="13047"/>
                </a:cubicBezTo>
                <a:cubicBezTo>
                  <a:pt x="18518" y="13035"/>
                  <a:pt x="18612" y="13076"/>
                  <a:pt x="18628" y="13146"/>
                </a:cubicBezTo>
                <a:cubicBezTo>
                  <a:pt x="18653" y="13256"/>
                  <a:pt x="18567" y="13348"/>
                  <a:pt x="18529" y="13444"/>
                </a:cubicBezTo>
                <a:cubicBezTo>
                  <a:pt x="18502" y="13512"/>
                  <a:pt x="18483" y="13606"/>
                  <a:pt x="18455" y="13667"/>
                </a:cubicBezTo>
                <a:cubicBezTo>
                  <a:pt x="18429" y="13723"/>
                  <a:pt x="18427" y="13735"/>
                  <a:pt x="18455" y="13791"/>
                </a:cubicBezTo>
                <a:cubicBezTo>
                  <a:pt x="18529" y="13717"/>
                  <a:pt x="18604" y="13642"/>
                  <a:pt x="18678" y="13568"/>
                </a:cubicBezTo>
              </a:path>
              <a:path w="11064" h="2308">
                <a:moveTo>
                  <a:pt x="18901" y="13072"/>
                </a:moveTo>
                <a:cubicBezTo>
                  <a:pt x="18871" y="13122"/>
                  <a:pt x="18855" y="13182"/>
                  <a:pt x="18852" y="13246"/>
                </a:cubicBezTo>
                <a:cubicBezTo>
                  <a:pt x="18845" y="13374"/>
                  <a:pt x="18858" y="13497"/>
                  <a:pt x="18876" y="13618"/>
                </a:cubicBezTo>
                <a:cubicBezTo>
                  <a:pt x="18876" y="13634"/>
                  <a:pt x="18876" y="13651"/>
                  <a:pt x="18876" y="13667"/>
                </a:cubicBezTo>
              </a:path>
              <a:path w="11064" h="2308">
                <a:moveTo>
                  <a:pt x="18876" y="12675"/>
                </a:moveTo>
                <a:cubicBezTo>
                  <a:pt x="18799" y="12642"/>
                  <a:pt x="18717" y="12602"/>
                  <a:pt x="18628" y="12626"/>
                </a:cubicBezTo>
                <a:cubicBezTo>
                  <a:pt x="18535" y="12651"/>
                  <a:pt x="18452" y="12712"/>
                  <a:pt x="18380" y="12774"/>
                </a:cubicBezTo>
                <a:cubicBezTo>
                  <a:pt x="18289" y="12853"/>
                  <a:pt x="18202" y="12960"/>
                  <a:pt x="18157" y="13072"/>
                </a:cubicBezTo>
                <a:cubicBezTo>
                  <a:pt x="18113" y="13183"/>
                  <a:pt x="18048" y="13324"/>
                  <a:pt x="18033" y="13444"/>
                </a:cubicBezTo>
                <a:cubicBezTo>
                  <a:pt x="18021" y="13538"/>
                  <a:pt x="18024" y="13662"/>
                  <a:pt x="18083" y="13742"/>
                </a:cubicBezTo>
                <a:cubicBezTo>
                  <a:pt x="18131" y="13807"/>
                  <a:pt x="18188" y="13891"/>
                  <a:pt x="18256" y="13940"/>
                </a:cubicBezTo>
                <a:cubicBezTo>
                  <a:pt x="18338" y="13999"/>
                  <a:pt x="18458" y="14028"/>
                  <a:pt x="18554" y="14039"/>
                </a:cubicBezTo>
                <a:cubicBezTo>
                  <a:pt x="18619" y="14047"/>
                  <a:pt x="18754" y="14013"/>
                  <a:pt x="18802" y="13965"/>
                </a:cubicBezTo>
                <a:cubicBezTo>
                  <a:pt x="18879" y="13888"/>
                  <a:pt x="18922" y="13795"/>
                  <a:pt x="18951" y="13692"/>
                </a:cubicBezTo>
                <a:cubicBezTo>
                  <a:pt x="18994" y="13539"/>
                  <a:pt x="19034" y="13379"/>
                  <a:pt x="19050" y="13221"/>
                </a:cubicBezTo>
                <a:cubicBezTo>
                  <a:pt x="19059" y="13133"/>
                  <a:pt x="19064" y="12954"/>
                  <a:pt x="19025" y="12874"/>
                </a:cubicBezTo>
                <a:cubicBezTo>
                  <a:pt x="18985" y="12793"/>
                  <a:pt x="18940" y="12779"/>
                  <a:pt x="18876" y="12750"/>
                </a:cubicBezTo>
                <a:cubicBezTo>
                  <a:pt x="18854" y="12727"/>
                  <a:pt x="18849" y="12719"/>
                  <a:pt x="18827" y="12725"/>
                </a:cubicBezTo>
              </a:path>
              <a:path w="11064" h="2308">
                <a:moveTo>
                  <a:pt x="19844" y="12551"/>
                </a:moveTo>
                <a:cubicBezTo>
                  <a:pt x="19844" y="12568"/>
                  <a:pt x="19844" y="12584"/>
                  <a:pt x="19844" y="12601"/>
                </a:cubicBezTo>
                <a:cubicBezTo>
                  <a:pt x="19835" y="12529"/>
                  <a:pt x="19815" y="12485"/>
                  <a:pt x="19769" y="12427"/>
                </a:cubicBezTo>
                <a:cubicBezTo>
                  <a:pt x="19706" y="12464"/>
                  <a:pt x="19658" y="12488"/>
                  <a:pt x="19621" y="12551"/>
                </a:cubicBezTo>
                <a:cubicBezTo>
                  <a:pt x="19569" y="12641"/>
                  <a:pt x="19538" y="12748"/>
                  <a:pt x="19521" y="12849"/>
                </a:cubicBezTo>
                <a:cubicBezTo>
                  <a:pt x="19500" y="12972"/>
                  <a:pt x="19488" y="13231"/>
                  <a:pt x="19546" y="13345"/>
                </a:cubicBezTo>
                <a:cubicBezTo>
                  <a:pt x="19554" y="13353"/>
                  <a:pt x="19563" y="13362"/>
                  <a:pt x="19571" y="13370"/>
                </a:cubicBezTo>
              </a:path>
              <a:path w="11064" h="2308">
                <a:moveTo>
                  <a:pt x="19323" y="13047"/>
                </a:moveTo>
                <a:cubicBezTo>
                  <a:pt x="19385" y="13038"/>
                  <a:pt x="19438" y="13009"/>
                  <a:pt x="19496" y="12973"/>
                </a:cubicBezTo>
                <a:cubicBezTo>
                  <a:pt x="19571" y="12923"/>
                  <a:pt x="19595" y="12907"/>
                  <a:pt x="19645" y="12874"/>
                </a:cubicBezTo>
              </a:path>
              <a:path w="11064" h="2308">
                <a:moveTo>
                  <a:pt x="20365" y="12154"/>
                </a:moveTo>
                <a:cubicBezTo>
                  <a:pt x="20324" y="12195"/>
                  <a:pt x="20266" y="12254"/>
                  <a:pt x="20241" y="12303"/>
                </a:cubicBezTo>
                <a:cubicBezTo>
                  <a:pt x="20179" y="12422"/>
                  <a:pt x="20110" y="12533"/>
                  <a:pt x="20042" y="12650"/>
                </a:cubicBezTo>
                <a:cubicBezTo>
                  <a:pt x="19965" y="12783"/>
                  <a:pt x="19904" y="12931"/>
                  <a:pt x="19844" y="13072"/>
                </a:cubicBezTo>
                <a:cubicBezTo>
                  <a:pt x="19783" y="13214"/>
                  <a:pt x="19741" y="13347"/>
                  <a:pt x="19695" y="13494"/>
                </a:cubicBezTo>
                <a:cubicBezTo>
                  <a:pt x="19671" y="13572"/>
                  <a:pt x="19658" y="13581"/>
                  <a:pt x="19695" y="13643"/>
                </a:cubicBezTo>
              </a:path>
              <a:path w="11064" h="2308">
                <a:moveTo>
                  <a:pt x="20290" y="12923"/>
                </a:moveTo>
                <a:cubicBezTo>
                  <a:pt x="20254" y="12860"/>
                  <a:pt x="20235" y="12820"/>
                  <a:pt x="20166" y="12874"/>
                </a:cubicBezTo>
                <a:cubicBezTo>
                  <a:pt x="20102" y="12924"/>
                  <a:pt x="20077" y="13002"/>
                  <a:pt x="20042" y="13072"/>
                </a:cubicBezTo>
                <a:cubicBezTo>
                  <a:pt x="20004" y="13148"/>
                  <a:pt x="20014" y="13196"/>
                  <a:pt x="20042" y="13271"/>
                </a:cubicBezTo>
                <a:cubicBezTo>
                  <a:pt x="20114" y="13262"/>
                  <a:pt x="20140" y="13247"/>
                  <a:pt x="20191" y="13196"/>
                </a:cubicBezTo>
                <a:cubicBezTo>
                  <a:pt x="20233" y="13154"/>
                  <a:pt x="20223" y="13099"/>
                  <a:pt x="20241" y="13047"/>
                </a:cubicBezTo>
                <a:cubicBezTo>
                  <a:pt x="20265" y="12998"/>
                  <a:pt x="20273" y="12981"/>
                  <a:pt x="20241" y="12948"/>
                </a:cubicBezTo>
                <a:cubicBezTo>
                  <a:pt x="20241" y="13061"/>
                  <a:pt x="20228" y="13162"/>
                  <a:pt x="20216" y="13271"/>
                </a:cubicBezTo>
                <a:cubicBezTo>
                  <a:pt x="20202" y="13397"/>
                  <a:pt x="20173" y="13498"/>
                  <a:pt x="20141" y="13618"/>
                </a:cubicBezTo>
                <a:cubicBezTo>
                  <a:pt x="20098" y="13782"/>
                  <a:pt x="20046" y="13949"/>
                  <a:pt x="19943" y="14089"/>
                </a:cubicBezTo>
                <a:cubicBezTo>
                  <a:pt x="19926" y="14106"/>
                  <a:pt x="19910" y="14122"/>
                  <a:pt x="19893" y="14139"/>
                </a:cubicBezTo>
              </a:path>
              <a:path w="11064" h="2308">
                <a:moveTo>
                  <a:pt x="19447" y="12477"/>
                </a:moveTo>
                <a:cubicBezTo>
                  <a:pt x="19416" y="12559"/>
                  <a:pt x="19413" y="12638"/>
                  <a:pt x="19397" y="12725"/>
                </a:cubicBezTo>
                <a:cubicBezTo>
                  <a:pt x="19368" y="12878"/>
                  <a:pt x="19328" y="13015"/>
                  <a:pt x="19323" y="13171"/>
                </a:cubicBezTo>
                <a:cubicBezTo>
                  <a:pt x="19320" y="13265"/>
                  <a:pt x="19343" y="13359"/>
                  <a:pt x="19422" y="13419"/>
                </a:cubicBezTo>
                <a:cubicBezTo>
                  <a:pt x="19499" y="13477"/>
                  <a:pt x="19579" y="13469"/>
                  <a:pt x="19670" y="13469"/>
                </a:cubicBezTo>
              </a:path>
              <a:path w="11064" h="2308">
                <a:moveTo>
                  <a:pt x="20563" y="12254"/>
                </a:moveTo>
                <a:cubicBezTo>
                  <a:pt x="20537" y="12317"/>
                  <a:pt x="20578" y="12354"/>
                  <a:pt x="20588" y="12427"/>
                </a:cubicBezTo>
                <a:cubicBezTo>
                  <a:pt x="20601" y="12528"/>
                  <a:pt x="20613" y="12621"/>
                  <a:pt x="20613" y="12725"/>
                </a:cubicBezTo>
                <a:cubicBezTo>
                  <a:pt x="20613" y="12925"/>
                  <a:pt x="20524" y="13065"/>
                  <a:pt x="20464" y="13246"/>
                </a:cubicBezTo>
                <a:cubicBezTo>
                  <a:pt x="20431" y="13346"/>
                  <a:pt x="20396" y="13442"/>
                  <a:pt x="20365" y="13543"/>
                </a:cubicBezTo>
              </a:path>
              <a:path w="11064" h="2308">
                <a:moveTo>
                  <a:pt x="20985" y="12303"/>
                </a:moveTo>
                <a:cubicBezTo>
                  <a:pt x="20966" y="12408"/>
                  <a:pt x="20912" y="12496"/>
                  <a:pt x="20861" y="12601"/>
                </a:cubicBezTo>
                <a:cubicBezTo>
                  <a:pt x="20803" y="12721"/>
                  <a:pt x="20757" y="12847"/>
                  <a:pt x="20712" y="12973"/>
                </a:cubicBezTo>
                <a:cubicBezTo>
                  <a:pt x="20682" y="13056"/>
                  <a:pt x="20673" y="13124"/>
                  <a:pt x="20712" y="13196"/>
                </a:cubicBezTo>
                <a:cubicBezTo>
                  <a:pt x="20752" y="13272"/>
                  <a:pt x="20792" y="13294"/>
                  <a:pt x="20886" y="13271"/>
                </a:cubicBezTo>
                <a:cubicBezTo>
                  <a:pt x="20940" y="13244"/>
                  <a:pt x="20960" y="13232"/>
                  <a:pt x="20985" y="13196"/>
                </a:cubicBezTo>
              </a:path>
              <a:path w="11064" h="2308">
                <a:moveTo>
                  <a:pt x="20985" y="12799"/>
                </a:moveTo>
                <a:cubicBezTo>
                  <a:pt x="21045" y="12751"/>
                  <a:pt x="21109" y="12726"/>
                  <a:pt x="21183" y="12700"/>
                </a:cubicBezTo>
                <a:cubicBezTo>
                  <a:pt x="21255" y="12676"/>
                  <a:pt x="21278" y="12670"/>
                  <a:pt x="21307" y="12626"/>
                </a:cubicBezTo>
              </a:path>
              <a:path w="11064" h="2308">
                <a:moveTo>
                  <a:pt x="21779" y="12278"/>
                </a:moveTo>
                <a:cubicBezTo>
                  <a:pt x="21732" y="12337"/>
                  <a:pt x="21710" y="12384"/>
                  <a:pt x="21679" y="12452"/>
                </a:cubicBezTo>
                <a:cubicBezTo>
                  <a:pt x="21639" y="12540"/>
                  <a:pt x="21615" y="12631"/>
                  <a:pt x="21580" y="12725"/>
                </a:cubicBezTo>
                <a:cubicBezTo>
                  <a:pt x="21555" y="12792"/>
                  <a:pt x="21532" y="12925"/>
                  <a:pt x="21555" y="12998"/>
                </a:cubicBezTo>
                <a:cubicBezTo>
                  <a:pt x="21580" y="13076"/>
                  <a:pt x="21662" y="13027"/>
                  <a:pt x="21704" y="12998"/>
                </a:cubicBezTo>
                <a:cubicBezTo>
                  <a:pt x="21729" y="12973"/>
                  <a:pt x="21737" y="12965"/>
                  <a:pt x="21754" y="12948"/>
                </a:cubicBezTo>
              </a:path>
              <a:path w="11064" h="2308">
                <a:moveTo>
                  <a:pt x="21357" y="12700"/>
                </a:moveTo>
                <a:cubicBezTo>
                  <a:pt x="21441" y="12646"/>
                  <a:pt x="21515" y="12615"/>
                  <a:pt x="21605" y="12576"/>
                </a:cubicBezTo>
                <a:cubicBezTo>
                  <a:pt x="21680" y="12544"/>
                  <a:pt x="21736" y="12494"/>
                  <a:pt x="21803" y="12452"/>
                </a:cubicBezTo>
              </a:path>
              <a:path w="11064" h="2308">
                <a:moveTo>
                  <a:pt x="22027" y="12055"/>
                </a:moveTo>
                <a:cubicBezTo>
                  <a:pt x="22067" y="12109"/>
                  <a:pt x="22110" y="12183"/>
                  <a:pt x="22126" y="12254"/>
                </a:cubicBezTo>
                <a:cubicBezTo>
                  <a:pt x="22149" y="12358"/>
                  <a:pt x="22137" y="12424"/>
                  <a:pt x="22126" y="12526"/>
                </a:cubicBezTo>
                <a:cubicBezTo>
                  <a:pt x="22111" y="12661"/>
                  <a:pt x="22039" y="12753"/>
                  <a:pt x="21977" y="12874"/>
                </a:cubicBezTo>
                <a:cubicBezTo>
                  <a:pt x="21960" y="12907"/>
                  <a:pt x="21944" y="12940"/>
                  <a:pt x="21927" y="129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30"/>
          <p:cNvSpPr/>
          <p:nvPr/>
        </p:nvSpPr>
        <p:spPr>
          <a:xfrm>
            <a:off x="4276800" y="5143680"/>
            <a:ext cx="590400" cy="482400"/>
          </a:xfrm>
          <a:custGeom>
            <a:avLst/>
            <a:gdLst/>
            <a:ahLst/>
            <a:rect l="l" t="t" r="r" b="b"/>
            <a:pathLst>
              <a:path w="1639" h="1340">
                <a:moveTo>
                  <a:pt x="11956" y="14635"/>
                </a:moveTo>
                <a:cubicBezTo>
                  <a:pt x="11924" y="14687"/>
                  <a:pt x="11931" y="14754"/>
                  <a:pt x="11906" y="14808"/>
                </a:cubicBezTo>
                <a:cubicBezTo>
                  <a:pt x="11892" y="14839"/>
                  <a:pt x="11843" y="14933"/>
                  <a:pt x="11906" y="14957"/>
                </a:cubicBezTo>
                <a:cubicBezTo>
                  <a:pt x="11960" y="14977"/>
                  <a:pt x="12072" y="14979"/>
                  <a:pt x="12129" y="14982"/>
                </a:cubicBezTo>
                <a:cubicBezTo>
                  <a:pt x="12170" y="14984"/>
                  <a:pt x="12212" y="14982"/>
                  <a:pt x="12254" y="14982"/>
                </a:cubicBezTo>
              </a:path>
              <a:path w="1639" h="1340">
                <a:moveTo>
                  <a:pt x="12278" y="14660"/>
                </a:moveTo>
                <a:cubicBezTo>
                  <a:pt x="12278" y="14739"/>
                  <a:pt x="12257" y="14806"/>
                  <a:pt x="12254" y="14883"/>
                </a:cubicBezTo>
                <a:cubicBezTo>
                  <a:pt x="12250" y="14976"/>
                  <a:pt x="12246" y="15088"/>
                  <a:pt x="12229" y="15180"/>
                </a:cubicBezTo>
                <a:cubicBezTo>
                  <a:pt x="12212" y="15272"/>
                  <a:pt x="12182" y="15381"/>
                  <a:pt x="12204" y="15478"/>
                </a:cubicBezTo>
                <a:cubicBezTo>
                  <a:pt x="12216" y="15529"/>
                  <a:pt x="12236" y="15578"/>
                  <a:pt x="12254" y="15627"/>
                </a:cubicBezTo>
              </a:path>
              <a:path w="1639" h="1340">
                <a:moveTo>
                  <a:pt x="12601" y="14585"/>
                </a:moveTo>
                <a:cubicBezTo>
                  <a:pt x="12583" y="14691"/>
                  <a:pt x="12563" y="14803"/>
                  <a:pt x="12551" y="14908"/>
                </a:cubicBezTo>
                <a:cubicBezTo>
                  <a:pt x="12540" y="15000"/>
                  <a:pt x="12526" y="15085"/>
                  <a:pt x="12526" y="15180"/>
                </a:cubicBezTo>
                <a:cubicBezTo>
                  <a:pt x="12526" y="15250"/>
                  <a:pt x="12534" y="15314"/>
                  <a:pt x="12551" y="15379"/>
                </a:cubicBezTo>
                <a:cubicBezTo>
                  <a:pt x="12566" y="15436"/>
                  <a:pt x="12570" y="15482"/>
                  <a:pt x="12601" y="15503"/>
                </a:cubicBezTo>
              </a:path>
              <a:path w="1639" h="1340">
                <a:moveTo>
                  <a:pt x="12427" y="15180"/>
                </a:moveTo>
                <a:cubicBezTo>
                  <a:pt x="12508" y="15180"/>
                  <a:pt x="12571" y="15163"/>
                  <a:pt x="12650" y="15156"/>
                </a:cubicBezTo>
              </a:path>
              <a:path w="1639" h="1340">
                <a:moveTo>
                  <a:pt x="12824" y="14412"/>
                </a:moveTo>
                <a:cubicBezTo>
                  <a:pt x="12866" y="14370"/>
                  <a:pt x="12895" y="14339"/>
                  <a:pt x="12948" y="14312"/>
                </a:cubicBezTo>
                <a:cubicBezTo>
                  <a:pt x="13025" y="14272"/>
                  <a:pt x="13067" y="14273"/>
                  <a:pt x="13072" y="14362"/>
                </a:cubicBezTo>
                <a:cubicBezTo>
                  <a:pt x="13075" y="14420"/>
                  <a:pt x="13035" y="14491"/>
                  <a:pt x="12998" y="14536"/>
                </a:cubicBezTo>
                <a:cubicBezTo>
                  <a:pt x="12990" y="14544"/>
                  <a:pt x="12981" y="14552"/>
                  <a:pt x="12973" y="14560"/>
                </a:cubicBezTo>
                <a:cubicBezTo>
                  <a:pt x="13036" y="14551"/>
                  <a:pt x="13076" y="14536"/>
                  <a:pt x="13146" y="14536"/>
                </a:cubicBezTo>
              </a:path>
              <a:path w="1639" h="1340">
                <a:moveTo>
                  <a:pt x="13444" y="14585"/>
                </a:moveTo>
                <a:cubicBezTo>
                  <a:pt x="13425" y="14662"/>
                  <a:pt x="13399" y="14734"/>
                  <a:pt x="13395" y="14808"/>
                </a:cubicBezTo>
                <a:cubicBezTo>
                  <a:pt x="13388" y="14923"/>
                  <a:pt x="13395" y="15041"/>
                  <a:pt x="13395" y="15156"/>
                </a:cubicBezTo>
              </a:path>
              <a:path w="1639" h="1340">
                <a:moveTo>
                  <a:pt x="13196" y="14908"/>
                </a:moveTo>
                <a:cubicBezTo>
                  <a:pt x="13251" y="14875"/>
                  <a:pt x="13302" y="14883"/>
                  <a:pt x="13370" y="14883"/>
                </a:cubicBezTo>
                <a:cubicBezTo>
                  <a:pt x="13423" y="14883"/>
                  <a:pt x="13468" y="14899"/>
                  <a:pt x="13519" y="149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31"/>
          <p:cNvSpPr/>
          <p:nvPr/>
        </p:nvSpPr>
        <p:spPr>
          <a:xfrm>
            <a:off x="5000760" y="5170320"/>
            <a:ext cx="27000" cy="322560"/>
          </a:xfrm>
          <a:custGeom>
            <a:avLst/>
            <a:gdLst/>
            <a:ahLst/>
            <a:rect l="l" t="t" r="r" b="b"/>
            <a:pathLst>
              <a:path w="75" h="894">
                <a:moveTo>
                  <a:pt x="13891" y="14362"/>
                </a:moveTo>
                <a:cubicBezTo>
                  <a:pt x="13891" y="14591"/>
                  <a:pt x="13805" y="15064"/>
                  <a:pt x="13915" y="15255"/>
                </a:cubicBezTo>
                <a:cubicBezTo>
                  <a:pt x="13950" y="15220"/>
                  <a:pt x="13963" y="15198"/>
                  <a:pt x="1396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nk 32"/>
          <p:cNvSpPr/>
          <p:nvPr/>
        </p:nvSpPr>
        <p:spPr>
          <a:xfrm>
            <a:off x="5143680" y="5037120"/>
            <a:ext cx="884160" cy="446040"/>
          </a:xfrm>
          <a:custGeom>
            <a:avLst/>
            <a:gdLst/>
            <a:ahLst/>
            <a:rect l="l" t="t" r="r" b="b"/>
            <a:pathLst>
              <a:path w="2456" h="1241">
                <a:moveTo>
                  <a:pt x="14288" y="14759"/>
                </a:moveTo>
                <a:cubicBezTo>
                  <a:pt x="14365" y="14759"/>
                  <a:pt x="14418" y="14737"/>
                  <a:pt x="14486" y="14734"/>
                </a:cubicBezTo>
                <a:cubicBezTo>
                  <a:pt x="14584" y="14730"/>
                  <a:pt x="14582" y="14748"/>
                  <a:pt x="14660" y="14759"/>
                </a:cubicBezTo>
              </a:path>
              <a:path w="2456" h="1241">
                <a:moveTo>
                  <a:pt x="14734" y="14412"/>
                </a:moveTo>
                <a:cubicBezTo>
                  <a:pt x="14745" y="14334"/>
                  <a:pt x="14753" y="14313"/>
                  <a:pt x="14808" y="14263"/>
                </a:cubicBezTo>
                <a:cubicBezTo>
                  <a:pt x="14856" y="14219"/>
                  <a:pt x="14932" y="14227"/>
                  <a:pt x="14982" y="14263"/>
                </a:cubicBezTo>
                <a:cubicBezTo>
                  <a:pt x="15053" y="14315"/>
                  <a:pt x="15030" y="14370"/>
                  <a:pt x="15007" y="14436"/>
                </a:cubicBezTo>
                <a:cubicBezTo>
                  <a:pt x="14980" y="14513"/>
                  <a:pt x="14964" y="14588"/>
                  <a:pt x="14932" y="14660"/>
                </a:cubicBezTo>
                <a:cubicBezTo>
                  <a:pt x="14901" y="14730"/>
                  <a:pt x="14887" y="14820"/>
                  <a:pt x="14858" y="14883"/>
                </a:cubicBezTo>
                <a:cubicBezTo>
                  <a:pt x="14831" y="14941"/>
                  <a:pt x="14774" y="15014"/>
                  <a:pt x="14759" y="15081"/>
                </a:cubicBezTo>
                <a:cubicBezTo>
                  <a:pt x="14749" y="15124"/>
                  <a:pt x="14752" y="15214"/>
                  <a:pt x="14808" y="15230"/>
                </a:cubicBezTo>
                <a:cubicBezTo>
                  <a:pt x="14857" y="15244"/>
                  <a:pt x="14966" y="15200"/>
                  <a:pt x="15007" y="15180"/>
                </a:cubicBezTo>
                <a:cubicBezTo>
                  <a:pt x="15035" y="15153"/>
                  <a:pt x="15049" y="15145"/>
                  <a:pt x="15081" y="15156"/>
                </a:cubicBezTo>
              </a:path>
              <a:path w="2456" h="1241">
                <a:moveTo>
                  <a:pt x="15453" y="14511"/>
                </a:moveTo>
                <a:cubicBezTo>
                  <a:pt x="15437" y="14511"/>
                  <a:pt x="15420" y="14511"/>
                  <a:pt x="15404" y="14511"/>
                </a:cubicBezTo>
                <a:cubicBezTo>
                  <a:pt x="15395" y="14573"/>
                  <a:pt x="15372" y="14646"/>
                  <a:pt x="15354" y="14709"/>
                </a:cubicBezTo>
                <a:cubicBezTo>
                  <a:pt x="15334" y="14777"/>
                  <a:pt x="15309" y="14856"/>
                  <a:pt x="15329" y="14932"/>
                </a:cubicBezTo>
                <a:cubicBezTo>
                  <a:pt x="15356" y="15036"/>
                  <a:pt x="15390" y="15040"/>
                  <a:pt x="15478" y="15007"/>
                </a:cubicBezTo>
              </a:path>
              <a:path w="2456" h="1241">
                <a:moveTo>
                  <a:pt x="15156" y="14660"/>
                </a:moveTo>
                <a:cubicBezTo>
                  <a:pt x="15227" y="14651"/>
                  <a:pt x="15304" y="14615"/>
                  <a:pt x="15379" y="14635"/>
                </a:cubicBezTo>
                <a:cubicBezTo>
                  <a:pt x="15423" y="14657"/>
                  <a:pt x="15434" y="14670"/>
                  <a:pt x="15453" y="14635"/>
                </a:cubicBezTo>
              </a:path>
              <a:path w="2456" h="1241">
                <a:moveTo>
                  <a:pt x="16098" y="14188"/>
                </a:moveTo>
                <a:cubicBezTo>
                  <a:pt x="16068" y="14277"/>
                  <a:pt x="16038" y="14372"/>
                  <a:pt x="16024" y="14461"/>
                </a:cubicBezTo>
                <a:cubicBezTo>
                  <a:pt x="16013" y="14533"/>
                  <a:pt x="16002" y="14613"/>
                  <a:pt x="15999" y="14684"/>
                </a:cubicBezTo>
                <a:cubicBezTo>
                  <a:pt x="15995" y="14765"/>
                  <a:pt x="15974" y="14826"/>
                  <a:pt x="15974" y="14908"/>
                </a:cubicBezTo>
                <a:cubicBezTo>
                  <a:pt x="15974" y="14962"/>
                  <a:pt x="15956" y="15003"/>
                  <a:pt x="15949" y="15056"/>
                </a:cubicBezTo>
              </a:path>
              <a:path w="2456" h="1241">
                <a:moveTo>
                  <a:pt x="15726" y="14585"/>
                </a:moveTo>
                <a:cubicBezTo>
                  <a:pt x="15775" y="14556"/>
                  <a:pt x="15863" y="14545"/>
                  <a:pt x="15925" y="14536"/>
                </a:cubicBezTo>
                <a:cubicBezTo>
                  <a:pt x="15984" y="14528"/>
                  <a:pt x="16036" y="14560"/>
                  <a:pt x="16098" y="14560"/>
                </a:cubicBezTo>
              </a:path>
              <a:path w="2456" h="1241">
                <a:moveTo>
                  <a:pt x="16446" y="14139"/>
                </a:moveTo>
                <a:cubicBezTo>
                  <a:pt x="16438" y="14201"/>
                  <a:pt x="16415" y="14257"/>
                  <a:pt x="16396" y="14312"/>
                </a:cubicBezTo>
                <a:cubicBezTo>
                  <a:pt x="16376" y="14370"/>
                  <a:pt x="16331" y="14434"/>
                  <a:pt x="16321" y="14486"/>
                </a:cubicBezTo>
                <a:cubicBezTo>
                  <a:pt x="16321" y="14503"/>
                  <a:pt x="16321" y="14519"/>
                  <a:pt x="16321" y="14536"/>
                </a:cubicBezTo>
                <a:cubicBezTo>
                  <a:pt x="16385" y="14527"/>
                  <a:pt x="16424" y="14511"/>
                  <a:pt x="16495" y="14511"/>
                </a:cubicBezTo>
                <a:cubicBezTo>
                  <a:pt x="16553" y="14511"/>
                  <a:pt x="16611" y="14511"/>
                  <a:pt x="16669" y="14511"/>
                </a:cubicBezTo>
              </a:path>
              <a:path w="2456" h="1241">
                <a:moveTo>
                  <a:pt x="16743" y="13990"/>
                </a:moveTo>
                <a:cubicBezTo>
                  <a:pt x="16719" y="14062"/>
                  <a:pt x="16698" y="14137"/>
                  <a:pt x="16694" y="14213"/>
                </a:cubicBezTo>
                <a:cubicBezTo>
                  <a:pt x="16689" y="14299"/>
                  <a:pt x="16654" y="14381"/>
                  <a:pt x="16644" y="14461"/>
                </a:cubicBezTo>
                <a:cubicBezTo>
                  <a:pt x="16630" y="14576"/>
                  <a:pt x="16619" y="14692"/>
                  <a:pt x="16619" y="14808"/>
                </a:cubicBezTo>
                <a:cubicBezTo>
                  <a:pt x="16619" y="14891"/>
                  <a:pt x="16630" y="14963"/>
                  <a:pt x="16644" y="15032"/>
                </a:cubicBezTo>
                <a:cubicBezTo>
                  <a:pt x="16666" y="15142"/>
                  <a:pt x="16623" y="15033"/>
                  <a:pt x="16619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nk 33"/>
          <p:cNvSpPr/>
          <p:nvPr/>
        </p:nvSpPr>
        <p:spPr>
          <a:xfrm>
            <a:off x="4295880" y="5429160"/>
            <a:ext cx="1589040" cy="706680"/>
          </a:xfrm>
          <a:custGeom>
            <a:avLst/>
            <a:gdLst/>
            <a:ahLst/>
            <a:rect l="l" t="t" r="r" b="b"/>
            <a:pathLst>
              <a:path w="4416" h="1961">
                <a:moveTo>
                  <a:pt x="12378" y="15974"/>
                </a:moveTo>
                <a:cubicBezTo>
                  <a:pt x="12331" y="16021"/>
                  <a:pt x="12292" y="16081"/>
                  <a:pt x="12278" y="16148"/>
                </a:cubicBezTo>
                <a:cubicBezTo>
                  <a:pt x="12278" y="16197"/>
                  <a:pt x="12278" y="16214"/>
                  <a:pt x="12278" y="16247"/>
                </a:cubicBezTo>
                <a:cubicBezTo>
                  <a:pt x="12353" y="16256"/>
                  <a:pt x="12422" y="16288"/>
                  <a:pt x="12502" y="16272"/>
                </a:cubicBezTo>
                <a:cubicBezTo>
                  <a:pt x="12527" y="16264"/>
                  <a:pt x="12551" y="16255"/>
                  <a:pt x="12576" y="16247"/>
                </a:cubicBezTo>
              </a:path>
              <a:path w="4416" h="1961">
                <a:moveTo>
                  <a:pt x="12700" y="15974"/>
                </a:moveTo>
                <a:cubicBezTo>
                  <a:pt x="12674" y="16069"/>
                  <a:pt x="12660" y="16174"/>
                  <a:pt x="12650" y="16272"/>
                </a:cubicBezTo>
                <a:cubicBezTo>
                  <a:pt x="12634" y="16435"/>
                  <a:pt x="12606" y="16633"/>
                  <a:pt x="12626" y="16793"/>
                </a:cubicBezTo>
                <a:cubicBezTo>
                  <a:pt x="12646" y="16833"/>
                  <a:pt x="12654" y="16840"/>
                  <a:pt x="12650" y="16867"/>
                </a:cubicBezTo>
              </a:path>
              <a:path w="4416" h="1961">
                <a:moveTo>
                  <a:pt x="12998" y="15875"/>
                </a:moveTo>
                <a:cubicBezTo>
                  <a:pt x="12976" y="15954"/>
                  <a:pt x="12958" y="16045"/>
                  <a:pt x="12948" y="16123"/>
                </a:cubicBezTo>
                <a:cubicBezTo>
                  <a:pt x="12933" y="16239"/>
                  <a:pt x="12953" y="16370"/>
                  <a:pt x="12973" y="16470"/>
                </a:cubicBezTo>
                <a:cubicBezTo>
                  <a:pt x="12984" y="16523"/>
                  <a:pt x="12992" y="16589"/>
                  <a:pt x="13072" y="16570"/>
                </a:cubicBezTo>
                <a:cubicBezTo>
                  <a:pt x="13116" y="16560"/>
                  <a:pt x="13141" y="16525"/>
                  <a:pt x="13171" y="16495"/>
                </a:cubicBezTo>
              </a:path>
              <a:path w="4416" h="1961">
                <a:moveTo>
                  <a:pt x="12898" y="16197"/>
                </a:moveTo>
                <a:cubicBezTo>
                  <a:pt x="12958" y="16189"/>
                  <a:pt x="12994" y="16164"/>
                  <a:pt x="13047" y="16148"/>
                </a:cubicBezTo>
                <a:cubicBezTo>
                  <a:pt x="13055" y="16148"/>
                  <a:pt x="13064" y="16148"/>
                  <a:pt x="13072" y="16148"/>
                </a:cubicBezTo>
              </a:path>
              <a:path w="4416" h="1961">
                <a:moveTo>
                  <a:pt x="13246" y="15726"/>
                </a:moveTo>
                <a:cubicBezTo>
                  <a:pt x="13255" y="15662"/>
                  <a:pt x="13285" y="15608"/>
                  <a:pt x="13370" y="15627"/>
                </a:cubicBezTo>
                <a:cubicBezTo>
                  <a:pt x="13480" y="15652"/>
                  <a:pt x="13427" y="15743"/>
                  <a:pt x="13419" y="15801"/>
                </a:cubicBezTo>
                <a:cubicBezTo>
                  <a:pt x="13409" y="15869"/>
                  <a:pt x="13404" y="15887"/>
                  <a:pt x="13395" y="15949"/>
                </a:cubicBezTo>
                <a:cubicBezTo>
                  <a:pt x="13464" y="15939"/>
                  <a:pt x="13473" y="15935"/>
                  <a:pt x="13543" y="15949"/>
                </a:cubicBezTo>
              </a:path>
              <a:path w="4416" h="1961">
                <a:moveTo>
                  <a:pt x="13717" y="16222"/>
                </a:moveTo>
                <a:cubicBezTo>
                  <a:pt x="13776" y="16186"/>
                  <a:pt x="13841" y="16176"/>
                  <a:pt x="13915" y="16173"/>
                </a:cubicBezTo>
                <a:cubicBezTo>
                  <a:pt x="13932" y="16173"/>
                  <a:pt x="13948" y="16173"/>
                  <a:pt x="13965" y="16173"/>
                </a:cubicBezTo>
              </a:path>
              <a:path w="4416" h="1961">
                <a:moveTo>
                  <a:pt x="14089" y="15726"/>
                </a:moveTo>
                <a:cubicBezTo>
                  <a:pt x="14143" y="15662"/>
                  <a:pt x="14168" y="15663"/>
                  <a:pt x="14238" y="15726"/>
                </a:cubicBezTo>
                <a:cubicBezTo>
                  <a:pt x="14276" y="15760"/>
                  <a:pt x="14304" y="15806"/>
                  <a:pt x="14312" y="15850"/>
                </a:cubicBezTo>
                <a:cubicBezTo>
                  <a:pt x="14325" y="15920"/>
                  <a:pt x="14307" y="16032"/>
                  <a:pt x="14288" y="16098"/>
                </a:cubicBezTo>
                <a:cubicBezTo>
                  <a:pt x="14264" y="16181"/>
                  <a:pt x="14239" y="16261"/>
                  <a:pt x="14213" y="16346"/>
                </a:cubicBezTo>
                <a:cubicBezTo>
                  <a:pt x="14195" y="16404"/>
                  <a:pt x="14157" y="16527"/>
                  <a:pt x="14188" y="16570"/>
                </a:cubicBezTo>
                <a:cubicBezTo>
                  <a:pt x="14231" y="16630"/>
                  <a:pt x="14298" y="16581"/>
                  <a:pt x="14337" y="16545"/>
                </a:cubicBezTo>
                <a:cubicBezTo>
                  <a:pt x="14354" y="16528"/>
                  <a:pt x="14370" y="16512"/>
                  <a:pt x="14387" y="16495"/>
                </a:cubicBezTo>
              </a:path>
              <a:path w="4416" h="1961">
                <a:moveTo>
                  <a:pt x="14709" y="15776"/>
                </a:moveTo>
                <a:cubicBezTo>
                  <a:pt x="14670" y="15840"/>
                  <a:pt x="14678" y="15923"/>
                  <a:pt x="14660" y="15999"/>
                </a:cubicBezTo>
                <a:cubicBezTo>
                  <a:pt x="14635" y="16102"/>
                  <a:pt x="14644" y="16126"/>
                  <a:pt x="14660" y="16222"/>
                </a:cubicBezTo>
                <a:cubicBezTo>
                  <a:pt x="14673" y="16298"/>
                  <a:pt x="14652" y="16314"/>
                  <a:pt x="14709" y="16371"/>
                </a:cubicBezTo>
                <a:cubicBezTo>
                  <a:pt x="14770" y="16432"/>
                  <a:pt x="14756" y="16434"/>
                  <a:pt x="14833" y="16421"/>
                </a:cubicBezTo>
                <a:cubicBezTo>
                  <a:pt x="14841" y="16421"/>
                  <a:pt x="14850" y="16421"/>
                  <a:pt x="14858" y="16421"/>
                </a:cubicBezTo>
              </a:path>
              <a:path w="4416" h="1961">
                <a:moveTo>
                  <a:pt x="14486" y="16024"/>
                </a:moveTo>
                <a:cubicBezTo>
                  <a:pt x="14585" y="16024"/>
                  <a:pt x="14642" y="16008"/>
                  <a:pt x="14734" y="15974"/>
                </a:cubicBezTo>
              </a:path>
              <a:path w="4416" h="1961">
                <a:moveTo>
                  <a:pt x="15304" y="15925"/>
                </a:moveTo>
                <a:cubicBezTo>
                  <a:pt x="15328" y="16041"/>
                  <a:pt x="15329" y="16152"/>
                  <a:pt x="15329" y="16272"/>
                </a:cubicBezTo>
                <a:cubicBezTo>
                  <a:pt x="15329" y="16316"/>
                  <a:pt x="15326" y="16330"/>
                  <a:pt x="15354" y="16346"/>
                </a:cubicBezTo>
              </a:path>
              <a:path w="4416" h="1961">
                <a:moveTo>
                  <a:pt x="15156" y="16024"/>
                </a:moveTo>
                <a:cubicBezTo>
                  <a:pt x="15233" y="16014"/>
                  <a:pt x="15304" y="15990"/>
                  <a:pt x="15379" y="15974"/>
                </a:cubicBezTo>
                <a:cubicBezTo>
                  <a:pt x="15387" y="15974"/>
                  <a:pt x="15396" y="15974"/>
                  <a:pt x="15404" y="15974"/>
                </a:cubicBezTo>
              </a:path>
              <a:path w="4416" h="1961">
                <a:moveTo>
                  <a:pt x="15801" y="15577"/>
                </a:moveTo>
                <a:cubicBezTo>
                  <a:pt x="15860" y="15518"/>
                  <a:pt x="15886" y="15512"/>
                  <a:pt x="15949" y="15478"/>
                </a:cubicBezTo>
                <a:cubicBezTo>
                  <a:pt x="15966" y="15470"/>
                  <a:pt x="15982" y="15461"/>
                  <a:pt x="15999" y="15453"/>
                </a:cubicBezTo>
              </a:path>
              <a:path w="4416" h="1961">
                <a:moveTo>
                  <a:pt x="15776" y="15453"/>
                </a:moveTo>
                <a:cubicBezTo>
                  <a:pt x="15739" y="15528"/>
                  <a:pt x="15728" y="15583"/>
                  <a:pt x="15701" y="15652"/>
                </a:cubicBezTo>
                <a:cubicBezTo>
                  <a:pt x="15672" y="15726"/>
                  <a:pt x="15688" y="15758"/>
                  <a:pt x="15701" y="15825"/>
                </a:cubicBezTo>
                <a:cubicBezTo>
                  <a:pt x="15701" y="15842"/>
                  <a:pt x="15701" y="15858"/>
                  <a:pt x="15701" y="15875"/>
                </a:cubicBezTo>
                <a:cubicBezTo>
                  <a:pt x="15786" y="15863"/>
                  <a:pt x="15775" y="15842"/>
                  <a:pt x="15825" y="15776"/>
                </a:cubicBezTo>
                <a:cubicBezTo>
                  <a:pt x="15852" y="15740"/>
                  <a:pt x="15929" y="15691"/>
                  <a:pt x="15974" y="15726"/>
                </a:cubicBezTo>
                <a:cubicBezTo>
                  <a:pt x="16032" y="15771"/>
                  <a:pt x="16024" y="15885"/>
                  <a:pt x="16024" y="15949"/>
                </a:cubicBezTo>
                <a:cubicBezTo>
                  <a:pt x="16024" y="16024"/>
                  <a:pt x="16030" y="16080"/>
                  <a:pt x="15999" y="16148"/>
                </a:cubicBezTo>
                <a:cubicBezTo>
                  <a:pt x="15963" y="16227"/>
                  <a:pt x="15918" y="16296"/>
                  <a:pt x="15875" y="16371"/>
                </a:cubicBezTo>
                <a:cubicBezTo>
                  <a:pt x="15841" y="16430"/>
                  <a:pt x="15799" y="16472"/>
                  <a:pt x="15751" y="16520"/>
                </a:cubicBezTo>
                <a:cubicBezTo>
                  <a:pt x="15714" y="16557"/>
                  <a:pt x="15678" y="16545"/>
                  <a:pt x="15627" y="16545"/>
                </a:cubicBezTo>
                <a:cubicBezTo>
                  <a:pt x="15627" y="16487"/>
                  <a:pt x="15624" y="16467"/>
                  <a:pt x="15652" y="16421"/>
                </a:cubicBezTo>
              </a:path>
              <a:path w="4416" h="1961">
                <a:moveTo>
                  <a:pt x="16346" y="15280"/>
                </a:moveTo>
                <a:cubicBezTo>
                  <a:pt x="16191" y="15237"/>
                  <a:pt x="16055" y="15232"/>
                  <a:pt x="15900" y="15205"/>
                </a:cubicBezTo>
                <a:cubicBezTo>
                  <a:pt x="15801" y="15188"/>
                  <a:pt x="15703" y="15175"/>
                  <a:pt x="15602" y="15156"/>
                </a:cubicBezTo>
                <a:cubicBezTo>
                  <a:pt x="15496" y="15136"/>
                  <a:pt x="15388" y="15124"/>
                  <a:pt x="15280" y="15106"/>
                </a:cubicBezTo>
                <a:cubicBezTo>
                  <a:pt x="15117" y="15078"/>
                  <a:pt x="14951" y="15081"/>
                  <a:pt x="14784" y="15081"/>
                </a:cubicBezTo>
                <a:cubicBezTo>
                  <a:pt x="14636" y="15081"/>
                  <a:pt x="14483" y="15104"/>
                  <a:pt x="14337" y="15131"/>
                </a:cubicBezTo>
                <a:cubicBezTo>
                  <a:pt x="14179" y="15160"/>
                  <a:pt x="14043" y="15186"/>
                  <a:pt x="13891" y="15230"/>
                </a:cubicBezTo>
                <a:cubicBezTo>
                  <a:pt x="13732" y="15276"/>
                  <a:pt x="13577" y="15330"/>
                  <a:pt x="13419" y="15379"/>
                </a:cubicBezTo>
                <a:cubicBezTo>
                  <a:pt x="13285" y="15420"/>
                  <a:pt x="13155" y="15464"/>
                  <a:pt x="13022" y="15503"/>
                </a:cubicBezTo>
                <a:cubicBezTo>
                  <a:pt x="12877" y="15546"/>
                  <a:pt x="12744" y="15604"/>
                  <a:pt x="12601" y="15652"/>
                </a:cubicBezTo>
                <a:cubicBezTo>
                  <a:pt x="12479" y="15693"/>
                  <a:pt x="12375" y="15743"/>
                  <a:pt x="12254" y="15776"/>
                </a:cubicBezTo>
                <a:cubicBezTo>
                  <a:pt x="12204" y="15790"/>
                  <a:pt x="12066" y="15775"/>
                  <a:pt x="12030" y="15801"/>
                </a:cubicBezTo>
                <a:cubicBezTo>
                  <a:pt x="11953" y="15857"/>
                  <a:pt x="11965" y="15972"/>
                  <a:pt x="11956" y="16073"/>
                </a:cubicBezTo>
                <a:cubicBezTo>
                  <a:pt x="11947" y="16173"/>
                  <a:pt x="11936" y="16272"/>
                  <a:pt x="11931" y="16371"/>
                </a:cubicBezTo>
                <a:cubicBezTo>
                  <a:pt x="11924" y="16507"/>
                  <a:pt x="11946" y="16641"/>
                  <a:pt x="11956" y="16768"/>
                </a:cubicBezTo>
                <a:cubicBezTo>
                  <a:pt x="11961" y="16838"/>
                  <a:pt x="11948" y="16884"/>
                  <a:pt x="11981" y="16942"/>
                </a:cubicBezTo>
                <a:cubicBezTo>
                  <a:pt x="12029" y="17028"/>
                  <a:pt x="12065" y="17008"/>
                  <a:pt x="12154" y="17016"/>
                </a:cubicBezTo>
                <a:cubicBezTo>
                  <a:pt x="12301" y="17028"/>
                  <a:pt x="12457" y="17031"/>
                  <a:pt x="12601" y="17041"/>
                </a:cubicBezTo>
                <a:cubicBezTo>
                  <a:pt x="12761" y="17052"/>
                  <a:pt x="12918" y="17024"/>
                  <a:pt x="13072" y="17016"/>
                </a:cubicBezTo>
                <a:cubicBezTo>
                  <a:pt x="13227" y="17008"/>
                  <a:pt x="13362" y="16978"/>
                  <a:pt x="13519" y="16966"/>
                </a:cubicBezTo>
                <a:cubicBezTo>
                  <a:pt x="13652" y="16955"/>
                  <a:pt x="13783" y="16928"/>
                  <a:pt x="13915" y="16917"/>
                </a:cubicBezTo>
                <a:cubicBezTo>
                  <a:pt x="14053" y="16905"/>
                  <a:pt x="14200" y="16911"/>
                  <a:pt x="14337" y="16892"/>
                </a:cubicBezTo>
                <a:cubicBezTo>
                  <a:pt x="14508" y="16868"/>
                  <a:pt x="14687" y="16866"/>
                  <a:pt x="14858" y="16842"/>
                </a:cubicBezTo>
                <a:cubicBezTo>
                  <a:pt x="15000" y="16822"/>
                  <a:pt x="15138" y="16809"/>
                  <a:pt x="15280" y="16793"/>
                </a:cubicBezTo>
                <a:cubicBezTo>
                  <a:pt x="15392" y="16780"/>
                  <a:pt x="15515" y="16763"/>
                  <a:pt x="15627" y="16743"/>
                </a:cubicBezTo>
                <a:cubicBezTo>
                  <a:pt x="15736" y="16723"/>
                  <a:pt x="15839" y="16702"/>
                  <a:pt x="15949" y="16694"/>
                </a:cubicBezTo>
                <a:cubicBezTo>
                  <a:pt x="16027" y="16688"/>
                  <a:pt x="16236" y="16734"/>
                  <a:pt x="16297" y="16669"/>
                </a:cubicBezTo>
                <a:cubicBezTo>
                  <a:pt x="16357" y="16604"/>
                  <a:pt x="16348" y="16561"/>
                  <a:pt x="16346" y="16470"/>
                </a:cubicBezTo>
                <a:cubicBezTo>
                  <a:pt x="16344" y="16410"/>
                  <a:pt x="16329" y="16313"/>
                  <a:pt x="16321" y="16247"/>
                </a:cubicBezTo>
                <a:cubicBezTo>
                  <a:pt x="16309" y="16150"/>
                  <a:pt x="16290" y="16045"/>
                  <a:pt x="16272" y="15949"/>
                </a:cubicBezTo>
                <a:cubicBezTo>
                  <a:pt x="16256" y="15864"/>
                  <a:pt x="16230" y="15789"/>
                  <a:pt x="16222" y="15701"/>
                </a:cubicBezTo>
                <a:cubicBezTo>
                  <a:pt x="16216" y="15632"/>
                  <a:pt x="16206" y="15570"/>
                  <a:pt x="16197" y="155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nk 34"/>
          <p:cNvSpPr/>
          <p:nvPr/>
        </p:nvSpPr>
        <p:spPr>
          <a:xfrm>
            <a:off x="7232760" y="5133960"/>
            <a:ext cx="947520" cy="152280"/>
          </a:xfrm>
          <a:custGeom>
            <a:avLst/>
            <a:gdLst/>
            <a:ahLst/>
            <a:rect l="l" t="t" r="r" b="b"/>
            <a:pathLst>
              <a:path w="2630" h="422">
                <a:moveTo>
                  <a:pt x="20092" y="14660"/>
                </a:moveTo>
                <a:cubicBezTo>
                  <a:pt x="20160" y="14674"/>
                  <a:pt x="20202" y="14668"/>
                  <a:pt x="20265" y="14660"/>
                </a:cubicBezTo>
                <a:cubicBezTo>
                  <a:pt x="20422" y="14639"/>
                  <a:pt x="20584" y="14661"/>
                  <a:pt x="20737" y="14635"/>
                </a:cubicBezTo>
                <a:cubicBezTo>
                  <a:pt x="20817" y="14621"/>
                  <a:pt x="20907" y="14632"/>
                  <a:pt x="20985" y="14610"/>
                </a:cubicBezTo>
                <a:cubicBezTo>
                  <a:pt x="21059" y="14589"/>
                  <a:pt x="21134" y="14579"/>
                  <a:pt x="21208" y="14560"/>
                </a:cubicBezTo>
                <a:cubicBezTo>
                  <a:pt x="21321" y="14531"/>
                  <a:pt x="21444" y="14542"/>
                  <a:pt x="21555" y="14511"/>
                </a:cubicBezTo>
                <a:cubicBezTo>
                  <a:pt x="21639" y="14488"/>
                  <a:pt x="21714" y="14465"/>
                  <a:pt x="21803" y="14461"/>
                </a:cubicBezTo>
                <a:cubicBezTo>
                  <a:pt x="21874" y="14458"/>
                  <a:pt x="21956" y="14448"/>
                  <a:pt x="22027" y="14436"/>
                </a:cubicBezTo>
                <a:cubicBezTo>
                  <a:pt x="22110" y="14422"/>
                  <a:pt x="22197" y="14408"/>
                  <a:pt x="22275" y="14387"/>
                </a:cubicBezTo>
                <a:cubicBezTo>
                  <a:pt x="22321" y="14375"/>
                  <a:pt x="22402" y="14343"/>
                  <a:pt x="22448" y="14337"/>
                </a:cubicBezTo>
                <a:cubicBezTo>
                  <a:pt x="22512" y="14329"/>
                  <a:pt x="22557" y="14299"/>
                  <a:pt x="22622" y="14288"/>
                </a:cubicBezTo>
                <a:cubicBezTo>
                  <a:pt x="22667" y="14281"/>
                  <a:pt x="22683" y="14277"/>
                  <a:pt x="22721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nk 35"/>
          <p:cNvSpPr/>
          <p:nvPr/>
        </p:nvSpPr>
        <p:spPr>
          <a:xfrm>
            <a:off x="7358040" y="4964040"/>
            <a:ext cx="88920" cy="216000"/>
          </a:xfrm>
          <a:custGeom>
            <a:avLst/>
            <a:gdLst/>
            <a:ahLst/>
            <a:rect l="l" t="t" r="r" b="b"/>
            <a:pathLst>
              <a:path w="249" h="597">
                <a:moveTo>
                  <a:pt x="20613" y="13791"/>
                </a:moveTo>
                <a:cubicBezTo>
                  <a:pt x="20587" y="13860"/>
                  <a:pt x="20566" y="13920"/>
                  <a:pt x="20538" y="13990"/>
                </a:cubicBezTo>
                <a:cubicBezTo>
                  <a:pt x="20509" y="14065"/>
                  <a:pt x="20488" y="14142"/>
                  <a:pt x="20464" y="14213"/>
                </a:cubicBezTo>
                <a:cubicBezTo>
                  <a:pt x="20444" y="14272"/>
                  <a:pt x="20438" y="14405"/>
                  <a:pt x="20538" y="14387"/>
                </a:cubicBezTo>
                <a:cubicBezTo>
                  <a:pt x="20614" y="14374"/>
                  <a:pt x="20645" y="14315"/>
                  <a:pt x="20687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36"/>
          <p:cNvSpPr/>
          <p:nvPr/>
        </p:nvSpPr>
        <p:spPr>
          <a:xfrm>
            <a:off x="7296120" y="5072040"/>
            <a:ext cx="10656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20265" y="14139"/>
                </a:moveTo>
                <a:cubicBezTo>
                  <a:pt x="20329" y="14130"/>
                  <a:pt x="20368" y="14114"/>
                  <a:pt x="20439" y="14114"/>
                </a:cubicBezTo>
                <a:cubicBezTo>
                  <a:pt x="20498" y="14114"/>
                  <a:pt x="20524" y="14111"/>
                  <a:pt x="20563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37"/>
          <p:cNvSpPr/>
          <p:nvPr/>
        </p:nvSpPr>
        <p:spPr>
          <a:xfrm>
            <a:off x="7491240" y="4867200"/>
            <a:ext cx="54000" cy="98640"/>
          </a:xfrm>
          <a:custGeom>
            <a:avLst/>
            <a:gdLst/>
            <a:ahLst/>
            <a:rect l="l" t="t" r="r" b="b"/>
            <a:pathLst>
              <a:path w="150" h="273">
                <a:moveTo>
                  <a:pt x="20811" y="13543"/>
                </a:moveTo>
                <a:cubicBezTo>
                  <a:pt x="20857" y="13517"/>
                  <a:pt x="20878" y="13519"/>
                  <a:pt x="20935" y="13519"/>
                </a:cubicBezTo>
                <a:cubicBezTo>
                  <a:pt x="20935" y="13594"/>
                  <a:pt x="20932" y="13631"/>
                  <a:pt x="20886" y="13692"/>
                </a:cubicBezTo>
                <a:cubicBezTo>
                  <a:pt x="20866" y="13719"/>
                  <a:pt x="20835" y="13743"/>
                  <a:pt x="20811" y="13767"/>
                </a:cubicBezTo>
                <a:cubicBezTo>
                  <a:pt x="20860" y="13790"/>
                  <a:pt x="20899" y="13748"/>
                  <a:pt x="20960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38"/>
          <p:cNvSpPr/>
          <p:nvPr/>
        </p:nvSpPr>
        <p:spPr>
          <a:xfrm>
            <a:off x="7562880" y="4973760"/>
            <a:ext cx="125280" cy="3636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21010" y="13891"/>
                </a:moveTo>
                <a:cubicBezTo>
                  <a:pt x="21082" y="13933"/>
                  <a:pt x="21154" y="13899"/>
                  <a:pt x="21233" y="13866"/>
                </a:cubicBezTo>
                <a:cubicBezTo>
                  <a:pt x="21282" y="13846"/>
                  <a:pt x="21316" y="13841"/>
                  <a:pt x="21357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39"/>
          <p:cNvSpPr/>
          <p:nvPr/>
        </p:nvSpPr>
        <p:spPr>
          <a:xfrm>
            <a:off x="7626240" y="4946760"/>
            <a:ext cx="1800" cy="108000"/>
          </a:xfrm>
          <a:custGeom>
            <a:avLst/>
            <a:gdLst/>
            <a:ahLst/>
            <a:rect l="l" t="t" r="r" b="b"/>
            <a:pathLst>
              <a:path w="1" h="298">
                <a:moveTo>
                  <a:pt x="21183" y="13742"/>
                </a:moveTo>
                <a:cubicBezTo>
                  <a:pt x="21183" y="13841"/>
                  <a:pt x="21183" y="13940"/>
                  <a:pt x="21183" y="140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40"/>
          <p:cNvSpPr/>
          <p:nvPr/>
        </p:nvSpPr>
        <p:spPr>
          <a:xfrm>
            <a:off x="7769160" y="4822920"/>
            <a:ext cx="54000" cy="2491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21729" y="13395"/>
                </a:moveTo>
                <a:cubicBezTo>
                  <a:pt x="21695" y="13485"/>
                  <a:pt x="21681" y="13571"/>
                  <a:pt x="21654" y="13667"/>
                </a:cubicBezTo>
                <a:cubicBezTo>
                  <a:pt x="21624" y="13777"/>
                  <a:pt x="21585" y="13877"/>
                  <a:pt x="21580" y="13990"/>
                </a:cubicBezTo>
                <a:cubicBezTo>
                  <a:pt x="21580" y="14039"/>
                  <a:pt x="21580" y="14056"/>
                  <a:pt x="21580" y="140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41"/>
          <p:cNvSpPr/>
          <p:nvPr/>
        </p:nvSpPr>
        <p:spPr>
          <a:xfrm>
            <a:off x="7232760" y="5500800"/>
            <a:ext cx="125280" cy="9360"/>
          </a:xfrm>
          <a:custGeom>
            <a:avLst/>
            <a:gdLst/>
            <a:ahLst/>
            <a:rect l="l" t="t" r="r" b="b"/>
            <a:pathLst>
              <a:path w="348" h="25">
                <a:moveTo>
                  <a:pt x="20092" y="15304"/>
                </a:moveTo>
                <a:cubicBezTo>
                  <a:pt x="20212" y="15304"/>
                  <a:pt x="20323" y="15311"/>
                  <a:pt x="20439" y="152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42"/>
          <p:cNvSpPr/>
          <p:nvPr/>
        </p:nvSpPr>
        <p:spPr>
          <a:xfrm>
            <a:off x="7446960" y="5348160"/>
            <a:ext cx="73080" cy="24300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20836" y="14858"/>
                </a:moveTo>
                <a:cubicBezTo>
                  <a:pt x="20792" y="14923"/>
                  <a:pt x="20793" y="14986"/>
                  <a:pt x="20762" y="15056"/>
                </a:cubicBezTo>
                <a:cubicBezTo>
                  <a:pt x="20731" y="15126"/>
                  <a:pt x="20699" y="15206"/>
                  <a:pt x="20687" y="15280"/>
                </a:cubicBezTo>
                <a:cubicBezTo>
                  <a:pt x="20677" y="15342"/>
                  <a:pt x="20679" y="15425"/>
                  <a:pt x="20712" y="15478"/>
                </a:cubicBezTo>
                <a:cubicBezTo>
                  <a:pt x="20746" y="15532"/>
                  <a:pt x="20789" y="15544"/>
                  <a:pt x="20836" y="15503"/>
                </a:cubicBezTo>
                <a:cubicBezTo>
                  <a:pt x="20853" y="15486"/>
                  <a:pt x="20869" y="15470"/>
                  <a:pt x="20886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43"/>
          <p:cNvSpPr/>
          <p:nvPr/>
        </p:nvSpPr>
        <p:spPr>
          <a:xfrm>
            <a:off x="7367760" y="5411880"/>
            <a:ext cx="98280" cy="17280"/>
          </a:xfrm>
          <a:custGeom>
            <a:avLst/>
            <a:gdLst/>
            <a:ahLst/>
            <a:rect l="l" t="t" r="r" b="b"/>
            <a:pathLst>
              <a:path w="274" h="50">
                <a:moveTo>
                  <a:pt x="20464" y="15081"/>
                </a:moveTo>
                <a:cubicBezTo>
                  <a:pt x="20523" y="15074"/>
                  <a:pt x="20589" y="15038"/>
                  <a:pt x="20638" y="15032"/>
                </a:cubicBezTo>
                <a:cubicBezTo>
                  <a:pt x="20671" y="15032"/>
                  <a:pt x="20704" y="15032"/>
                  <a:pt x="20737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44"/>
          <p:cNvSpPr/>
          <p:nvPr/>
        </p:nvSpPr>
        <p:spPr>
          <a:xfrm>
            <a:off x="7581960" y="538488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21059" y="15056"/>
                </a:moveTo>
                <a:cubicBezTo>
                  <a:pt x="21126" y="15047"/>
                  <a:pt x="21135" y="15031"/>
                  <a:pt x="21183" y="14982"/>
                </a:cubicBezTo>
                <a:cubicBezTo>
                  <a:pt x="21191" y="14974"/>
                  <a:pt x="21200" y="14965"/>
                  <a:pt x="21208" y="149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45"/>
          <p:cNvSpPr/>
          <p:nvPr/>
        </p:nvSpPr>
        <p:spPr>
          <a:xfrm>
            <a:off x="7688160" y="5303880"/>
            <a:ext cx="907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21506" y="14734"/>
                </a:moveTo>
                <a:cubicBezTo>
                  <a:pt x="21497" y="14809"/>
                  <a:pt x="21443" y="14861"/>
                  <a:pt x="21431" y="14932"/>
                </a:cubicBezTo>
                <a:cubicBezTo>
                  <a:pt x="21419" y="15000"/>
                  <a:pt x="21411" y="15094"/>
                  <a:pt x="21382" y="15156"/>
                </a:cubicBezTo>
                <a:cubicBezTo>
                  <a:pt x="21357" y="15180"/>
                  <a:pt x="21349" y="15188"/>
                  <a:pt x="21382" y="15205"/>
                </a:cubicBezTo>
                <a:cubicBezTo>
                  <a:pt x="21459" y="15205"/>
                  <a:pt x="21512" y="15196"/>
                  <a:pt x="21580" y="15156"/>
                </a:cubicBezTo>
                <a:cubicBezTo>
                  <a:pt x="21588" y="15148"/>
                  <a:pt x="21597" y="15139"/>
                  <a:pt x="21605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46"/>
          <p:cNvSpPr/>
          <p:nvPr/>
        </p:nvSpPr>
        <p:spPr>
          <a:xfrm>
            <a:off x="7688160" y="5249880"/>
            <a:ext cx="115920" cy="430200"/>
          </a:xfrm>
          <a:custGeom>
            <a:avLst/>
            <a:gdLst/>
            <a:ahLst/>
            <a:rect l="l" t="t" r="r" b="b"/>
            <a:pathLst>
              <a:path w="323" h="1192">
                <a:moveTo>
                  <a:pt x="21679" y="14585"/>
                </a:moveTo>
                <a:cubicBezTo>
                  <a:pt x="21591" y="14718"/>
                  <a:pt x="21556" y="14829"/>
                  <a:pt x="21506" y="14982"/>
                </a:cubicBezTo>
                <a:cubicBezTo>
                  <a:pt x="21435" y="15199"/>
                  <a:pt x="21375" y="15423"/>
                  <a:pt x="21357" y="15652"/>
                </a:cubicBezTo>
                <a:cubicBezTo>
                  <a:pt x="21357" y="15693"/>
                  <a:pt x="21357" y="15735"/>
                  <a:pt x="21357" y="157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nk 47"/>
          <p:cNvSpPr/>
          <p:nvPr/>
        </p:nvSpPr>
        <p:spPr>
          <a:xfrm>
            <a:off x="1081080" y="723960"/>
            <a:ext cx="2027160" cy="1697040"/>
          </a:xfrm>
          <a:custGeom>
            <a:avLst/>
            <a:gdLst/>
            <a:ahLst/>
            <a:rect l="l" t="t" r="r" b="b"/>
            <a:pathLst>
              <a:path w="5632" h="4714">
                <a:moveTo>
                  <a:pt x="3597" y="6672"/>
                </a:moveTo>
                <a:cubicBezTo>
                  <a:pt x="3652" y="6681"/>
                  <a:pt x="3727" y="6691"/>
                  <a:pt x="3795" y="6697"/>
                </a:cubicBezTo>
                <a:cubicBezTo>
                  <a:pt x="3897" y="6706"/>
                  <a:pt x="3989" y="6718"/>
                  <a:pt x="4093" y="6722"/>
                </a:cubicBezTo>
                <a:cubicBezTo>
                  <a:pt x="4294" y="6731"/>
                  <a:pt x="4490" y="6714"/>
                  <a:pt x="4688" y="6697"/>
                </a:cubicBezTo>
                <a:cubicBezTo>
                  <a:pt x="4894" y="6680"/>
                  <a:pt x="5104" y="6663"/>
                  <a:pt x="5308" y="6623"/>
                </a:cubicBezTo>
                <a:cubicBezTo>
                  <a:pt x="5563" y="6573"/>
                  <a:pt x="5822" y="6527"/>
                  <a:pt x="6077" y="6474"/>
                </a:cubicBezTo>
                <a:cubicBezTo>
                  <a:pt x="6358" y="6415"/>
                  <a:pt x="6637" y="6363"/>
                  <a:pt x="6921" y="6325"/>
                </a:cubicBezTo>
                <a:cubicBezTo>
                  <a:pt x="7268" y="6278"/>
                  <a:pt x="7616" y="6237"/>
                  <a:pt x="7962" y="6201"/>
                </a:cubicBezTo>
                <a:cubicBezTo>
                  <a:pt x="8111" y="6186"/>
                  <a:pt x="8290" y="6181"/>
                  <a:pt x="8434" y="6152"/>
                </a:cubicBezTo>
                <a:cubicBezTo>
                  <a:pt x="8483" y="6142"/>
                  <a:pt x="8547" y="6141"/>
                  <a:pt x="8582" y="6102"/>
                </a:cubicBezTo>
                <a:cubicBezTo>
                  <a:pt x="8640" y="6038"/>
                  <a:pt x="8621" y="6012"/>
                  <a:pt x="8632" y="5928"/>
                </a:cubicBezTo>
                <a:cubicBezTo>
                  <a:pt x="8653" y="5769"/>
                  <a:pt x="8613" y="5613"/>
                  <a:pt x="8607" y="5457"/>
                </a:cubicBezTo>
                <a:cubicBezTo>
                  <a:pt x="8601" y="5290"/>
                  <a:pt x="8587" y="5127"/>
                  <a:pt x="8582" y="4961"/>
                </a:cubicBezTo>
                <a:cubicBezTo>
                  <a:pt x="8563" y="4321"/>
                  <a:pt x="8603" y="3686"/>
                  <a:pt x="8533" y="3051"/>
                </a:cubicBezTo>
                <a:cubicBezTo>
                  <a:pt x="8519" y="2926"/>
                  <a:pt x="8521" y="2799"/>
                  <a:pt x="8483" y="2679"/>
                </a:cubicBezTo>
                <a:cubicBezTo>
                  <a:pt x="8453" y="2585"/>
                  <a:pt x="8404" y="2501"/>
                  <a:pt x="8334" y="2431"/>
                </a:cubicBezTo>
                <a:cubicBezTo>
                  <a:pt x="8257" y="2354"/>
                  <a:pt x="8127" y="2271"/>
                  <a:pt x="8012" y="2232"/>
                </a:cubicBezTo>
                <a:cubicBezTo>
                  <a:pt x="7877" y="2186"/>
                  <a:pt x="7729" y="2132"/>
                  <a:pt x="7590" y="2108"/>
                </a:cubicBezTo>
                <a:cubicBezTo>
                  <a:pt x="7406" y="2075"/>
                  <a:pt x="7207" y="2050"/>
                  <a:pt x="7020" y="2034"/>
                </a:cubicBezTo>
                <a:cubicBezTo>
                  <a:pt x="6784" y="2014"/>
                  <a:pt x="6536" y="2012"/>
                  <a:pt x="6300" y="2009"/>
                </a:cubicBezTo>
                <a:cubicBezTo>
                  <a:pt x="6025" y="2005"/>
                  <a:pt x="5756" y="2030"/>
                  <a:pt x="5482" y="2034"/>
                </a:cubicBezTo>
                <a:cubicBezTo>
                  <a:pt x="5224" y="2038"/>
                  <a:pt x="4970" y="2055"/>
                  <a:pt x="4713" y="2059"/>
                </a:cubicBezTo>
                <a:cubicBezTo>
                  <a:pt x="4504" y="2062"/>
                  <a:pt x="4300" y="2068"/>
                  <a:pt x="4093" y="2084"/>
                </a:cubicBezTo>
                <a:cubicBezTo>
                  <a:pt x="3926" y="2097"/>
                  <a:pt x="3763" y="2114"/>
                  <a:pt x="3597" y="2133"/>
                </a:cubicBezTo>
                <a:cubicBezTo>
                  <a:pt x="3478" y="2147"/>
                  <a:pt x="3366" y="2156"/>
                  <a:pt x="3249" y="2183"/>
                </a:cubicBezTo>
                <a:cubicBezTo>
                  <a:pt x="3199" y="2195"/>
                  <a:pt x="3109" y="2189"/>
                  <a:pt x="3076" y="2232"/>
                </a:cubicBezTo>
                <a:cubicBezTo>
                  <a:pt x="3001" y="2329"/>
                  <a:pt x="3030" y="2332"/>
                  <a:pt x="3026" y="2456"/>
                </a:cubicBezTo>
                <a:cubicBezTo>
                  <a:pt x="3023" y="2559"/>
                  <a:pt x="3061" y="2653"/>
                  <a:pt x="3076" y="2753"/>
                </a:cubicBezTo>
                <a:cubicBezTo>
                  <a:pt x="3100" y="2909"/>
                  <a:pt x="3102" y="3069"/>
                  <a:pt x="3125" y="3225"/>
                </a:cubicBezTo>
                <a:cubicBezTo>
                  <a:pt x="3154" y="3419"/>
                  <a:pt x="3213" y="3605"/>
                  <a:pt x="3249" y="3795"/>
                </a:cubicBezTo>
                <a:cubicBezTo>
                  <a:pt x="3345" y="4294"/>
                  <a:pt x="3489" y="4850"/>
                  <a:pt x="3473" y="5358"/>
                </a:cubicBezTo>
                <a:cubicBezTo>
                  <a:pt x="3466" y="5570"/>
                  <a:pt x="3424" y="5772"/>
                  <a:pt x="3373" y="5978"/>
                </a:cubicBezTo>
                <a:cubicBezTo>
                  <a:pt x="3354" y="6056"/>
                  <a:pt x="3296" y="6174"/>
                  <a:pt x="3299" y="6251"/>
                </a:cubicBezTo>
                <a:cubicBezTo>
                  <a:pt x="3301" y="6301"/>
                  <a:pt x="3347" y="6300"/>
                  <a:pt x="3349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41:07Z</dcterms:created>
  <dc:creator>jnewman</dc:creator>
  <dc:description/>
  <dc:language>en-US</dc:language>
  <cp:lastModifiedBy>abeason</cp:lastModifiedBy>
  <dcterms:modified xsi:type="dcterms:W3CDTF">2010-04-19T14:17:56Z</dcterms:modified>
  <cp:revision>9</cp:revision>
  <dc:subject/>
  <dc:title>Lesson 1.4 part two</dc:title>
</cp:coreProperties>
</file>